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EA6-8B0A-4A08-8216-5DC4DEF1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769-569D-453E-BCB8-C9D1A98F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894-EBB3-49FF-A693-5533262A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2AA-E918-4052-BFC6-D4C84074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167-506B-4BC7-B34B-940B87C0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D782-8E84-4474-977C-A032BC0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F9FA-B03B-40F3-801E-113437AF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62F-C3B3-45EC-A73E-D75682D1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0EDD-9A69-4F2F-8109-51B0530B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A48-1593-483D-A7F8-E8B5459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28EB-01FD-4B8E-971B-A2C70D8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13E-D532-4D86-A53B-AF2DECC2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DA5E-8F4E-4DBD-A865-CBB986D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89D-BDD0-4CB4-8A30-184B0C5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A45-1761-4510-AFDE-1702E8B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89FC-D2FC-4111-BCA2-C6555F4F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AE20-BED4-40C9-98B1-D296AA72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F5C-6C08-4E40-8D0F-8E21E55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D23-DE37-4DE8-9504-F022080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6A4-85E1-4E52-8635-B07D132C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F9F-DDF5-40AB-96E0-E1CA3F8C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6CB-AED3-4CB2-BFFD-72BADA10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3B5-06BC-4C84-BBEF-BCC3FB46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F64-01AE-45C2-BC23-B5C68DE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0D28-98F1-4EE7-B19A-CBD8C075C1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8B6-4617-48B6-875A-CBEE6439139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7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47640" y="1989000"/>
            <a:ext cx="54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陈太丘与友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382400"/>
            <a:ext cx="8066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4400" spc="-1" strike="noStrike">
                <a:solidFill>
                  <a:srgbClr val="f36e33"/>
                </a:solidFill>
                <a:latin typeface="Tahoma"/>
              </a:rPr>
              <a:t>王戎七岁，尝与诸小儿游，看边李树多子折枝，诸小儿竞走取之，唯戎不动。人问之，答曰：“树在道边而多子，此必苦李。”取之信然。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260280"/>
            <a:ext cx="3168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拓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126828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214c8"/>
                </a:solidFill>
                <a:latin typeface="Tahoma"/>
                <a:ea typeface="华文行楷"/>
              </a:rPr>
              <a:t>读读，说说，议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74600"/>
            <a:ext cx="70930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陈太丘与友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期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行，期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日中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过中不至，太丘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舍去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去后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至。元方时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七岁，门外戏。客问元方：“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尊君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在</a:t>
            </a:r>
            <a:r>
              <a:rPr b="1" lang="zh-CN" sz="3600" spc="-1" strike="noStrike">
                <a:solidFill>
                  <a:srgbClr val="3214c8"/>
                </a:solidFill>
                <a:latin typeface="方正姚体"/>
                <a:ea typeface="方正姚体"/>
              </a:rPr>
              <a:t>不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?”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答曰：“</a:t>
            </a:r>
            <a:r>
              <a:rPr b="1" lang="zh-CN" sz="3600" spc="-1" strike="noStrike">
                <a:solidFill>
                  <a:srgbClr val="c41841"/>
                </a:solidFill>
                <a:latin typeface="方正姚体"/>
                <a:ea typeface="方正姚体"/>
              </a:rPr>
              <a:t>待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君久不至，已去。”友人便怒：“非人哉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与人期行，相</a:t>
            </a:r>
            <a:r>
              <a:rPr b="1" lang="zh-CN" sz="3600" spc="-1" strike="noStrike">
                <a:solidFill>
                  <a:srgbClr val="c41841"/>
                </a:solidFill>
                <a:latin typeface="方正姚体"/>
                <a:ea typeface="方正姚体"/>
              </a:rPr>
              <a:t>委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”元方曰：“君与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家君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期日中。日中不至，则无信；对子骂父，则是无礼。”友人惭，下车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引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之，元方入门不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24360" y="5057640"/>
            <a:ext cx="212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读一读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91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陈太丘与友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行，期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日中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过中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至，太丘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舍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去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至。元方时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七岁，门外戏。客问元方：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尊君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zh-CN" sz="3200" spc="-1" strike="noStrike">
                <a:solidFill>
                  <a:srgbClr val="3214c8"/>
                </a:solidFill>
                <a:latin typeface="Tahoma"/>
              </a:rPr>
              <a:t>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曰：“</a:t>
            </a:r>
            <a:r>
              <a:rPr b="1" lang="zh-CN" sz="3200" spc="-1" strike="noStrike">
                <a:solidFill>
                  <a:srgbClr val="c41841"/>
                </a:solidFill>
                <a:latin typeface="Tahoma"/>
              </a:rPr>
              <a:t>待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君久不至，已去。”友人便怒：“非人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人期行，相</a:t>
            </a:r>
            <a:r>
              <a:rPr b="1" lang="zh-CN" sz="3200" spc="-1" strike="noStrike">
                <a:solidFill>
                  <a:srgbClr val="c41841"/>
                </a:solidFill>
                <a:latin typeface="Tahoma"/>
              </a:rPr>
              <a:t>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”元方曰：“君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家君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日中。日中不至，则是无信；对子骂父，则是无礼。”友人惭，下车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之，元方入门不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155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约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1484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中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不再等候就走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1700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162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年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2781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010"/>
                </a:solidFill>
                <a:latin typeface="Arial"/>
              </a:rPr>
              <a:t>您的父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92428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8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1905"/>
                </a:solidFill>
                <a:latin typeface="Arial"/>
              </a:rPr>
              <a:t>通“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422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丢下，舍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42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离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我父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6093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010"/>
                </a:solidFill>
                <a:latin typeface="Arial"/>
              </a:rPr>
              <a:t>回头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0"/>
            <a:ext cx="55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彩云"/>
              </a:rPr>
              <a:t>小组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  <a:ea typeface="华文彩云"/>
              </a:rPr>
              <a:t>合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彩云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华文彩云"/>
              </a:rPr>
              <a:t>赛一  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flipH="1">
            <a:off x="6227280" y="5202360"/>
            <a:ext cx="2916360" cy="1655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14c8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3214c8"/>
                </a:solidFill>
                <a:latin typeface="Tahoma"/>
              </a:rPr>
              <a:t>陈太丘跟一位朋友约定一同出门，约好正午时碰头。正午已过，不见那朋友来，太丘不再等候就走了。太丘走后，那人才来。太丘的长子陈元方那年七岁，当时正在门外玩。那人便问元方：“你爸爸在家吗</a:t>
            </a:r>
            <a:r>
              <a:rPr b="1" lang="en-US" sz="3200" spc="-1" strike="noStrike">
                <a:solidFill>
                  <a:srgbClr val="3214c8"/>
                </a:solidFill>
                <a:latin typeface="Tahoma"/>
              </a:rPr>
              <a:t>?”</a:t>
            </a:r>
            <a:r>
              <a:rPr b="1" lang="zh-CN" sz="3200" spc="-1" strike="noStrike">
                <a:solidFill>
                  <a:srgbClr val="3214c8"/>
                </a:solidFill>
                <a:latin typeface="Tahoma"/>
              </a:rPr>
              <a:t>元方答道：“等你好久都不来，他已经走了。”那人便发起脾气来，骂道：“真不是东西</a:t>
            </a:r>
            <a:r>
              <a:rPr b="1" lang="en-US" sz="3200" spc="-1" strike="noStrike">
                <a:solidFill>
                  <a:srgbClr val="3214c8"/>
                </a:solidFill>
                <a:latin typeface="Tahoma"/>
              </a:rPr>
              <a:t>!</a:t>
            </a:r>
            <a:r>
              <a:rPr b="1" lang="zh-CN" sz="3200" spc="-1" strike="noStrike">
                <a:solidFill>
                  <a:srgbClr val="3214c8"/>
                </a:solidFill>
                <a:latin typeface="Tahoma"/>
              </a:rPr>
              <a:t>跟别人约好一块儿走，却把别人丢下，自个儿走了。”元方说：“您跟我爸爸约好正午一同出发，您正午不到，就是不讲信用；对人家儿子骂他的父亲，就是失礼。”那人感到惭愧，便从车里下来，想跟元方握手，元方连头也不回地走进了自家的大门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6165720"/>
            <a:ext cx="40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译文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2349360"/>
            <a:ext cx="95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舍生取义（舍弃生命求取正义，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正义而牺牲生命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去危就安（离开危险趋于平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引吭高歌（拉开嗓门，高声歌唱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瞻前顾后（看看前面，再回头看看后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形容考虑周密，也形容顾虑过多，犹豫不决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0520" y="-27000"/>
            <a:ext cx="18327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51607"/>
                </a:solidFill>
                <a:latin typeface="Tahoma"/>
                <a:ea typeface="华文彩云"/>
              </a:rPr>
              <a:t>练一练  </a:t>
            </a:r>
            <a:r>
              <a:rPr b="1" lang="zh-CN" sz="4800" spc="-1" strike="noStrike">
                <a:solidFill>
                  <a:srgbClr val="d51607"/>
                </a:solidFill>
                <a:latin typeface="Tahoma"/>
                <a:ea typeface="华文彩云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0"/>
            <a:ext cx="292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74520" y="184464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舍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生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取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义、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去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危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就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安、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引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吭高歌、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瞻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ahoma"/>
              </a:rPr>
              <a:t>顾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94200" y="105264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你能说出下列成语中加点字的含义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720" y="2637000"/>
            <a:ext cx="56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6e33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f36e33"/>
                </a:solidFill>
                <a:latin typeface="Tahoma"/>
              </a:rPr>
              <a:t>示例：不</a:t>
            </a:r>
            <a:r>
              <a:rPr b="1" lang="zh-CN" sz="3600" spc="-1" strike="noStrike" u="sng">
                <a:solidFill>
                  <a:srgbClr val="f36e33"/>
                </a:solidFill>
                <a:uFillTx/>
                <a:latin typeface="Tahoma"/>
              </a:rPr>
              <a:t>期</a:t>
            </a:r>
            <a:r>
              <a:rPr b="1" lang="zh-CN" sz="3600" spc="-1" strike="noStrike">
                <a:solidFill>
                  <a:srgbClr val="f36e33"/>
                </a:solidFill>
                <a:latin typeface="Tahoma"/>
              </a:rPr>
              <a:t>而遇</a:t>
            </a:r>
            <a:r>
              <a:rPr b="1" lang="en-US" sz="3600" spc="-1" strike="noStrike">
                <a:solidFill>
                  <a:srgbClr val="f36e33"/>
                </a:solidFill>
                <a:latin typeface="Tahoma"/>
              </a:rPr>
              <a:t>(</a:t>
            </a:r>
            <a:r>
              <a:rPr b="1" lang="zh-CN" sz="3600" spc="-1" strike="noStrike">
                <a:solidFill>
                  <a:srgbClr val="f36e33"/>
                </a:solidFill>
                <a:latin typeface="Tahoma"/>
              </a:rPr>
              <a:t>未经约定而意外遇见</a:t>
            </a:r>
            <a:r>
              <a:rPr b="1" lang="en-US" sz="3600" spc="-1" strike="noStrike">
                <a:solidFill>
                  <a:srgbClr val="f36e33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6920" y="2743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期日中，过中不至”说明陈太丘的朋友是个怎样的人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元方义正辞严地指出了父亲的朋友的哪两点错误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667480"/>
            <a:ext cx="1332000" cy="1190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8000" y="5805360"/>
            <a:ext cx="1800360" cy="538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55640" y="0"/>
            <a:ext cx="266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合作探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1341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19640" y="260280"/>
            <a:ext cx="2016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议一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有人认为“元方入门不顾”，元方应该这样做，也有人认为他这样做没有礼貌，说说你的看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 rot="87000">
            <a:off x="2123640" y="5490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经典综艺体简"/>
              </a:rPr>
              <a:t>多角度探究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经典综艺体简"/>
              <a:ea typeface="经典综艺体简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5661000"/>
            <a:ext cx="1225800" cy="60948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661000"/>
            <a:ext cx="1603440" cy="60948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33000" y="40356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214c8"/>
                </a:solidFill>
                <a:latin typeface="Tahoma"/>
                <a:ea typeface="华文彩云"/>
              </a:rPr>
              <a:t>拓展总结（说一说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467440"/>
            <a:ext cx="7201080" cy="764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就课堂讨论中最感兴趣的问题或最大的收获说几句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8360" y="3856680"/>
            <a:ext cx="4857840" cy="1922400"/>
          </a:xfrm>
          <a:prstGeom prst="rect">
            <a:avLst/>
          </a:prstGeom>
          <a:solidFill>
            <a:srgbClr val="f36e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华文彩云"/>
              </a:rPr>
              <a:t>教师寄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以信做人   以礼待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403560"/>
            <a:ext cx="67327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36e33"/>
                </a:solidFill>
                <a:latin typeface="Tahoma"/>
              </a:rPr>
              <a:t>布置作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14c8"/>
                </a:solidFill>
                <a:latin typeface="Tahoma"/>
              </a:rPr>
              <a:t>     </a:t>
            </a:r>
            <a:r>
              <a:rPr b="1" lang="zh-CN" sz="4000" spc="-1" strike="noStrike">
                <a:solidFill>
                  <a:srgbClr val="3214c8"/>
                </a:solidFill>
                <a:latin typeface="Tahoma"/>
              </a:rPr>
              <a:t>生活中有很多格言警句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14c8"/>
                </a:solidFill>
                <a:latin typeface="Tahoma"/>
              </a:rPr>
              <a:t>含有“诚信”，请收集或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14c8"/>
                </a:solidFill>
                <a:latin typeface="Tahoma"/>
              </a:rPr>
              <a:t>创造几句</a:t>
            </a:r>
            <a:r>
              <a:rPr b="1" lang="zh-CN" sz="4000" spc="-1" strike="noStrike">
                <a:solidFill>
                  <a:srgbClr val="d51607"/>
                </a:solidFill>
                <a:latin typeface="Tahoma"/>
              </a:rPr>
              <a:t>有关诚信的佳句</a:t>
            </a:r>
            <a:r>
              <a:rPr b="1" lang="zh-CN" sz="4000" spc="-1" strike="noStrike">
                <a:solidFill>
                  <a:srgbClr val="3214c8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hx</cp:lastModifiedBy>
  <dcterms:modified xsi:type="dcterms:W3CDTF">2005-08-23T14:27:23Z</dcterms:modified>
  <cp:revision>15</cp:revision>
  <dc:subject/>
  <dc:title>PowerPoint Presentation</dc:title>
</cp:coreProperties>
</file>