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E99-BFB7-47F7-855E-22E501F7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B9A-3211-4CA3-A7EB-09BB1AC6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2BB-1F5C-42C6-B13A-B11BC261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1AC-2268-42FE-9A9F-1EFC1BCD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116F-4356-435F-ADCC-86B548F3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7F43-7EF6-4766-94BE-199FF65C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286-2C1D-44CB-BBD8-D8D1E1C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BED6-2A19-4809-9DE0-DBC6C150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EA88-3C71-46EA-9B06-D74D7684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71E4-ED35-492A-977B-F95688C7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BA17-637B-4206-9ACD-F5805E1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BEF-9A64-4ABD-8F3E-31F1EA5F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D75B-CC9A-4F37-8CD1-CF6C0F8D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128A-0700-4F11-B879-E1FB3F75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A2DF-3C92-4FB8-918D-232D9A94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8504-59F2-4B7A-BBED-1090B44D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0CB-E7EC-4B83-946C-BFFB52B9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C8D-B284-4BF1-8307-793BB985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D49-EF06-4262-9B18-C054B1C2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41E-1EBA-49F7-ACC7-30861592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23C-6B61-4EF7-A175-79F1BF7F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2D4-DAE5-4A14-9FCC-06BD1BA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CBF-1C04-4A16-AB2E-2B37843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59C-F85F-4358-8513-7BD7B2A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06C1-351A-45A6-93E7-9129F27D8A34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154-52AE-4B6F-A33E-B681336D9064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6000" y="304920"/>
            <a:ext cx="4648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陈涉世家</a:t>
            </a:r>
            <a:endParaRPr b="1" lang="en-US" sz="4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13372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本课节选自《史记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·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陈涉世家》的前一部分。陈涉，我国历史上第一次农民起义的领袖。《陈涉世家》是写陈涉的一部传记，比较完整地叙述了陈涉起义的全部过程。本课所选内容，叙述了陈涉、吴广领导大泽乡起义的原因、经过和浩大的声势，表现了我国历史上第一次农民起义的伟大力量，赞颂了陈胜、吴广的反抗精神及历史功绩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58320" y="685800"/>
            <a:ext cx="1277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会          将         乃            为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572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133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4290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4100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2860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ff00"/>
                </a:solidFill>
                <a:uFillTx/>
                <a:latin typeface="Times New Roman"/>
              </a:rPr>
              <a:t>会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天大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与皆来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Times New Roman"/>
              </a:rPr>
              <a:t>会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计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828800"/>
            <a:ext cx="4190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项燕为楚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Times New Roman"/>
              </a:rPr>
              <a:t>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上使外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将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42900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陈胜吴广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乃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谋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当立者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乃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公子扶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518148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皆次当行，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屯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天下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28600"/>
            <a:ext cx="4419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恰逢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聚集，聚会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19051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将领，大将，名词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率领，带兵，动词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4290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于是，就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是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5257800"/>
            <a:ext cx="358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做，当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（给，替，介词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95360"/>
            <a:ext cx="671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00" y="914400"/>
            <a:ext cx="1155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故           道             令           数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6094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38862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4864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049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广</a:t>
            </a: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数言欲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扶苏以数谏</a:t>
            </a: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205740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道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伐无</a:t>
            </a: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733920"/>
            <a:ext cx="419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乃</a:t>
            </a: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令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符离人葛婴将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陈守</a:t>
            </a: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令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皆不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5334120"/>
            <a:ext cx="4496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</a:t>
            </a: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谏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卒</a:t>
            </a:r>
            <a:r>
              <a:rPr b="0" lang="zh-CN" sz="3200" spc="-1" strike="noStrike" u="sng">
                <a:solidFill>
                  <a:srgbClr val="66ff33"/>
                </a:solidFill>
                <a:uFillTx/>
                <a:latin typeface="Times New Roman"/>
              </a:rPr>
              <a:t>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04920"/>
            <a:ext cx="5410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故意，副词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　　（缘故，名词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05740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道路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封建社会所认为好的政治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派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县令，官名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541008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多次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几，数词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30492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1" lang="zh-CN" sz="48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通  假  字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①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发闾左</a:t>
            </a:r>
            <a:r>
              <a:rPr b="0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谪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戍渔阳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適，通“谪”，因获罪被发配到很远的地方。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②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为天下</a:t>
            </a:r>
            <a:r>
              <a:rPr b="0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唱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唱，通“倡”，倡导。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③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固</a:t>
            </a:r>
            <a:r>
              <a:rPr b="0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以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怪之矣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以，通“已”，已经。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④</a:t>
            </a:r>
            <a:r>
              <a:rPr b="0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被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坚执锐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被，通“披”。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380880"/>
            <a:ext cx="73915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词类活用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①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、天下</a:t>
            </a:r>
            <a:r>
              <a:rPr b="1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苦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秦久矣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苦，形容词用作动词，是“以……为苦”，即是“认为……苦”的意思。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②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、卒中往往语，皆指</a:t>
            </a:r>
            <a:r>
              <a:rPr b="1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目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陈胜。  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目，名词用作动词，是“使眼色”的意思。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③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、</a:t>
            </a:r>
            <a:r>
              <a:rPr b="1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忿恚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尉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忿恚，形容词用作动词，是“使……忿恚”的意思。</a:t>
            </a: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95360" y="334800"/>
            <a:ext cx="8153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古今异义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①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、今</a:t>
            </a:r>
            <a:r>
              <a:rPr b="0" lang="zh-CN" sz="40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亡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亦死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亡，古义：逃亡。今义：死亡。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②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、又</a:t>
            </a:r>
            <a:r>
              <a:rPr b="0" lang="zh-CN" sz="40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间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令吴广之次所旁丛祠中  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间，古义：暗地。今义：中间。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　③、卒中</a:t>
            </a:r>
            <a:r>
              <a:rPr b="0" lang="zh-CN" sz="40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往往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语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往往，古义：到处。义：表示某种情况时常存在或经常发生。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80880"/>
            <a:ext cx="83055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ff00"/>
                </a:solidFill>
                <a:uFillTx/>
                <a:latin typeface="宋体"/>
                <a:ea typeface="方正姚体"/>
              </a:rPr>
              <a:t>全文共三段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  <a:ea typeface="方正姚体"/>
              </a:rPr>
              <a:t>第一段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  <a:ea typeface="方正姚体"/>
              </a:rPr>
              <a:t>：叙述陈涉年轻时的佣耕生活，表现了他素怀大志，有反抗精神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  <a:ea typeface="方正姚体"/>
              </a:rPr>
              <a:t>第二段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  <a:ea typeface="方正姚体"/>
              </a:rPr>
              <a:t>：写起义的筹划过程，表现了陈胜、吴广的斗争决心和政治远见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  <a:ea typeface="方正姚体"/>
              </a:rPr>
              <a:t>第三段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  <a:ea typeface="方正姚体"/>
              </a:rPr>
              <a:t>：写陈胜、吴广发动起义，胜利进军及建立政权的经过，昭示了农民起义的伟大力量和历史意义</a:t>
            </a:r>
            <a:r>
              <a:rPr b="1" lang="zh-CN" sz="1000" spc="-1" strike="noStrike">
                <a:solidFill>
                  <a:srgbClr val="ffffcc"/>
                </a:solidFill>
                <a:latin typeface="宋体"/>
                <a:ea typeface="方正姚体"/>
              </a:rPr>
              <a:t>。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0"/>
            <a:ext cx="8534520" cy="350604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第二段可以分为三层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第一层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从开头到“失期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法皆斩”，写起义背景“屯大泽乡”介绍了起义的地点，“为屯长”，是号召徒众的有利条件。“失期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法皆斩”是起义的导火线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第二层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，从“陈胜、吴广乃谋曰”到“吴广以为然”，写陈胜、吴广谋划起义。陈胜首先对形势进行了精辟的分析，“今诚以吾众诈自称公子扶苏、项燕，为天下唱，宜多应者”，体现了陈胜高人一筹的谋略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第三层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，从“乃行卜”到段末，写陈胜、吴广的“威众”之策。为起义作舆论准备而置书鱼腹和故作狐鸣，显示了陈胜、吴广的智慧，也反映了我国农民起义发动时期的某些特点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05120" y="228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方正姚体"/>
              </a:rPr>
              <a:t>第三段分为三层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37160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方正姚体"/>
                <a:ea typeface="方正姚体"/>
              </a:rPr>
              <a:t>第一层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：从开头到“吴广为都尉”，写起义开始时的情形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方正姚体"/>
                <a:ea typeface="方正姚体"/>
              </a:rPr>
              <a:t>第二层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：从“攻大泽乡”到“号为张楚”，写起义初期的迅猛发展形势和陈胜立国经过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方正姚体"/>
                <a:ea typeface="方正姚体"/>
              </a:rPr>
              <a:t>第三层</a:t>
            </a:r>
            <a:r>
              <a:rPr b="0" lang="zh-CN" sz="40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：从“当此时”到段末，概述诸郡县反秦斗争情形，照应上文“宜多应者”。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219320" y="609480"/>
            <a:ext cx="65530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段分层，理出线索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方正姚体"/>
              </a:rPr>
              <a:t>一、根据自然段的划分，可分为三层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838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年少时                    服役后                 举大计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175248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1143000"/>
            <a:ext cx="1371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1523880"/>
            <a:ext cx="0" cy="5335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1523880"/>
            <a:ext cx="0" cy="5335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1523880"/>
            <a:ext cx="0" cy="5335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鸿鹄之志             谋划起义               据陈称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514600"/>
            <a:ext cx="914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514600"/>
            <a:ext cx="129528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733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方正姚体"/>
              </a:rPr>
              <a:t>二、根据课文内容，可分为两段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86080" y="4495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年少时                          服役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800600"/>
            <a:ext cx="2057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105520"/>
            <a:ext cx="0" cy="6094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5257800"/>
            <a:ext cx="0" cy="6094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5867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怅恨久之                      起义称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6172200"/>
            <a:ext cx="167652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43080" y="334800"/>
            <a:ext cx="84582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宋体"/>
                <a:ea typeface="方正姚体"/>
              </a:rPr>
              <a:t>译文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方正姚体"/>
              </a:rPr>
              <a:t>    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方正姚体"/>
              </a:rPr>
              <a:t>陈胜是阳城人，字涉。吴广是阳夏人，字叔。陈涉年轻时，曾经和别的人一起做佣工耕地，他停止耕作走到田埂上，惆怅恼恨很久，说道：“如果将来我富贵了，不会忘记你们。”佣工们笑着应道：“你做佣工耕地，哪里来的富贵啊？”陈涉长叹说：“唉，燕雀怎么知道鸿鹄的志向呢！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陈胜吴广起义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3320"/>
          </a:xfrm>
          <a:prstGeom prst="rect">
            <a:avLst/>
          </a:prstGeom>
          <a:ln w="0">
            <a:noFill/>
          </a:ln>
        </p:spPr>
      </p:pic>
      <p:pic>
        <p:nvPicPr>
          <p:cNvPr id="102" name="陈胜吴广起义（黑白）" descr=""/>
          <p:cNvPicPr/>
          <p:nvPr/>
        </p:nvPicPr>
        <p:blipFill>
          <a:blip r:embed="rId2"/>
          <a:stretch/>
        </p:blipFill>
        <p:spPr>
          <a:xfrm>
            <a:off x="5181480" y="0"/>
            <a:ext cx="44960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29880" y="914400"/>
            <a:ext cx="1399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方正姚体"/>
                <a:ea typeface="方正姚体"/>
              </a:rPr>
              <a:t>陈  胜  吴  广  起  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4308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    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秦二世元年七月，征发闾左平民九百人，责令他们去戍守渔阳，这批人屯驻在大泽乡。陈胜、吴广都按编列应差，他们作了屯长。适逢天降大雨，道路不通，估计已经不能如期到达戍地。不能如期到达，按秦法规定都要斩首。陈胜、吴广于是商量说：“现在逃跑也是死，发动起义也是死，同样是死，为国而死好吗？”陈胜说道：“天下人苦于秦的统治已是很长时间了。我听说秦二世是始皇帝的小儿子，不应该即帝位，应该即帝位的是公子扶苏。扶苏因为屡次直言规劝秦始皇，秦始皇便派他到外面带兵。现在有人听说公子扶苏并没有犯法，秦二世杀了他。百姓只是听说公子扶苏贤德，不知道他死了。项燕是楚国将领，屡立战功，爱护士卒，楚国人喜爱他。有人认为他死了，有人认为他逃走了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现在如果把我们这批人假装自称是公子扶苏、项燕的队伍，作为全国各地的倡导，响应的人大概会很多的。”吴广认为陈胜说得对。于是他们去占卜。占卜人知道他们的意图，说道：“您二位问的事都能成功。不过二位去卜问一下鬼神吧！”陈胜、吴广很高兴，考虑卜问鬼神的事，说道：“这是让我们先在戍卒中取得威望啊。”于是用朱砂在绢上写了“陈胜王”三个字，把它放在别人捕得的鱼的肚中。戍卒买鱼来煮吃，发现鱼肚中的字，本来已经感到奇异了。陈胜又暗地里让吴广到驻地旁边树林里的神庙中，夜里用笼罩着火，装成狐狸嗥叫声呼喊“大楚兴，陈胜王。”戍卒们夜里都惊恐不已。天亮时，戍卒中间到处互相议论，都指指点点注目陈胜。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吴广平素待人仁惠，士卒多愿给他效力。率领戍卒的尉喝醉了酒，吴广故意屡次说要逃跑，使尉发怒，让尉责辱他，以此来激怒那些戍卒。尉果然责打吴广。尉的剑脱出了鞘，吴广起身，夺过剑杀了尉。陈胜相助，一起杀了两个尉。陈胜、吴广召集部下戍卒，号令道：“诸位碰到天降大雨，大家都耽误了行期。耽误行期是该斩首的。就算是不被斩首，可是戍边而死的必定十人当中有六七人。况且壮士不死便罢，死就要博得美名，王侯将相难道有天生的贵种吗？”属众都说道：“谨听尊命。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宋体"/>
                <a:ea typeface="方正姚体"/>
              </a:rPr>
              <a:t>于是假装自称是公子扶苏、项燕的队伍，这样做是为了依从百姓的愿望。他们袒露右肩，号称“大楚”。筑坛举行盟誓，用尉的头作祭物。陈胜自己做将军，吴广任都尉。起义军攻打大泽乡，收聚大泽乡的义军之后攻打蕲。攻下蕲以后，派符离人葛婴领兵夺取蕲以东的地区，攻打铚、酂、苦、柘、谯，都攻下了。起义军一路行军一路收纳兵员。等到进军到陈，起义军已有战车六七百辆，骑兵一千多名，步卒几万人。起义军攻打陈，陈的郡守、县令都不在那里，只有守丞领军把守，和起义军在谯门中战斗。宁丞不能胜，战死。于是起义军进城，占据了陈。几天以后，陈胜、吴广发号令召集三老、当地头面人物全都来集会议事。三老、当地头面人物都说道：“将军亲自被坚执锐，辗转作战，征讨无道之人，诛伐暴虐之秦，恢复重建楚国，功高盖世，应该立为王。”陈涉于是称王，定国号叫“张楚”。在这时，苦于秦吏的各郡县都惩处当地长官，杀了地方长官来响应陈涉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方正姚体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75200" y="1447920"/>
            <a:ext cx="667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时　间　顺　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600200"/>
            <a:ext cx="0" cy="38098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447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谋划起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99072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685800"/>
            <a:ext cx="3047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起义背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谋划起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威众之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1911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发动起义建立政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39625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3429000"/>
            <a:ext cx="25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3733920"/>
            <a:ext cx="4724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发动起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起义迅猛发展，并立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各地反秦斗争激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通过对话描写来刻画人物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全文共写了三次话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第一段陈胜与同伴们的对话，表现了他</a:t>
            </a:r>
            <a:r>
              <a:rPr b="1" i="1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远大的志向和反抗意识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第二段陈胜同吴广的对话，反映了他们</a:t>
            </a:r>
            <a:r>
              <a:rPr b="1" i="1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善于斗争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的智慧和才能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第三段陈胜同戍卒的对话，表现出陈胜</a:t>
            </a:r>
            <a:r>
              <a:rPr b="1" i="1" lang="zh-CN" sz="36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反抗阶级压迫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的英雄气概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（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3</a:t>
            </a:r>
            <a:r>
              <a:rPr b="0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）根据人物不同身分和处境，写出对话的语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方正姚体"/>
                <a:ea typeface="方正姚体"/>
              </a:rPr>
              <a:t>熟读课文，并用课文原话回答问题：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．陈胜、吴广发动起义的直接原因是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　　＿＿＿＿＿＿＿＿＿＿＿＿＿＿＿＿＿＿＿</a:t>
            </a:r>
            <a:r>
              <a:rPr b="1" lang="zh-CN" sz="32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．农民起义的根本原因是：＿＿＿＿＿＿＿＿</a:t>
            </a:r>
            <a:r>
              <a:rPr b="1" lang="zh-CN" sz="32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．陈胜为起义制定的策略是：＿＿＿＿＿＿＿＿＿＿＿＿＿＿＿＿＿＿＿＿＿＿＿＿＿＿＿＿</a:t>
            </a:r>
            <a:r>
              <a:rPr b="1" lang="zh-CN" sz="32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．陈胜在发动起义前所做的“威众”准备是：</a:t>
            </a:r>
            <a:r>
              <a:rPr b="1" lang="zh-CN" sz="32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          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这样做的效果是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     </a:t>
            </a:r>
            <a:r>
              <a:rPr b="1" lang="zh-CN" sz="3200" spc="-1" strike="noStrike" u="sng">
                <a:solidFill>
                  <a:srgbClr val="ffffcc"/>
                </a:solidFill>
                <a:uFillTx/>
                <a:latin typeface="方正姚体"/>
                <a:ea typeface="方正姚体"/>
              </a:rPr>
              <a:t>＿＿＿＿＿＿＿＿＿＿＿　　　　　　　　　　　　　　　　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．陈胜在动员起义时，最具有鼓舞性，气魄雄伟、扣人心弦的一句话是：＿＿＿＿＿＿＿＿＿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宋体"/>
              </a:rPr>
              <a:t>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040" y="15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会天大雨，道不通，度已失期。失期，法皆斩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20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天下苦秦久矣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9718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诈自称公子扶苏、项燕，为天下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419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鱼腹藏书，篝火狐鸣。               卒皆夜惊恐。旦日，卒中往往语，皆指目陈胜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5867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王侯将相宁有种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144792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cc"/>
                </a:solidFill>
                <a:latin typeface="Times New Roman"/>
              </a:rPr>
              <a:t>再   见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3886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华南师范大学附属康大外语学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5029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隶书"/>
              </a:rPr>
              <a:t>李名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3080" y="127944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司马迁（前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145—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前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90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），</a:t>
            </a:r>
            <a:r>
              <a:rPr b="1" lang="zh-CN" sz="40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汉代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伟大的</a:t>
            </a:r>
            <a:r>
              <a:rPr b="1" lang="zh-CN" sz="40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史学家、文学家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二十岁时游历了长江中下游和山东、河南一带，三十五岁后又一次游历西南地区，尔后继承父职为太史令。后因李陵之祸，惨受宫刑。出狱后任中书令，潜心著作</a:t>
            </a:r>
            <a:r>
              <a:rPr b="1" lang="zh-CN" sz="40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《史记》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其《史记》被誉为“史家之绝唱，无韵之离骚。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09680" y="0"/>
            <a:ext cx="4724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司马迁简介</a:t>
            </a:r>
            <a:endParaRPr b="1" i="1" lang="en-US" sz="4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《史记》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原名《太史公书》，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是我国第一部通史，开创了纪体和书表的编写体例。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全书一百三十篇，包括十二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本纪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记历代帝王政迹）、八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书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记各种典章制度）、十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表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记大事年月）、三十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世家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记侯国兴亡）、七十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方正姚体"/>
                <a:ea typeface="方正姚体"/>
              </a:rPr>
              <a:t>列传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记重要历史人物的言行事功）五个部分，共五十二万字。记载了从黄帝到汉武帝时长达三千年的政治、经济和文化的历史，比较全面而深刻地反映了我国古代的社会面貌，对后世史学研究有深远影响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419720"/>
            <a:ext cx="8534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《史记》具有强烈的批判精神和鲜明的人民性。它对封建统治阶级的黑暗腐朽方面，作了大胆、深刻的揭露。</a:t>
            </a:r>
            <a:r>
              <a:rPr b="0" lang="zh-CN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9436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方正姚体"/>
              </a:rPr>
              <a:t>鲁迅誉为</a:t>
            </a:r>
            <a:r>
              <a:rPr b="0" lang="zh-CN" sz="3200" spc="-1" strike="noStrike" u="sng">
                <a:solidFill>
                  <a:srgbClr val="00ff00"/>
                </a:solidFill>
                <a:uFillTx/>
                <a:latin typeface="宋体"/>
                <a:ea typeface="方正姚体"/>
              </a:rPr>
              <a:t>“史家之绝唱，无韵之离骚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8600" y="2286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读准下列字音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049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33520"/>
            <a:ext cx="83059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阳夏（         ）   辍耕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垄上（          ）       怅恨（         ）   苟富贵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无相忘（         ）    嗟乎（         ）   鸿鹄（ 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闾左（          ）       谪戍（          ）  当行（  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度已失期（         ）数谏故（        ）为天下唱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乃行卜（          ）   陈胜王（        ）罾（ 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烹食（           ）      间令（          ）  篝火（ 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忿恚（               ） 笞（          ）       蕲（  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符离（          ）      徇（          ）       柘（  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谯（         ）   六七百乘（         ）    被坚执锐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5720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5720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"/>
            <a:ext cx="8839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jiǎ                         chu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lǒng                       chàng                    gǒ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wù                         jiē                          h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lǚ                          zhé                    há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duó                   shuò                         chā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bǔ                             wàng             zē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pēng                   jiàn                         gō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huì                      chī                         q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fú                         xùn                      zh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qiáo                            shèng                       p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760" y="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①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辍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耕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chuò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停止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②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怅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恨久之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失望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③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苟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富贵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如果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④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鸿鹄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之志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hú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鸿鹊，天鹅，比喻有远大抱负的人。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⑤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適戌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渔阳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zhé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適，通“谪”。適戍，强迫去守边。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⑥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皆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次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当行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次，编次。行，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háng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当行，当在征发之列。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⑦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度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已失期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duó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推测。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⑧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为天下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唱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唱，通“倡”，倡导。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⑨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所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罾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鱼腹中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zēng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鱼网，这里用作动词，就是用网捕。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⑩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间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令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(jiàn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秘密地，悄悄地。间令，暗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8458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[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11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素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爱人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向来，一向。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2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笞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广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chī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，竹板，这里是用竹板打的意思  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3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借第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令毋斩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借，即使。第，仅。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4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袒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右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tǎn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，脱去上衣，露出身体的一部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5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收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而攻蕲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收集、收拢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6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徇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蕲以东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xùn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，带兵巡行占领地方。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7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比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至陈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及，等到。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8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与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人佣耕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和，跟，同。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19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太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息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长叹。注意：“太”、“泰”、“大”三个字在古代常常通用。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[20] </a:t>
            </a: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闾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左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(lü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里巷的大门。</a:t>
            </a:r>
            <a:r>
              <a:rPr b="1" lang="zh-CN" sz="3200" spc="-1" strike="noStrike">
                <a:solidFill>
                  <a:srgbClr val="00ff00"/>
                </a:solidFill>
                <a:latin typeface="方正姚体"/>
                <a:ea typeface="方正姚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3049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[21]  </a:t>
            </a:r>
            <a:r>
              <a:rPr b="1" lang="zh-CN" sz="3600" spc="-1" strike="noStrike">
                <a:solidFill>
                  <a:srgbClr val="00ff00"/>
                </a:solidFill>
                <a:latin typeface="方正姚体"/>
                <a:ea typeface="方正姚体"/>
              </a:rPr>
              <a:t>威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众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震慑，使……害怕。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[22]  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忿</a:t>
            </a:r>
            <a:r>
              <a:rPr b="1" lang="zh-CN" sz="3600" spc="-1" strike="noStrike">
                <a:solidFill>
                  <a:srgbClr val="00ff00"/>
                </a:solidFill>
                <a:latin typeface="方正姚体"/>
                <a:ea typeface="方正姚体"/>
              </a:rPr>
              <a:t>恚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huì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恼怒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[23] </a:t>
            </a:r>
            <a:r>
              <a:rPr b="1" lang="zh-CN" sz="3600" spc="-1" strike="noStrike">
                <a:solidFill>
                  <a:srgbClr val="00ff00"/>
                </a:solidFill>
                <a:latin typeface="方正姚体"/>
                <a:ea typeface="方正姚体"/>
              </a:rPr>
              <a:t>社稷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jì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谷神。社，土地神。社稷，国家的代称。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[24] </a:t>
            </a:r>
            <a:r>
              <a:rPr b="1" lang="zh-CN" sz="3600" spc="-1" strike="noStrike">
                <a:solidFill>
                  <a:srgbClr val="00ff00"/>
                </a:solidFill>
                <a:latin typeface="方正姚体"/>
                <a:ea typeface="方正姚体"/>
              </a:rPr>
              <a:t>被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坚执锐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被，通“披”。坚，指铁甲。执，拿着。锐，指武器。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[25]  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陈胜</a:t>
            </a:r>
            <a:r>
              <a:rPr b="1" lang="zh-CN" sz="3600" spc="-1" strike="noStrike">
                <a:solidFill>
                  <a:srgbClr val="00ff00"/>
                </a:solidFill>
                <a:latin typeface="方正姚体"/>
                <a:ea typeface="方正姚体"/>
              </a:rPr>
              <a:t>王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(wàng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称王，统治天下。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8:02:12Z</dcterms:created>
  <dc:creator>k</dc:creator>
  <dc:description/>
  <dc:language>en-US</dc:language>
  <cp:lastModifiedBy>k</cp:lastModifiedBy>
  <dcterms:modified xsi:type="dcterms:W3CDTF">2004-09-24T02:45:45Z</dcterms:modified>
  <cp:revision>9</cp:revision>
  <dc:subject/>
  <dc:title>PowerPoint 演示文稿</dc:title>
</cp:coreProperties>
</file>