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E05-70DC-4B6B-9B8C-FA7869E5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B67-35BC-4318-8411-E4023CF5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8D1-6BA5-4151-A7D7-AD5AF91A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631-F35C-4B22-BD4F-68192A13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0CC-5744-4AB0-BEB4-86F5DCAC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DC8-5535-4A2B-98C0-93098791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4C9-3ADC-4FF7-AEFB-E37F64D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488-B29E-49D0-BA98-FCAEE9C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660-E811-4861-A547-AD20D89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6E1-2A30-46EB-8742-B1483CD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91-0790-4D37-B2B6-EECB0CA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279-1457-4C15-8385-BC606B0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69F2-EBB2-4635-BC7A-E1C0853A2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image" Target="../media/image6.jpeg"/><Relationship Id="rId4" Type="http://schemas.openxmlformats.org/officeDocument/2006/relationships/slide" Target="slide9.xml"/><Relationship Id="rId5" Type="http://schemas.openxmlformats.org/officeDocument/2006/relationships/image" Target="../media/image7.jpeg"/><Relationship Id="rId6" Type="http://schemas.openxmlformats.org/officeDocument/2006/relationships/slide" Target="slide10.xml"/><Relationship Id="rId7" Type="http://schemas.openxmlformats.org/officeDocument/2006/relationships/image" Target="../media/image8.jpeg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紫藤横轴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5560" y="0"/>
            <a:ext cx="25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陈情表   李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臣密言：臣以险衅，夙遭闵凶，生孩六月，慈父见背，行年四岁，舅夺母志。祖母刘愍臣孤弱，躬亲抚养。臣少多疾病，九岁不行，零丁孤苦，至于成立。既无叔伯，终鲜兄弟，门衰祚薄，晚有儿息。外无期功强近之亲，内无应门五尺之僮，茕茕孑立，形影相吊。而刘夙婴疾病，常在床蓐，臣侍汤药，未曾废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     </a:t>
            </a: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逮奉圣朝，沐浴清化。前太守臣逵，察臣孝廉；后刺史臣荣，举臣秀才。臣以供养无主，辞不赴命。诏书特下，拜臣郎中，寻蒙国恩，除臣洗马。猥以微贱，当侍东宫，非臣陨首所能上报。臣具以表闻，辞不就职。诏书切峻，责臣逋慢；郡县逼迫，催臣上道；州司临门，急于星火。臣欲奉诏奔驰，则刘病日笃，欲苟顺私情，则告诉不许。臣之进退，实为狼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伏惟圣朝以孝治天下，凡在故老，犹蒙矜育，况臣孤苦，特为尤甚。且臣少仕伪朝，历职郎署，本图宦达，不矜名节。今臣亡国贱俘，至微至陋，过蒙拔擢，宠命优渥，岂敢盘桓，有所希冀！但以刘日薄西山，气息奄奄，人命危浅，朝不虑夕。臣无祖母，无以至今日，祖母无臣，无以终余年，祖孙二人，更相为命，是以区区不能废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华文行楷"/>
                <a:ea typeface="华文行楷"/>
              </a:rPr>
              <a:t>臣密今年四十有四，祖母刘今年九十有六，是臣尽节于陛下之日长，报刘之日短也。乌鸟私情，愿乞终养。臣之辛苦，非独蜀之人士及二州牧伯所见明知，皇天后土，实所共鉴。愿陛下矜愍愚诚，听臣微志。庶刘侥幸，保卒余年。臣生当陨首，死当结草。臣不胜犬马怖惧之情，谨拜表以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52680" y="152280"/>
          <a:ext cx="2743200" cy="6400800"/>
        </p:xfrm>
        <a:graphic>
          <a:graphicData uri="http://schemas.openxmlformats.org/drawingml/2006/table">
            <a:tbl>
              <a:tblPr/>
              <a:tblGrid>
                <a:gridCol w="1327320"/>
                <a:gridCol w="1415880"/>
              </a:tblGrid>
              <a:tr h="64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3189600" y="609480"/>
            <a:ext cx="3106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陈 情 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4080" y="3352680"/>
            <a:ext cx="1399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晋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</a:rPr>
              <a:t>▪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李  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038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赏析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819520"/>
            <a:ext cx="31244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比喻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114800"/>
            <a:ext cx="8686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象生动，感情浓烈，富有感染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树叶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426360"/>
            <a:ext cx="609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2666880"/>
            <a:ext cx="876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讨论：有论者认为，李密反复强调孝亲，其实是为自己不奉诏仕晋而故意寻找借口。你同意这一观点吗，为什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2819520"/>
            <a:ext cx="861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讨论：晋武帝为什么会答应李密终养祖母的请求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2666880"/>
            <a:ext cx="822960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前人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读《出师表》不下泪者，其人必不忠；读《陈情表》不下泪者，其人必不孝；读《祭十二郎文》不下泪者，其人必不友；（以上苏轼语）读《报任安书》不下泪者，其人必不为人。（后人续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老人儿童古画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老人儿童古画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89548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老人儿童古画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0"/>
            <a:ext cx="3514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144792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李密在陈请“愿乞终养（祖母）” 这个要求时，遇到了什么困难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04812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忠孝两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1480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臣无祖母，无以至今日；祖母无臣，无以终余年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尽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638680"/>
            <a:ext cx="6477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蒙拔擢，宠命优渥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尽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2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赏析文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845820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743200"/>
            <a:ext cx="8686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请补写出“伏惟圣朝以孝治天下，凡在故老，犹蒙矜育，况臣孤苦，特为尤甚。”后面省略的一句话，并想想作者为什么要省略这句话？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7010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4120"/>
            <a:ext cx="5791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臣当终养祖母，不能废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老人儿童古画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老人儿童古画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89548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老人儿童古画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0"/>
            <a:ext cx="3514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152280"/>
            <a:ext cx="8991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假设你是晋武帝，李密在此提出终祖母的请求，你能不能用一两句话就把他驳得哑口无言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133720"/>
            <a:ext cx="8991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晋武帝可能会说，既然你要终养祖母以尽孝心，为什么在蜀汉你又出来做官呢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791320"/>
            <a:ext cx="7010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尔既须终养祖母，为何出仕伪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老人儿童古画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132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老人儿童古画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895480" y="0"/>
            <a:ext cx="35146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老人儿童古画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35146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152280"/>
            <a:ext cx="8991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此，李密深知这正是矛盾症结所在，这段历史是不能回避的，只能剖明自己心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60020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仕伪朝“本图宦达，不矜名节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28600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在圣朝“宠命优渥，岂敢盘桓”让晋武明白自己的忠心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505320"/>
            <a:ext cx="6476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、祖母人命危浅，朝不虑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寒鸦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1295280"/>
            <a:ext cx="190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臣无祖母无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至今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6002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82880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孝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114800"/>
            <a:ext cx="2133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过蒙拔擢宠命优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91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4197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忠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揭示矛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51460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666880" y="35053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58128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孝治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中宋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146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病笃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中宋"/>
              </a:rPr>
              <a:t>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3352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048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分析矛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李密最后提出解决孝与忠矛盾的办法是什么？他是怎样提出这个办法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33526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3048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解决矛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5812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尽忠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5146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尽孝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3048120"/>
            <a:ext cx="198108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愿乞终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236232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先尽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73392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后尽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095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思缜密，脉络分明，陈情于事，寓理于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寒鸦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赏析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树叶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264360"/>
            <a:ext cx="838080" cy="593640"/>
          </a:xfrm>
          <a:prstGeom prst="rect">
            <a:avLst/>
          </a:prstGeom>
          <a:ln w="0">
            <a:noFill/>
          </a:ln>
        </p:spPr>
      </p:pic>
      <p:pic>
        <p:nvPicPr>
          <p:cNvPr id="100" name="树叶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>
            <a:off x="1066320" y="6262560"/>
            <a:ext cx="838440" cy="595440"/>
          </a:xfrm>
          <a:prstGeom prst="rect">
            <a:avLst/>
          </a:prstGeom>
          <a:ln w="0">
            <a:noFill/>
          </a:ln>
        </p:spPr>
      </p:pic>
      <p:pic>
        <p:nvPicPr>
          <p:cNvPr id="101" name="树叶3jpg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86000" y="6300720"/>
            <a:ext cx="784080" cy="55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280" y="32004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四字骈句：简洁凝练，语势连贯紧凑，文势如行云流水般通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对偶句：语气铿锵有力，语意简洁凝练，朗朗上口，感情倍感热切，更具说服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比喻句：形象生动，感情浓烈，富有感染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8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600200"/>
            <a:ext cx="8839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你认为精彩的语句画下来，说说这些语句有什么特点（句式，用词，修辞手法）？好（表情达意效果）在哪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0"/>
            <a:ext cx="38862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赏析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2666880"/>
            <a:ext cx="3657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四字骈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809880"/>
            <a:ext cx="8534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简洁凝练，语势连贯紧凑，行文通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树叶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18360"/>
            <a:ext cx="7621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寒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114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赏析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666880"/>
            <a:ext cx="3048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中宋"/>
              </a:rPr>
              <a:t>、对偶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733920"/>
            <a:ext cx="8763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中宋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华文中宋"/>
              </a:rPr>
              <a:t>语气铿锵有力，语意简洁凝练，朗朗上口，感情倍感热切，更具说服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树叶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426360"/>
            <a:ext cx="609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7:26:46Z</dcterms:created>
  <dc:creator>huangdechu</dc:creator>
  <dc:description/>
  <dc:language>en-US</dc:language>
  <cp:lastModifiedBy>huangdechu</cp:lastModifiedBy>
  <dcterms:modified xsi:type="dcterms:W3CDTF">2001-12-14T01:16:34Z</dcterms:modified>
  <cp:revision>19</cp:revision>
  <dc:subject/>
  <dc:title>PowerPoint 演示文稿</dc:title>
</cp:coreProperties>
</file>