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C4F-4A02-4D4E-B7ED-25861EEA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4C6-50B0-456C-91E0-F115F3B0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F36-53FA-4A85-B37F-CF8757BD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D4E-0EB1-409A-80D8-B39B909A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D0E-FD52-40F9-8C98-BFB734D7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6C2-4861-4110-AFB0-F19F6A7A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5A2-D2F2-4020-80BA-AA8CAB4B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1A8-9559-429D-B727-8C1DE61D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B62-D7C0-4D30-8994-FE542A39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BF7-05F4-4BD0-8747-F75A8A59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81A-521B-4023-8FF0-30E153F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109-7FA2-4552-AE64-3191E3D0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6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0DBA-868F-46C8-933D-E7A5A34F8F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www.dangdang.com/product/9115/9115237.shtml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5pk.cn/info/info113/info112349.htm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924280"/>
            <a:ext cx="9144000" cy="3933720"/>
            <a:chOff x="0" y="2924280"/>
            <a:chExt cx="9144000" cy="39337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0" t="0" r="66627" b="0"/>
            <a:stretch/>
          </p:blipFill>
          <p:spPr>
            <a:xfrm>
              <a:off x="0" y="2924280"/>
              <a:ext cx="5891040" cy="39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rcRect l="31105" t="3391" r="0" b="0"/>
            <a:stretch/>
          </p:blipFill>
          <p:spPr>
            <a:xfrm>
              <a:off x="5472000" y="2997360"/>
              <a:ext cx="3672000" cy="38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>
            <a:off x="4167000" y="1484280"/>
            <a:ext cx="10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99"/>
                </a:solidFill>
                <a:latin typeface="Arial"/>
                <a:ea typeface="华文行楷"/>
              </a:rPr>
              <a:t>老师们、同学们好</a:t>
            </a:r>
            <a:r>
              <a:rPr b="0" lang="zh-CN" sz="7200" spc="-1" strike="noStrike">
                <a:solidFill>
                  <a:srgbClr val="333399"/>
                </a:solidFill>
                <a:latin typeface="Arial"/>
                <a:ea typeface="华文行楷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360" y="4581360"/>
            <a:ext cx="2698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盈学校  九（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）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执教：付宏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2924280"/>
            <a:ext cx="9144000" cy="3933720"/>
            <a:chOff x="0" y="2924280"/>
            <a:chExt cx="9144000" cy="393372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0" t="0" r="66627" b="0"/>
            <a:stretch/>
          </p:blipFill>
          <p:spPr>
            <a:xfrm>
              <a:off x="0" y="2924280"/>
              <a:ext cx="5891040" cy="39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rcRect l="31105" t="3391" r="0" b="0"/>
            <a:stretch/>
          </p:blipFill>
          <p:spPr>
            <a:xfrm>
              <a:off x="5472000" y="2997360"/>
              <a:ext cx="3672000" cy="38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684360" y="76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理性思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1916280"/>
            <a:ext cx="72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作者是如何把罗丹的形象塑造得这么生动的呢？谈谈你的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800000" cy="4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7650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·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作 业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2924280"/>
            <a:ext cx="9144000" cy="3933720"/>
            <a:chOff x="0" y="2924280"/>
            <a:chExt cx="9144000" cy="393372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66627" b="0"/>
            <a:stretch/>
          </p:blipFill>
          <p:spPr>
            <a:xfrm>
              <a:off x="0" y="2924280"/>
              <a:ext cx="5891040" cy="39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rcRect l="31105" t="3391" r="0" b="0"/>
            <a:stretch/>
          </p:blipFill>
          <p:spPr>
            <a:xfrm>
              <a:off x="5472000" y="2997360"/>
              <a:ext cx="3672000" cy="38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539640" y="170028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收集课外成功名人的故事一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仔细观察身边某个人，写一段描写他做某件事的片段。（综合运用人物描写方法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字左右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800000" cy="4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6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19640" y="3357720"/>
            <a:ext cx="2365200" cy="295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27640" y="3357720"/>
            <a:ext cx="2352960" cy="295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20492" t="22790" r="32577" b="0"/>
          <a:stretch/>
        </p:blipFill>
        <p:spPr>
          <a:xfrm>
            <a:off x="468360" y="3357720"/>
            <a:ext cx="2417760" cy="29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4000" y="2708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2000" y="278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居里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2240" y="628488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623736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贝多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62848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盖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4"/>
          </p:cNvPr>
          <p:cNvPicPr/>
          <p:nvPr/>
        </p:nvPicPr>
        <p:blipFill>
          <a:blip r:embed="rId5"/>
          <a:srcRect l="0" t="0" r="0" b="-67"/>
          <a:stretch/>
        </p:blipFill>
        <p:spPr>
          <a:xfrm>
            <a:off x="5364000" y="260280"/>
            <a:ext cx="2592720" cy="2517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14560" y="260280"/>
            <a:ext cx="3097080" cy="25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6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112000" cy="511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95640" y="59500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罗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04840" y="1916280"/>
            <a:ext cx="1186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材魁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阔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6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226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59280" y="2571840"/>
            <a:ext cx="3960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品塑造了一个为人类一切烦恼陷入深沉思考的男子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0280" y="1054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思想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6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387680" cy="5616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92720" y="2421000"/>
            <a:ext cx="3635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忧郁而凝视的目光，紧闭的双唇，表露了她复杂的内心世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62720" y="836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沉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c6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260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830920" y="620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青铜时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2060640"/>
            <a:ext cx="417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左手握拳，右手扶头，面孔昂起作思索状。充满了青春活力，意味着人类即将进入智慧的创造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2924280"/>
            <a:ext cx="9144000" cy="3933720"/>
            <a:chOff x="0" y="2924280"/>
            <a:chExt cx="9144000" cy="39337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66627" b="0"/>
            <a:stretch/>
          </p:blipFill>
          <p:spPr>
            <a:xfrm>
              <a:off x="0" y="2924280"/>
              <a:ext cx="5891040" cy="39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rcRect l="31105" t="3391" r="0" b="0"/>
            <a:stretch/>
          </p:blipFill>
          <p:spPr>
            <a:xfrm>
              <a:off x="5472000" y="2997360"/>
              <a:ext cx="3672000" cy="38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1116000" y="1125360"/>
            <a:ext cx="715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99"/>
                </a:solidFill>
                <a:latin typeface="Arial"/>
                <a:ea typeface="隶书"/>
              </a:rPr>
              <a:t>从罗丹得到的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85680" y="256536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斯蒂芬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茨威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2924280"/>
            <a:ext cx="9144000" cy="3933720"/>
            <a:chOff x="0" y="2924280"/>
            <a:chExt cx="9144000" cy="39337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0" t="0" r="66627" b="0"/>
            <a:stretch/>
          </p:blipFill>
          <p:spPr>
            <a:xfrm>
              <a:off x="0" y="2924280"/>
              <a:ext cx="5891040" cy="39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rcRect l="31105" t="3391" r="0" b="0"/>
            <a:stretch/>
          </p:blipFill>
          <p:spPr>
            <a:xfrm>
              <a:off x="5472000" y="2997360"/>
              <a:ext cx="3672000" cy="38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"/>
          <p:cNvSpPr/>
          <p:nvPr/>
        </p:nvSpPr>
        <p:spPr>
          <a:xfrm>
            <a:off x="1042920" y="1989000"/>
            <a:ext cx="72723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作者从罗丹身上得到了什么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哪件事里得到的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0480" y="81108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整体感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800000" cy="4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2924280"/>
            <a:ext cx="9144000" cy="3933720"/>
            <a:chOff x="0" y="2924280"/>
            <a:chExt cx="9144000" cy="39337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rcRect l="0" t="0" r="66627" b="0"/>
            <a:stretch/>
          </p:blipFill>
          <p:spPr>
            <a:xfrm>
              <a:off x="0" y="2924280"/>
              <a:ext cx="5891040" cy="39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rcRect l="31105" t="3391" r="0" b="0"/>
            <a:stretch/>
          </p:blipFill>
          <p:spPr>
            <a:xfrm>
              <a:off x="5472000" y="2997360"/>
              <a:ext cx="3672000" cy="38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690480" y="7650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重点研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1844640"/>
            <a:ext cx="65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在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7-16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小节的描写中，圈划出你最欣赏的句子，并说说理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1800000" cy="4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0:28:10Z</dcterms:created>
  <dc:creator>User</dc:creator>
  <dc:description/>
  <dc:language>en-US</dc:language>
  <cp:lastModifiedBy>User</cp:lastModifiedBy>
  <dcterms:modified xsi:type="dcterms:W3CDTF">2006-10-31T11:56:19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5000000000001024120</vt:lpwstr>
  </property>
</Properties>
</file>