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ED0-30B7-434F-AF2B-AFD71B1D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0A8-E316-4036-BC6C-E51EBBD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1B5-027F-4C45-A469-0110037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069-E419-44AF-A56A-09337155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C9E-FF63-43C5-B93E-86F1504F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FFE-2FDC-40AA-ACE9-03A9BB6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A62-8A0B-462B-9134-E3960EE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4E3-885B-4D6E-BC5D-9B3C18B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BC6-D795-4398-BF06-0957FDEA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6D0-2D66-44BD-A3AA-D26D95C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E06-1480-4F9A-BE26-04EC138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4E9-23B1-4FA4-AEF6-ABBC064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8FCB-E328-49E8-8398-9425AA8ED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../../WINDOWS/TEMP/Rar$DI00.590/&#26149;&#27743;&#33457;&#26376;&#22812;&#26354;&#23376;.mp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../../WINDOWS/TEMP/Rar$DI00.590/03&#21556;&#20013;&#22235;&#22763;.rmvb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8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8320" y="1006560"/>
            <a:ext cx="7777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3399"/>
                </a:solidFill>
                <a:latin typeface="Arial"/>
              </a:rPr>
              <a:t>春 江 花 月 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99"/>
                </a:solidFill>
                <a:latin typeface="Arial"/>
              </a:rPr>
              <a:t>                         </a:t>
            </a:r>
            <a:r>
              <a:rPr b="1" i="1" lang="zh-CN" sz="4400" spc="-1" strike="noStrike">
                <a:solidFill>
                  <a:srgbClr val="cc3399"/>
                </a:solidFill>
                <a:latin typeface="Arial"/>
              </a:rPr>
              <a:t>张若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244680"/>
            <a:ext cx="9144000" cy="361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26320" y="18900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古典诗歌中关于“月”的意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084640"/>
            <a:ext cx="6572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076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24600" y="981000"/>
            <a:ext cx="3640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出惊山鸟，时鸣春涧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王维《鸟鸣涧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星垂平野阔，月涌大江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杜甫《旅夜抒怀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春花秋月何时了，往事知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李煜《虞美人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今人不见古时月，今月曾经照古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古人今人若流水，共看明月皆如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李白《把酒问月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1268280"/>
            <a:ext cx="368280" cy="1729080"/>
          </a:xfrm>
          <a:custGeom>
            <a:avLst/>
            <a:gdLst>
              <a:gd name="textAreaLeft" fmla="*/ 0 w 368280"/>
              <a:gd name="textAreaRight" fmla="*/ 132840 w 368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20560" y="78984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空 间 意 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3360" y="3645000"/>
            <a:ext cx="513000" cy="2305080"/>
          </a:xfrm>
          <a:custGeom>
            <a:avLst/>
            <a:gdLst>
              <a:gd name="textAreaLeft" fmla="*/ 0 w 513000"/>
              <a:gd name="textAreaRight" fmla="*/ 185040 w 513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4320" y="3515760"/>
            <a:ext cx="66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时 间 意 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244680"/>
            <a:ext cx="9144000" cy="361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382680"/>
            <a:ext cx="184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39520" y="189000"/>
            <a:ext cx="29376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今夜月明人尽望，不知秋思落谁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王建《十五夜望寄杜郎中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落乌啼霜满天，江枫渔火对愁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张继《枫桥夜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海上生明月，天涯共此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张九龄《望月怀远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人生如梦，一尊还酹江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轼《念奴娇•赤壁怀古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836640"/>
            <a:ext cx="647640" cy="4753080"/>
          </a:xfrm>
          <a:custGeom>
            <a:avLst/>
            <a:gdLst>
              <a:gd name="textAreaLeft" fmla="*/ 0 w 647640"/>
              <a:gd name="textAreaRight" fmla="*/ 234000 w 64764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4320" y="1801800"/>
            <a:ext cx="66780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情   感   意   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06360" y="32868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【课后思考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1880" y="1305000"/>
            <a:ext cx="45712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盛唐诗人张九龄《望月怀远》一诗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历来为人们广泛传颂的上乘之作，试与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诗对照，分析两首诗的异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7200" y="3087720"/>
            <a:ext cx="378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海上生明月，天涯共此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情人怨遥夜，竟夕起相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灭烛怜光远，披衣觉露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不堪盈手赠，还寝梦佳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4849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54016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4880" y="1197000"/>
            <a:ext cx="84391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春江花月夜》一诗“孤篇压全唐”、“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第一诗” 、“春风第一花” 、“孤篇横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竟为大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闻一多先生誉为“诗中的诗，顶峰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顶峰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5640" y="333360"/>
            <a:ext cx="43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【古今评说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38600"/>
            <a:ext cx="9144000" cy="221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9800" y="-76320"/>
            <a:ext cx="950292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【作者介绍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若虚（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扬州人，唐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。曾以“文词俊秀”而名显长安，与贺知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融、张旭并称“吴中四士”。仅《全唐诗》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存《代答闺梦还》、《春江花月夜》两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春江花月夜》一千多年来为世人所倾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因此名垂后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15200" y="4657680"/>
            <a:ext cx="11523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638600"/>
            <a:ext cx="914400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560" y="333360"/>
            <a:ext cx="929952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【学习要点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畅诵读，感悟诗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本诗感情表达的层次结构，体会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、理的完美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古典诗歌中的特定意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53200" y="4124160"/>
            <a:ext cx="11527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96920" y="981000"/>
            <a:ext cx="128124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988920"/>
            <a:ext cx="85089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春江潮水连海平，海上明月共潮生。滟滟随波千万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何处春江无月明。江流宛转绕芳甸，月照花林皆似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空里流霜不觉飞，汀上白沙看不见。江天一色无纤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皎皎空中孤月轮。江畔何人初见月，江月何年初照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人生代代无穷已，江月年年只相似。不知江月待何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但见长江送流水。白云一片去悠悠，青枫浦上不胜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谁家今夜扁舟子，何处相思明月楼。可怜楼上月徘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应照离人妆镜台。玉户帘中卷不去，捣衣砧上拂还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此时相望不相闻，愿逐月华流照君。鸿雁长飞光不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鱼龙潜跃水成文。昨夜闲潭梦落花，可怜春半不还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江水流春去欲尽，江潭落月复西斜。斜月沉沉藏海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碣石潇湘无限路。不知乘月几人归，落月摇情满江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6680" y="189000"/>
            <a:ext cx="35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春江花月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9160" y="379440"/>
            <a:ext cx="267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（配乐朗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6640" y="1461960"/>
            <a:ext cx="9352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一）写明月照耀下的江水花林的绚丽景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为下面对景抒情打下基础。 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隶书"/>
              </a:rPr>
              <a:t>景物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二）由写景转向观照人生，思索茫茫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漫漫宇宙之间的相互关系，以明月长照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照人生短暂，抒写心中的感叹。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隶书"/>
              </a:rPr>
              <a:t>哲理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三）由感叹人生进而抒写思妇游子的离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别绪，讴歌人们对爱情的向往和对幸福的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憬．    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隶书"/>
              </a:rPr>
              <a:t>情感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80880"/>
            <a:ext cx="53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</a:rPr>
              <a:t>【抒情层次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81000" y="114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春江花月（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81000" y="23605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思妇游子（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4680" y="36576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宇宙人生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1600200"/>
            <a:ext cx="381240" cy="243828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7920" y="1706400"/>
            <a:ext cx="7290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完 美 融 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49240" y="1473120"/>
            <a:ext cx="7178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欣赏</a:t>
            </a:r>
            <a:r>
              <a:rPr b="1" i="1" lang="zh-CN" sz="4000" spc="-1" strike="noStrike">
                <a:solidFill>
                  <a:srgbClr val="cc3399"/>
                </a:solidFill>
                <a:latin typeface="Arial"/>
              </a:rPr>
              <a:t>《唐之韵》之“吴中四士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30400" y="2892600"/>
            <a:ext cx="76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99"/>
                </a:solidFill>
                <a:latin typeface="Arial"/>
              </a:rPr>
              <a:t>感悟诗歌景</a:t>
            </a:r>
            <a:r>
              <a:rPr b="0" i="1" lang="zh-CN" sz="3200" spc="-1" strike="noStrike">
                <a:solidFill>
                  <a:srgbClr val="cc3399"/>
                </a:solidFill>
                <a:latin typeface="Arial"/>
              </a:rPr>
              <a:t>—</a:t>
            </a:r>
            <a:r>
              <a:rPr b="1" i="1" lang="zh-CN" sz="3200" spc="-1" strike="noStrike">
                <a:solidFill>
                  <a:srgbClr val="cc3399"/>
                </a:solidFill>
                <a:latin typeface="Arial"/>
              </a:rPr>
              <a:t>情</a:t>
            </a:r>
            <a:r>
              <a:rPr b="0" i="1" lang="zh-CN" sz="3200" spc="-1" strike="noStrike">
                <a:solidFill>
                  <a:srgbClr val="cc3399"/>
                </a:solidFill>
                <a:latin typeface="Arial"/>
              </a:rPr>
              <a:t>—</a:t>
            </a:r>
            <a:r>
              <a:rPr b="1" i="1" lang="zh-CN" sz="3200" spc="-1" strike="noStrike">
                <a:solidFill>
                  <a:srgbClr val="cc3399"/>
                </a:solidFill>
                <a:latin typeface="Arial"/>
              </a:rPr>
              <a:t>理的完美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5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31600" y="1738440"/>
            <a:ext cx="591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以“春、江、花、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夜”五字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步展开，构成一幅天地一体、色彩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丽的完整图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以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生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照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斜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落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”为外在线索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呈现出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月下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静谧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朦胧、纯净、澄澈的优美诗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4400" y="33336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33"/>
                </a:solidFill>
                <a:latin typeface="Arial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9:41:29Z</dcterms:created>
  <dc:creator>Billgates</dc:creator>
  <dc:description/>
  <dc:language>en-US</dc:language>
  <cp:lastModifiedBy>123</cp:lastModifiedBy>
  <dcterms:modified xsi:type="dcterms:W3CDTF">2005-11-05T14:41:39Z</dcterms:modified>
  <cp:revision>138</cp:revision>
  <dc:subject/>
  <dc:title>幻灯片 1</dc:title>
</cp:coreProperties>
</file>