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25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E15-C87E-4FB0-B0B1-29BFFD47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0C6-969E-44EA-9AB3-DBC68476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633-6C35-4930-9DB8-E64DA306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2F2-2B84-4143-ACAD-8DF3ADF3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697-4053-4A0F-BD76-F8F72F0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381-2EA8-4AA6-BD9E-521EF58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6F2-2B8E-4627-ABFD-9687675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38-326A-4C7C-B841-C0A04038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F18-D691-41D3-89E4-A91EBB9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0EC-1B56-4745-A5A5-EDA4579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E51-49A1-4517-B340-F68E6FC5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A1F-3EE4-4B62-BD89-EE98097B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75F8-7EC3-4FBD-9FB9-B73F4B0EB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4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hyperlink" Target="http://www.wy222.com/images/denglong/de8l.jpg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3168720" cy="28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549360"/>
            <a:ext cx="165564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1608120" cy="48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266400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05.gif (13985 字节)"/>
          <p:cNvPicPr/>
          <p:nvPr/>
        </p:nvPicPr>
        <p:blipFill>
          <a:blip r:embed="rId5"/>
          <a:stretch/>
        </p:blipFill>
        <p:spPr>
          <a:xfrm>
            <a:off x="5148360" y="0"/>
            <a:ext cx="3657600" cy="314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596360" y="3141720"/>
            <a:ext cx="1547640" cy="3886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27640" y="549360"/>
            <a:ext cx="16542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000" y="0"/>
            <a:ext cx="2715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月之故乡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0"/>
            <a:ext cx="4608720" cy="64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天上一个月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水里一个月亮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天上的月亮在水里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水里的月亮在天上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低头看水里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抬头看天上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看月亮思故乡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一个在水里 一个在天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65400" y="148392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后来啊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乡愁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是一方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矮矮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坟墓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在外头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母亲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在里头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而现在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乡愁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是一湾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浅浅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海峡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在这头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大陆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Arial"/>
                <a:ea typeface="楷体_GB2312"/>
              </a:rPr>
              <a:t>在那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2971800"/>
            <a:ext cx="260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9160" y="1444680"/>
            <a:ext cx="4038840" cy="45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小时候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乡愁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是一枚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小小的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i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邮票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在这头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母亲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在那头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长大后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乡愁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是一张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窄窄的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船票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在这头</a:t>
            </a:r>
            <a:br>
              <a:rPr sz="3600"/>
            </a:b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新娘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楷体_GB2312"/>
              </a:rPr>
              <a:t>在那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0"/>
            <a:ext cx="36338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   </a:t>
            </a:r>
            <a:r>
              <a:rPr b="1" lang="zh-CN" sz="7200" spc="-1" strike="noStrike">
                <a:solidFill>
                  <a:srgbClr val="ffff66"/>
                </a:solidFill>
                <a:latin typeface="Times New Roman"/>
                <a:ea typeface="隶书"/>
              </a:rPr>
              <a:t>乡    愁</a:t>
            </a:r>
            <a:br>
              <a:rPr sz="4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57913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876920"/>
            <a:ext cx="38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05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33520"/>
            <a:ext cx="2303640" cy="563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14600" y="45720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553080" y="4419720"/>
            <a:ext cx="1752840" cy="2035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93280" y="1125360"/>
            <a:ext cx="38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吟颂乡情</a:t>
            </a: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，心灵驿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2421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请把自己了解到的有关“思乡”的古诗词名句或者优美的文章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回忆诵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333360"/>
            <a:ext cx="8499600" cy="35060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举杯邀明月，对饮成三人。”——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明月几时有，把酒问青天。”——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举头望明月，低头思故乡。” ——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乡书何处达？归雁洛阳边。”  ——王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但愿人长久，千里共婵娟。”  —— 苏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独在异乡为异客，每逢佳节倍思亲。” —王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文鼎大颜楷"/>
              </a:rPr>
              <a:t>露从今夜白，月是故乡明。”  —— 杜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24280"/>
            <a:ext cx="9144000" cy="223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文鼎大颜楷"/>
              </a:rPr>
              <a:t>母亲，倘若你梦 中看见一只很小的白船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文鼎大颜楷"/>
              </a:rPr>
              <a:t>不要 惊讶它无端入梦。这是你挚爱的女儿含着泪叠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文鼎大颜楷"/>
              </a:rPr>
              <a:t>万水千山，求它载着她的爱和悲哀归去。 ——冰心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文鼎大颜楷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33597" t="19816" r="0" b="2176"/>
          <a:stretch/>
        </p:blipFill>
        <p:spPr>
          <a:xfrm>
            <a:off x="2627280" y="620640"/>
            <a:ext cx="6215040" cy="480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651640" y="5516640"/>
            <a:ext cx="29509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琦君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400000">
            <a:off x="-2305440" y="3033720"/>
            <a:ext cx="617220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8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新魏"/>
              </a:rPr>
              <a:t>琦君写母亲的文章</a:t>
            </a:r>
            <a:endParaRPr b="1" lang="en-US" sz="6000" spc="1" strike="noStrike">
              <a:ln w="12600">
                <a:solidFill>
                  <a:srgbClr val="8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1341360"/>
            <a:ext cx="77407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《母亲新婚时》 《母亲的偏方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《母亲那个时代》《母亲母亲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《母亲的手艺》《毛衣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隶书"/>
                <a:ea typeface="隶书"/>
              </a:rPr>
              <a:t>《髻》《母亲的教导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143000"/>
            <a:ext cx="2724120" cy="2562120"/>
          </a:xfrm>
          <a:prstGeom prst="rect">
            <a:avLst/>
          </a:prstGeom>
          <a:ln w="114480">
            <a:solidFill>
              <a:srgbClr val="ff99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2819520" cy="2590920"/>
          </a:xfrm>
          <a:prstGeom prst="rect">
            <a:avLst/>
          </a:prstGeom>
          <a:ln w="114480">
            <a:solidFill>
              <a:srgbClr val="ff99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125360"/>
            <a:ext cx="2595600" cy="2590920"/>
          </a:xfrm>
          <a:prstGeom prst="rect">
            <a:avLst/>
          </a:prstGeom>
          <a:ln w="114480">
            <a:solidFill>
              <a:srgbClr val="ff99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822400" cy="2540160"/>
          </a:xfrm>
          <a:prstGeom prst="rect">
            <a:avLst/>
          </a:prstGeom>
          <a:ln w="114480">
            <a:solidFill>
              <a:srgbClr val="ff99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352680" y="3886200"/>
            <a:ext cx="2514600" cy="2514600"/>
          </a:xfrm>
          <a:prstGeom prst="rect">
            <a:avLst/>
          </a:prstGeom>
          <a:ln w="114480">
            <a:solidFill>
              <a:srgbClr val="ff99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/>
          <a:srcRect l="15387" t="0" r="0" b="0"/>
          <a:stretch/>
        </p:blipFill>
        <p:spPr>
          <a:xfrm>
            <a:off x="6019920" y="3933720"/>
            <a:ext cx="2819160" cy="2467080"/>
          </a:xfrm>
          <a:prstGeom prst="rect">
            <a:avLst/>
          </a:prstGeom>
          <a:ln w="114480">
            <a:solidFill>
              <a:srgbClr val="ff99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13380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永远的记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" nodeType="afterEffect" fill="hold" presetClass="entr" presetID="7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7500"/>
                            </p:stCondLst>
                            <p:childTnLst>
                              <p:par>
                                <p:cTn id="41" nodeType="after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0360" y="4689360"/>
            <a:ext cx="2376720" cy="197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27280" y="0"/>
            <a:ext cx="651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现当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著名女作家。原名潘希真，浙江人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赴台，在司法部门工作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。曾任中国文化学院，中央大学中文系教授。后定居美国。她是从散文开始自己的写作生涯的。她出版了散文集，小说集及儿童文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种，代表作有《橘子红了》《七月的哀伤》《 菁姐》《 琦君寄小读者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她是一个活在童年里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710240"/>
            <a:ext cx="2663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738720" y="189000"/>
            <a:ext cx="9198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cc3300"/>
                </a:solidFill>
                <a:latin typeface="华文行楷"/>
                <a:ea typeface="华文行楷"/>
              </a:rPr>
              <a:t>春   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小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过年是一杯香甜的春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酒中浸润着我的幸福与娇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长大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回忆是一杯苦涩的春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酒中盛满了我的乡情与愁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而如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到哪里去寻找我的春酒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清清的，甜甜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哪怕只是一指甲缝的春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隶书"/>
                <a:ea typeface="隶书"/>
              </a:rPr>
              <a:t>那是童年的欢乐，是母亲的味道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218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55560" y="333360"/>
            <a:ext cx="41792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初读，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者回忆了哪些与“春酒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关的人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49600" y="2421000"/>
            <a:ext cx="3935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再读，体悟美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找出富有情趣的细节，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读，品一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2960" y="4581360"/>
            <a:ext cx="4179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三读，感悟内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者怀念的仅仅是春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476280"/>
            <a:ext cx="874872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累下列字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一马当先   顾名思义   如法炮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记叙了作者童年哪几件事？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题目是“春酒”，作者怀念的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是家乡的春酒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3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27120" y="4005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故乡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0480" y="1413000"/>
            <a:ext cx="7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</a:rPr>
              <a:t>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Times New Roman"/>
              </a:rPr>
              <a:t>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371680" y="1341360"/>
            <a:ext cx="2341800" cy="3370320"/>
            <a:chOff x="2371680" y="1341360"/>
            <a:chExt cx="2341800" cy="3370320"/>
          </a:xfrm>
        </p:grpSpPr>
        <p:sp>
          <p:nvSpPr>
            <p:cNvPr id="79" name=""/>
            <p:cNvSpPr/>
            <p:nvPr/>
          </p:nvSpPr>
          <p:spPr>
            <a:xfrm>
              <a:off x="2412720" y="13413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过新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71680" y="272844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喝春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71680" y="4130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喝会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34800">
              <a:off x="3953520" y="1726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情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564800">
              <a:off x="3839040" y="4007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甜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24840" y="3029040"/>
              <a:ext cx="845280" cy="163080"/>
            </a:xfrm>
            <a:prstGeom prst="rightArrow">
              <a:avLst>
                <a:gd name="adj1" fmla="val 50000"/>
                <a:gd name="adj2" fmla="val 129581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9446600">
              <a:off x="3425400" y="3894120"/>
              <a:ext cx="1268640" cy="162720"/>
            </a:xfrm>
            <a:prstGeom prst="rightArrow">
              <a:avLst>
                <a:gd name="adj1" fmla="val 50000"/>
                <a:gd name="adj2" fmla="val 19491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82600">
              <a:off x="3434040" y="2124360"/>
              <a:ext cx="1353240" cy="163080"/>
            </a:xfrm>
            <a:prstGeom prst="rightArrow">
              <a:avLst>
                <a:gd name="adj1" fmla="val 50000"/>
                <a:gd name="adj2" fmla="val 20745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16360" y="1773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风俗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2565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人情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33577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童年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0:02:02Z</dcterms:created>
  <dc:creator> </dc:creator>
  <dc:description/>
  <dc:language>en-US</dc:language>
  <cp:lastModifiedBy>多媒体教室一</cp:lastModifiedBy>
  <dcterms:modified xsi:type="dcterms:W3CDTF">2007-06-12T03:19:52Z</dcterms:modified>
  <cp:revision>51</cp:revision>
  <dc:subject/>
  <dc:title>幻灯片 1</dc:title>
</cp:coreProperties>
</file>