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9.wmf" ContentType="image/x-wmf"/>
  <Override PartName="/ppt/media/image15.png" ContentType="image/pn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00B77-7131-49EA-B215-CA74421C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7234E-83FB-4EF3-AC0E-1D307B0E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DB396-A981-4DAB-BC4D-94F2EDBF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21D67-C6B1-4ABD-9B42-FFE5D653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62E68-3A1C-4406-8958-85DD631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C0AA-2D79-4CB6-AB1C-26DE9B49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E9CBD-7751-44B1-A324-CA7E54A0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BA928-89C9-40CE-9D4A-AB85A608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F3782-C157-4407-AD59-9ABAB81F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EF563-1D75-4DED-9E22-E03B9BC2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90D62-FA17-4D03-81F9-A7B741D8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D6E3C-F4B8-4934-B880-095444A9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79269-5EC6-45B1-8F07-B3395061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21916-F1F6-467E-B1DF-6AFE92F8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EEC5E-2DE2-413B-B988-9CA47E43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4A1C3-8E47-49C8-A71F-2D625499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0B528-9182-4C22-AC55-A0E7BD2B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1877E-0AC4-495E-A09D-3707D301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607AC-21A1-4C4D-AC31-C5301255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81248-A888-4F99-9C34-926E28EA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255BE-5712-4E4D-A2FE-F9A21E2B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63E09-D2B7-4F1C-A760-27F85BE4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406CC-DE01-4A73-B1B9-F1E788A2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3B242-7F60-4390-AFCC-5D690CBB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99798-BF86-473F-9D4E-B90D68EC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409DC-D928-4A94-BE3B-3B9BC849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CF67E-D493-49B2-8F8B-0296A0EC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C58A1-39B7-446F-A4F7-C5E5E1DB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12E39-0903-400C-8B8F-A68FB8ED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3F326-5750-4B5E-B724-4A94ADB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7E9-770F-43F6-AA39-5B833AB7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B7C7A-71CF-4F9F-9936-7854AEB8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80BE2-7397-4D6E-BD6A-23CF2496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9632F-452C-43EC-9EB7-2F4AE2C5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10060-1B21-4BCF-9FFE-CF40C856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A0670-4BD7-48DC-B32E-ADCE89EB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D2375-4824-427E-864F-3E37405D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7CA25-945D-4C57-BBD5-E2C0C48C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84AEA-1C88-4677-9BD4-CB141C7B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DD27D-37C6-472C-9356-DCC4F03A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D054E-DE88-4BDF-B926-39B13612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2CF-2825-4B9B-8923-933F4E0C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146A4-8D2B-461A-AF23-F78982E4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45CEE-E164-4424-9EBB-6DF50DFC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9E0A4-9344-4FB0-BDCB-12BC35F6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ADDC4-BB3A-4C5C-BE57-6D2FCD2E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41D7A-BC5D-4EE2-A7FC-4344867A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1FB3B-63A6-4E39-B455-C4FFF680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D0735-5FF9-4EC0-8883-01120617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5AAD4-6016-4C6D-BA58-4B238CD6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B38CC-3D4F-4935-A902-DC4F81CD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4D184-1FA2-45D4-BFF1-493146EF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6B2-B9DE-42DF-AA7B-644D31C4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E0301-822F-467A-8CDF-3F492D43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86417-43B6-4ECB-839F-AFD7324E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1E97C-6A43-42BD-A0B8-6AF66CE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BEBE1-C3CA-4F07-9E7B-1C6F6F4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B4384-150E-46B3-BFE5-D1AC88D5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D32DD-B1B4-413B-BC18-8EB8E4F9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9DE67-33FE-427C-A170-5F897E34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41583-5F64-486C-8D62-3C40FC86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09304-1E49-41D6-A9F6-B6F32C99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0DDCC-7F8D-4A7C-ADE6-DFF96A29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888-6968-4779-8D10-660DBA42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B71AC-00B8-46C3-88D4-4252A050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04AE8-C7BC-4A49-A137-27AE2FC1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B6AD2-6DD9-4AC4-A09A-659A5F6E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A360A-D3DA-4C0C-8587-1B545E00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91675-D3FF-4B3B-B351-B234E5E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5516E-80B3-4890-A873-D3B8A939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70136-A271-458E-B37D-6E5116EE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C6688-0EB2-49C9-9731-5C75D98F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690F2E-E91D-426A-8DB0-9923BF44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85FC5-D178-4A7E-B138-C88C72B8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BB0-2691-4583-B684-91254DA7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5EAEE-2AB7-40D1-AA8C-677CB3E3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AD9DF-63B2-4885-A6A6-EE2F0188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0FFBA-D38E-4826-8967-7D8B4BF9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C9B23-96B0-476D-AC94-E4F59236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17D8D-41C7-4764-B157-D78808DB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EF51C-D551-4957-A819-EEC8755A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D47AB-C15A-42E4-B09E-387A4F3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266E9-7C0B-46CE-9C5B-276F234A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CAB30-F1CA-45D4-A92E-CB70119D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C8FD1-7CBF-47E5-B7C5-DC5F3DBB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4C1-E28B-43FB-B266-003133CC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ADE42-64EE-4606-A97C-C1909358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2DC-8823-4235-9BB6-0031AE94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008-2020-461D-A596-6458B385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9DF-2058-4430-B259-4F5B7138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C56-2C34-471F-B433-E1A53161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6A3-8292-4D8B-891F-77C903E3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616-5A63-417B-BD98-78FFAC53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FAC2-D32E-4390-AC2F-798CBE6C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95FE-393B-4E2E-82CF-CA1FAB1C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06EC-A252-46F0-A31C-877751DF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D13D-0CBA-499C-905E-7FB384A0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5F85-C0C2-4EC9-B923-BFD00AC3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4BAD-B0FF-4D9F-962F-8D34A1EC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F217-789B-4B6F-B09F-F23422CC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E946-B28B-43AF-BAED-80C01F4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1243-68DF-4A3A-8786-72D0DF7C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81F3-D7DE-4A2F-8D3D-F68CD5B6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C2A9-9653-4783-8278-5B1F515A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F681-4247-4CCD-AED0-2B5A2AB0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B98F-6C07-45E3-ABD7-6265A092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17FA-0696-4897-89C7-E4894922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889E-8BC5-47A6-A9DE-546E9D58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D6B3-5931-4727-9BC0-5D9DB1A1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93B3-335A-4EF8-AA37-19061DB5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A198-AA83-45A3-92C3-8C204CE9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C931-3613-4D42-BCDC-4D8A1D73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46F6-8F6C-4854-8315-C76BD981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7987-124A-4F50-939B-2BA30AF2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7474-F3B3-4221-819F-663C1F26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C6249-A682-41AD-93DB-B50CAD82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664E-CCCB-42F5-B2CC-DC21F82A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F093-7760-43D4-8292-72357E51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8111D-40E6-4CE8-A3C5-8036807F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3F70D-6507-4E23-98E6-AC35E304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92ED-B2AF-4D99-BAC1-79BAEE27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84F8-9517-4646-9BDE-4F846A59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0385-DE7C-4726-8884-D248A170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55F00-2C0D-4068-82F6-15472D7A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CED5D-E72E-4EFE-8741-31A7BF19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7F398-270C-4D7B-A476-84CA50E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5F52-43E1-49CF-ACD8-3F5845A4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78FC-FC73-4ACD-B0AB-6CE7D881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E2F6-AE4C-4790-AB4D-2AEB2C4D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AFF98-3F40-4E67-BD0E-56652540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092B-38CF-4E23-AB24-A22A151A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A3B3-246D-458A-8488-AE66556E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76DA8-D26B-46A6-AC91-4766A8F9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6B291-11AD-4A2B-8174-5B2A1C51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95C81-FAEE-4BBA-BDE6-020BF732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C6C6F-D680-4B9C-A2D8-D7FB7D1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44624-916D-4E70-B3D5-D3AC2F70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7EF11-8FB3-4184-B340-F0FD065E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D595B-8508-4386-953C-8AF88A3E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35BB5-62BF-4AF6-A18D-CA4D0420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4B29E-A190-4E99-8B51-C1CEFCDB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E4599-FAD6-48D4-8C10-A13A1FA8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5325D-0955-4E35-B449-9E963293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C499-4799-4783-89E5-BC44CF1C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44AE4-C4AB-43C0-84D5-046271A7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B7143-BC47-4619-8381-90D2D018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39536-5B2E-429B-BB52-797DEC4C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EF6C2-6941-4CEE-B2E6-8E8BC8BB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714CD-B646-4D8C-B26B-071DBC08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526D2-F71B-446F-9524-5D3EBF7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A512-C8EE-4EB3-BE84-A76ED192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75EA-17FF-4998-8571-24644A04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287CD-2197-4252-8963-E8D94734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2B9DC-21CA-4CAE-A53B-6349415D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75CB2-8746-43B2-9D26-FF16A3CD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698A1-D0CF-454E-868F-6D8F6383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3CB6F-73DD-4FDE-A35B-F6304B91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DECDC-82BC-467E-8333-B44274E0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B1741-A913-4B01-AC46-5ECDB916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43EE5-41D2-49E4-99A9-ADFD5A56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E1EF4-C2DB-4E07-9DFF-E1298ED4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E8412-D528-429D-BB57-FB7A81F5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7FF0E-C3BD-444A-AD22-8F4A2D2F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5B3A1-B7CA-49E0-9F6E-69995CF0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32E2F-8356-4F63-A2AB-4DF58E1E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26AD9-4119-4267-AFCD-2D59AC17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9276B-81CD-4B09-8251-7C5A6342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5C60F-1743-47FC-BDFF-8832864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95280" y="974880"/>
            <a:ext cx="8406000" cy="47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" name="Picture 3" descr="03_back"/>
          <p:cNvPicPr/>
          <p:nvPr/>
        </p:nvPicPr>
        <p:blipFill>
          <a:blip r:embed="rId3"/>
          <a:stretch/>
        </p:blipFill>
        <p:spPr>
          <a:xfrm>
            <a:off x="412920" y="1000080"/>
            <a:ext cx="8346960" cy="4703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03_icon"/>
          <p:cNvPicPr/>
          <p:nvPr/>
        </p:nvPicPr>
        <p:blipFill>
          <a:blip r:embed="rId4"/>
          <a:stretch/>
        </p:blipFill>
        <p:spPr>
          <a:xfrm>
            <a:off x="2933640" y="4451400"/>
            <a:ext cx="749520" cy="927000"/>
          </a:xfrm>
          <a:prstGeom prst="rect">
            <a:avLst/>
          </a:prstGeom>
          <a:ln w="0">
            <a:noFill/>
          </a:ln>
        </p:spPr>
      </p:pic>
      <p:sp>
        <p:nvSpPr>
          <p:cNvPr id="3" name="Line 5"/>
          <p:cNvSpPr/>
          <p:nvPr/>
        </p:nvSpPr>
        <p:spPr>
          <a:xfrm>
            <a:off x="3673440" y="4832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7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08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09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11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2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F0FF-0F59-4CE6-8E85-08E51716078C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5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579F-D79F-40D7-9CE8-CE274C62E425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5A76-C6C4-48A0-AE80-A47749169CF0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539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41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2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C370-3562-4FF0-A0D1-B02E515566A4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5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86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87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89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B6C4-74E0-4498-BDE1-0DBC99DD6578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3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634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635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637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8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991E-6187-499C-8EB9-7927945559CF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37FE-4298-4F6D-A079-0DCFB69D95F9}" type="slidenum"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83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4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86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440B-E741-4FBA-B6F2-13B3F5E60BA5}" type="slidenum">
              <a:rPr b="1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B027-8714-47C5-93ED-2A5A4DA983E0}" type="slidenum"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7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7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77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78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80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CEE5-1CBE-4715-9EF1-ED3B5FF195D2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24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25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27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DFCD-482C-4432-8BA6-0FFB5D8D4C15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72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273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75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B288-0DE8-4052-BDCB-6B264C925676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19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0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2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740A-45CE-4F98-99C7-89EBF79FF5FA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E21F-0F18-4373-A702-763FADAFE604}" type="slidenum">
              <a:rPr b="1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0" descr="F:\2014.10.3马仁山\P1030453.JPG"/>
          <p:cNvPicPr/>
          <p:nvPr/>
        </p:nvPicPr>
        <p:blipFill>
          <a:blip r:embed="rId1"/>
          <a:srcRect l="1539" t="2298" r="0" b="68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1" name="Text Box 9"/>
          <p:cNvGrpSpPr/>
          <p:nvPr/>
        </p:nvGrpSpPr>
        <p:grpSpPr>
          <a:xfrm>
            <a:off x="5076720" y="6381720"/>
            <a:ext cx="4066920" cy="430920"/>
            <a:chOff x="5076720" y="6381720"/>
            <a:chExt cx="4066920" cy="430920"/>
          </a:xfrm>
        </p:grpSpPr>
        <p:pic>
          <p:nvPicPr>
            <p:cNvPr id="682" name="Text Box 9" descr=""/>
            <p:cNvPicPr/>
            <p:nvPr/>
          </p:nvPicPr>
          <p:blipFill>
            <a:blip r:embed="rId2"/>
            <a:stretch/>
          </p:blipFill>
          <p:spPr>
            <a:xfrm>
              <a:off x="5076720" y="6381720"/>
              <a:ext cx="406692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Text Box 5"/>
            <p:cNvSpPr/>
            <p:nvPr/>
          </p:nvSpPr>
          <p:spPr>
            <a:xfrm>
              <a:off x="5509440" y="6444360"/>
              <a:ext cx="36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宋体"/>
                  <a:ea typeface="华文楷体"/>
                </a:rPr>
                <a:t>芜湖市田家炳实验中</a:t>
              </a:r>
              <a:r>
                <a:rPr b="1" lang="zh-CN" sz="1800" spc="-1" strike="noStrike">
                  <a:solidFill>
                    <a:srgbClr val="ffff00"/>
                  </a:solidFill>
                  <a:latin typeface="宋体"/>
                  <a:ea typeface="华文楷体"/>
                </a:rPr>
                <a:t>ljq2014.1</a:t>
              </a:r>
              <a:r>
                <a:rPr b="1" lang="en-US" sz="1800" spc="-1" strike="noStrike">
                  <a:solidFill>
                    <a:srgbClr val="ffff00"/>
                  </a:solidFill>
                  <a:latin typeface="宋体"/>
                  <a:ea typeface="华文楷体"/>
                </a:rPr>
                <a:t>1</a:t>
              </a:r>
              <a:endParaRPr b="1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684" name="Text Box 12"/>
          <p:cNvSpPr/>
          <p:nvPr/>
        </p:nvSpPr>
        <p:spPr>
          <a:xfrm>
            <a:off x="1547640" y="836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第一单元  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5" name="Rectangle 16"/>
          <p:cNvSpPr/>
          <p:nvPr/>
        </p:nvSpPr>
        <p:spPr>
          <a:xfrm>
            <a:off x="611280" y="2431440"/>
            <a:ext cx="73454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以意逆志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6000" spc="-1" strike="noStrike">
                <a:solidFill>
                  <a:srgbClr val="ffff00"/>
                </a:solidFill>
                <a:latin typeface="宋体"/>
              </a:rPr>
              <a:t>知人论世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684360" y="404280"/>
            <a:ext cx="820872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宋体"/>
              </a:rPr>
              <a:t>．了解背景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长恨歌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是白居易诗作中脍炙人口的名篇，作于唐元和元年十二月。当时诗人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岁，正在盩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(zhōu)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至县任县尉。白居易曾与好友王质夫、陈鸿在闲暇时日游览当地仙游寺，谈话之中，议论到五十年前发生的安史之乱中的唐明皇李隆基与杨玉环的情事，相互感叹不已。王质夫就举起酒杯对白居易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宋体"/>
              </a:rPr>
              <a:t>李杨之事历代少有，要不遇着有超世才华的人润色，就难以传世，乐天你诗歌造诣很深，又很重感情，你试以诗歌传写这个故事怎么样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由于李、杨故事在社会上流传已久，白也深深为之感动，再加上朋友的鼓励，特别是白居易的恋爱生活也并不一帆风顺，对李、杨情事感触更深，白居易便写了这首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长恨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》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。诗成后，陈鸿又写了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长恨歌传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》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。写此诗的目的，不仅是因为受了李、杨情事的感动，也有对后世告诫之意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610920" y="1125000"/>
            <a:ext cx="8227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汉皇重色思倾国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一句在全诗中有什么作用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黑体"/>
              </a:rPr>
              <a:t>答：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从内容上而言，它点明了唐玄宗的好色；从结构上而言，它统领全诗；构成了全诗纲领，既提示了故事悲剧的原因，又为后文埋下了伏笔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矩形 2"/>
          <p:cNvSpPr/>
          <p:nvPr/>
        </p:nvSpPr>
        <p:spPr>
          <a:xfrm>
            <a:off x="1071720" y="260280"/>
            <a:ext cx="261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一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4000" spc="-1" strike="noStrike">
                <a:solidFill>
                  <a:srgbClr val="33cc33"/>
                </a:solidFill>
                <a:latin typeface="Times New Roman"/>
                <a:ea typeface="黑体"/>
              </a:rPr>
              <a:t>诵读思悟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6" name="Rectangle 2"/>
          <p:cNvSpPr/>
          <p:nvPr/>
        </p:nvSpPr>
        <p:spPr>
          <a:xfrm>
            <a:off x="826920" y="3645000"/>
            <a:ext cx="80121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黑体"/>
              </a:rPr>
              <a:t>回眸一笑百媚生，六宫粉黛无颜色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黑体"/>
              </a:rPr>
              <a:t>一句说明了什么？有何作用？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黑体"/>
              </a:rPr>
              <a:t>  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Gill Sans MT"/>
                <a:ea typeface="黑体"/>
              </a:rPr>
              <a:t>答：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用夸张、对比的手法突出了杨贵妃的绝色容颜，照应上文中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倾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“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天生丽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，也为下文唐玄宗专宠杨贵妃作了铺垫。同时，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百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写出了杨贵妃的娇媚，似能蛊惑人心，暗含贬义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2"/>
          <p:cNvSpPr/>
          <p:nvPr/>
        </p:nvSpPr>
        <p:spPr>
          <a:xfrm>
            <a:off x="684360" y="333360"/>
            <a:ext cx="829944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遂令天下父母心，不重生男重生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这一句有何作用？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黑体"/>
              </a:rPr>
              <a:t>答：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古代重男轻女思想是主流，因为男子能支撑起一家生活，传宗接代。而唐玄宗对杨贵妃的宠爱竟使这一风气改变，更从侧面表现出唐玄宗对杨贵妃的专宠已经全国皆知了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971280" y="3499920"/>
            <a:ext cx="7939080" cy="29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从诗歌开头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惊破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霓裳羽衣曲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黑体"/>
              </a:rPr>
              <a:t>写唐玄宗与杨贵妃的宫中生活有何作用？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Gill Sans MT"/>
                <a:ea typeface="黑体"/>
              </a:rPr>
              <a:t>答：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写出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长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Gill Sans MT"/>
                <a:ea typeface="宋体"/>
              </a:rPr>
              <a:t>的内因，为两人的悲剧埋下伏笔。同时，通过对宫中生活的实写，讽喻了君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trips dir="r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26560" y="1052640"/>
            <a:ext cx="808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．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这首诗中心是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长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，但诗人却从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重色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说起，并且予以极力铺写和渲染，这样写有什么表达效果？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重色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是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长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之因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长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是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重色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之果。诗人述写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日高起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不早朝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夜专夜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看不足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等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重色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的表现，正反衬出后面无穷无尽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。唐玄宗的荒淫误国，引出了政治上的悲剧，反过来又导致了他和杨贵妃的爱情悲剧。悲剧的制造者最后成为悲剧的主人公，这是故事的特殊、曲折处，也是诗中男女主人公之所以要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长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的原因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矩形 2"/>
          <p:cNvSpPr/>
          <p:nvPr/>
        </p:nvSpPr>
        <p:spPr>
          <a:xfrm>
            <a:off x="1287720" y="189000"/>
            <a:ext cx="21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讨论探究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755280" y="620640"/>
            <a:ext cx="8155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．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在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长恨歌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中，诗人是怎样表现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长恨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黑体"/>
              </a:rPr>
              <a:t>的？试结合诗中有关情节加以分析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马嵬坡杨贵妃之死一场，诗人刻画极其细腻，把唐玄宗那种不忍割爱但又欲救不得的内心矛盾和痛苦感情，都具体形象地表现出来了。由于这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血泪相和流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的死别，才会有那没完没了的恨。随后，诗人用诸多笔墨从各个方面反复渲染唐玄宗对杨贵妃的思念，但诗歌的故事情节并没有停止在一个感情点上，而是随着人物内心世界的层层展示，感应他的景物的不断变化，把时间和故事向前推移，用人物的思想感情来开拓和推动情节的发展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trips dir="r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755640" y="476280"/>
            <a:ext cx="808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>
              <a:lnSpc>
                <a:spcPct val="11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Gill Sans MT"/>
                <a:ea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Gill Sans MT"/>
                <a:ea typeface="宋体"/>
              </a:rPr>
              <a:t>唐玄宗奔蜀，是在死别之后，内心十分酸楚愁惨；还都路上，旧地重经，又勾起了伤心的回忆；回宫后，白天睹物伤情，夜晚辗转难眠。日思夜想而不得，所以寄希望于梦境，却又是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Gill Sans MT"/>
                <a:ea typeface="宋体"/>
              </a:rPr>
              <a:t>悠悠生死别经年，魂魄不曾来入梦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500" spc="-1" strike="noStrike">
                <a:solidFill>
                  <a:srgbClr val="000000"/>
                </a:solidFill>
                <a:latin typeface="Gill Sans MT"/>
                <a:ea typeface="宋体"/>
              </a:rPr>
              <a:t>。诗至此，已经把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Gill Sans MT"/>
                <a:ea typeface="宋体"/>
              </a:rPr>
              <a:t>长恨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500" spc="-1" strike="noStrike">
                <a:solidFill>
                  <a:srgbClr val="000000"/>
                </a:solidFill>
                <a:latin typeface="Gill Sans MT"/>
                <a:ea typeface="宋体"/>
              </a:rPr>
              <a:t>之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Gill Sans MT"/>
                <a:ea typeface="宋体"/>
              </a:rPr>
              <a:t>恨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500" spc="-1" strike="noStrike">
                <a:solidFill>
                  <a:srgbClr val="000000"/>
                </a:solidFill>
                <a:latin typeface="Gill Sans MT"/>
                <a:ea typeface="宋体"/>
              </a:rPr>
              <a:t>写得十分动人心魄，故事到此结束似乎也可以。然而诗人笔锋一折，别开境界，借助想象的彩翼，构思了一个妩媚动人的仙境，把悲剧故事的情节推向高潮，使故事更加回环曲折，有起伏，有波澜。这一转折，既出人意料，又尽在情理之中。由于主观愿望和客观现象不断发生矛盾、碰撞，诗歌把人物千回百转的心理表现得淋漓尽致，故事也因此而显得更为婉转动人。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trips dir="r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13" descr=""/>
          <p:cNvPicPr/>
          <p:nvPr/>
        </p:nvPicPr>
        <p:blipFill>
          <a:blip r:embed="rId1"/>
          <a:srcRect l="0" t="8107" r="0" b="0"/>
          <a:stretch/>
        </p:blipFill>
        <p:spPr>
          <a:xfrm>
            <a:off x="900000" y="1125360"/>
            <a:ext cx="7228080" cy="4896000"/>
          </a:xfrm>
          <a:prstGeom prst="rect">
            <a:avLst/>
          </a:prstGeom>
          <a:ln w="0">
            <a:noFill/>
          </a:ln>
        </p:spPr>
      </p:pic>
      <p:sp>
        <p:nvSpPr>
          <p:cNvPr id="764" name="矩形 2"/>
          <p:cNvSpPr/>
          <p:nvPr/>
        </p:nvSpPr>
        <p:spPr>
          <a:xfrm>
            <a:off x="1258920" y="33336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名句积累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1908000" y="2492280"/>
            <a:ext cx="5329080" cy="936720"/>
            <a:chOff x="1908000" y="2492280"/>
            <a:chExt cx="5329080" cy="936720"/>
          </a:xfrm>
        </p:grpSpPr>
        <p:sp>
          <p:nvSpPr>
            <p:cNvPr id="766" name="AutoShape 3"/>
            <p:cNvSpPr/>
            <p:nvPr/>
          </p:nvSpPr>
          <p:spPr>
            <a:xfrm>
              <a:off x="1908000" y="2492280"/>
              <a:ext cx="532908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2600"/>
                </a:gs>
                <a:gs pos="100000">
                  <a:srgbClr val="ff501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67" name="AutoShape 4"/>
            <p:cNvSpPr/>
            <p:nvPr/>
          </p:nvSpPr>
          <p:spPr>
            <a:xfrm>
              <a:off x="2052360" y="2565360"/>
              <a:ext cx="792360" cy="719280"/>
            </a:xfrm>
            <a:custGeom>
              <a:avLst/>
              <a:gdLst>
                <a:gd name="textAreaLeft" fmla="*/ 244440 w 792360"/>
                <a:gd name="textAreaRight" fmla="*/ 547920 w 792360"/>
                <a:gd name="textAreaTop" fmla="*/ 274680 h 719280"/>
                <a:gd name="textAreaBottom" fmla="*/ 549360 h 719280"/>
              </a:gdLst>
              <a:ahLst/>
              <a:rect l="textAreaLeft" t="textAreaTop" r="textAreaRight" b="textAreaBottom"/>
              <a:pathLst>
                <a:path w="499" h="453">
                  <a:moveTo>
                    <a:pt x="0" y="173"/>
                  </a:moveTo>
                  <a:lnTo>
                    <a:pt x="191" y="173"/>
                  </a:lnTo>
                  <a:lnTo>
                    <a:pt x="250" y="0"/>
                  </a:lnTo>
                  <a:lnTo>
                    <a:pt x="308" y="173"/>
                  </a:lnTo>
                  <a:lnTo>
                    <a:pt x="499" y="173"/>
                  </a:lnTo>
                  <a:lnTo>
                    <a:pt x="345" y="280"/>
                  </a:lnTo>
                  <a:lnTo>
                    <a:pt x="404" y="453"/>
                  </a:lnTo>
                  <a:lnTo>
                    <a:pt x="250" y="346"/>
                  </a:lnTo>
                  <a:lnTo>
                    <a:pt x="95" y="453"/>
                  </a:lnTo>
                  <a:lnTo>
                    <a:pt x="154" y="280"/>
                  </a:lnTo>
                  <a:close/>
                </a:path>
              </a:pathLst>
            </a:custGeom>
            <a:gradFill rotWithShape="0">
              <a:gsLst>
                <a:gs pos="0">
                  <a:srgbClr val="ff5019"/>
                </a:gs>
                <a:gs pos="100000">
                  <a:srgbClr val="a02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68" name="AutoShape 5"/>
            <p:cNvSpPr/>
            <p:nvPr/>
          </p:nvSpPr>
          <p:spPr>
            <a:xfrm>
              <a:off x="3060360" y="2565360"/>
              <a:ext cx="3889440" cy="7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d3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随 堂 练 习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Object 2"/>
          <p:cNvGraphicFramePr/>
          <p:nvPr/>
        </p:nvGraphicFramePr>
        <p:xfrm>
          <a:off x="439560" y="1341360"/>
          <a:ext cx="826488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341360"/>
                    <a:ext cx="82648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3"/>
          <p:cNvGraphicFramePr/>
          <p:nvPr/>
        </p:nvGraphicFramePr>
        <p:xfrm>
          <a:off x="539640" y="4724280"/>
          <a:ext cx="8264520" cy="592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724280"/>
                    <a:ext cx="82645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矩形 3"/>
          <p:cNvSpPr/>
          <p:nvPr/>
        </p:nvSpPr>
        <p:spPr>
          <a:xfrm>
            <a:off x="6303600" y="134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26920" y="738000"/>
            <a:ext cx="801216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．下列词语字形完全正确的一项是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．春宵　　城阕　　绵绵　　渺茫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．昭阳　　玉扃　　迤逦　　缥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．椒房　　萧索　　踌躇　　闲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．粉黛　　魂魄　　蓬莱　　澜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黑体"/>
              </a:rPr>
              <a:t>【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黑体"/>
              </a:rPr>
              <a:t>答案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黑体"/>
              </a:rPr>
              <a:t>】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黑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B(A.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城阙；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闲暇；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阑干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矩形 2"/>
          <p:cNvSpPr/>
          <p:nvPr/>
        </p:nvSpPr>
        <p:spPr>
          <a:xfrm>
            <a:off x="8031600" y="141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971640" y="253260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赏析示例　</a:t>
            </a:r>
            <a:r>
              <a:rPr b="1" lang="zh-CN" sz="6000" spc="-1" strike="noStrike">
                <a:solidFill>
                  <a:srgbClr val="008000"/>
                </a:solidFill>
                <a:latin typeface="Times New Roman"/>
              </a:rPr>
              <a:t>长恨歌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687" name="Group 3"/>
          <p:cNvGrpSpPr/>
          <p:nvPr/>
        </p:nvGrpSpPr>
        <p:grpSpPr>
          <a:xfrm>
            <a:off x="425520" y="1270080"/>
            <a:ext cx="8458920" cy="3526560"/>
            <a:chOff x="425520" y="1270080"/>
            <a:chExt cx="8458920" cy="3526560"/>
          </a:xfrm>
        </p:grpSpPr>
        <p:sp>
          <p:nvSpPr>
            <p:cNvPr id="688" name="Line 4"/>
            <p:cNvSpPr/>
            <p:nvPr/>
          </p:nvSpPr>
          <p:spPr>
            <a:xfrm>
              <a:off x="935640" y="1606320"/>
              <a:ext cx="0" cy="285336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689" name="Group 5"/>
            <p:cNvGrpSpPr/>
            <p:nvPr/>
          </p:nvGrpSpPr>
          <p:grpSpPr>
            <a:xfrm>
              <a:off x="425520" y="1270080"/>
              <a:ext cx="1017720" cy="502920"/>
              <a:chOff x="425520" y="1270080"/>
              <a:chExt cx="1017720" cy="502920"/>
            </a:xfrm>
          </p:grpSpPr>
          <p:sp>
            <p:nvSpPr>
              <p:cNvPr id="690" name="AutoShape 6"/>
              <p:cNvSpPr/>
              <p:nvPr/>
            </p:nvSpPr>
            <p:spPr>
              <a:xfrm>
                <a:off x="425520" y="1270080"/>
                <a:ext cx="406800" cy="50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7"/>
              <p:cNvSpPr/>
              <p:nvPr/>
            </p:nvSpPr>
            <p:spPr>
              <a:xfrm>
                <a:off x="731160" y="1270080"/>
                <a:ext cx="406440" cy="50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bb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692" name="AutoShape 8"/>
              <p:cNvSpPr/>
              <p:nvPr/>
            </p:nvSpPr>
            <p:spPr>
              <a:xfrm>
                <a:off x="1036800" y="1270080"/>
                <a:ext cx="406440" cy="50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b8d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Group 9"/>
            <p:cNvGrpSpPr/>
            <p:nvPr/>
          </p:nvGrpSpPr>
          <p:grpSpPr>
            <a:xfrm>
              <a:off x="7867440" y="4294440"/>
              <a:ext cx="1017000" cy="502200"/>
              <a:chOff x="7867440" y="4294440"/>
              <a:chExt cx="1017000" cy="502200"/>
            </a:xfrm>
          </p:grpSpPr>
          <p:sp>
            <p:nvSpPr>
              <p:cNvPr id="694" name="AutoShape 10"/>
              <p:cNvSpPr/>
              <p:nvPr/>
            </p:nvSpPr>
            <p:spPr>
              <a:xfrm rot="10800000">
                <a:off x="8477640" y="4294440"/>
                <a:ext cx="40680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695" name="AutoShape 11"/>
              <p:cNvSpPr/>
              <p:nvPr/>
            </p:nvSpPr>
            <p:spPr>
              <a:xfrm rot="10800000">
                <a:off x="8173080" y="4294440"/>
                <a:ext cx="40608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bb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696" name="AutoShape 12"/>
              <p:cNvSpPr/>
              <p:nvPr/>
            </p:nvSpPr>
            <p:spPr>
              <a:xfrm rot="10800000">
                <a:off x="7867440" y="4294440"/>
                <a:ext cx="406080" cy="50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b8d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Line 13"/>
            <p:cNvSpPr/>
            <p:nvPr/>
          </p:nvSpPr>
          <p:spPr>
            <a:xfrm>
              <a:off x="3380760" y="1606320"/>
              <a:ext cx="499608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98" name="Line 14"/>
            <p:cNvSpPr/>
            <p:nvPr/>
          </p:nvSpPr>
          <p:spPr>
            <a:xfrm>
              <a:off x="8377200" y="1606320"/>
              <a:ext cx="0" cy="285336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99" name="Line 15"/>
            <p:cNvSpPr/>
            <p:nvPr/>
          </p:nvSpPr>
          <p:spPr>
            <a:xfrm>
              <a:off x="935640" y="4460040"/>
              <a:ext cx="693144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700" name="Text Box 12"/>
          <p:cNvSpPr/>
          <p:nvPr/>
        </p:nvSpPr>
        <p:spPr>
          <a:xfrm>
            <a:off x="1476360" y="127476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单元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6" name="Object 2"/>
          <p:cNvGraphicFramePr/>
          <p:nvPr/>
        </p:nvGraphicFramePr>
        <p:xfrm>
          <a:off x="439560" y="758880"/>
          <a:ext cx="826488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758880"/>
                    <a:ext cx="8264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8" name="Object 3"/>
          <p:cNvGraphicFramePr/>
          <p:nvPr/>
        </p:nvGraphicFramePr>
        <p:xfrm>
          <a:off x="6227640" y="4071960"/>
          <a:ext cx="2632320" cy="2251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071960"/>
                    <a:ext cx="263232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矩形 3"/>
          <p:cNvSpPr/>
          <p:nvPr/>
        </p:nvSpPr>
        <p:spPr>
          <a:xfrm>
            <a:off x="5367960" y="6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11280" y="404280"/>
            <a:ext cx="829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．对下列诗句理解有误的一项是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　　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．汉皇重色思倾国，御宇多年求不得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汉家的皇上看重倾城倾国貌，可惜统治国家多年一直没有寻找到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此句统领全篇旨意，奠定了全诗的感情基调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．春宵苦短日高起，从此君王不早朝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春夜太短，太阳很高天子才睁眼，从此不再上早朝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这两句写唐玄宗极度喜爱杨贵妃，二人爱情之深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C</a:t>
            </a: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．承欢侍宴无闲暇，春从春游夜专夜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奉陪欢乐，伺候宴席，她总在皇帝身旁转，春天随从春游，夜晚也是她独占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这两句写杨贵妃被宠的程度，简直形影不离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D</a:t>
            </a: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．姊妹弟兄皆列土，可怜光彩生门户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姐妹弟兄都封爵赐邑，多么让人羡慕呀，一家门户尽生光彩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Gill Sans MT"/>
                <a:ea typeface="宋体"/>
              </a:rPr>
              <a:t>杨贵妃一人受宠，杨氏族门立刻权势逼人，不可一世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2" name="矩形 2"/>
          <p:cNvSpPr/>
          <p:nvPr/>
        </p:nvSpPr>
        <p:spPr>
          <a:xfrm>
            <a:off x="971640" y="5732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这两句写唐明皇迷恋女色，荒废政事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3" name="矩形 3"/>
          <p:cNvSpPr/>
          <p:nvPr/>
        </p:nvSpPr>
        <p:spPr>
          <a:xfrm>
            <a:off x="5367600" y="26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900000" y="333000"/>
            <a:ext cx="8010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阅读下面文字，回答问题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临邛道士鸿都客，能以精诚致魂魄。为感君王辗转思，遂教方士殷勤觅。排空驭气奔如电，升天入地求之遍。上穷碧落下黄泉，两处茫茫皆不见。忽闻海上有仙山，山在虚无缥缈间。楼阁玲珑五云起，其中绰约多仙子。中有一人字太真，雪肤花貌参差是。金阙西厢叩玉扃，转教小玉报双成。闻道汉家天子使，九华帐里梦魂惊。揽衣推枕起徘徊，珠箔银屏迤逦开。云鬓半偏新睡觉，花冠不整下堂来。风吹仙袂飘飖举，犹似霓裳羽衣舞。玉容寂寞泪阑干，梨花一枝春带雨。含情凝睇谢君王，一别音容两渺茫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684000" y="333000"/>
            <a:ext cx="813564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昭阳殿里恩爱绝，蓬莱宫中日月长。回头下望人寰处，不见长安见尘雾。惟将旧物表深情，钿合金钗寄将去。钗留一股合一扇，钗擘黄金合分钿。但令心似金钿坚，天上人间会相见。临别殷勤重寄词，词中有誓两心知。七月七日长生殿，夜半无人私语时。在天愿作比翼鸟，在地愿为连理枝。天长地久有时尽，此恨绵绵无绝期。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539280" y="404280"/>
            <a:ext cx="8371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宋体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下列对诗句理解错误的一项是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临邛道士鸿都客，能以精诚致魂魄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有位修炼过的临邛道士，来京城作客，他能凭借精诚把亡魂招回来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云鬓半偏新睡觉，花冠不整下堂来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只见她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杨贵妃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云鬓半偏，刚刚睡着，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过了一会儿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花冠还没整好便走下堂来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C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．玉容寂寞泪阑干，梨花一枝春带雨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玉容寂寞眼泪落下来，好似春天一枝带着雨的梨花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D</a:t>
            </a: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．回头下望人寰处，不见长安见尘雾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Gill Sans MT"/>
                <a:ea typeface="宋体"/>
              </a:rPr>
              <a:t>回头往下看一看人间，只看见云雾看不见长安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矩形 2"/>
          <p:cNvSpPr/>
          <p:nvPr/>
        </p:nvSpPr>
        <p:spPr>
          <a:xfrm>
            <a:off x="755640" y="5805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觉：醒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睡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就是睡醒，与现代汉语的睡觉不同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8" name="矩形 3"/>
          <p:cNvSpPr/>
          <p:nvPr/>
        </p:nvSpPr>
        <p:spPr>
          <a:xfrm>
            <a:off x="6087600" y="40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900000" y="549000"/>
            <a:ext cx="801072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．概括这一段的主要意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黑体"/>
              </a:rPr>
              <a:t>【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黑体"/>
              </a:rPr>
              <a:t>答案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  <a:ea typeface="黑体"/>
              </a:rPr>
              <a:t>】</a:t>
            </a:r>
            <a:r>
              <a:rPr b="0" lang="zh-CN" sz="3200" spc="-1" strike="noStrike">
                <a:solidFill>
                  <a:srgbClr val="ff0000"/>
                </a:solidFill>
                <a:latin typeface="Gill Sans MT"/>
                <a:ea typeface="黑体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写道士帮助唐玄宗寻找杨贵妃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Rectangle 2"/>
          <p:cNvSpPr/>
          <p:nvPr/>
        </p:nvSpPr>
        <p:spPr>
          <a:xfrm>
            <a:off x="971640" y="1844640"/>
            <a:ext cx="793908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．诗人在这一段里采用什么样的创作手法？这样写对表达主题有什么作用？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539640" y="2924280"/>
            <a:ext cx="8353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Gill Sans MT"/>
                <a:ea typeface="黑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  <a:ea typeface="黑体"/>
              </a:rPr>
              <a:t>】</a:t>
            </a:r>
            <a:r>
              <a:rPr b="0" lang="zh-CN" sz="2400" spc="-1" strike="noStrike">
                <a:solidFill>
                  <a:srgbClr val="ff0000"/>
                </a:solidFill>
                <a:latin typeface="Gill Sans MT"/>
                <a:ea typeface="黑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诗人采用的是浪漫主义的手法。忽而上天，忽而下地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上穷碧落下黄泉，两处茫茫皆不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，在海上虚无缥缈的仙山上找到了杨贵妃，让她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玉容寂寞泪阑干，梨花一枝春带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的形象在仙境中再现。她殷勤迎接汉家使者，含情脉脉，托物寄词，重申前誓，照应唐玄宗对她的思念，进一步深化、渲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长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的主题。诗歌的末尾，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天长地久有时尽，此恨绵绵无绝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收笔，点明题旨，回应开头，而且做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清音有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，给读者以联想、回味的余地。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793" name="WordArt 3"/>
          <p:cNvSpPr txBox="1"/>
          <p:nvPr/>
        </p:nvSpPr>
        <p:spPr>
          <a:xfrm>
            <a:off x="324000" y="692280"/>
            <a:ext cx="3816360" cy="180000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51000"/>
                    </a:srgbClr>
                  </a:outerShdw>
                </a:effectLst>
                <a:latin typeface="宋体"/>
              </a:rPr>
              <a:t>下课</a:t>
            </a:r>
            <a:endParaRPr b="1" i="1" lang="en-US" sz="80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51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94" name="Picture 4" descr="001"/>
          <p:cNvPicPr/>
          <p:nvPr/>
        </p:nvPicPr>
        <p:blipFill>
          <a:blip r:embed="rId2"/>
          <a:stretch/>
        </p:blipFill>
        <p:spPr>
          <a:xfrm>
            <a:off x="4788000" y="0"/>
            <a:ext cx="4176720" cy="3933720"/>
          </a:xfrm>
          <a:prstGeom prst="rect">
            <a:avLst/>
          </a:prstGeom>
          <a:ln w="0">
            <a:noFill/>
          </a:ln>
        </p:spPr>
      </p:pic>
      <p:sp>
        <p:nvSpPr>
          <p:cNvPr id="795" name="WordArt 5"/>
          <p:cNvSpPr txBox="1"/>
          <p:nvPr/>
        </p:nvSpPr>
        <p:spPr>
          <a:xfrm>
            <a:off x="4932360" y="4292640"/>
            <a:ext cx="3887640" cy="158436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谢谢！</a:t>
            </a:r>
            <a:endParaRPr b="1" i="1" lang="en-US" sz="44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1979640" y="738000"/>
            <a:ext cx="685944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．了解白居易及其诗文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．从不同的角度去理解把握诗歌的主旨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．学习诗歌叙事、写景和抒情相交融的表达技巧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02" name="Group 2"/>
          <p:cNvGrpSpPr/>
          <p:nvPr/>
        </p:nvGrpSpPr>
        <p:grpSpPr>
          <a:xfrm>
            <a:off x="1620720" y="909720"/>
            <a:ext cx="5472360" cy="1368360"/>
            <a:chOff x="1620720" y="909720"/>
            <a:chExt cx="5472360" cy="1368360"/>
          </a:xfrm>
        </p:grpSpPr>
        <p:sp>
          <p:nvSpPr>
            <p:cNvPr id="703" name="AutoShape 3"/>
            <p:cNvSpPr/>
            <p:nvPr/>
          </p:nvSpPr>
          <p:spPr>
            <a:xfrm>
              <a:off x="1763640" y="1341720"/>
              <a:ext cx="5329440" cy="93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aa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04" name="AutoShape 4"/>
            <p:cNvSpPr/>
            <p:nvPr/>
          </p:nvSpPr>
          <p:spPr>
            <a:xfrm>
              <a:off x="1620720" y="909720"/>
              <a:ext cx="792360" cy="719280"/>
            </a:xfrm>
            <a:custGeom>
              <a:avLst/>
              <a:gdLst>
                <a:gd name="textAreaLeft" fmla="*/ 244440 w 792360"/>
                <a:gd name="textAreaRight" fmla="*/ 547920 w 792360"/>
                <a:gd name="textAreaTop" fmla="*/ 274680 h 719280"/>
                <a:gd name="textAreaBottom" fmla="*/ 549360 h 719280"/>
              </a:gdLst>
              <a:ahLst/>
              <a:rect l="textAreaLeft" t="textAreaTop" r="textAreaRight" b="textAreaBottom"/>
              <a:pathLst>
                <a:path w="499" h="453">
                  <a:moveTo>
                    <a:pt x="0" y="173"/>
                  </a:moveTo>
                  <a:lnTo>
                    <a:pt x="191" y="173"/>
                  </a:lnTo>
                  <a:lnTo>
                    <a:pt x="250" y="0"/>
                  </a:lnTo>
                  <a:lnTo>
                    <a:pt x="308" y="173"/>
                  </a:lnTo>
                  <a:lnTo>
                    <a:pt x="499" y="173"/>
                  </a:lnTo>
                  <a:lnTo>
                    <a:pt x="345" y="280"/>
                  </a:lnTo>
                  <a:lnTo>
                    <a:pt x="404" y="453"/>
                  </a:lnTo>
                  <a:lnTo>
                    <a:pt x="250" y="346"/>
                  </a:lnTo>
                  <a:lnTo>
                    <a:pt x="95" y="453"/>
                  </a:lnTo>
                  <a:lnTo>
                    <a:pt x="154" y="28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05" name="AutoShape 5"/>
            <p:cNvSpPr/>
            <p:nvPr/>
          </p:nvSpPr>
          <p:spPr>
            <a:xfrm>
              <a:off x="2628720" y="909720"/>
              <a:ext cx="3889440" cy="79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明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确目 标</a:t>
              </a:r>
              <a:endParaRPr b="1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Object 2"/>
          <p:cNvGraphicFramePr/>
          <p:nvPr/>
        </p:nvGraphicFramePr>
        <p:xfrm>
          <a:off x="439560" y="620640"/>
          <a:ext cx="8229600" cy="56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620640"/>
                    <a:ext cx="822960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3"/>
          <p:cNvSpPr/>
          <p:nvPr/>
        </p:nvSpPr>
        <p:spPr>
          <a:xfrm>
            <a:off x="1803240" y="1197000"/>
            <a:ext cx="64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3924360" y="119700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6269040" y="119700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1515960" y="177336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4140360" y="177336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6516720" y="1773360"/>
            <a:ext cx="8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1763640" y="227664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4140360" y="2276640"/>
            <a:ext cx="647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6516720" y="227664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1763640" y="2852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4156200" y="2852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9" name="Rectangle 14"/>
          <p:cNvSpPr/>
          <p:nvPr/>
        </p:nvSpPr>
        <p:spPr>
          <a:xfrm>
            <a:off x="6516720" y="285264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1476360" y="3429000"/>
            <a:ext cx="647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1" name="Rectangle 16"/>
          <p:cNvSpPr/>
          <p:nvPr/>
        </p:nvSpPr>
        <p:spPr>
          <a:xfrm>
            <a:off x="3851280" y="3357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2" name="Rectangle 17"/>
          <p:cNvSpPr/>
          <p:nvPr/>
        </p:nvSpPr>
        <p:spPr>
          <a:xfrm>
            <a:off x="6284880" y="3429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3" name="Rectangle 18"/>
          <p:cNvSpPr/>
          <p:nvPr/>
        </p:nvSpPr>
        <p:spPr>
          <a:xfrm>
            <a:off x="1476360" y="393372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4" name="Rectangle 19"/>
          <p:cNvSpPr/>
          <p:nvPr/>
        </p:nvSpPr>
        <p:spPr>
          <a:xfrm>
            <a:off x="4140360" y="393372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5" name="Rectangle 20"/>
          <p:cNvSpPr/>
          <p:nvPr/>
        </p:nvSpPr>
        <p:spPr>
          <a:xfrm>
            <a:off x="6516720" y="3933720"/>
            <a:ext cx="79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6" name="Rectangle 21"/>
          <p:cNvSpPr/>
          <p:nvPr/>
        </p:nvSpPr>
        <p:spPr>
          <a:xfrm>
            <a:off x="1835280" y="4508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7" name="Rectangle 22"/>
          <p:cNvSpPr/>
          <p:nvPr/>
        </p:nvSpPr>
        <p:spPr>
          <a:xfrm>
            <a:off x="3851280" y="450864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8" name="Rectangle 23"/>
          <p:cNvSpPr/>
          <p:nvPr/>
        </p:nvSpPr>
        <p:spPr>
          <a:xfrm>
            <a:off x="4716360" y="450864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9" name="Rectangle 24"/>
          <p:cNvSpPr/>
          <p:nvPr/>
        </p:nvSpPr>
        <p:spPr>
          <a:xfrm>
            <a:off x="6516720" y="450864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0" name="Rectangle 25"/>
          <p:cNvSpPr/>
          <p:nvPr/>
        </p:nvSpPr>
        <p:spPr>
          <a:xfrm>
            <a:off x="1476360" y="501336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1" name="Rectangle 26"/>
          <p:cNvSpPr/>
          <p:nvPr/>
        </p:nvSpPr>
        <p:spPr>
          <a:xfrm>
            <a:off x="4187880" y="5013360"/>
            <a:ext cx="287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2" name="Rectangle 27"/>
          <p:cNvSpPr/>
          <p:nvPr/>
        </p:nvSpPr>
        <p:spPr>
          <a:xfrm>
            <a:off x="6227640" y="5013360"/>
            <a:ext cx="64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3" name="Rectangle 28"/>
          <p:cNvSpPr/>
          <p:nvPr/>
        </p:nvSpPr>
        <p:spPr>
          <a:xfrm>
            <a:off x="1787400" y="5589720"/>
            <a:ext cx="64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4" name="Rectangle 29"/>
          <p:cNvSpPr/>
          <p:nvPr/>
        </p:nvSpPr>
        <p:spPr>
          <a:xfrm>
            <a:off x="4195800" y="5589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"/>
          <p:cNvPicPr/>
          <p:nvPr/>
        </p:nvPicPr>
        <p:blipFill>
          <a:blip r:embed="rId1"/>
          <a:srcRect l="0" t="9507" r="0" b="0"/>
          <a:stretch/>
        </p:blipFill>
        <p:spPr>
          <a:xfrm>
            <a:off x="1442880" y="2133720"/>
            <a:ext cx="6258240" cy="289548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3"/>
          <p:cNvSpPr/>
          <p:nvPr/>
        </p:nvSpPr>
        <p:spPr>
          <a:xfrm>
            <a:off x="2916360" y="2637000"/>
            <a:ext cx="647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916360" y="3068640"/>
            <a:ext cx="475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2916360" y="422100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2916360" y="4724280"/>
            <a:ext cx="107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0" name="矩形 6"/>
          <p:cNvSpPr/>
          <p:nvPr/>
        </p:nvSpPr>
        <p:spPr>
          <a:xfrm>
            <a:off x="2144880" y="404640"/>
            <a:ext cx="20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古今词义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2" descr=""/>
          <p:cNvPicPr/>
          <p:nvPr/>
        </p:nvPicPr>
        <p:blipFill>
          <a:blip r:embed="rId1"/>
          <a:stretch/>
        </p:blipFill>
        <p:spPr>
          <a:xfrm>
            <a:off x="1805040" y="2243160"/>
            <a:ext cx="5533920" cy="237168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3"/>
          <p:cNvSpPr/>
          <p:nvPr/>
        </p:nvSpPr>
        <p:spPr>
          <a:xfrm>
            <a:off x="3203640" y="2637000"/>
            <a:ext cx="194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3203640" y="3068640"/>
            <a:ext cx="417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4" name="Rectangle 5"/>
          <p:cNvSpPr/>
          <p:nvPr/>
        </p:nvSpPr>
        <p:spPr>
          <a:xfrm>
            <a:off x="3203640" y="390204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3203640" y="4292640"/>
            <a:ext cx="136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"/>
          <p:cNvPicPr/>
          <p:nvPr/>
        </p:nvPicPr>
        <p:blipFill>
          <a:blip r:embed="rId1"/>
          <a:stretch/>
        </p:blipFill>
        <p:spPr>
          <a:xfrm>
            <a:off x="1908000" y="2224080"/>
            <a:ext cx="3886200" cy="2409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3"/>
          <p:cNvSpPr/>
          <p:nvPr/>
        </p:nvSpPr>
        <p:spPr>
          <a:xfrm>
            <a:off x="3324240" y="2637000"/>
            <a:ext cx="8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3308400" y="3068640"/>
            <a:ext cx="2448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3308400" y="3860640"/>
            <a:ext cx="647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3324240" y="4292640"/>
            <a:ext cx="1679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755640" y="549360"/>
            <a:ext cx="8083440" cy="59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．知人论世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白居易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77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46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唐代大文学家、政治家。字乐天，号香山居士，与元稹在诗坛齐名，并称“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  <a:ea typeface="宋体"/>
              </a:rPr>
              <a:t>元白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。他倡导了新乐府运动；晚年常与名诗人刘禹锡唱和，时称“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  <a:ea typeface="宋体"/>
              </a:rPr>
              <a:t>刘白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。一生不仅留下近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篇诗作，还提出了一整套诗歌理论。在江州时，曾整理、合编自己的诗歌作品，分成讽喻、闲适、感伤和杂律四大类。最精华的部分是他的讽喻诗，其中包括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乐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秦中吟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篇等代表作，语言通俗易懂，被称为“老妪能解”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684360" y="593280"/>
            <a:ext cx="815472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这些诗篇广泛反映了中唐时期社会生活各方面的重大问题，着重描写了现实的黑暗和人民的痛苦，如我们在课本中学过：</a:t>
            </a:r>
            <a:r>
              <a:rPr b="1" lang="en-US" sz="3200" spc="-1" strike="noStrike">
                <a:solidFill>
                  <a:srgbClr val="33cc33"/>
                </a:solidFill>
                <a:latin typeface="Gill Sans MT"/>
                <a:ea typeface="宋体"/>
              </a:rPr>
              <a:t>《</a:t>
            </a:r>
            <a:r>
              <a:rPr b="1" lang="zh-CN" sz="3200" spc="-1" strike="noStrike">
                <a:solidFill>
                  <a:srgbClr val="33cc33"/>
                </a:solidFill>
                <a:latin typeface="Gill Sans MT"/>
                <a:ea typeface="宋体"/>
              </a:rPr>
              <a:t>观刈麦</a:t>
            </a:r>
            <a:r>
              <a:rPr b="1" lang="en-US" sz="3200" spc="-1" strike="noStrike">
                <a:solidFill>
                  <a:srgbClr val="33cc33"/>
                </a:solidFill>
                <a:latin typeface="Gill Sans MT"/>
                <a:ea typeface="宋体"/>
              </a:rPr>
              <a:t>》《</a:t>
            </a:r>
            <a:r>
              <a:rPr b="1" lang="zh-CN" sz="3200" spc="-1" strike="noStrike">
                <a:solidFill>
                  <a:srgbClr val="33cc33"/>
                </a:solidFill>
                <a:latin typeface="Gill Sans MT"/>
                <a:ea typeface="宋体"/>
              </a:rPr>
              <a:t>卖炭翁</a:t>
            </a:r>
            <a:r>
              <a:rPr b="1" lang="en-US" sz="3200" spc="-1" strike="noStrike">
                <a:solidFill>
                  <a:srgbClr val="33cc33"/>
                </a:solidFill>
                <a:latin typeface="Gill Sans MT"/>
                <a:ea typeface="宋体"/>
              </a:rPr>
              <a:t>》《</a:t>
            </a:r>
            <a:r>
              <a:rPr b="1" lang="zh-CN" sz="3200" spc="-1" strike="noStrike">
                <a:solidFill>
                  <a:srgbClr val="33cc33"/>
                </a:solidFill>
                <a:latin typeface="Gill Sans MT"/>
                <a:ea typeface="宋体"/>
              </a:rPr>
              <a:t>红线毯</a:t>
            </a:r>
            <a:r>
              <a:rPr b="1" lang="en-US" sz="3200" spc="-1" strike="noStrike">
                <a:solidFill>
                  <a:srgbClr val="33cc33"/>
                </a:solidFill>
                <a:latin typeface="Gill Sans MT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等。这些作品都称得上心苦力勤，正气凛然。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新乐府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中的叙事长诗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长恨歌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和</a:t>
            </a:r>
            <a:r>
              <a:rPr b="1" lang="en-US" sz="3200" spc="-1" strike="noStrike">
                <a:solidFill>
                  <a:srgbClr val="0033cc"/>
                </a:solidFill>
                <a:latin typeface="Gill Sans MT"/>
                <a:ea typeface="宋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Gill Sans MT"/>
                <a:ea typeface="宋体"/>
              </a:rPr>
              <a:t>琵琶行</a:t>
            </a:r>
            <a:r>
              <a:rPr b="1" lang="en-US" sz="3200" spc="-1" strike="noStrike">
                <a:solidFill>
                  <a:srgbClr val="0033cc"/>
                </a:solidFill>
                <a:latin typeface="Gill Sans MT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更是千古绝唱。杂律诗中数量最多，其中有价值的是一些耐人寻味的抒情写景的小诗，如：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《</a:t>
            </a:r>
            <a:r>
              <a:rPr b="1" lang="zh-CN" sz="3200" spc="-1" strike="noStrike">
                <a:solidFill>
                  <a:srgbClr val="7030a0"/>
                </a:solidFill>
                <a:latin typeface="Gill Sans MT"/>
                <a:ea typeface="宋体"/>
              </a:rPr>
              <a:t>赋得古原草送别</a:t>
            </a:r>
            <a:r>
              <a:rPr b="1" lang="en-US" sz="3200" spc="-1" strike="noStrike">
                <a:solidFill>
                  <a:srgbClr val="7030a0"/>
                </a:solidFill>
                <a:latin typeface="Gill Sans MT"/>
                <a:ea typeface="宋体"/>
              </a:rPr>
              <a:t>》《</a:t>
            </a:r>
            <a:r>
              <a:rPr b="1" lang="zh-CN" sz="3200" spc="-1" strike="noStrike">
                <a:solidFill>
                  <a:srgbClr val="7030a0"/>
                </a:solidFill>
                <a:latin typeface="Gill Sans MT"/>
                <a:ea typeface="宋体"/>
              </a:rPr>
              <a:t>钱塘湖春行</a:t>
            </a:r>
            <a:r>
              <a:rPr b="1" lang="en-US" sz="3200" spc="-1" strike="noStrike">
                <a:solidFill>
                  <a:srgbClr val="7030a0"/>
                </a:solidFill>
                <a:latin typeface="Gill Sans MT"/>
                <a:ea typeface="宋体"/>
              </a:rPr>
              <a:t>》《</a:t>
            </a:r>
            <a:r>
              <a:rPr b="1" lang="zh-CN" sz="3200" spc="-1" strike="noStrike">
                <a:solidFill>
                  <a:srgbClr val="7030a0"/>
                </a:solidFill>
                <a:latin typeface="Gill Sans MT"/>
                <a:ea typeface="宋体"/>
              </a:rPr>
              <a:t>暮江吟</a:t>
            </a:r>
            <a:r>
              <a:rPr b="1" lang="en-US" sz="3200" spc="-1" strike="noStrike">
                <a:solidFill>
                  <a:srgbClr val="7030a0"/>
                </a:solidFill>
                <a:latin typeface="Gill Sans MT"/>
                <a:ea typeface="宋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问刘十九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》《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池上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Gill Sans MT"/>
                <a:ea typeface="宋体"/>
              </a:rPr>
              <a:t>等，都能以白描手法，寥寥几笔，勾画出生机盎然的境界，历来脍炙人口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0:56:52Z</dcterms:created>
  <dc:creator>语文大师 xiexingcun.com</dc:creator>
  <dc:description>语文大师 xiexingcun.com</dc:description>
  <cp:keywords/>
  <dc:language>en-US</dc:language>
  <cp:lastModifiedBy>Administrator</cp:lastModifiedBy>
  <dcterms:modified xsi:type="dcterms:W3CDTF">2014-11-26T16:02:40Z</dcterms:modified>
  <cp:revision>9</cp:revision>
  <dc:subject/>
  <dc:title>语文大师 xiexingcun.com</dc:title>
</cp:coreProperties>
</file>