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FC3-34CA-4BC7-8E11-DBA91BF2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1F5-336A-4F64-B3B4-18A69A2B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C07-A574-4F68-9F6A-82D399B6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4F2-9AD3-49E1-AA60-9E47993F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10B-7E50-4594-BB92-85FD813B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E5F-A68A-4726-8C72-569C6E9E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9B6-540B-4D83-978D-7FA39C55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133-D123-4CA7-A2CD-5E0CD73C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168-797E-4342-9261-9810461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CF3-FBD5-47C1-9B78-34F61594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0CD-866A-4D21-A616-73F26D7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B9F-4318-4541-839E-CA0BC671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3AA-8417-454D-ACA8-341D4BBEF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金屋妆成娇侍夜，玉楼宴罢醉和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姊妹弟兄皆列土，可怜光彩生门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遂令天下父母心，不重生男重生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586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骊宫高处入青云，仙乐风飘处处闻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5866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缓歌慢舞凝丝竹，尽日君王看不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渔阳鼙鼓动地来，惊破霓裳羽衣曲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586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九重城阙烟尘生，千乘万骑西南行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翠华摇摇行复止，西出都门百馀里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六军不发无奈何，宛转蛾眉马前死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钿委地无人收，翠翘金雀玉搔头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君王掩面救不得，回看血泪相和流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汉皇重色思倾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御宇多年求不得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黄埃散漫风萧索，云栈萦纡登剑阁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峨嵋山下少人行，旌旗无光日色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5714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蜀江水碧蜀山青，圣主朝朝暮暮情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行宫见月伤心色，夜雨闻铃肠断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旋日转回龙驭，到此踌躇不能去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马嵬坡下泥土中，不见玉颜空死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君臣相顾尽沾衣，东望都门信马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归来池苑皆依旧，太液芙蓉未央柳。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芙蓉如面柳如眉，对此如何不泪垂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风桃李花开日，秋雨梧桐叶落时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西宫南内多秋草，落叶满阶红不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梨园子弟白发新，椒房阿监青娥老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夕殿萤飞思悄然，孤灯挑尽未成眠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迟迟钟鼓初长夜，耿耿星河欲曙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562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鸳鸯瓦冷霜华重，翡翠衾寒谁与共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悠悠生死别经年，魂魄不曾来入梦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杨家有女初长成，养在深闺人未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临邛道士鸿都客，能以精诚致魂魄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为感君王辗转思，遂教方士殷勤觅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5791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排空驭气奔如电，升天入地求之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5943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上穷碧落下黄泉，两处茫茫皆不见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忽闻海上有仙山，山在虚无缥缈间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楼阁玲珑五云起，其中绰约多仙子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有一人字太真，雪肤花貌参差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金阙西厢叩玉扃，转教小玉报双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闻道汉家天子使，九华帐里梦魂惊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揽衣推枕起徘徊，珠箔银屏迤逦开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云鬓半偏新睡觉，花冠不整下堂来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风吹仙袂飘飘举，犹似霓裳羽衣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玉容寂寞泪阑干，梨花一枝春带雨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含情凝睇谢君王，一别音容两渺茫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昭阳殿里恩爱绝，蓬莱宫中日月长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回头下望人寰处，不见长安见尘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5319360"/>
            <a:ext cx="6705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唯将旧物表深情，钿合金钗寄将去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钗留一股合一扇，钗擘黄金合分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但教心似金钿坚，天上人间会相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7920" y="5759640"/>
            <a:ext cx="70866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临别殷勤重寄词，词中有誓两心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七月七日长生殿，夜半无人私语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生丽质难自弃，一朝选在君王侧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回眸一笑百媚生，六宫粉黛无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60040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在天愿作比翼鸟，在地愿为连理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71600" y="5699160"/>
            <a:ext cx="80010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天长地久有时尽，此恨绵绵无绝期。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寒赐浴华清池，温泉水滑洗凝脂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侍儿扶起娇无力，始是新承恩泽时。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云鬓花颜金步摇，芙蓉帐暖度春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宵苦短日高起，从此君王不早朝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承欢侍宴无闲暇，春从春游夜专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后宫佳丽三千人，三千宠爱在一身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2-11-07T07:21:2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