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16B-70C6-42C1-AD72-D3D1CA1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6A0-C2C2-4FDA-B113-97C1E03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8E1-88E1-4D66-AA87-8E99DCE8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EAB-188F-4F0D-89C3-D8098D84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67A-AE26-407B-9937-0BDBE1D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BC2-6ADC-49C8-B816-4DC0324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0ED-E02B-459E-A962-B9478A5A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F35-6552-4A3F-B899-2BAE7CF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07A-CCBC-425E-91FB-FD98A0F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975-198A-4F8A-8925-C565160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C6E-1F63-4AD9-A3C6-1F7AB1A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34C-53EB-4F73-92B6-44422C23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87E1-B00F-4117-BC06-25DA5C361D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茶馆10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507996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茶馆8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4876920" cy="3460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1676520"/>
            <a:ext cx="6400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茶馆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老舍9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288612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88760" y="4114800"/>
            <a:ext cx="500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　　老舍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1899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－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1966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）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代小说家、戏剧家。原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舒庆春，字舍予，北京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56160" y="2116080"/>
            <a:ext cx="515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　　代表作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解放前创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长篇小说《骆驼祥子》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《四世同堂》，建国后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作了话剧《龙须沟》、《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华秋实》、《茶馆》等。因《龙须沟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的创作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1950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年被誉为“人民艺术家”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老舍6" descr=""/>
          <p:cNvPicPr/>
          <p:nvPr/>
        </p:nvPicPr>
        <p:blipFill>
          <a:blip r:embed="rId2"/>
          <a:stretch/>
        </p:blipFill>
        <p:spPr>
          <a:xfrm>
            <a:off x="6305400" y="380880"/>
            <a:ext cx="2438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茶馆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4680"/>
          </a:xfrm>
          <a:prstGeom prst="rect">
            <a:avLst/>
          </a:prstGeom>
          <a:ln w="0">
            <a:noFill/>
          </a:ln>
        </p:spPr>
      </p:pic>
      <p:pic>
        <p:nvPicPr>
          <p:cNvPr id="49" name="茶馆3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153280" cy="60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62440" y="12193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全剧共三幕，各写一个时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6920" y="2895480"/>
            <a:ext cx="515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　　第一幕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1898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年戊戌变法失败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裕泰茶馆生意兴隆，三教九流，各色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物云集于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茶馆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茶馆6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8001000" cy="572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07680" y="251460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第二幕（节选部分）：军阀混战时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茶馆生意艰难，尽管王利发苦心改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但也只能惨淡经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茶馆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茶馆7" descr=""/>
          <p:cNvPicPr/>
          <p:nvPr/>
        </p:nvPicPr>
        <p:blipFill>
          <a:blip r:embed="rId2"/>
          <a:stretch/>
        </p:blipFill>
        <p:spPr>
          <a:xfrm>
            <a:off x="380880" y="461880"/>
            <a:ext cx="8458200" cy="598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08800" y="2133720"/>
            <a:ext cx="51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　　第三幕：抗战胜利后，国民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统治时期的社会生活。剧中所有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直的人都陷于一种不可自拔的困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茶馆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茶馆8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58200" cy="6000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7720" y="1447920"/>
            <a:ext cx="552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　　《茶馆》代表了老舍话剧创作的最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成就，作品以旧北京城中一个大茶馆－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裕泰茶馆的兴哀为背景，通过对茶馆及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类人物变迁的描写，反映了从清末、民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到抗战胜利后三个不同时代的近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5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年的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会面貌，揭示了半封建半殖民地的旧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从动荡、黑暗和罪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83600" y="328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概括本幕情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812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李三向王淑芬发牢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11520" y="13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王利发和王淑芬拌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25240" y="208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巡警和大兵的压榨与掠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12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唐铁嘴要租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400" y="292104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常四爷、松二爷来贺喜开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440" y="3759120"/>
            <a:ext cx="10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吴祥子、宋子恩来抓 人、敲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2984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康顺子求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75120" y="441972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刘麻子和老陈、老林的交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3280" y="528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王利发与崔久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52920" y="6095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老陈、老林被抢，刘麻子被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00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85480" y="4287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《茶馆》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63360" y="1805040"/>
            <a:ext cx="39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&lt;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&gt;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卷轴画式的平面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87400" y="3024360"/>
            <a:ext cx="34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&lt;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&gt;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特殊的戏剧冲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400" y="4114800"/>
            <a:ext cx="44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用人物生活的变迁反映社会的变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97200" y="525780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小茶馆影射大时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06:00:56Z</dcterms:created>
  <dc:creator>squall</dc:creator>
  <dc:description/>
  <dc:language>en-US</dc:language>
  <cp:lastModifiedBy>网络教室2</cp:lastModifiedBy>
  <dcterms:modified xsi:type="dcterms:W3CDTF">2004-04-15T09:10:07Z</dcterms:modified>
  <cp:revision>8</cp:revision>
  <dc:subject/>
  <dc:title>PowerPoint 演示文稿</dc:title>
</cp:coreProperties>
</file>