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23E-9C2D-4254-A48D-1B6BEB7C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8570-84BE-4DA3-99BD-764E4346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B06-DF91-45A6-A5EE-A26970BA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27A-D681-4C7D-98D2-B9B168B3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B2E8-39A3-411A-A352-C5F7CC71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E9AF-FD99-4D26-B5D3-7607F629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DB3D-60BA-49C8-850A-CE53C14F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AF8E-4648-4D1C-97C7-4C019A04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76BA-28C1-4B13-A1DF-0081AED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5B71-D36F-4A3E-8761-CFDD9873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D9A2-1142-4FF5-B2DD-BE5FD137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430-D0D4-4F70-94D2-2AABA5A5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1C8A-8E5B-4D12-BE55-36869316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EA54-67E6-413E-B1B1-20026D6C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711F-96E7-426D-909A-EC23D807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1626-D73A-4BC6-B154-A842BE1C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C80D-A4BF-499E-AB02-4BF7CAFC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362-6106-4BAC-8E9C-C93BCCA8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B39-D934-4328-9CCB-2CEF473F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0AF-473E-4515-AC8A-EEB8654A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93A-BD30-4047-B52A-0EFD8FE2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C58-CFFD-43BD-A15C-74C1AA21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3B8-49C6-409E-9A24-7720A08F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C1A-77E6-4A3D-9B17-D4DB0CB4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CCF6-D452-47FC-B368-EABAE04201F6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B009-C3F8-4A1B-9FAE-5D693CC9B8ED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audio" Target="file:///tmp/home/.config/libreoffice/4/user/gallery/whoosh.wav" TargetMode="External"/><Relationship Id="rId4" Type="http://schemas.microsoft.com/office/2007/relationships/media" Target="file:///tmp/home/.config/libreoffice/4/user/gallery/whoosh.wav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2776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9896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曹刿论战</a:t>
            </a:r>
            <a:endParaRPr b="0" lang="en-US" sz="9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724280" y="380952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左传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LSR00025" descr=""/>
          <p:cNvPicPr/>
          <p:nvPr/>
        </p:nvPicPr>
        <p:blipFill>
          <a:blip r:embed="rId2"/>
          <a:stretch/>
        </p:blipFill>
        <p:spPr>
          <a:xfrm flipH="1" rot="10800000">
            <a:off x="1828800" y="5011560"/>
            <a:ext cx="632448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您的目标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背诵全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能准确生动地讲解这个故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能创造性地评价曹刿和齐桓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82400"/>
                </a:solidFill>
                <a:latin typeface="Times New Roman"/>
              </a:rPr>
              <a:t>朗读和背诵是学习古文的最好方式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77691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请特别注意以下字的音和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刿 （秦桧  刽子手） 间  孚  帛  辙   轼   遂   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糜）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3434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ì   (huì     guì)    jìan    fú     bó      zhé        shì    suì     m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8487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敢于提问善于提问是学习的金钥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362320"/>
            <a:ext cx="777240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，请你从字词方面提问       以下是全文的重点词语，请着重思考并在文中进行圈点勾画批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鄙    安    专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牺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加     信    孚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福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狱    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驰   辙    轼     遂     逐     克    再   竭     盈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2057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事件线索：迎战——备战——胜战——评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609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课文背诵线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2590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物活动线索：请见——请问——参战——释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24080"/>
            <a:ext cx="79246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小惠未徧，民弗从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战前准备        小信未孚，神弗福也         强调民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忠之属也，可以一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战争经过         齐师败绩                略写战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鲁军驰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取胜原因          三鼓而进                 分析原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辙乱而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32767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20040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41911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51814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4191120"/>
            <a:ext cx="152280" cy="99036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525780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00"/>
                </a:solidFill>
                <a:latin typeface="Times New Roman"/>
              </a:rPr>
              <a:t>讨论最能激发自己的思维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我眼中的曹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我眼中的鲁庄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D06518_" descr=""/>
          <p:cNvPicPr/>
          <p:nvPr/>
        </p:nvPicPr>
        <p:blipFill>
          <a:blip r:embed="rId4"/>
          <a:stretch/>
        </p:blipFill>
        <p:spPr>
          <a:xfrm>
            <a:off x="5022720" y="2351160"/>
            <a:ext cx="38084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1371600"/>
            <a:ext cx="7696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《曹刿论战》的故事是众所周知的。曹刿，这位公元前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68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年长勺战争舞台上的主角，他的毛遂自荐的精神、取信于民的战略思想、把握战机的卓越才能、历来为世人所称道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　　然而人们却忽略了这场战争中的另一人物鲁庄公姬同，往往认为这个物是不值得一提的。对此，我一直很有几分不平。试问：如果说当年不是他起用人才，曹刿的军事思想能得以实施，鲁国能取得这场战争的胜利吗？ 今日重读《曹刿论战》，对鲁庄公有五赞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　　一赞鲁庄公广开言路，使一介草民曹刿得以参与论战，二赞鲁庄公面对曹刿“肉食者鄙”的批评和“小惠”、“小信”的刺耳意见，仍能虚怀若谷，唯才是用；三赞鲁庄公不高高在上，而是亲临第一线深入实际，“战于长勺”“与之乘”，甘当配角，让能人“掌旗”；四赞鲁庄公不被“齐人三鼓”势头吓懵头，用人决心坚定，不收回成命，不打退堂鼓，不干扰能人的作战部署；五赞鲁庄公善于总结经验，“既克”之后能“问其故”，向内行请教，学习如何掌握战争的规律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　　在改革深入进行的今天，在人才层出不穷的今天，鲁庄公的形象难道不使人倍觉亲切和可爱吗？ 愿为今朝众多的“曹刿”呼吁有更多的“鲁庄公”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762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五赞鲁庄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62320" y="1828800"/>
            <a:ext cx="51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点评：</a:t>
            </a:r>
            <a:br>
              <a:rPr sz="54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这篇读后感运用求异思维，一反人们思考问题的常规，不去赞颂长勺战争舞台上的主角曹刿，而去“五赞”历来被人们否定为“未能远谋”的鲁庄公，显示了立意的新奇。作者立意的新奇，并非故弄玄虚，哗众取宠，而是以时代眼光，从改革的需要出发，针砭时弊，提出自己的深刻见解。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请试一试：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出斜体字相应的成语：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齐人三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鼓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一鼓作气            望其旗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靡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所向披靡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彼竭我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盈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恶贯满盈           小信未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孚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不孚众望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惧有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伏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焉——危机四伏           故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——克敌制胜 攻无不克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而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竭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殚精竭虑 精疲力竭   观其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辙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——南辕北辙 重蹈覆辙 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遂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一逐鹿中原 追亡逐北    难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——莫测高深 心怀叵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能远</a:t>
            </a:r>
            <a:r>
              <a:rPr b="1" i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谋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足智多谋 深谋远虑</a:t>
            </a: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k3</cp:lastModifiedBy>
  <dcterms:modified xsi:type="dcterms:W3CDTF">2005-08-23T22:31:15Z</dcterms:modified>
  <cp:revision>14</cp:revision>
  <dc:subject/>
  <dc:title>曹刿论战</dc:title>
</cp:coreProperties>
</file>