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7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627-F116-42DC-A569-E6639D691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E021-5111-4875-86AC-F746275D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43A2-0882-48B1-A036-CE3DEF080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AA9A-88CD-45F7-8F5F-3265AC577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AA88-3755-45F6-8ED4-A11D0CC0F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407-C8D0-4DA7-A0B8-1FE4953C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433-C0B7-4D7B-ACB0-10BA418FC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7EF5-E376-4E91-AA47-D1B3F7C3E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E559-2C5F-4C6E-ACD0-3E097055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6C8F-D24A-4637-9F02-30534E6B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7AF1-2E10-4475-8786-CC81E02AA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5493-7417-45B3-8C30-432269FD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AFE1-908F-411B-B1B1-DA80551E17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692280"/>
            <a:ext cx="6696360" cy="32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隶书"/>
              </a:rPr>
              <a:t>长城谣</a:t>
            </a:r>
            <a:endParaRPr b="1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3716280"/>
            <a:ext cx="4284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席慕蓉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8675640" y="6524640"/>
            <a:ext cx="468360" cy="333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80832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50920" y="0"/>
            <a:ext cx="33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Times New Roman"/>
                <a:ea typeface="隶书"/>
              </a:rPr>
              <a:t>朗读品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332000" y="836640"/>
            <a:ext cx="74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9933"/>
                </a:solidFill>
                <a:latin typeface="Times New Roman"/>
                <a:ea typeface="隶书"/>
              </a:rPr>
              <a:t>一、读完全诗，你能否说说每节诗都写了些什么内容？表达了作者怎样的情感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16000" y="2781360"/>
            <a:ext cx="763272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明确：第一节着重写长城的历史，充满沧桑之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第二节抒发作者对长城的依恋和赞美之情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第三节写梦回故乡，表达自己的思乡之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-395280" y="0"/>
            <a:ext cx="953928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252360" y="765000"/>
            <a:ext cx="907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隶书"/>
              </a:rPr>
              <a:t>二、这首诗的主体意象是长城，而       诗歌中为什么写到了黄河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隶书"/>
              </a:rPr>
              <a:t>?   “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隶书"/>
              </a:rPr>
              <a:t>流进我不眠的梦中”一句既是“梦中”又为什么是“不眠”？说说你的理解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1280" y="321300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0" y="544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隶书"/>
              </a:rPr>
              <a:t>三、再读诗歌，和同学交流一下你最喜欢的诗句，并说说你的理由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604360" y="-27000"/>
            <a:ext cx="539640" cy="71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288856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-973080" y="-243000"/>
            <a:ext cx="10729800" cy="768996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50920" y="333360"/>
            <a:ext cx="61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-1" strike="noStrike">
                <a:solidFill>
                  <a:srgbClr val="cc3300"/>
                </a:solidFill>
                <a:latin typeface="Times New Roman"/>
                <a:ea typeface="隶书"/>
              </a:rPr>
              <a:t>延伸拓展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1916280"/>
            <a:ext cx="78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    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诗人借用长城等意象表达了自己对祖国和故乡的一片深情，你认为还有哪些意象可以用来表达类似的情感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4437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二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11280" y="0"/>
            <a:ext cx="489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Times New Roman"/>
                <a:ea typeface="隶书"/>
              </a:rPr>
              <a:t>作业：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16280"/>
            <a:ext cx="626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1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、背诵这首诗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3068640"/>
            <a:ext cx="766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2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隶书"/>
              </a:rPr>
              <a:t>、阅读台湾诗人舒兰的《乡色酒》谈谈你的感受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ver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47960" y="685440"/>
            <a:ext cx="4190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99"/>
                </a:solidFill>
                <a:latin typeface="Times New Roman"/>
                <a:ea typeface="隶书"/>
              </a:rPr>
              <a:t>乡 色 酒</a:t>
            </a:r>
            <a:br>
              <a:rPr sz="4800"/>
            </a:br>
            <a:br>
              <a:rPr sz="4800"/>
            </a:br>
            <a:r>
              <a:rPr b="1" lang="zh-CN" sz="2800" spc="-1" strike="noStrike">
                <a:solidFill>
                  <a:srgbClr val="ffff99"/>
                </a:solidFill>
                <a:latin typeface="Times New Roman"/>
                <a:ea typeface="楷体_GB2312"/>
              </a:rPr>
              <a:t>舒兰（台湾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8960" y="1523880"/>
            <a:ext cx="38862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debd"/>
                </a:solidFill>
                <a:latin typeface="Times New Roman"/>
                <a:ea typeface="楷体_GB2312"/>
              </a:rPr>
              <a:t>三十年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debd"/>
                </a:solidFill>
                <a:latin typeface="Times New Roman"/>
                <a:ea typeface="楷体_GB2312"/>
              </a:rPr>
              <a:t>你从柳树梢头望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debd"/>
                </a:solidFill>
                <a:latin typeface="Times New Roman"/>
                <a:ea typeface="楷体_GB2312"/>
              </a:rPr>
              <a:t>我正年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debd"/>
                </a:solidFill>
                <a:latin typeface="Times New Roman"/>
                <a:ea typeface="楷体_GB2312"/>
              </a:rPr>
              <a:t>乡色正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debd"/>
                </a:solidFill>
                <a:latin typeface="Times New Roman"/>
                <a:ea typeface="楷体_GB2312"/>
              </a:rPr>
              <a:t>你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debd"/>
                </a:solidFill>
                <a:latin typeface="Times New Roman"/>
                <a:ea typeface="楷体_GB2312"/>
              </a:rPr>
              <a:t>人也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debd"/>
                </a:solidFill>
                <a:latin typeface="Times New Roman"/>
                <a:ea typeface="楷体_GB2312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debd"/>
                </a:solidFill>
                <a:latin typeface="Times New Roman"/>
                <a:ea typeface="楷体_GB2312"/>
              </a:rPr>
              <a:t>三十年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debd"/>
                </a:solidFill>
                <a:latin typeface="Times New Roman"/>
                <a:ea typeface="楷体_GB2312"/>
              </a:rPr>
              <a:t>我从椰树梢头望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debd"/>
                </a:solidFill>
                <a:latin typeface="Times New Roman"/>
                <a:ea typeface="楷体_GB2312"/>
              </a:rPr>
              <a:t>你是一杯乡色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debd"/>
                </a:solidFill>
                <a:latin typeface="Times New Roman"/>
                <a:ea typeface="楷体_GB2312"/>
              </a:rPr>
              <a:t>你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debd"/>
                </a:solidFill>
                <a:latin typeface="Times New Roman"/>
                <a:ea typeface="楷体_GB2312"/>
              </a:rPr>
              <a:t>乡愁也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604360" y="6381720"/>
            <a:ext cx="539640" cy="476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6000"/>
                            </p:stCondLst>
                            <p:childTnLst>
                              <p:par>
                                <p:cTn id="1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000"/>
                            </p:stCondLst>
                            <p:childTnLst>
                              <p:par>
                                <p:cTn id="1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8000"/>
                            </p:stCondLst>
                            <p:childTnLst>
                              <p:par>
                                <p:cTn id="2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0"/>
                            </p:stCondLst>
                            <p:childTnLst>
                              <p:par>
                                <p:cTn id="22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22000"/>
                            </p:stCondLst>
                            <p:childTnLst>
                              <p:par>
                                <p:cTn id="22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4000"/>
                            </p:stCondLst>
                            <p:childTnLst>
                              <p:par>
                                <p:cTn id="2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2000" fill="hold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6000"/>
                            </p:stCondLst>
                            <p:childTnLst>
                              <p:par>
                                <p:cTn id="2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9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692360" y="1341360"/>
            <a:ext cx="676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66ff33"/>
                </a:solidFill>
                <a:latin typeface="Times New Roman"/>
                <a:ea typeface="隶书"/>
              </a:rPr>
              <a:t>谢谢指导，再见！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835680" y="0"/>
            <a:ext cx="2156040" cy="2895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0" y="476280"/>
            <a:ext cx="67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席慕蓉，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1943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隶书"/>
              </a:rPr>
              <a:t>年生于四川，祖籍内蒙古乌兰察布，蒙古名字叫穆伦（大江河之意），而慕蓉则是这二字之音译。现居台湾。当代诗人、散文家、画家。她的作品有的豪放旷达，有的凝练清新，诗集有《画诗》《七里香》《无怨的青春》等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516720" y="2997360"/>
            <a:ext cx="2627280" cy="3860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26920" y="54936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注意下列字词的读音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  <a:ea typeface="隶书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42920" y="1700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焉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( 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  <a:ea typeface="隶书"/>
              </a:rPr>
              <a:t>y</a:t>
            </a: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ā</a:t>
            </a:r>
            <a:r>
              <a:rPr b="0" lang="zh-CN" sz="3600" spc="-1" strike="noStrike">
                <a:solidFill>
                  <a:srgbClr val="ffcc00"/>
                </a:solidFill>
                <a:latin typeface="Times New Roman"/>
                <a:ea typeface="隶书"/>
              </a:rPr>
              <a:t>n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716360" y="184464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隘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(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à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i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321300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蹲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(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隶书"/>
              </a:rPr>
              <a:t>d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ū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隶书"/>
              </a:rPr>
              <a:t>n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32360" y="3429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荒莽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(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隶书"/>
              </a:rPr>
              <a:t>m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ǎ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隶书"/>
              </a:rPr>
              <a:t>ng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522936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(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隶书"/>
              </a:rPr>
              <a:t>f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é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隶书"/>
              </a:rPr>
              <a:t>n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5300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敕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(</a:t>
            </a: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隶书"/>
              </a:rPr>
              <a:t>ch</a:t>
            </a:r>
            <a:r>
              <a:rPr b="1" lang="en-US" sz="3600" spc="-1" strike="noStrike">
                <a:solidFill>
                  <a:srgbClr val="ffcc00"/>
                </a:solidFill>
                <a:latin typeface="Times New Roman"/>
              </a:rPr>
              <a:t>ì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勒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3000"/>
                            </p:stCondLst>
                            <p:childTnLst>
                              <p:par>
                                <p:cTn id="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1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87640" y="0"/>
            <a:ext cx="61563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0" y="0"/>
            <a:ext cx="3203640" cy="51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  <a:ea typeface="隶书"/>
              </a:rPr>
              <a:t>尽管城上城下争战了一部历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  <a:ea typeface="隶书"/>
              </a:rPr>
              <a:t>尽管夺了焉支又还了焉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00"/>
                </a:solidFill>
                <a:latin typeface="Times New Roman"/>
                <a:ea typeface="隶书"/>
              </a:rPr>
              <a:t>多少个隘口有多少次悲欢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5000"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622764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62120" y="251460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260280"/>
            <a:ext cx="2843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你永远是个无情的建筑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蹲踞在荒莽的山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隶书"/>
              </a:rPr>
              <a:t>冷眼看人间恩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blinds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64436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3132000" cy="37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隶书"/>
              </a:rPr>
              <a:t>为什么唱你时总不能成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隶书"/>
              </a:rPr>
              <a:t>写你不能成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33"/>
                </a:solidFill>
                <a:latin typeface="Times New Roman"/>
                <a:ea typeface="隶书"/>
              </a:rPr>
              <a:t>而一提起你便有烈火焚起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916360" y="0"/>
            <a:ext cx="622764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3276720" cy="484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隶书"/>
              </a:rPr>
              <a:t>火中有你万里的躯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隶书"/>
              </a:rPr>
              <a:t>有你千年的面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隶书"/>
              </a:rPr>
              <a:t>有你的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隶书"/>
              </a:rPr>
              <a:t>你的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Times New Roman"/>
                <a:ea typeface="隶书"/>
              </a:rPr>
              <a:t>你的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6000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404640"/>
            <a:ext cx="2556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隶书"/>
              </a:rPr>
              <a:t>敕勒川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隶书"/>
              </a:rPr>
              <a:t>阴山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00"/>
                </a:solidFill>
                <a:latin typeface="Times New Roman"/>
                <a:ea typeface="隶书"/>
              </a:rPr>
              <a:t>今宵月色应如水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484360" y="0"/>
            <a:ext cx="665964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87640" y="0"/>
            <a:ext cx="615636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0" y="0"/>
            <a:ext cx="2987640" cy="46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隶书"/>
              </a:rPr>
              <a:t>而黄河今夜仍然要从你身旁流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Times New Roman"/>
                <a:ea typeface="隶书"/>
              </a:rPr>
              <a:t>流进我不眠的梦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05:31:42Z</dcterms:created>
  <dc:creator>东方中学</dc:creator>
  <dc:description/>
  <dc:language>en-US</dc:language>
  <cp:lastModifiedBy>cx</cp:lastModifiedBy>
  <dcterms:modified xsi:type="dcterms:W3CDTF">2006-03-02T13:46:33Z</dcterms:modified>
  <cp:revision>1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60b000000000001024120</vt:lpwstr>
  </property>
</Properties>
</file>