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9.wmf" ContentType="image/x-wmf"/>
  <Override PartName="/ppt/media/image6.jpeg" ContentType="image/jpeg"/>
  <Override PartName="/ppt/media/image7.jpeg" ContentType="image/jpeg"/>
  <Override PartName="/ppt/media/image8.jpeg" ContentType="image/jpeg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DD8A2-7013-456F-87FA-400487E1D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77BF5-C76C-442B-B160-165FF5AF6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DCB37-CC60-4E8E-A172-9772B47BF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1667A-A525-475E-9EFE-D2A1F2258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AAE1F-EB73-4295-B97B-20D98A9D9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60427-F1B0-4649-9C18-9A27B6816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6E333-FC08-4EF4-A558-38DCB8419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D40D0-1494-40D2-B304-F8DC268FD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4F665-27F4-4AF0-8857-DDFAE3252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463CC-8078-42D9-B9FA-E4229D4E9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6D0E8-D91F-4A06-9E5B-70CA6D1D6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37508-456C-441D-B5ED-7F7348E8E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D8B89-002F-4D46-AC0C-92A32CAA363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755e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4211640" y="1197000"/>
            <a:ext cx="2705040" cy="37432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7956720" y="620640"/>
            <a:ext cx="10080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Arial"/>
              </a:rPr>
              <a:t>匆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Arial"/>
              </a:rPr>
              <a:t>匆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200280" y="2492280"/>
            <a:ext cx="1826280" cy="27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华文新魏"/>
              </a:rPr>
              <a:t>朱自清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9280" y="0"/>
            <a:ext cx="396108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朱自清（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898—1948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，字佩弦，江苏扬州人，原籍浙江绍兴。现代著名散文家、诗人、学者、民主战士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948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年，他贫病交加，但坚决不向反动派屈服。该年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月在北平逝世。对此，毛泽东给予高度评价：“朱自清一身重病，宁可饿死，不领美国的‘救济粮’。……表现了我们民族的英雄气概。”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他一生勤奋，共有诗歌、散文、评论、学术研究著作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26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种，约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20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多万字。 他的散文代表作有《荷塘月色》《背影》《绿》等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l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3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" dur="80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" dur="80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24000" y="765000"/>
            <a:ext cx="8424720" cy="31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ccff"/>
                </a:solidFill>
                <a:latin typeface="Arial"/>
              </a:rPr>
              <a:t>快速浏览课文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ccff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ccff"/>
                </a:solidFill>
                <a:latin typeface="Arial"/>
              </a:rPr>
              <a:t>、“匆匆”是什么意思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ccff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ccff"/>
                </a:solidFill>
                <a:latin typeface="Arial"/>
              </a:rPr>
              <a:t>、本文旨在叙述时间的流逝，请同学们用“</a:t>
            </a:r>
            <a:r>
              <a:rPr b="1" lang="zh-CN" sz="3600" spc="-1" strike="noStrike">
                <a:solidFill>
                  <a:srgbClr val="00ccff"/>
                </a:solidFill>
                <a:latin typeface="Arial"/>
              </a:rPr>
              <a:t>____________</a:t>
            </a:r>
            <a:r>
              <a:rPr b="1" lang="zh-CN" sz="3600" spc="-1" strike="noStrike">
                <a:solidFill>
                  <a:srgbClr val="00ccff"/>
                </a:solidFill>
                <a:latin typeface="Arial"/>
              </a:rPr>
              <a:t>（什么样的）时间”句式来概括时间的特点。（用文中词或短语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3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3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>
            <a:lum contrast="-34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468360" y="0"/>
            <a:ext cx="8675640" cy="27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33cc"/>
                </a:solidFill>
                <a:latin typeface="Arial"/>
                <a:ea typeface="华文新魏"/>
              </a:rPr>
              <a:t>品读课文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33cc"/>
                </a:solidFill>
                <a:latin typeface="Arial"/>
                <a:ea typeface="华文新魏"/>
              </a:rPr>
              <a:t>      </a:t>
            </a:r>
            <a:r>
              <a:rPr b="0" lang="zh-CN" sz="4800" spc="-1" strike="noStrike">
                <a:solidFill>
                  <a:srgbClr val="0033cc"/>
                </a:solidFill>
                <a:latin typeface="Arial"/>
                <a:ea typeface="华文新魏"/>
              </a:rPr>
              <a:t>划出你喜欢的句子，说出自己为什么喜欢这些句子？请你设计如何读才能把这些句子读好。（ 除了想象作者当时的心情，还要加进我们自己的感受。）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9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2f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914400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①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洗手的时候，日子从水盆里过去；吃饭的时候，日子从饭碗里过去；默默时，便从凝然的双眼前过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这句话运用了排比的修辞方法，既增强了文章的气势，又形象地写出了时间的匆匆流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②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天黑时，我躺在床上，他便伶伶俐俐地从我脚边飞去了。等我和太阳说再见，这又算溜走了一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这句话运用了拟人的修辞方法，把时间的匆匆流逝写得有形有声，可见可闻非常形象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读①②两个句子时应读出日子的匆匆和永不停息，紧促低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in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2f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0"/>
            <a:ext cx="9144000" cy="41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③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八千多日子已经从我手中溜去；像针尖上一滴水滴在大海里，我的日子滴在时间的流里，没有声音，也没有影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      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这句话形象生动地写出了诗人因没有成就，虚度年华而惶恐的心态。朗读时应读出日子溜去的悄无声息，舒缓低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④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只有徘徊罢了，只有匆匆罢了；在八千多日的匆匆里，除徘徊外，又剩些什么呢？过去的日子如轻烟，被微风吹散了，如薄雾，被初阳蒸融了；我留着些什么痕迹呢？我何曾留着像游丝样的痕迹呢？我赤裸裸来到这世界，转眼间也将赤裸裸的回去罢？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     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这个句子应读出作者的思考、无奈、彷徨的心态，应平缓凝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⑤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但不能平的，为什么偏要白白走这一遭啊？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      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这句话应读出作者追求事业的情怀和信心，要读得沉稳坚定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630680" y="0"/>
            <a:ext cx="4513320" cy="33577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643280" cy="33577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0" y="3357720"/>
            <a:ext cx="9144000" cy="35002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564000" y="836640"/>
            <a:ext cx="201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924360" y="620640"/>
            <a:ext cx="122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→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435640" y="2852640"/>
            <a:ext cx="1512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↓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700360" y="4221000"/>
            <a:ext cx="446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Arial"/>
              </a:rPr>
              <a:t>你有何感触</a:t>
            </a:r>
            <a:r>
              <a:rPr b="1" lang="zh-CN" sz="4000" spc="-1" strike="noStrike">
                <a:solidFill>
                  <a:srgbClr val="ff00ff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3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3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3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3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8" dur="3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79280" y="0"/>
            <a:ext cx="856944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6666ff"/>
                </a:solidFill>
                <a:latin typeface="Arial"/>
                <a:ea typeface="华文新魏"/>
              </a:rPr>
              <a:t>拓展延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6666ff"/>
                </a:solidFill>
                <a:latin typeface="Arial"/>
                <a:ea typeface="华文新魏"/>
              </a:rPr>
              <a:t>       </a:t>
            </a:r>
            <a:r>
              <a:rPr b="0" lang="zh-CN" sz="4800" spc="-1" strike="noStrike">
                <a:solidFill>
                  <a:srgbClr val="6666ff"/>
                </a:solidFill>
                <a:latin typeface="Arial"/>
                <a:ea typeface="华文新魏"/>
              </a:rPr>
              <a:t>请仿照作者，用生活中的小事来写写日子也从我们身边悄悄溜走，同桌合作完成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u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4" dur="5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5" dur="5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" dur="5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-1143000"/>
            <a:ext cx="9144000" cy="8001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250920" y="981000"/>
            <a:ext cx="889308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华文新魏"/>
              </a:rPr>
              <a:t>1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华文新魏"/>
              </a:rPr>
              <a:t>、年少的你从文章中悟出了什么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华文新魏"/>
              </a:rPr>
              <a:t>2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华文新魏"/>
              </a:rPr>
              <a:t>、说说与本文内容有关的的格言、警句、诗文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horz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3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4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6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"/>
          <p:cNvGraphicFramePr/>
          <p:nvPr/>
        </p:nvGraphicFramePr>
        <p:xfrm>
          <a:off x="0" y="0"/>
          <a:ext cx="9144000" cy="685944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"/>
          <p:cNvSpPr txBox="1"/>
          <p:nvPr/>
        </p:nvSpPr>
        <p:spPr>
          <a:xfrm>
            <a:off x="2916360" y="2276640"/>
            <a:ext cx="3960720" cy="23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宋体"/>
              </a:rPr>
              <a:t>再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2T09:58:11Z</dcterms:created>
  <dc:creator>MC SYSTEM</dc:creator>
  <dc:description/>
  <dc:language>en-US</dc:language>
  <cp:lastModifiedBy>微软用户</cp:lastModifiedBy>
  <dcterms:modified xsi:type="dcterms:W3CDTF">2005-11-24T00:34:24Z</dcterms:modified>
  <cp:revision>64</cp:revision>
  <dc:subject/>
  <dc:title>幻灯片 1</dc:title>
</cp:coreProperties>
</file>