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5411-D162-46CE-9C73-EEFD0440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347-23E3-4F0B-A26C-C2B82062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3926-5684-47D2-9340-EDB53D7C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E197-C690-464C-8A1E-5489959A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80C8-E553-4E68-952C-16C1EB2C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E4ED-28CF-4CD2-BEAB-04FECE23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B4A4A-BD4F-4728-8AE3-44F3580E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250F-B1FE-49ED-A713-3037EB35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A5A-93E1-4CEB-A525-641E7E37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7901-62BE-4697-A05A-029BF2DC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0F6A-350E-4C6A-BCED-6A49398D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1FA-E81F-4F29-8BE0-7272A1ED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4D97-964B-4165-B029-C822894E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CEC4-22CF-45E2-ACB9-E455CBC4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4D12-5006-4332-87AF-68883A0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3CF8-2C7D-4B51-891B-88F360DF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9599-F088-477A-B133-7A770AFED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717-6C5A-423E-9B79-D283D0A2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7A2-BD6C-4D83-8422-A97C37ED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B32-A420-4EDD-AF5C-016FBF7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AFBC-9FE4-4B8D-B6FB-58D7F5CE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FA30-99A3-45DB-A7AD-BCD14900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81D2-9AD8-42B9-B6A3-FCC773F4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7B7-7CA4-47B2-842D-7881480B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18C1-4F1C-4845-B7E0-81F9E0701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B093-8351-4099-8246-A12FB25079F6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uoshaocb2"/>
          <p:cNvPicPr/>
          <p:nvPr/>
        </p:nvPicPr>
        <p:blipFill>
          <a:blip r:embed="rId1"/>
          <a:srcRect l="12191" t="590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3"/>
          <p:cNvSpPr txBox="1"/>
          <p:nvPr/>
        </p:nvSpPr>
        <p:spPr>
          <a:xfrm rot="5400000">
            <a:off x="3528000" y="1664280"/>
            <a:ext cx="5040360" cy="22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33cc"/>
                  </a:solidFill>
                  <a:miter/>
                </a:ln>
                <a:solidFill>
                  <a:srgbClr val="ff0000">
                    <a:alpha val="95000"/>
                  </a:srgbClr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赤壁赋</a:t>
            </a:r>
            <a:endParaRPr b="0" lang="en-US" sz="4800" spc="1" strike="noStrike">
              <a:ln w="12600">
                <a:solidFill>
                  <a:srgbClr val="0033cc"/>
                </a:solidFill>
                <a:miter/>
              </a:ln>
              <a:solidFill>
                <a:srgbClr val="ff0000">
                  <a:alpha val="95000"/>
                </a:srgbClr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WordArt 4"/>
          <p:cNvSpPr txBox="1"/>
          <p:nvPr/>
        </p:nvSpPr>
        <p:spPr>
          <a:xfrm rot="5890200">
            <a:off x="34920" y="4385880"/>
            <a:ext cx="2519280" cy="1674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6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15168000"/>
                </a:gradFill>
                <a:latin typeface="宋体"/>
              </a:rPr>
              <a:t>苏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15168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259360" y="6094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二、词语解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814320" y="1447920"/>
            <a:ext cx="124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既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酒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客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白露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冯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御风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076920" y="1523880"/>
            <a:ext cx="41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指旧历每月十六日。 望：指阴历每月十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449520" y="228600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属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嘱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，劝请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166200" y="3048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白茫茫的水气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504600" y="4038480"/>
            <a:ext cx="433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冯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凭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。虚：太虚，天空。冯虚：凌空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1596600" y="6094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</a:rPr>
              <a:t>鉴赏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914400" y="16765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壬戌之秋，七月既望，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苏子与客泛舟游于赤壁之下</a:t>
            </a:r>
            <a:r>
              <a:rPr b="1" lang="zh-CN" sz="1400" spc="-1" strike="noStrike">
                <a:solidFill>
                  <a:srgbClr val="0033cc"/>
                </a:solidFill>
                <a:latin typeface="Comic Sans MS"/>
              </a:rPr>
              <a:t>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56320" y="3581280"/>
            <a:ext cx="10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游赏的时间、人物、方式、地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710960" y="762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Times New Roman"/>
              </a:rPr>
              <a:t>（叙事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973960" y="1371600"/>
            <a:ext cx="29404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清风徐来，水波不兴”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酒属客，诵明月之诗，歌窈窕之章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少焉，月出于东山之上，徘徊于斗牛之间。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白露横江，水光接天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487240" y="1905120"/>
            <a:ext cx="13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风（清风）、水（静水）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2484360" y="3048120"/>
            <a:ext cx="127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举酒、诵诗（怡然自乐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743040" y="4370400"/>
            <a:ext cx="23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月（明月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667440" y="5867280"/>
            <a:ext cx="231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露（白露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6006240" y="457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写景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914120" y="1219320"/>
            <a:ext cx="40820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纵一苇之所如，凌万顷之茫然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浩浩乎如冯虚御风，而不知其所止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飘飘乎如遗世独立，羽化而登仙。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822680" y="3635280"/>
            <a:ext cx="1926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纵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登仙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6503760" y="609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（抒怀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1835280" y="1295280"/>
            <a:ext cx="31680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幽壑之潜蛟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孤舟之嫠妇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愀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正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危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麋鹿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渔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548720" y="198108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使动用法，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起舞</a:t>
            </a:r>
            <a:r>
              <a:rPr b="1" lang="en-US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哭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267360" y="2666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忧愁的样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572280" y="3581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端坐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2233800" y="4952880"/>
            <a:ext cx="209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意动用法。以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华文隶书"/>
              </a:rPr>
              <a:t>……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为伴侣</a:t>
            </a:r>
            <a:r>
              <a:rPr b="1" lang="en-US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/</a:t>
            </a: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朋友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734200" y="60958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华文隶书"/>
                <a:ea typeface="华文隶书"/>
              </a:rPr>
              <a:t>名词用作动词，打鱼砍柴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1600200" y="44928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二、三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838080" y="0"/>
            <a:ext cx="7848720" cy="12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由乐转悲的原因是什么？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客的这一段话很富于感染力，能真切地打动读者，  说一说为什么达到这种效果？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206040" y="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箫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838080" y="1828800"/>
            <a:ext cx="289080" cy="144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13086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景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387520" y="175248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明月清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123228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情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2387520" y="236232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悲观失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Rectangle 10"/>
          <p:cNvSpPr/>
          <p:nvPr/>
        </p:nvSpPr>
        <p:spPr>
          <a:xfrm>
            <a:off x="130860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理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387520" y="3048120"/>
            <a:ext cx="1155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人生短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0" y="3657600"/>
            <a:ext cx="8610480" cy="19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6600"/>
                </a:solidFill>
                <a:latin typeface="Times New Roman"/>
              </a:rPr>
              <a:t>3. </a:t>
            </a:r>
            <a:r>
              <a:rPr b="1" lang="zh-CN" sz="3100" spc="-1" strike="noStrike">
                <a:solidFill>
                  <a:srgbClr val="006600"/>
                </a:solidFill>
                <a:latin typeface="Times New Roman"/>
              </a:rPr>
              <a:t>古往今来，许多文人面对宇宙和历史时都感到短暂、悲哀，你能举出</a:t>
            </a:r>
            <a:r>
              <a:rPr b="1" lang="en-US" sz="3100" spc="-1" strike="noStrike">
                <a:solidFill>
                  <a:srgbClr val="006600"/>
                </a:solidFill>
                <a:latin typeface="Times New Roman"/>
              </a:rPr>
              <a:t>1</a:t>
            </a:r>
            <a:r>
              <a:rPr b="1" lang="zh-CN" sz="3100" spc="-1" strike="noStrike">
                <a:solidFill>
                  <a:srgbClr val="006600"/>
                </a:solidFill>
                <a:latin typeface="Times New Roman"/>
              </a:rPr>
              <a:t>－</a:t>
            </a:r>
            <a:r>
              <a:rPr b="1" lang="en-US" sz="3100" spc="-1" strike="noStrike">
                <a:solidFill>
                  <a:srgbClr val="006600"/>
                </a:solidFill>
                <a:latin typeface="Times New Roman"/>
              </a:rPr>
              <a:t>3</a:t>
            </a:r>
            <a:r>
              <a:rPr b="1" lang="zh-CN" sz="3100" spc="-1" strike="noStrike">
                <a:solidFill>
                  <a:srgbClr val="006600"/>
                </a:solidFill>
                <a:latin typeface="Times New Roman"/>
              </a:rPr>
              <a:t>句这方面的诗句吗？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0" y="479736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向之所欣，俯仰之间，已为陈迹，犹不能不以之兴怀，况修短随化，终期于尽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王羲之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兰亭集序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0" y="59119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寓形宇内复几时，曷不委心任去留？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陶渊明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归去来兮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228600" y="1295280"/>
            <a:ext cx="8915400" cy="30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ff"/>
                </a:solidFill>
                <a:latin typeface="Times New Roman"/>
              </a:rPr>
              <a:t>1. </a:t>
            </a:r>
            <a:r>
              <a:rPr b="1" lang="zh-CN" sz="3500" spc="-1" strike="noStrike">
                <a:solidFill>
                  <a:srgbClr val="9900ff"/>
                </a:solidFill>
                <a:latin typeface="Times New Roman"/>
              </a:rPr>
              <a:t>曹  操：对酒当歌，人生几何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ff"/>
                </a:solidFill>
                <a:latin typeface="Times New Roman"/>
              </a:rPr>
              <a:t>2. </a:t>
            </a:r>
            <a:r>
              <a:rPr b="1" lang="zh-CN" sz="3500" spc="-1" strike="noStrike">
                <a:solidFill>
                  <a:srgbClr val="9900ff"/>
                </a:solidFill>
                <a:latin typeface="Times New Roman"/>
              </a:rPr>
              <a:t>陈子昂：念天地之悠悠，独怆然而涕下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ff"/>
                </a:solidFill>
                <a:latin typeface="Times New Roman"/>
              </a:rPr>
              <a:t>3. </a:t>
            </a:r>
            <a:r>
              <a:rPr b="1" lang="zh-CN" sz="3500" spc="-1" strike="noStrike">
                <a:solidFill>
                  <a:srgbClr val="9900ff"/>
                </a:solidFill>
                <a:latin typeface="Times New Roman"/>
              </a:rPr>
              <a:t>许  浑：英雄一去豪华尽，惟有青山似洛中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9900ff"/>
                </a:solidFill>
                <a:latin typeface="Times New Roman"/>
              </a:rPr>
              <a:t>4. </a:t>
            </a:r>
            <a:r>
              <a:rPr b="1" lang="zh-CN" sz="3500" spc="-1" strike="noStrike">
                <a:solidFill>
                  <a:srgbClr val="9900ff"/>
                </a:solidFill>
                <a:latin typeface="Times New Roman"/>
              </a:rPr>
              <a:t>苏  轼：大江东去，浪淘尽，千古风流人物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152280" y="762120"/>
            <a:ext cx="876312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苏子对人生的积极乐观是怎样一步一步导出来的？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你怎样理解“自其不变者而观之，则物与我皆无尽也。”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你从苏子的超脱中得到了什么启示？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540320" y="144792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水与月的特点→水与月的启示→启示后的做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066680" y="3124080"/>
            <a:ext cx="7467840" cy="30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逝者如斯</a:t>
            </a:r>
            <a:r>
              <a:rPr b="1" lang="zh-CN" sz="27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未尝往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盈虚者如彼</a:t>
            </a:r>
            <a:r>
              <a:rPr b="1" lang="zh-CN" sz="27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未消长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变</a:t>
            </a:r>
            <a:r>
              <a:rPr b="1" lang="zh-CN" sz="27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不变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一瞬</a:t>
            </a:r>
            <a:r>
              <a:rPr b="1" lang="zh-CN" sz="2700" spc="-1" strike="noStrike">
                <a:solidFill>
                  <a:srgbClr val="ff0000"/>
                </a:solidFill>
                <a:latin typeface="Symbol"/>
                <a:ea typeface="Symbol"/>
              </a:rPr>
              <a:t></a:t>
            </a: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无尽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Times New Roman"/>
              </a:rPr>
              <a:t>不要抱怨，让人生更得充实有意义。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1773360" y="990720"/>
            <a:ext cx="56811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子的阐述哲理和前面的写景抒情有什么联系？</a:t>
            </a:r>
            <a:r>
              <a:rPr b="0" lang="zh-CN" sz="33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051280" y="2286000"/>
            <a:ext cx="3504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议论时扣紧了水与月来阐发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733040" y="3352680"/>
            <a:ext cx="26582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处处照应了客的话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2780280" y="4572000"/>
            <a:ext cx="31215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写景抒情是哲理的基础</a:t>
            </a:r>
            <a:r>
              <a:rPr b="1" lang="en-US" sz="31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100" spc="-1" strike="noStrike">
                <a:solidFill>
                  <a:srgbClr val="ff0000"/>
                </a:solidFill>
                <a:latin typeface="Times New Roman"/>
              </a:rPr>
              <a:t>哲理是写景抒情的升华。</a:t>
            </a:r>
            <a:endParaRPr b="0" lang="en-US" sz="31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1981080" y="457200"/>
            <a:ext cx="4572000" cy="15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行楷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卜算子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黄州定惠院寓居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533520" y="2209680"/>
            <a:ext cx="754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缺月挂疏桐，漏断人初静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谁见幽人独往来，飘渺孤鸿影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惊起却回头，有恨无人省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拣尽寒枝不肯栖，寂寞沙洲冷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619280" y="404640"/>
            <a:ext cx="453708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66cc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一、作者背景 </a:t>
            </a:r>
            <a:endParaRPr b="0" lang="en-US" sz="1800" spc="1" strike="noStrike">
              <a:ln w="12600">
                <a:solidFill>
                  <a:srgbClr val="3366cc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1042920" y="1341360"/>
            <a:ext cx="7129440" cy="16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苏轼：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37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～</a:t>
            </a:r>
            <a:r>
              <a:rPr b="1" lang="en-US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101</a:t>
            </a:r>
            <a:r>
              <a:rPr b="1" lang="zh-CN" sz="4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年</a:t>
            </a: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835280" y="234936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572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572"/>
                </a:solidFill>
                <a:latin typeface="Arial"/>
              </a:rPr>
              <a:t>字子瞻，号东坡居士。 四川眉山人。宋代大文豪。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8" name="Picture 5" descr="图片3"/>
          <p:cNvPicPr/>
          <p:nvPr/>
        </p:nvPicPr>
        <p:blipFill>
          <a:blip r:embed="rId1"/>
          <a:srcRect l="4677" t="13268" r="8014" b="15271"/>
          <a:stretch/>
        </p:blipFill>
        <p:spPr>
          <a:xfrm>
            <a:off x="0" y="2286000"/>
            <a:ext cx="1763640" cy="457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hibi"/>
          <p:cNvPicPr/>
          <p:nvPr/>
        </p:nvPicPr>
        <p:blipFill>
          <a:blip r:embed="rId2"/>
          <a:stretch/>
        </p:blipFill>
        <p:spPr>
          <a:xfrm>
            <a:off x="7380360" y="609480"/>
            <a:ext cx="17636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228600" y="762120"/>
            <a:ext cx="845820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定风波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三月七日，沙湖道中遇雨，雨具先去，同行皆狼狈，余独不觉。已而遂晴。故作此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莫听穿林打叶声，何妨吟啸且徐行。竹杖芒鞋轻胜马，谁怕？一蓑烟雨任平生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料峭春风吹酒醒，微冷，山头斜照却相迎。</a:t>
            </a:r>
            <a:r>
              <a:rPr b="1" lang="zh-CN" sz="3200" spc="-1" strike="noStrike">
                <a:solidFill>
                  <a:srgbClr val="007572"/>
                </a:solidFill>
                <a:latin typeface="隶书"/>
                <a:ea typeface="隶书"/>
              </a:rPr>
              <a:t>回首向来萧瑟处，归去，也无风雨也无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ic4"/>
          <p:cNvPicPr/>
          <p:nvPr/>
        </p:nvPicPr>
        <p:blipFill>
          <a:blip r:embed="rId1"/>
          <a:srcRect l="9533" t="5008" r="40351" b="3827"/>
          <a:stretch/>
        </p:blipFill>
        <p:spPr>
          <a:xfrm>
            <a:off x="0" y="685800"/>
            <a:ext cx="2976480" cy="5877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3"/>
          <p:cNvSpPr txBox="1"/>
          <p:nvPr/>
        </p:nvSpPr>
        <p:spPr>
          <a:xfrm>
            <a:off x="762120" y="2743200"/>
            <a:ext cx="914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苏轼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1752480" y="1219320"/>
            <a:ext cx="1440000" cy="1944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085640" y="9907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苏洵、苏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239880" y="990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三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V="1">
            <a:off x="1752480" y="2666520"/>
            <a:ext cx="1600200" cy="685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3419640" y="2060640"/>
            <a:ext cx="288720" cy="1439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3581280" y="1828800"/>
            <a:ext cx="3124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韩愈   柳宗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欧阳修  苏洵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苏辙 王安石  曾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477120" y="2057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唐宋八大家（文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1905120" y="3505320"/>
            <a:ext cx="1371600" cy="4572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3581280" y="365760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辛弃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6400800" y="3657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苏辛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词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Line 19"/>
          <p:cNvSpPr/>
          <p:nvPr/>
        </p:nvSpPr>
        <p:spPr>
          <a:xfrm>
            <a:off x="2057400" y="3657600"/>
            <a:ext cx="990720" cy="9144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Rectangle 20"/>
          <p:cNvSpPr/>
          <p:nvPr/>
        </p:nvSpPr>
        <p:spPr>
          <a:xfrm>
            <a:off x="3200400" y="4267080"/>
            <a:ext cx="3459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黄庭坚  米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蔡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Rectangle 21"/>
          <p:cNvSpPr/>
          <p:nvPr/>
        </p:nvSpPr>
        <p:spPr>
          <a:xfrm>
            <a:off x="6324480" y="4648320"/>
            <a:ext cx="206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苏黄米蔡（书法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611280" y="1425240"/>
            <a:ext cx="82087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乌台诗案”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 宋神宗在熙宁年间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068——107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重用王安石变法，变法失利后，又在元丰年间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078——108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从事改制。就在变法到改制的转折关头，发生了苏轼乌台诗案。这案件先由监察御史告发，后在御史台狱受审。御史台自汉代以来即别称“乌台”，所以此案称为“乌台诗案”。 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“乌台诗案”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是元丰二年发生的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文字狱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御史中丞李定、舒亶等人摘取苏轼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湖州谢上表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中语句和此前所作诗句，以谤讪新政的罪名逮捕了苏轼，苏轼的诗歌确实有些讥刺时政，包括变法过程中的问题。但此事纯属政治迫害。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539640" y="907920"/>
            <a:ext cx="7848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乌台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指的是御史台，汉代时御史台外柏树很多山有很多乌鸦，所以人称御史台为乌台，也戏指御史们都是乌鸦嘴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北宋神宗年间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苏轼因为反对新法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并在自己的诗文表露了对新政的不满。由于他当时是文坛的领袖，任由苏轼的诗词在社会上传播对新政的推行很不利。所以在神宗的默许下，苏轼被抓进乌台，一关就是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个月，每天被逼要交代他以前写的诗的由来和词句中典故的出处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由于宋朝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杀士大夫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的惯例，所以苏轼免于一死，但被贬为黄州团练。 元丰二年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079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）三月，苏东坡由徐州调任太湖滨的湖州。他作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湖州谢上表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，其实只是例行公事，略叙为臣过去无政绩可言，再叙皇恩浩荡，但他在后又夹上几句牢骚话：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　　“陛下知其愚不适时，难以追陪新进；察其老不生事，或能牧养小民。”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026" descr="034"/>
          <p:cNvPicPr/>
          <p:nvPr/>
        </p:nvPicPr>
        <p:blipFill>
          <a:blip r:embed="rId1"/>
          <a:srcRect l="34532" t="3231" r="6270" b="3206"/>
          <a:stretch/>
        </p:blipFill>
        <p:spPr>
          <a:xfrm>
            <a:off x="-181080" y="0"/>
            <a:ext cx="208908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027"/>
          <p:cNvSpPr/>
          <p:nvPr/>
        </p:nvSpPr>
        <p:spPr>
          <a:xfrm>
            <a:off x="1332000" y="620640"/>
            <a:ext cx="756756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成熟是一种明亮而不刺眼的光辉，一种圆润而不腻耳的音响，一种不再需要对别人察言观色的从容，一种终于停止向周围申诉求告的大气，一种不理会哄闹的微笑，一种洗刷了偏激的淡漠，一种无须声张的厚实，一种并不陡峭的高度。勃郁的豪情发过了酵，尖利的山风收住了劲，湍急的细流汇成了湖，结果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---- 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引导千古杰作的前奏已经鸣响，一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神秘的天光射向黄州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念奴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壁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古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和前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赤壁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马上就要产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 rot="237000">
            <a:off x="539280" y="0"/>
            <a:ext cx="316872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7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26000"/>
                </a:gradFill>
                <a:latin typeface="方正舒体"/>
              </a:rPr>
              <a:t>二、简介赋体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26000"/>
              </a:gradFill>
              <a:latin typeface="方正舒体"/>
              <a:ea typeface="方正舒体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1268280"/>
            <a:ext cx="874872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  <a:ea typeface="幼圆"/>
              </a:rPr>
              <a:t>       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  <a:ea typeface="幼圆"/>
              </a:rPr>
              <a:t>是介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韵文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  <a:ea typeface="幼圆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散文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  <a:ea typeface="幼圆"/>
              </a:rPr>
              <a:t>之间的一  种文体，它从  先 秦 诗歌派生出来，到汉代形成了一种特定的体制，讲究文采、韵律，兼有散文与诗歌的性质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赋的特点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文心雕龙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诠赋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Garamond"/>
                <a:ea typeface="楷体_GB2312"/>
              </a:rPr>
              <a:t>说：“赋者，铺也；铺采摛文，体物写志也。”体物写志，指赋的内容；铺采摛文指赋的形</a:t>
            </a:r>
            <a:r>
              <a:rPr b="1" lang="zh-CN" sz="4000" spc="-1" strike="noStrike">
                <a:solidFill>
                  <a:srgbClr val="000000"/>
                </a:solidFill>
                <a:latin typeface="Garamond"/>
                <a:ea typeface="楷体_GB2312"/>
              </a:rPr>
              <a:t>貌。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  <a:ea typeface="幼圆"/>
              </a:rPr>
              <a:t>其常采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主客问答</a:t>
            </a:r>
            <a:r>
              <a:rPr b="1" lang="zh-CN" sz="4000" spc="-1" strike="noStrike">
                <a:solidFill>
                  <a:srgbClr val="336699"/>
                </a:solidFill>
                <a:latin typeface="Arial"/>
                <a:ea typeface="幼圆"/>
              </a:rPr>
              <a:t>的手法来展开描写。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幼圆"/>
              </a:rPr>
              <a:t>古赋、俳赋、律赋、文赋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380880" y="19810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  <a:ea typeface="幼圆"/>
              </a:rPr>
              <a:t>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幼圆"/>
              </a:rPr>
              <a:t>文赋，也叫散文赋。是中唐之后出现的一种文体。它兼有诗歌和散文的特点，较多地吸收散文的笔调和手法，形成了散文式的清新流畅的气势。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幼圆"/>
              </a:rPr>
              <a:t>本篇就是文赋的典型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Picture 3" descr="6_293_8"/>
          <p:cNvPicPr/>
          <p:nvPr/>
        </p:nvPicPr>
        <p:blipFill>
          <a:blip r:embed="rId1"/>
          <a:srcRect l="0" t="0" r="0" b="70309"/>
          <a:stretch/>
        </p:blipFill>
        <p:spPr>
          <a:xfrm>
            <a:off x="0" y="0"/>
            <a:ext cx="838836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617120" y="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572"/>
                </a:solidFill>
                <a:latin typeface="Arial"/>
              </a:rPr>
              <a:t>一、生字注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" y="990720"/>
            <a:ext cx="85345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窈窕（             ）   壬戌（  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冯（         ）虚御风   桂棹（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嫠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妇               愀（     ）然：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舳舻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)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酒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横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赋诗       杯盘狼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枕藉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)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蜉蝣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匏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       )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仙以遨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654560" y="990720"/>
            <a:ext cx="17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yǎo tiǎ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5465160" y="9907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rén x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296000" y="182880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pí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943960" y="182880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zhà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525320" y="2743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l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5247720" y="2666880"/>
            <a:ext cx="10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qiǎo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50532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zhú l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380560" y="35053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hī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1371960" y="4343400"/>
            <a:ext cx="11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shu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6554520" y="4343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j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Rectangle 14"/>
          <p:cNvSpPr/>
          <p:nvPr/>
        </p:nvSpPr>
        <p:spPr>
          <a:xfrm>
            <a:off x="1525320" y="5181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ji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5"/>
          <p:cNvSpPr/>
          <p:nvPr/>
        </p:nvSpPr>
        <p:spPr>
          <a:xfrm>
            <a:off x="5638680" y="5181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fú yóu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272240" y="5943600"/>
            <a:ext cx="19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páo zūn</a:t>
            </a:r>
            <a:r>
              <a:rPr b="1" lang="en-US" sz="2800" spc="-1" strike="noStrike">
                <a:solidFill>
                  <a:srgbClr val="0066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5030640" y="60199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xi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1:20:47Z</dcterms:created>
  <dc:creator/>
  <dc:description/>
  <cp:keywords/>
  <dc:language>en-US</dc:language>
  <cp:lastModifiedBy>ABC</cp:lastModifiedBy>
  <dcterms:modified xsi:type="dcterms:W3CDTF">2015-12-23T06:22:44Z</dcterms:modified>
  <cp:revision>65</cp:revision>
  <dc:subject/>
  <dc:title>PowerPoint 演示文稿</dc:title>
</cp:coreProperties>
</file>