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B83-DBAB-420E-B27D-323C47A2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B43-D912-42BD-802C-91128797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289-754B-499D-947A-A14E1755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1E3-49DA-4586-B3F7-72B8F0E1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5F1-72E0-4437-A437-84A74C43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237-B8C9-434E-9447-78D5E7C8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1E5-CE85-4820-9A89-B3C9496B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1E8-1ECC-463A-9E4F-8711EF37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21C8-8202-47BB-A1BD-647C407D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AEB-1F29-4DA2-830D-EB1A4BC1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1FF-D902-4B76-83D9-D6689419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058-B9C2-4B94-80DF-E80448B6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A32C-6CE4-483E-B19F-9BAA96A08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2000" y="59500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南宋   朱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052640"/>
            <a:ext cx="583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百丈山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746360" y="62064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66"/>
                </a:solidFill>
                <a:latin typeface="Arial"/>
                <a:ea typeface="隶书"/>
              </a:rPr>
              <a:t>整体感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83040" y="151776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隶书"/>
              </a:rPr>
              <a:t>1</a:t>
            </a: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隶书"/>
              </a:rPr>
              <a:t>、本文的游踪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13880" y="273672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隶书"/>
              </a:rPr>
              <a:t>2</a:t>
            </a: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隶书"/>
              </a:rPr>
              <a:t>、本文的写作目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10560" y="388620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隶书"/>
              </a:rPr>
              <a:t>3</a:t>
            </a: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隶书"/>
              </a:rPr>
              <a:t>、本文的写作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205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石磴、小涧、山门、石台、西阁、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70480" y="32688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呈同游诸君，又以告夫欲往而未能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0440" y="4411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移步换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06280" y="5029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详略得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51480" y="4724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寓情于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-2289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以“记”为名本质为记叙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96720" y="836280"/>
            <a:ext cx="2952720" cy="5791320"/>
          </a:xfrm>
          <a:prstGeom prst="rect">
            <a:avLst/>
          </a:prstGeom>
          <a:solidFill>
            <a:srgbClr val="bbe0e3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记”，是古代的一种文体。主要是记载事物，并通  过记事、记物，写景、记人来抒发作者的感情或见解，即景抒情，托物言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   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627280" y="765000"/>
          <a:ext cx="6781680" cy="5800680"/>
        </p:xfrm>
        <a:graphic>
          <a:graphicData uri="http://schemas.openxmlformats.org/drawingml/2006/table">
            <a:tbl>
              <a:tblPr/>
              <a:tblGrid>
                <a:gridCol w="1395360"/>
                <a:gridCol w="1238040"/>
                <a:gridCol w="414828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篇　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作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旨趣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与性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桃花源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陶渊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纯记叙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岳阳楼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范仲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兼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“览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物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”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的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叙述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、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对“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古仁人之心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”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的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议论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及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侧写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自我心志的抒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黃州快哉亭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苏   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同上；兼具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叙述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、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议论</a:t>
                      </a:r>
                      <a:r>
                        <a:rPr b="1" lang="zh-TW" sz="3200" spc="-1" strike="noStrike">
                          <a:solidFill>
                            <a:srgbClr val="ff3300"/>
                          </a:solidFill>
                          <a:latin typeface="Arial"/>
                          <a:ea typeface="黑体"/>
                        </a:rPr>
                        <a:t>、抒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28320" y="533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课堂小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29528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1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、写出下列加点词在句中的意思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(4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分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①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循磴而东，既得小涧   循：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宋体"/>
                <a:ea typeface="隶书"/>
              </a:rPr>
              <a:t>              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②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老屋数间，卑痹迫隘   隘：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宋体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③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日光烛之，璀璨夺目   烛：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宋体"/>
                <a:ea typeface="隶书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④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紫翠重叠，不可殚数     殚：</a:t>
            </a:r>
            <a:r>
              <a:rPr b="0" lang="zh-CN" sz="1800" spc="-1" strike="noStrike" u="sng">
                <a:solidFill>
                  <a:srgbClr val="333333"/>
                </a:solidFill>
                <a:uFillTx/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99000" y="4214880"/>
            <a:ext cx="513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2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、把下列句子译成现代汉语。 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(6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分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①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然山之可观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者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至是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则亦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隶书"/>
              </a:rPr>
              <a:t>穷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②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因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各别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为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小诗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以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识其处，呈同游诸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1916280"/>
            <a:ext cx="17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顺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43640" y="242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狭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2997360"/>
            <a:ext cx="21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照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88000" y="3573360"/>
            <a:ext cx="18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竭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5228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、下列对句中加点的词用法判断正确的一项是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(2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分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叠石为磴十余级乃得度 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/ 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其沫乃如散珠喷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曲折而上 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/ 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自池而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．①相同，②相同     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．①相同，②不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．①②均不同         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．①不同，②相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36232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、下列各句对文章的阐述，不正确的一项是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Ａ．这篇游记采用了移步换景的方式，引导人们去游览百丈山的胜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Ｂ．文章第二节以“涧”为中心，贯串着水的描写，详写涧水美的形貌和作者由此而萌生的审美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宋体"/>
              </a:rPr>
              <a:t>Ｃ．第三节主要写瀑布凌空而泻，气势磅礴，水珠在阳光照射下，璀璨夺目，五彩缤纷，煞是伟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Ｄ．本文详略得宜，可观处详写，反之则从略。略写处一笔带过，详写处细描深绘，多层次，多方位地显现百丈山的美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75840" y="18900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16920" y="2368440"/>
            <a:ext cx="12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：《百丈山六咏》之三赏析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朱熹偕友人登临百丈山上，写下《百丈山六咏》，是一组精彩的山水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18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其一《古磴》诗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层崖俯深幽，微径忽中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努力一跻攀，前行有奇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9480" y="444168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342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诗人站在层层叠叠的悬崖之上，下面是幽深莫测的山谷，眼前的羊肠小道突然中断。在这种上不能，下不易的困境之中，诗人认为只要勇敢地向上探索攀登，前面一定会有奇丽的风光。朱熹在写景中巧妙地提示一个生活哲理，在困境中只在敢于奋斗，必能化险为夷，闯出一条通往险峰的道路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其二《小涧》诗云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崖交翠阴，一水自清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俯仰契幽情，神襟顿飘洒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3068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人以平视的角度，描写两山交合的山谷，古木成荫，涧水如带，山水幽景使人心旷神怡，一时使人忘却了人世间的烦恼和纷争，陶醉在大自然的美景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其五《西阁》诗云：</a:t>
            </a:r>
            <a:br>
              <a:rPr sz="36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此云窗眠，静夜心独苦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安得枕下泉，去作人间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2997360"/>
            <a:ext cx="8686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游山当日，诗人夜宿百丈西阁之中，夜虽静而人难寐。枕下清泉叮咚不止，诗人忽发奇想，希望山间飞泉，能化作人间及时雨，那该多好啊！结句出语不凡，作者忧国忧民之心路然纸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12280" y="6494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布置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52388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范仲淹：“不以物喜，不以己悲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苏 辙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 ：“使其中坦然，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不以物伤性，将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9999"/>
                </a:solidFill>
                <a:latin typeface="宋体"/>
                <a:ea typeface="隶书"/>
              </a:rPr>
              <a:t>适而非快？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苏  轼：“余之无所往而不乐者，盖游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隶书"/>
              </a:rPr>
              <a:t>物之外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Verdana"/>
                <a:ea typeface="隶书"/>
              </a:rPr>
              <a:t>  </a:t>
            </a:r>
            <a:r>
              <a:rPr b="1" lang="zh-CN" sz="3200" spc="-1" strike="noStrike">
                <a:solidFill>
                  <a:srgbClr val="993366"/>
                </a:solidFill>
                <a:latin typeface="Verdana"/>
                <a:ea typeface="隶书"/>
              </a:rPr>
              <a:t>结合上面三者观点，以“如何面对人生遇到的挫折”为话题，写一篇作文的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隶书"/>
              </a:rPr>
              <a:t>开头</a:t>
            </a:r>
            <a:r>
              <a:rPr b="1" lang="zh-CN" sz="3200" spc="-1" strike="noStrike">
                <a:solidFill>
                  <a:srgbClr val="993366"/>
                </a:solidFill>
                <a:latin typeface="Verdana"/>
                <a:ea typeface="隶书"/>
              </a:rPr>
              <a:t>，要求：</a:t>
            </a:r>
            <a:r>
              <a:rPr b="1" lang="zh-CN" sz="3200" spc="-1" strike="noStrike">
                <a:solidFill>
                  <a:srgbClr val="993366"/>
                </a:solidFill>
                <a:latin typeface="Verdana"/>
                <a:ea typeface="隶书"/>
              </a:rPr>
              <a:t>1</a:t>
            </a:r>
            <a:r>
              <a:rPr b="1" lang="zh-CN" sz="3200" spc="-1" strike="noStrike">
                <a:solidFill>
                  <a:srgbClr val="993366"/>
                </a:solidFill>
                <a:latin typeface="Verdana"/>
                <a:ea typeface="隶书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隶书"/>
              </a:rPr>
              <a:t>紧扣话题</a:t>
            </a:r>
            <a:r>
              <a:rPr b="1" lang="zh-CN" sz="3200" spc="-1" strike="noStrike">
                <a:solidFill>
                  <a:srgbClr val="993366"/>
                </a:solidFill>
                <a:latin typeface="Verdana"/>
                <a:ea typeface="隶书"/>
              </a:rPr>
              <a:t>，</a:t>
            </a:r>
            <a:r>
              <a:rPr b="1" lang="zh-CN" sz="3200" spc="-1" strike="noStrike">
                <a:solidFill>
                  <a:srgbClr val="993366"/>
                </a:solidFill>
                <a:latin typeface="Verdana"/>
                <a:ea typeface="隶书"/>
              </a:rPr>
              <a:t>2</a:t>
            </a:r>
            <a:r>
              <a:rPr b="1" lang="zh-CN" sz="3200" spc="-1" strike="noStrike">
                <a:solidFill>
                  <a:srgbClr val="993366"/>
                </a:solidFill>
                <a:latin typeface="Verdana"/>
                <a:ea typeface="隶书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隶书"/>
              </a:rPr>
              <a:t>至少用一种修辞手法</a:t>
            </a:r>
            <a:r>
              <a:rPr b="1" lang="zh-CN" sz="3200" spc="-1" strike="noStrike">
                <a:solidFill>
                  <a:srgbClr val="993366"/>
                </a:solidFill>
                <a:latin typeface="Verdana"/>
                <a:ea typeface="隶书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30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附：课文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476280"/>
            <a:ext cx="8675640" cy="60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上百丈山约三里多路，右边俯临深险的山谷，左边连接着陡峭悬崖；重叠的石块形成台阶，走了十多级台阶方才越过。百丈山的优美景色大概就从这里开始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沿着石阶向东走，就能看到一个小涧，有一座石桥横跨在它上面。涧里长满苍翠的藤蔓和参天的古木，这里即使在盛夏中午最炎热的时候，也感觉不到逼人的暑气；涧中水流清澈，从高处急速流下，发出淙淙的声音。越过石桥，沿着两边山崖曲折小路而上，可以发现一座寺庙，寺庙大致有三间小屋，都不能容纳十来个人。但这里前面可以俯瞰清澈的涧水，后面临近一泓小池，习习清风从两边山峡间吹来，整日不停。门内横跨小池的又是一座石桥，越过石桥向北走，踏着数级石梯能够进入一座庵中。庵里只有几间老屋，低矮而又狭窄，没有什么值得观赏的。只有庵中的西阁楼风景优美。溪流从西边山谷中顺着石头缝隙奔射而出于西阁之下，南边和东边溪水一同注入小池中，从小池中泻出，形成前面所说的小涧。西阁位居小涧的上游，正对着湍急的水流和峻峭的山石相撞搏击之处，最值得观赏。然而在西阁后面，却是石壁，没有什么风景可看的。唯独在夜里睡在西阁楼上，枕席下面就整宿都响着潺潺的流水声，听久了，更感到悲凉，这种情境令人觉得可爱罢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了山门向东，走十多步，可以看到一座石台，其下面临悬崖峭壁，深暗险峻。在草木丛杂的地方向东南眺望，可以看见一挂瀑布由前方岩石洞穴中喷涌而出，凌空而下长达几十尺。瀑布的飞沫就像飞散的珍珠喷洒着雾气，在日光照射之下，光彩鲜明，晃人眼目，让人不敢正视。石台正对着山西南的缺口，对着芦山，此山独立挺拔而出，周围其它几百里间的高低山峰，也都历历在目，十分分明。太阳迫近西山，余晖横斜照耀之下，群山或紫或翠，重叠相映，数也数不尽。早晨起床向山下探视，满山遍野白云飘荡，像大海波涛起伏；而远近各座山峰隐现于其中，就像时而在飞奔，时而在漂浮，来来往往，有的涌现，有的隐没，顷刻之间，变化万千。石台东面，小路断绝，乡里的人在山壁上凿出石级为路，用以行走，因而在它的东面修造祭神的祠堂，天旱或水涝时在这里向神佛祈祷。那些畏惧险途的人不敢走，但百丈山值得观赏的景物到此也就穷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59400" y="620640"/>
            <a:ext cx="3652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朱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130—12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南宋哲学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育家，字元晦，一字仲晦，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晦庵，晚号晦翁，徽州婺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婺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生于南剑州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福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南宋高宗绍兴年间进士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历仕高宗、孝宗、光宗、宁宗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朝，官至宝文阁待制。谥号“文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赠太师，追封信国公，改徽国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是著名的唯心主义哲学家、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理学的集大成者，明清以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奉为“大贤”，配享孔庙，在日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朝鲜半岛广有影响。著有《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书章句集注》、《诗集传》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楚辞集注》及后人编纂的《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庵先生朱文公文集》、《朱子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》等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240" y="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及写作背景简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3889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258920" y="1844640"/>
            <a:ext cx="67690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百丈山记》选自《朱文公文集》。它写于宋孝宗淳熙二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175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夏天。作者没有把笔墨花在记述出游的时间、行程等等上面，而是着力于描写百丈山的优美风景。文章开门见山，从“山之胜盖自此始”写起，到“山之可观者，至是则亦穷矣”，结束了基本部分的内容，首尾呼应，一气贯串，显得十分集中、紧凑。有选择地落笔于六处景致，分为两组，第一组叙述踏石磴、过涧水、入山门而至西阁，主要描写西阁环境的优美和夜宿听泉的感受。第二组中由石台引出，主要描写瀑布、夕照与云海，叙次分明，铺排得当，重点突出，引人入胜。通篇状物写景，准确而形象，细致而生动，表现出作者精细的观察能力和运用语言的功夫。在同时所写《百丈山六咏》之一《西阁》的绝句中，朱熹曾抒发了“安得枕下泉，去作人间雨”的情怀与议论，而没有把它写进本文。这是一篇以刻画山水景物见长的游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915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助下列提示，自主学习第一自然段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、解释下列画线的字词，并翻译全段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右俯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绝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左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垂崖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山之胜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此始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想一想，第一段主要讲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登上百丈山约三里多路，右边俯临深险的山谷，左边临着垂直的悬崖；累叠石头作为阶梯，踏着十多级台阶方才越过这个地方，百丈山的优美景色大概就从这里开始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47242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第一段主要简述登山的过程，到达了百丈山的风景绝佳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03840" y="1274760"/>
            <a:ext cx="49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绝壑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深又陷的山谷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控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1700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大概，表推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640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读第二段，完成下列问题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解释下列画线的字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磴而东                                   然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涧水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石梯数级入庵                        无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独其西阁为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乃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后，无所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翻译下列句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皆清澈，自高淙下，其声溅溅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自西谷中循石罅奔射出阁下，南与东谷水并注池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阁据其上流，当水石，峻激相搏处，最为可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105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顺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88000" y="10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看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148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8164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值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1916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优美的景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18400" y="191628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筑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214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涧中水流清澈，从高处急速流下，发出淙淙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溪流从西边山谷中顺着石头缝隙奔射而出于西阁之下，在南边和东边的溪水一同注入小池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阁位居小涧的上游，正对着湍急的水流和峻峭的山石相撞搏击之处，最值得观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6756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映百丈山水的特点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写西阁位置及水流特点的句子的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二段主要描述了山门前后幽静美丽的景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565360"/>
            <a:ext cx="700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水皆清澈，自高淙下，其声溅溅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4221000"/>
            <a:ext cx="86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阁据其上流，当水石，峻激相搏处，最为可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6155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读第三段，完成下列问题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解释下列画线的字词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深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险绝                               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瀵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前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芦山                               日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山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翻译下列句子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沫乃如散珠喷雾，日光烛之，璀璨夺目，不可正视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薄西山，余光横照，紫翠重叠，不可殚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8820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瀑布的飞沫就像飞散的珍珠喷洒着雾气，在日光照射之下，光彩鲜明，晃人眼目，让人不敢正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迫近西山，余晖横斜照耀之下，群山或紫或翠，重叠相映，数也数不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1341360"/>
            <a:ext cx="23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幽暗不明，极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36240" y="13413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水同源而分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1700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正对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700280"/>
            <a:ext cx="19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迫近，靠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写瀑布飞沫特点的句子的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写傍晚景色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写百丈山早晨景色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第三段主要描述了瀑布的壮美景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2050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其沫乃如散珠喷雾，日光烛之，璀璨夺目，不可正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933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日薄西山，余光横照，紫翠重叠，不可殚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508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旦起下视，白云满川，如海波起伏；而远近诸山出其中者，皆若飞浮来往，或涌或没，顷刻万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借助下列提示，自主学习第四自然段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解释下列画线的字词，理解全段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以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胜                                    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别为小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想一想，第四段主要讲了什么？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62080" y="1484280"/>
            <a:ext cx="16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以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来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纪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“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85080" y="148428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997360"/>
            <a:ext cx="63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介绍同游之人和写作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6:41:47Z</dcterms:created>
  <dc:creator>user</dc:creator>
  <dc:description/>
  <dc:language>en-US</dc:language>
  <cp:lastModifiedBy>user</cp:lastModifiedBy>
  <dcterms:modified xsi:type="dcterms:W3CDTF">2006-02-24T07:16:47Z</dcterms:modified>
  <cp:revision>29</cp:revision>
  <dc:subject/>
  <dc:title>幻灯片 1</dc:title>
</cp:coreProperties>
</file>