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1B7A-14CD-440E-A57B-19F987932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EA8-73A5-45F1-BF20-08E38453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3B1-B697-4D67-829A-CF55BAC4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D3F0-A77F-4E81-A131-9C8EDEBA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863-AA66-4DA4-989E-ACCEBEF8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75D-CA5B-4494-AB83-F2A2A031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E1D-8A12-4CB7-A4BB-B2B617ED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79C-6077-4364-9562-6D1470FA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46A-2C4B-471A-A987-5EE94F58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2CC-7B72-4D4B-84AC-2C945D0C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B98-491A-42B4-B3CB-3824155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6C6-A9AB-45E3-81C9-3A0C232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E0B3-FA3C-4D95-8A0B-DA722E28B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E:\&#19978;&#20256;&#25991;&#26723;\&#20843;&#24180;&#32423;&#25945;&#26696;\2807_rbedu[1].com\c1&#26757;&#23725;&#19977;&#31456;&#19969;&#34560;&#20108;&#20013;&#35768;&#26329;&#23792;.exe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E:\&#19978;&#20256;&#25991;&#26723;\&#20843;&#24180;&#32423;&#25945;&#26696;\&#21035;&#20113;&#38388;.swf" TargetMode="External"/><Relationship Id="rId2" Type="http://schemas.openxmlformats.org/officeDocument/2006/relationships/hyperlink" Target="E:\&#19978;&#20256;&#25991;&#26723;\&#20843;&#24180;&#32423;&#25945;&#26696;\&#21035;&#20113;&#38388;.swf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2360" y="765000"/>
            <a:ext cx="266400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隶书"/>
              </a:rPr>
              <a:t>别云间</a:t>
            </a:r>
            <a:endParaRPr b="1" lang="en-US" sz="60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203640" y="0"/>
            <a:ext cx="58705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6360" y="44280"/>
            <a:ext cx="201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堂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70080" y="836640"/>
            <a:ext cx="490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今日又南冠”句中的“又”字表现了诗人怎样的心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02880" y="1268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表现了诗人无限伤痛与遗憾以及壮志难酬的悲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22640" y="1701720"/>
            <a:ext cx="50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“无限江河泪，谁言天地宽”一句描写了怎样的内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2205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山河破碎，感伤的泪水流不断，国土已沦丧，还怎能说天地宽！一个“泪”字，一个“言”字，表达诗人的爱国情怀以及对祖国山河破碎的悲愤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1880" y="328464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因为面对死神而流泪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38560" y="37180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不是，是因为祖国沦亡，山河破碎，民族多难，壮志难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41680" y="4149720"/>
            <a:ext cx="36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泉路近，欲别故乡难。”两句表现了作者怎样的矛盾心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88480" y="4653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必死的决心与难舍故乡亲人的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6360" y="83664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品读“毅魄归来日，灵旗空际看。”两句，赏析诗句中所表达出的英雄气节和豪迈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44280"/>
            <a:ext cx="201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堂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1628640"/>
            <a:ext cx="87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诗人将满腹哀怨化为一腔怒火，即使成了鬼魂，还要归来从空中看后继者率领部队起义。这是一种生命已止、战斗不息的精神，是个人立场的鲜明表白！表现诗人至死不渝的抗清精神，和对抗清事业后继有人的坚定信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76200" y="3357720"/>
            <a:ext cx="8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别云间》中哪些词语表达了作者为抗清而死的决心和意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6720" y="3789360"/>
            <a:ext cx="85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有“泉路”“毅魄”“灵旗”几个词语。其意义都与‘死后”有关，不过没有丝毫的畏惧，更没有对自己所从事的抗清事业的悔恨，而是充满了战斗的豪情、英雄的气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75600" y="515772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别云间》中哪两句用奇特的想象抒发了革命到底的豪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94640" y="57340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毅魄归来日，灵旗空际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07840" y="98100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《别云间》一诗的题目有何深刻含义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360" y="44280"/>
            <a:ext cx="20145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课堂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55736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从字面上看是别故乡，而诗人内心是把自己比作天上的一条龙，从此将要从云间消失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5480" y="242100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这首诗抒发了诗人怎样的情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997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亡国之痛，壮志难酬的悲愤，视死如归的英雄气概和炽热的爱国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6360" y="7650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你还知道哪能些大义凛然的正气之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-20520"/>
            <a:ext cx="194472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拓展训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1268280"/>
            <a:ext cx="84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《大江歌罢掉头东》 ——周总理 “大江歌罢掉头东，邃密群科济世穷。面壁十年图破壁，难酬蹈海亦英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0000" y="2060640"/>
            <a:ext cx="281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较阅读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</a:rPr>
              <a:t>别云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和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梅岭三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440" y="2637000"/>
            <a:ext cx="864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一九三六年冬，梅山被围。余伤病伏丛莽间二十余日，虑不得脱，得诗三首留衣底。旋围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断头今日意如何？创业艰难百战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此去泉台招旧部，旌旗十万斩阎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南国烽烟正十年，此头须向国门悬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后死诸君多努力，捷报飞来当纸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投身革命即为家，血雨腥风应有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取义成仁今日事，人间遍种自由花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30320" y="4046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题上都有表示地方的名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18280" y="105264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《梅岭三章》写于梅山；《别云间》是作者诀别故乡之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56280" y="16286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者与背景有相似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60" y="21337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《梅岭三章》是作者陈毅被国名党军队包围，“虑不得脱”，写下的三首绝命诗；《别云间》是明末抗清英雄夏完淳被捕之后，押解离乡之前所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68920" y="34290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词有相似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86064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《梅岭三章》中用“泉台”、“旌旗”分别表示“死亡”、“军队”；而《别云间》中用“泉路”、“灵旗”来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47400" y="4940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者都使用了典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537372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《梅岭三章》用了“头悬南门”、“取义成仁”两个典故；《别云间》使用了“南冠”和“毅魄”这两个典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850040" y="4762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现的人物精神同中有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60" y="981000"/>
            <a:ext cx="907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宋体"/>
                <a:ea typeface="宋体"/>
              </a:rPr>
              <a:t>《梅岭三章》表现了陈毅大无畏的牺牲精神，体现他“刚”的一面；而《别云间》不但表现了夏完淳视死如归的精神，还从字里行间流露出永别故乡的悲苦之情，真是亦刚亦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76240" y="227664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者在写作上有一个共同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8120" y="278136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Arial"/>
              </a:rPr>
              <a:t>那就是把现实与理想完美的结合在了一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1727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作 业 布 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5080" y="1558800"/>
            <a:ext cx="63356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宋体"/>
              </a:rPr>
              <a:t>背诵、默写</a:t>
            </a:r>
            <a:endParaRPr b="0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2720" y="1268280"/>
            <a:ext cx="7920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谢谢大家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13080" y="4724280"/>
            <a:ext cx="4097520" cy="17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  </a:t>
            </a: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何宏宇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 </a:t>
            </a:r>
            <a:r>
              <a:rPr b="0" lang="en-US" sz="1800" spc="-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2013.9.12.</a:t>
            </a:r>
            <a:endParaRPr b="0" lang="en-US" sz="1800" spc="-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作首联叙事。其中“羁旅”一词将诗人从父允彝、师陈子龙起兵抗清到身落敌手这三年辗转飘零、艰苦卓绝的抗清斗争生活作了高度简洁的概括。诗人起笔自叙抗清斗争经历，似乎平静出之，然细细咀嚼，自可读出诗人激越翻滚的情感波澜，自可读出平静的叙事之中深含着诗人满腔辛酸与无限沉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360" y="44280"/>
            <a:ext cx="1729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赏 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颔联抒写诗人按捺不住的满腔悲愤。身落敌手被囚禁的结局，使诗人恢复壮志难酬，复国理想终成泡影，于是诗人悲愤了：“无限河山泪，谁言天地宽？”大明江山支离破碎，满目疮痍，衰颓破败，面对这一切，诗人禁不住“立尽黄昏泪几行”，流不尽“无限河山泪”。诗人一直冀盼明王朝东山再起，可最终时运不济，命途多舛，恢复故土、重整河山的爱国宏愿一次次落空，他禁不住深深地失望与哀恸，忍不住向上苍发出“谁言天地宽”的质问与诘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1680" y="-22320"/>
            <a:ext cx="1722240" cy="114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赏 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28440" y="0"/>
            <a:ext cx="9102600" cy="681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1080" y="909720"/>
            <a:ext cx="21589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2205000"/>
            <a:ext cx="194472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</a:rPr>
              <a:t>教学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3573360"/>
            <a:ext cx="2016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难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5084640"/>
            <a:ext cx="2087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</a:rPr>
              <a:t>教学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颈联坦露对故乡、亲人的依恋不舍之情。无论怎样失望、悲愤与哀恸，诗人终究对自己的人生结局非常清醒：“已知泉路近”。生命行将终结，诗人该会想些什么呢？“欲别故乡难”，诗人缘何难别故乡呢？原来，涌上他心头的不仅有国恨，更兼有家仇。父起义兵败，为国捐躯了。而自己是家中唯一的男孩，此次身落敌手，自是凶多吉少，难免一死，这样，家运不幸，恐无后嗣。念及自己长年奔波在外，未能尽孝于母，致使嫡母“托迹于空门”，生母“寄生于别姓”，自己一家“生不得相依，死不得相问”，念及让新婚妻子在家孤守两年，自己未能尽为夫之责任与义务，妻子是否已有身孕尚不得而知。想起这一切的一切，诗人内心自然涌起对家人深深的愧疚与无限依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1680" y="0"/>
            <a:ext cx="172224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赏 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尾联盟恢复之志。尽管故乡牵魂难别，但诗人终将恢复大志放在儿女私情之上，不以家运后嗣为念，最终表明心迹：“毅魄归来日，灵旗空际看。”正如诗人在《狱中上母书》中所表示的“二十年后，淳且与先文忠为北塞之举矣”。“已知泉路近”的诗人坦然作出“毅魄归来日”的打算，抱定誓死不屈、坚决复明的决心，生前未能完成大业，死后也要亲自看到后继者率部起义，恢复大明江山。诗作以落地有声的铮铮誓言作结，鲜明地昭示出诗人坚贞不屈的战斗精神、尽忠报国的赤子情怀，给后继者以深情的勉励，给读者树立起一座国家与民族利益高于一切的不朽丰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31680" y="-22320"/>
            <a:ext cx="1722240" cy="1147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赏 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诗思路流畅清晰，感情跌宕豪壮。起笔叙艰苦卓绝的飘零生涯，承笔发故土沦丧、山河破碎之悲愤慨叹，转笔抒眷念故土、怀恋亲人之深情，结笔盟誓志恢复之决心。诗作格调慷慨豪壮，令人读来荡气回肠，禁不住对这位富有强烈民族意识的少年英雄充满深深的敬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7272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赏  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8360" y="6165720"/>
            <a:ext cx="755640" cy="682920"/>
          </a:xfrm>
          <a:custGeom>
            <a:avLst/>
            <a:gdLst>
              <a:gd name="textAreaLeft" fmla="*/ 42480 w 755640"/>
              <a:gd name="textAreaRight" fmla="*/ 713160 w 755640"/>
              <a:gd name="textAreaTop" fmla="*/ 42480 h 682920"/>
              <a:gd name="textAreaBottom" fmla="*/ 640440 h 682920"/>
            </a:gdLst>
            <a:ahLst/>
            <a:rect l="textAreaLeft" t="textAreaTop" r="textAreaRight" b="textAreaBottom"/>
            <a:pathLst>
              <a:path w="23899" h="21600">
                <a:moveTo>
                  <a:pt x="0" y="0"/>
                </a:moveTo>
                <a:lnTo>
                  <a:pt x="23899" y="0"/>
                </a:lnTo>
                <a:lnTo>
                  <a:pt x="23899" y="21600"/>
                </a:lnTo>
                <a:lnTo>
                  <a:pt x="0" y="21600"/>
                </a:lnTo>
                <a:close/>
              </a:path>
              <a:path fill="lightenLess" w="23899" h="21600">
                <a:moveTo>
                  <a:pt x="0" y="0"/>
                </a:moveTo>
                <a:lnTo>
                  <a:pt x="23899" y="0"/>
                </a:lnTo>
                <a:lnTo>
                  <a:pt x="22549" y="1350"/>
                </a:lnTo>
                <a:lnTo>
                  <a:pt x="1350" y="1350"/>
                </a:lnTo>
                <a:close/>
              </a:path>
              <a:path fill="darken" w="23899" h="21600">
                <a:moveTo>
                  <a:pt x="23899" y="0"/>
                </a:moveTo>
                <a:lnTo>
                  <a:pt x="23899" y="21600"/>
                </a:lnTo>
                <a:lnTo>
                  <a:pt x="22549" y="20250"/>
                </a:lnTo>
                <a:lnTo>
                  <a:pt x="22549" y="1350"/>
                </a:lnTo>
                <a:close/>
              </a:path>
              <a:path fill="darkenLess" w="23899" h="21600">
                <a:moveTo>
                  <a:pt x="238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549" y="20250"/>
                </a:lnTo>
                <a:close/>
              </a:path>
              <a:path fill="lighten" w="238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899" h="21600">
                <a:moveTo>
                  <a:pt x="4906" y="7475"/>
                </a:moveTo>
                <a:lnTo>
                  <a:pt x="8432" y="7475"/>
                </a:lnTo>
                <a:lnTo>
                  <a:pt x="8432" y="12839"/>
                </a:lnTo>
                <a:cubicBezTo>
                  <a:pt x="8432" y="13766"/>
                  <a:pt x="9237" y="14501"/>
                  <a:pt x="10278" y="14501"/>
                </a:cubicBezTo>
                <a:lnTo>
                  <a:pt x="11949" y="14501"/>
                </a:lnTo>
                <a:cubicBezTo>
                  <a:pt x="12991" y="14501"/>
                  <a:pt x="13796" y="13766"/>
                  <a:pt x="13796" y="12839"/>
                </a:cubicBezTo>
                <a:lnTo>
                  <a:pt x="13796" y="7475"/>
                </a:lnTo>
                <a:lnTo>
                  <a:pt x="11949" y="7475"/>
                </a:lnTo>
                <a:lnTo>
                  <a:pt x="15476" y="3949"/>
                </a:lnTo>
                <a:lnTo>
                  <a:pt x="19168" y="7475"/>
                </a:lnTo>
                <a:lnTo>
                  <a:pt x="17322" y="7475"/>
                </a:lnTo>
                <a:lnTo>
                  <a:pt x="17322" y="12839"/>
                </a:lnTo>
                <a:cubicBezTo>
                  <a:pt x="17322" y="15621"/>
                  <a:pt x="14732" y="18194"/>
                  <a:pt x="11949" y="18194"/>
                </a:cubicBezTo>
                <a:lnTo>
                  <a:pt x="10278" y="18194"/>
                </a:lnTo>
                <a:cubicBezTo>
                  <a:pt x="7496" y="18194"/>
                  <a:pt x="4906" y="15621"/>
                  <a:pt x="4906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4280"/>
            <a:ext cx="17636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60" y="148428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让学生能够有感情地朗诵全文并能理解诗歌的大意。可以通过反复朗诵和互动讨论的方法来加深学生对课文的理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能够赏析这首诗歌，品味诗歌语言的妙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能够正确赏析古诗，领会文中的内涵，理解诗歌中所表达的思想感情 。  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13080" y="44280"/>
            <a:ext cx="4932360" cy="597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174160" y="6021360"/>
            <a:ext cx="826920" cy="755640"/>
          </a:xfrm>
          <a:custGeom>
            <a:avLst/>
            <a:gdLst>
              <a:gd name="textAreaLeft" fmla="*/ 47160 w 826920"/>
              <a:gd name="textAreaRight" fmla="*/ 779760 w 826920"/>
              <a:gd name="textAreaTop" fmla="*/ 47160 h 755640"/>
              <a:gd name="textAreaBottom" fmla="*/ 7084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87" y="1350"/>
                </a:lnTo>
                <a:lnTo>
                  <a:pt x="1350" y="135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87" y="20250"/>
                </a:lnTo>
                <a:lnTo>
                  <a:pt x="22287" y="135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287" y="2025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3637" h="21600">
                <a:moveTo>
                  <a:pt x="4775" y="7475"/>
                </a:moveTo>
                <a:lnTo>
                  <a:pt x="8301" y="7475"/>
                </a:lnTo>
                <a:lnTo>
                  <a:pt x="8301" y="12839"/>
                </a:lnTo>
                <a:cubicBezTo>
                  <a:pt x="8301" y="13766"/>
                  <a:pt x="9106" y="14501"/>
                  <a:pt x="10147" y="14501"/>
                </a:cubicBezTo>
                <a:lnTo>
                  <a:pt x="11818" y="14501"/>
                </a:lnTo>
                <a:cubicBezTo>
                  <a:pt x="12860" y="14501"/>
                  <a:pt x="13665" y="13766"/>
                  <a:pt x="13665" y="12839"/>
                </a:cubicBezTo>
                <a:lnTo>
                  <a:pt x="13665" y="7475"/>
                </a:lnTo>
                <a:lnTo>
                  <a:pt x="11818" y="7475"/>
                </a:lnTo>
                <a:lnTo>
                  <a:pt x="15345" y="3949"/>
                </a:lnTo>
                <a:lnTo>
                  <a:pt x="19037" y="7475"/>
                </a:lnTo>
                <a:lnTo>
                  <a:pt x="17191" y="7475"/>
                </a:lnTo>
                <a:lnTo>
                  <a:pt x="17191" y="12839"/>
                </a:lnTo>
                <a:cubicBezTo>
                  <a:pt x="17191" y="15621"/>
                  <a:pt x="14601" y="18194"/>
                  <a:pt x="11818" y="18194"/>
                </a:cubicBezTo>
                <a:lnTo>
                  <a:pt x="10147" y="18194"/>
                </a:lnTo>
                <a:cubicBezTo>
                  <a:pt x="7365" y="18194"/>
                  <a:pt x="4775" y="15621"/>
                  <a:pt x="4775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" y="44280"/>
            <a:ext cx="1657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教学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360" y="3068640"/>
            <a:ext cx="15163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教学难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1268280"/>
            <a:ext cx="90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让学生能够有感情地朗诵全文并能理解诗歌的大意。可以通过反复朗诵和小组讨论的方法来加深学生对课文的理解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30240" y="4437000"/>
            <a:ext cx="88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够赏析这两首诗歌，品味诗歌语言的妙处。可以通过小组合作探究、讨论，教师启发引导点拨来突破这一难点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101080" y="6021360"/>
            <a:ext cx="971640" cy="755640"/>
          </a:xfrm>
          <a:custGeom>
            <a:avLst/>
            <a:gdLst>
              <a:gd name="textAreaLeft" fmla="*/ 47160 w 971640"/>
              <a:gd name="textAreaRight" fmla="*/ 924480 w 971640"/>
              <a:gd name="textAreaTop" fmla="*/ 47160 h 755640"/>
              <a:gd name="textAreaBottom" fmla="*/ 708480 h 755640"/>
            </a:gdLst>
            <a:ahLst/>
            <a:rect l="textAreaLeft" t="textAreaTop" r="textAreaRight" b="textAreaBottom"/>
            <a:pathLst>
              <a:path w="27771" h="21600">
                <a:moveTo>
                  <a:pt x="0" y="0"/>
                </a:moveTo>
                <a:lnTo>
                  <a:pt x="27771" y="0"/>
                </a:lnTo>
                <a:lnTo>
                  <a:pt x="27771" y="21600"/>
                </a:lnTo>
                <a:lnTo>
                  <a:pt x="0" y="21600"/>
                </a:lnTo>
                <a:close/>
              </a:path>
              <a:path fill="lightenLess" w="27771" h="21600">
                <a:moveTo>
                  <a:pt x="0" y="0"/>
                </a:moveTo>
                <a:lnTo>
                  <a:pt x="27771" y="0"/>
                </a:lnTo>
                <a:lnTo>
                  <a:pt x="26421" y="1350"/>
                </a:lnTo>
                <a:lnTo>
                  <a:pt x="1350" y="1350"/>
                </a:lnTo>
                <a:close/>
              </a:path>
              <a:path fill="darken" w="27771" h="21600">
                <a:moveTo>
                  <a:pt x="27771" y="0"/>
                </a:moveTo>
                <a:lnTo>
                  <a:pt x="27771" y="21600"/>
                </a:lnTo>
                <a:lnTo>
                  <a:pt x="26421" y="20250"/>
                </a:lnTo>
                <a:lnTo>
                  <a:pt x="26421" y="1350"/>
                </a:lnTo>
                <a:close/>
              </a:path>
              <a:path fill="darkenLess" w="27771" h="21600">
                <a:moveTo>
                  <a:pt x="2777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21" y="20250"/>
                </a:lnTo>
                <a:close/>
              </a:path>
              <a:path fill="lighten" w="2777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71" h="21600">
                <a:moveTo>
                  <a:pt x="6842" y="7475"/>
                </a:moveTo>
                <a:lnTo>
                  <a:pt x="10368" y="7475"/>
                </a:lnTo>
                <a:lnTo>
                  <a:pt x="10368" y="12839"/>
                </a:lnTo>
                <a:cubicBezTo>
                  <a:pt x="10368" y="13766"/>
                  <a:pt x="11173" y="14501"/>
                  <a:pt x="12214" y="14501"/>
                </a:cubicBezTo>
                <a:lnTo>
                  <a:pt x="13886" y="14501"/>
                </a:lnTo>
                <a:cubicBezTo>
                  <a:pt x="14927" y="14501"/>
                  <a:pt x="15732" y="13766"/>
                  <a:pt x="15732" y="12839"/>
                </a:cubicBezTo>
                <a:lnTo>
                  <a:pt x="15732" y="7475"/>
                </a:lnTo>
                <a:lnTo>
                  <a:pt x="13886" y="7475"/>
                </a:lnTo>
                <a:lnTo>
                  <a:pt x="17412" y="3949"/>
                </a:lnTo>
                <a:lnTo>
                  <a:pt x="21104" y="7475"/>
                </a:lnTo>
                <a:lnTo>
                  <a:pt x="19258" y="7475"/>
                </a:lnTo>
                <a:lnTo>
                  <a:pt x="19258" y="12839"/>
                </a:lnTo>
                <a:cubicBezTo>
                  <a:pt x="19258" y="15621"/>
                  <a:pt x="16668" y="18194"/>
                  <a:pt x="13886" y="18194"/>
                </a:cubicBezTo>
                <a:lnTo>
                  <a:pt x="12214" y="18194"/>
                </a:lnTo>
                <a:cubicBezTo>
                  <a:pt x="9432" y="18194"/>
                  <a:pt x="6842" y="15621"/>
                  <a:pt x="6842" y="12839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920" y="191772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完淳，原名复，字存古，别号灵胥，松江华亭（今上海市松江县西部）人。生于公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3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（明思宗崇祯四年），卒于公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4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（清世祖顺治四年）。明末少年抗清英雄，著名诗人。九岁善词赋古文，才思敏捷，有神童之称。其诗词或慷慨悲壮，或凄怆哀婉，“如猿唳，如鹃啼”（谢枚如语），充满了强烈的民族意识。著有《夏内史集》及《玉樊堂词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13080" y="44280"/>
            <a:ext cx="4932360" cy="6772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404640"/>
            <a:ext cx="2427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20520"/>
            <a:ext cx="2016000" cy="712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背景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30240" y="981000"/>
            <a:ext cx="902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公元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4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，夏完淳（时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）从父允彝、师陈子龙在松江起兵抗清。兵败，其父允彝自沉于松塘而死。夏完淳与师陈子龙继续坚持抵抗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4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夏完淳与陈子龙、钱旃饮血为盟，共谋复明大业，上书鲁王（朱以海），鲁王遥授中书舍人，参谋太湖吴易军事。此时南京已陷落，身在义军之中的夏完淳依然抱有消灭敌人、恢复明朝的坚毅决心。为了抗清，义军上下结成了同仇敌忾的情谊。不久义军兵败，吴易被执，夏完淳只身流亡，隐匿民间，继续进行抗清活动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64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（顺治四年）夏间，夏完淳因鲁王遥授中书舍人之职而上表谢恩，为清廷发觉，遭到逮捕。被解送南京后，夏完淳坚强不屈，顽强斗争，在接受变节降清的原明朝兵部尚书太子太保洪承畴的审讯时，采取反话正说、寓贬于褒的方式当面声色俱厉地痛斥这个朝廷的叛徒、民族的败类，令洪承畴面红耳赤、颜面尽失。在南京狱中，夏完淳给嫡母盛氏写了绝笔《狱中上母书》，一方面以琐琐家事，谆谆嘱托，流露出对家人的依恋不舍之情，一方面又将复明大志放在儿女私情之上，不以后嗣为念，表示要“报仇在来世”，体现出视死如归的气节。最终不屈而死，年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岁。    《别云间》是作者被清廷逮捕后，在解往南京前临别松江时所作。上海松江县，古称云间，即作者的家乡。作者在此诗中一方面抱着此去誓死不屈的决心，一方面又对行将永别的故乡，流露出无限的依恋和深切的感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8000" y="260280"/>
            <a:ext cx="8856720" cy="60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别云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夏完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年羁旅客，今日又南冠。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无限河山泪，谁言天地宽。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已知泉路近，欲别故乡难。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毅魄归来日，灵旗空际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0"/>
            <a:ext cx="3889440" cy="2952720"/>
          </a:xfrm>
          <a:prstGeom prst="wedgeEllipseCallout">
            <a:avLst>
              <a:gd name="adj1" fmla="val -129324"/>
              <a:gd name="adj2" fmla="val 29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749160"/>
            <a:ext cx="31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47628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作者自顺治二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64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起，参加抗清斗争，出入于太湖及其周围地区，至顺治四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64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，共三年。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4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起，参加抗清斗争，出入于太湖及其周围地区，至顺治四年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47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，共三年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99120" y="907920"/>
            <a:ext cx="85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【羁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ī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旅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【云间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【南冠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【灵旗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【泉路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【毅魄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30240" y="0"/>
            <a:ext cx="186552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字词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16880" y="9079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久漂泊外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2682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今上海松江西部，是作者家乡。顺治四年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他在这里被逮捕。在对故乡的依恋外，诗着重地写他抗清失败的悲愤与至死不变的决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234936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古代南方楚人戴的帽子，后用为囚犯的代称。语出《左传》。楚人钟仪被俘，晋侯见他带着楚国的帽子，问左右的人“南冠而絷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î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栓，梱）者，谁也？”官吏回答：“郑人所献楚囚也。”此处指被清兵逮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34920" y="386064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古代出征时所用的一种战旗。这里指后继者的队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6360" y="42210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泉路，死路。泉，黄泉，置人死后埋葬的地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72600" y="45813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坚毅的魂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4280"/>
            <a:ext cx="44640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能说说这首诗的大概意思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0" y="148428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年中都是长久漂泊在外地的游子，现在又变成了俘虏。大好山河却使我流下无限之泪，谁说过天地是宽阔无边的呢！　　已经深知为国牺牲的日子临近了， 但是想要和家乡告别却难而又难。 在我不屈的魂灵回来的日子里，好似已经看见招引亡魂的旗帜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51280" y="1198440"/>
            <a:ext cx="52578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3-11-27T10:50:1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