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8.gif" ContentType="image/gif"/>
  <Override PartName="/ppt/media/image7.png" ContentType="image/png"/>
  <Override PartName="/ppt/media/image4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3.gif" ContentType="image/gif"/>
  <Override PartName="/ppt/media/image1.gif" ContentType="image/gif"/>
  <Override PartName="/ppt/media/image2.gif" ContentType="image/gif"/>
  <Override PartName="/ppt/media/image6.png" ContentType="image/png"/>
  <Override PartName="/ppt/media/image14.gif" ContentType="image/gif"/>
  <Override PartName="/ppt/media/type.wav" ContentType="audio/x-wav"/>
  <Override PartName="/ppt/media/image9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0B6-D86D-4A17-B510-F0937100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C46-F561-464F-8199-FF772C69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AD7-ECC0-4EF8-9201-530F83DA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08DF-582A-414D-8513-9D20BC9A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BC4-851C-44C3-A0D0-7167DC3D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FB45-89A6-4744-95C2-B54232F7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5B6-C517-4964-8402-2B548E53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A39-202A-4A69-A251-96AC885B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FB88-7948-46A6-A590-D36A7546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A95-C0D2-4C39-B1F6-AD87109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A93-1C5D-44CF-9194-CED97F8A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B49-88EC-4539-B2DF-64F44942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A521-EC89-4539-B8CE-916206A160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592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600" y="579240"/>
            <a:ext cx="9118800" cy="63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此诗是诗人被清兵逮捕、诀别故乡时所作。全诗以质朴的语言，直抒胸臆，在对山河的一片深情中，抒写了亡国之痛和壮志难酬的悲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对国家民族的危亡，诗人以少年的热血、英勇的斗争，谱写了一曲悲壮动人的生命之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题一语双关，自比成龙，消失在云间。暗喻“我”是英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5876" descr="t01111c265b0c57e2ae"/>
          <p:cNvPicPr/>
          <p:nvPr/>
        </p:nvPicPr>
        <p:blipFill>
          <a:blip r:embed="rId1"/>
          <a:stretch/>
        </p:blipFill>
        <p:spPr>
          <a:xfrm>
            <a:off x="-65160" y="6388200"/>
            <a:ext cx="9374400" cy="7635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0423" descr="红叶"/>
          <p:cNvPicPr/>
          <p:nvPr/>
        </p:nvPicPr>
        <p:blipFill>
          <a:blip r:embed="rId2"/>
          <a:stretch/>
        </p:blipFill>
        <p:spPr>
          <a:xfrm>
            <a:off x="201600" y="-25560"/>
            <a:ext cx="733320" cy="8924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606240"/>
            <a:ext cx="914400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天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过零丁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“人生自古谁无死，留取丹心照汗青。”与本诗结尾所表现的爱国精神哪一个更值得敬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人生自古谁无死，留取丹心照汗青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表现的爱国精神更值得敬佩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表现了作者在国破家亡时坚贞不屈的高尚品质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视死如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国捐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英勇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53265" descr="4"/>
          <p:cNvPicPr/>
          <p:nvPr/>
        </p:nvPicPr>
        <p:blipFill>
          <a:blip r:embed="rId1"/>
          <a:stretch/>
        </p:blipFill>
        <p:spPr>
          <a:xfrm>
            <a:off x="0" y="644220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陈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梅岭三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“此去泉台招旧部，旌旗十万斩阎罗。”与本诗结尾有何异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相同点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鲜明地昭示出诗人坚贞不屈的战斗精神、尽忠报国的赤子情怀；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同点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陈毅的诗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壮怀激烈，笔墨酣畅，惊天地，泣鬼神，淋漓尽致地表现了诗人坚定的革命斗志，豪迈的英雄气概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夏完淳的诗句感情由悲而壮，格调由低沉而高亢，显示了诗人的冲天豪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  <p:sndAc>
      <p:stSnd>
        <p:snd r:embed="rId1" name="type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歌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12960" y="698400"/>
            <a:ext cx="9171000" cy="621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首联叙事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中“羁旅”一词将诗人从父允彝、师陈子龙起兵抗清到身落敌手这三年辗转飘零、艰苦卓绝的抗清斗争生活作了高度简洁的概括。诗人起笔自叙抗清斗争经历，似乎平静处之，然细细咀嚼，自可读出诗人激越翻滚的情感波澜，自可读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平静的叙事之中深含着诗人满腔辛酸与无限沉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64535" descr="t0150e695860301ff3f"/>
          <p:cNvPicPr/>
          <p:nvPr/>
        </p:nvPicPr>
        <p:blipFill>
          <a:blip r:embed="rId1"/>
          <a:stretch/>
        </p:blipFill>
        <p:spPr>
          <a:xfrm>
            <a:off x="-12600" y="5889600"/>
            <a:ext cx="9528120" cy="12034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-360" y="-35280"/>
            <a:ext cx="9131400" cy="69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颔联抒写诗人按捺不住的满腔悲愤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身落敌手被囚禁的结局，使诗人恢复壮志难酬，复国理想终成泡影，于是诗人悲愤了：“无限山河泪，谁言天地宽？”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颈联坦露对故乡、亲人的依恋不舍之情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命行将终结，诗人内心自然会涌起对家人深深的愧疚与无限依恋，与故乡难割难舍的情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66584" descr="t018f6a28ae7dca53b8"/>
          <p:cNvPicPr/>
          <p:nvPr/>
        </p:nvPicPr>
        <p:blipFill>
          <a:blip r:embed="rId1"/>
          <a:stretch/>
        </p:blipFill>
        <p:spPr>
          <a:xfrm>
            <a:off x="0" y="5189400"/>
            <a:ext cx="9131400" cy="17226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-65160" y="17640"/>
            <a:ext cx="9183600" cy="68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尾联盟恢复之志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尽管故乡牵魂难别，但诗人终将恢复大志放在儿女私情之上，不以家运后嗣为念，最终表明心迹：“毅魄归来日，灵旗空际看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作以落地有声的铮铮誓言作结，鲜明地昭示出诗人坚贞不屈的战斗精神、精忠报国的赤子情怀，给后继者以深情的勉励，给读者树立起一座国家与民族利益高于一切的不朽丰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66580" descr="t012be299800b0d6715"/>
          <p:cNvPicPr/>
          <p:nvPr/>
        </p:nvPicPr>
        <p:blipFill>
          <a:blip r:embed="rId1"/>
          <a:stretch/>
        </p:blipFill>
        <p:spPr>
          <a:xfrm>
            <a:off x="-65160" y="5734080"/>
            <a:ext cx="9183600" cy="11127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诗歌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668160"/>
            <a:ext cx="9144000" cy="61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此诗是诗人被清兵逮捕诀别故乡时所作。全诗以质朴的语言，直抒胸臆，在对山河的一片深情中，抒写了亡国之痛和壮志难酬的悲愤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现了诗人强烈的爱国热情和英雄末路的哀痛，音调悲凉，文情并茂，具有震撼人心的艺术力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66588" descr="t01b29c290af34b9bd0"/>
          <p:cNvPicPr/>
          <p:nvPr/>
        </p:nvPicPr>
        <p:blipFill>
          <a:blip r:embed="rId1"/>
          <a:stretch/>
        </p:blipFill>
        <p:spPr>
          <a:xfrm>
            <a:off x="0" y="5079960"/>
            <a:ext cx="9144000" cy="17780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736560"/>
            <a:ext cx="91440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全诗写出了作者对亡国的悲愤，以及壮志难酬的无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表达了作者对家乡亲人的依恋，对抗清斗争的坚定信念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2067" descr="t01e2d64670e17d4397"/>
          <p:cNvPicPr/>
          <p:nvPr/>
        </p:nvPicPr>
        <p:blipFill>
          <a:blip r:embed="rId1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别云间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夏完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文本占位符 3074" descr=""/>
          <p:cNvPicPr/>
          <p:nvPr/>
        </p:nvPicPr>
        <p:blipFill>
          <a:blip r:embed="rId1"/>
          <a:stretch/>
        </p:blipFill>
        <p:spPr>
          <a:xfrm>
            <a:off x="25560" y="1052640"/>
            <a:ext cx="9353520" cy="5838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夏完淳的有关情况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结合背景领会诗意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文言词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作者忠贞不屈、热爱祖国的高尚品质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8712" descr="t0123438dbb7cddd585"/>
          <p:cNvPicPr/>
          <p:nvPr/>
        </p:nvPicPr>
        <p:blipFill>
          <a:blip r:embed="rId1"/>
          <a:stretch/>
        </p:blipFill>
        <p:spPr>
          <a:xfrm>
            <a:off x="0" y="5151600"/>
            <a:ext cx="9144000" cy="170640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9200" y="69840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首诗作于作者在故乡云间被清兵逮捕后，解往南京前临别松江时，是一首悲壮慷慨的绝命诗。从体裁看，是一首五言律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在此诗中一方面抱着此去誓死不屈的决心，一方面又对行将永别的故乡，流露出无限的依恋和深切的感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28720" descr="t01422a1dddf4c7945d"/>
          <p:cNvPicPr/>
          <p:nvPr/>
        </p:nvPicPr>
        <p:blipFill>
          <a:blip r:embed="rId1"/>
          <a:stretch/>
        </p:blipFill>
        <p:spPr>
          <a:xfrm>
            <a:off x="-7920" y="5702400"/>
            <a:ext cx="9231120" cy="11462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52920" y="0"/>
            <a:ext cx="24274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走近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97360" y="0"/>
            <a:ext cx="6146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夏完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1631_1647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原名复，字存古，号小隐，南明诗人，著名的抗清将领。他被捕就义时，年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岁。著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夏内史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玉樊堂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" descr=""/>
          <p:cNvPicPr/>
          <p:nvPr/>
        </p:nvPicPr>
        <p:blipFill>
          <a:blip r:embed="rId1"/>
          <a:stretch/>
        </p:blipFill>
        <p:spPr>
          <a:xfrm>
            <a:off x="-52560" y="790560"/>
            <a:ext cx="3224520" cy="60674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别云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夏完淳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年羁旅客，今日又南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无限山河泪，谁言天地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已知泉路近，欲别故乡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毅魄归来日，灵旗空际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《别云间》（夏完淳）.mp3" descr=""/>
          <p:cNvPicPr/>
          <p:nvPr/>
        </p:nvPicPr>
        <p:blipFill>
          <a:blip r:embed="rId1"/>
          <a:stretch/>
        </p:blipFill>
        <p:spPr>
          <a:xfrm>
            <a:off x="0" y="195120"/>
            <a:ext cx="863640" cy="12225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4844" descr="t01750bcf59d877307f"/>
          <p:cNvPicPr/>
          <p:nvPr/>
        </p:nvPicPr>
        <p:blipFill>
          <a:blip r:embed="rId2"/>
          <a:stretch/>
        </p:blipFill>
        <p:spPr>
          <a:xfrm>
            <a:off x="0" y="3956040"/>
            <a:ext cx="9144000" cy="29019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3" name="type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43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字词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00" y="698400"/>
            <a:ext cx="9354960" cy="62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云间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作者家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羁旅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寄居他乡，生活飘泊不定。羁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），停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南冠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uā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）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被囚禁的人。语出《左传》。后世以“南冠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代被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泉路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黄泉路，死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毅魄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坚强不屈的魂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灵旗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又叫魂幡，古代招引亡魂的旗子。这里指后继者的队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34852" descr="t0186d50d78f21509b3"/>
          <p:cNvPicPr/>
          <p:nvPr/>
        </p:nvPicPr>
        <p:blipFill>
          <a:blip r:embed="rId1"/>
          <a:stretch/>
        </p:blipFill>
        <p:spPr>
          <a:xfrm>
            <a:off x="5703840" y="-12600"/>
            <a:ext cx="3441600" cy="14032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年为抗清兵东走西飘荡，今天兵败被俘作囚入牢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限美好河山失陷伤痛泪，谁还敢说天庭宽阔地又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已经知道黄泉之路相逼近，想到永别故乡实在心犯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鬼雄魂魄等到归来那一日，灵旗下面要将故乡河山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35888" descr="t015d221d98550161cc"/>
          <p:cNvPicPr/>
          <p:nvPr/>
        </p:nvPicPr>
        <p:blipFill>
          <a:blip r:embed="rId1"/>
          <a:stretch/>
        </p:blipFill>
        <p:spPr>
          <a:xfrm>
            <a:off x="0" y="6126120"/>
            <a:ext cx="9144000" cy="7207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首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叙经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艰苦不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颔联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运不济，英雄之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颈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杀身成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难舍故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心理矛盾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尾联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坚贞不屈，尽忠报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37920" descr="t0125c10465e6a883e0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2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8:50:40Z</dcterms:created>
  <dc:creator>user</dc:creator>
  <dc:description/>
  <dc:language>en-US</dc:language>
  <cp:lastModifiedBy>Administrator</cp:lastModifiedBy>
  <dcterms:modified xsi:type="dcterms:W3CDTF">2018-12-01T07:01:08Z</dcterms:modified>
  <cp:revision>1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