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1AA9-9FCC-416D-BB32-04BDB75E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5AD-DF6F-4D29-8C0F-18CF2C7A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1AB6-5E0C-498F-9C42-931DD160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8E1-A8C0-43F5-AE56-89CD184E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C188-AD61-45AC-8EE3-B66B66B9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9D19-4A41-42C3-9DE6-62E00016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8E8B-6E61-43CB-B6ED-87DBD85E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0688-5A3F-4847-BF2A-F5514F2B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2AB3-8F0F-47E3-B7D9-14CABC3D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C0F5-244E-4D0F-9388-FBDBC278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A356-7BF7-4F86-849F-A20A7DDD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167-9651-4937-9AD2-4FE379C7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7111-CA18-4555-B09D-C79A79E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D646-3094-4B2D-BF46-A308DFE9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63CD-F909-4A92-9989-64A466D8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AC16-0C1F-4574-AF96-CE008B5D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4A5F-C53A-437D-8A24-8092AB2B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E333-544A-4691-B811-C61D1086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4E9-696B-479A-B030-F793698B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A9D-132C-4E37-ADC9-C9478BB4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DD1-2C9F-4F20-9F98-ED3F28DB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ADB-C81B-4A7C-AFE5-16CBFFA4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1EF-9064-4EA6-91AC-20AFDCA4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6DD-F48B-496C-8F74-25297081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C626-AED3-4DED-B76D-65F47419102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E3E5-7C0C-44B5-95B5-A5D6C41C71A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71800" y="3886200"/>
            <a:ext cx="373392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方正琥珀简体"/>
              </a:rPr>
              <a:t>南明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方正琥珀简体"/>
              </a:rPr>
              <a:t>·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方正琥珀简体"/>
              </a:rPr>
              <a:t>夏完淳</a:t>
            </a:r>
            <a:endParaRPr b="0" lang="en-US" sz="4000" spc="-1" strike="noStrike">
              <a:solidFill>
                <a:srgbClr val="007a77"/>
              </a:solidFill>
              <a:latin typeface="Arial Narrow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47640" y="1125360"/>
            <a:ext cx="5410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别云间</a:t>
            </a:r>
            <a:endParaRPr b="0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50920" y="2492280"/>
            <a:ext cx="83246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让我们永远记住爱国诗人夏完淳！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57909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作者和解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916280"/>
            <a:ext cx="8534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夏完淳：原名复，字存古，号小隐，南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少年抗清英雄，著名诗人。九岁善词赋古文，才思敏捷，有神童之称。其诗词或慷慨悲壮，或凄怆哀婉，“如猿唳，如鹃啼”（谢枚如语），充满了强烈的民族意识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被捕就义时，年仅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。著有《夏内史集》及《玉樊堂词》等。</a:t>
            </a:r>
            <a:endParaRPr b="0" lang="en-US" sz="3200" spc="-1" strike="noStrike">
              <a:solidFill>
                <a:srgbClr val="007a77"/>
              </a:solidFill>
              <a:latin typeface="Arial Narrow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别云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是作者被清廷逮捕后，在解往南京前临别松江时所作。上海松江县，古称云间，即作者的家乡。作者在此诗中一方面抱着此去誓死不屈的决心，一方面又对行将永别的故乡，流露出无限的依恋和深切的感叹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ff"/>
                </a:solidFill>
                <a:latin typeface="Arial"/>
                <a:ea typeface="方正康体简体"/>
              </a:rPr>
              <a:t>诗歌理解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628640"/>
            <a:ext cx="8458200" cy="17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首联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三年羁旅客，今日又南冠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过了三年漂泊在外的生活，今天又成了清兵的囚徒。</a:t>
            </a:r>
            <a:endParaRPr b="0" lang="en-US" sz="2800" spc="-1" strike="noStrike">
              <a:solidFill>
                <a:srgbClr val="007a77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诗作首联叙事。作者运用典故，抒发了诗人苦战被捕后的沉痛、愤懑之情。其中“羁旅”一词将诗人从父允彝、师陈子龙起兵抗清到身落敌手这三年辗转飘零、艰苦卓绝的抗清斗争生活作了高度简洁的概括。诗人起笔自叙抗清斗争经历，似乎平静出之，然细细咀嚼，自可读出诗人激越翻滚的情感波澜，自可读出平静的叙事之中深含着诗人满腔辛酸与无限沉痛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 Narrow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8620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 Narrow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颔联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无限河山泪，谁言天地宽？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为山河破碎而流下的眼泪无尽地流着，却没有地方容纳，谁还能说天地广袤无边呢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  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颔联抒写诗人按捺不住的满腔悲愤。身落敌手被囚禁的结局，使诗人恢复壮志难酬，复国理想终成泡影，作者在此抒发了英雄失路之悲。运不济，命途多舛，恢复故土、重整河山的爱国宏愿一次次落空，他禁不住深深地失望与哀恸，忍不住向上苍发出“谁言天地宽”的质问与诘责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268280"/>
            <a:ext cx="8362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颈联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已知泉路近，欲别故乡难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已经知道去黄泉的路很近了，要永远告别故乡真是难舍难分。</a:t>
            </a:r>
            <a:endParaRPr b="0" lang="en-US" sz="2800" spc="-1" strike="noStrike">
              <a:solidFill>
                <a:srgbClr val="007a77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联坦露对故乡、亲人的依恋不舍之情。作者在此已抱定了杀身成仁的决心，但又难以告别家乡和亲人，表现出了作者情感和心理的矛盾，抒发了依恋故乡之情。</a:t>
            </a:r>
            <a:endParaRPr b="0" lang="en-US" sz="2800" spc="-1" strike="noStrike">
              <a:solidFill>
                <a:srgbClr val="007a77"/>
              </a:solidFill>
              <a:latin typeface="Arial Narrow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809880"/>
            <a:ext cx="8381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 Narrow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162864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尾联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毅魄归来日，灵旗空际看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自己死后成了鬼魂，也要回来从空中看看后继者们打着抗清的旗帜收复河山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尾联盟恢复之志。尽管故乡牵魂难别，但诗人终将恢复大志放在儿女私情之上，不以家运后嗣为念，生前未能完成大业，死后也要亲自看到后继者率部起义，恢复大明江山。诗作以落地有声的铮铮誓言作结，鲜明地昭示出诗人坚贞不屈的战斗精神、尽忠报国的赤子情怀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Arial"/>
                <a:ea typeface="黑体"/>
              </a:rPr>
              <a:t>诗歌总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421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是一首用血和生命写出来的诗篇，它真实地记录了诗人永别故乡时复杂的心情，表现了诗人强烈的爱国热情和英雄末路的哀痛，音调悲凉，文情并茂，具有震撼人心的艺术力量。</a:t>
            </a:r>
            <a:endParaRPr b="0" lang="en-US" sz="3200" spc="-1" strike="noStrike">
              <a:solidFill>
                <a:srgbClr val="007a77"/>
              </a:solidFill>
              <a:latin typeface="Arial Narrow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全诗思路流畅清晰，感情跌宕豪壮。起笔叙艰苦卓绝的飘零生涯，承笔发故土沦丧、山河破碎之悲愤慨叹，转笔抒眷念故土、怀恋亲人之深情，结笔盟誓志恢复之决心。诗作格调慷慨豪壮，令人读来荡气回肠，禁不住对这位富有强烈民族意识的少年英雄充满深深的敬意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3:26:59Z</dcterms:created>
  <dc:creator>肖德春</dc:creator>
  <dc:description/>
  <dc:language>en-US</dc:language>
  <cp:lastModifiedBy>雨林木风</cp:lastModifiedBy>
  <dcterms:modified xsi:type="dcterms:W3CDTF">2009-11-26T02:34:42Z</dcterms:modified>
  <cp:revision>15</cp:revision>
  <dc:subject/>
  <dc:title>别  云  间</dc:title>
</cp:coreProperties>
</file>