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77F-0C1E-4030-B959-F338AA93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BF2-37B5-4F3F-9920-A8C74194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322-2815-4B89-977C-99E762C3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6FC-8B77-4C20-924F-6905EA93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17F8-F1FC-419D-BE2F-E6AB5793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ACA9-A4AC-44BC-9E4E-D26FB9C6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2A7B-6B6D-4E24-8C36-DD41ABCC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FCA2-39A6-471F-AE61-7CC74FA1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C4B5-39FE-4D54-9B4E-3231233A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91F4-8CE3-4EF7-B550-D25703D3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70AC-2DB6-419A-B952-13F11A1D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C60-ECA8-4D67-957C-BFE8ADD2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D187-00C2-4A6B-959A-6C052D6C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84EF-2AE4-46A5-8FE7-66F270A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08A2-6738-4045-B875-E2B971E3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5D52-0921-4349-AE06-289CFDEC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7151-CA1F-4AF5-9BBD-4260498B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22E-8321-4FD1-90F8-46263E03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B20-4DCF-4494-A409-827FB178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48C-1836-45C1-B338-042BFCC7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6B0-1389-4D17-8922-68914A6E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FBE-F8E5-4AAC-8132-7805301B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91E-C3EC-4747-87A2-C117CDC6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016-ACFC-40A9-8BC4-254320C3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FF0-F1D4-4EF8-8D79-34D5BED7BB8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E99F-8740-4F42-827C-734844404D3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333360"/>
            <a:ext cx="856908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恂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，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缶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蛇尚存，则弛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卧。谨食之，时而献焉。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其土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尽吾齿。盖一岁之犯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焉；其余，则熙熙而乐。岂若吾乡邻之旦旦有是哉！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乎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比吾乡邻之死则已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矣，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耶？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2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60280"/>
            <a:ext cx="1224000" cy="720720"/>
          </a:xfrm>
          <a:prstGeom prst="wedgeEllipseCallout">
            <a:avLst>
              <a:gd name="adj1" fmla="val 42087"/>
              <a:gd name="adj2" fmla="val 5396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260280"/>
            <a:ext cx="936360" cy="720720"/>
          </a:xfrm>
          <a:prstGeom prst="wedgeEllipseCallout">
            <a:avLst>
              <a:gd name="adj1" fmla="val 62203"/>
              <a:gd name="adj2" fmla="val 7004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33360"/>
            <a:ext cx="2160360" cy="574560"/>
          </a:xfrm>
          <a:prstGeom prst="wedgeEllipseCallout">
            <a:avLst>
              <a:gd name="adj1" fmla="val -46254"/>
              <a:gd name="adj2" fmla="val 6988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顺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260280"/>
            <a:ext cx="190800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修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1484280"/>
            <a:ext cx="2016000" cy="504720"/>
          </a:xfrm>
          <a:prstGeom prst="wedgeEllipseCallout">
            <a:avLst>
              <a:gd name="adj1" fmla="val 54092"/>
              <a:gd name="adj2" fmla="val 10849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顺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1413000"/>
            <a:ext cx="2521080" cy="647640"/>
          </a:xfrm>
          <a:prstGeom prst="wedgeEllipseCallout">
            <a:avLst>
              <a:gd name="adj1" fmla="val -29282"/>
              <a:gd name="adj2" fmla="val 7009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有滋味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1413000"/>
            <a:ext cx="2735280" cy="647640"/>
          </a:xfrm>
          <a:prstGeom prst="wedgeEllipseCallout">
            <a:avLst>
              <a:gd name="adj1" fmla="val -45240"/>
              <a:gd name="adj2" fmla="val 7009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田里的产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2492280"/>
            <a:ext cx="1152720" cy="576360"/>
          </a:xfrm>
          <a:prstGeom prst="wedgeEllipseCallout">
            <a:avLst>
              <a:gd name="adj1" fmla="val 70935"/>
              <a:gd name="adj2" fmla="val -5495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2637000"/>
            <a:ext cx="2448000" cy="504720"/>
          </a:xfrm>
          <a:prstGeom prst="wedgeEllipseCallout">
            <a:avLst>
              <a:gd name="adj1" fmla="val -44875"/>
              <a:gd name="adj2" fmla="val 7012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‥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危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3645000"/>
            <a:ext cx="1584360" cy="647640"/>
          </a:xfrm>
          <a:prstGeom prst="wedgeEllipseCallout">
            <a:avLst>
              <a:gd name="adj1" fmla="val 56212"/>
              <a:gd name="adj2" fmla="val 8210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即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67280" y="3716280"/>
            <a:ext cx="1512720" cy="576360"/>
          </a:xfrm>
          <a:prstGeom prst="wedgeEllipseCallout">
            <a:avLst>
              <a:gd name="adj1" fmla="val -45277"/>
              <a:gd name="adj2" fmla="val 7011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于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7640" y="4581360"/>
            <a:ext cx="1728720" cy="576360"/>
          </a:xfrm>
          <a:prstGeom prst="wedgeEllipseCallout">
            <a:avLst>
              <a:gd name="adj1" fmla="val -54592"/>
              <a:gd name="adj2" fmla="val -3457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件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24360" y="3573360"/>
            <a:ext cx="2448000" cy="719280"/>
          </a:xfrm>
          <a:prstGeom prst="wedgeEllipseCallout">
            <a:avLst>
              <a:gd name="adj1" fmla="val 50518"/>
              <a:gd name="adj2" fmla="val 7825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名作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4724280"/>
            <a:ext cx="1368360" cy="649440"/>
          </a:xfrm>
          <a:prstGeom prst="wedgeEllipseCallout">
            <a:avLst>
              <a:gd name="adj1" fmla="val 57194"/>
              <a:gd name="adj2" fmla="val 7909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怎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4724280"/>
            <a:ext cx="1872000" cy="649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怨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1720" y="476280"/>
            <a:ext cx="8001000" cy="38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而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悲。孔子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苛政猛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虎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2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尝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乎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蒋氏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犹信。呜呼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2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赋敛之毒有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蛇者乎？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为之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俟夫观人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333360"/>
            <a:ext cx="1295280" cy="647640"/>
          </a:xfrm>
          <a:prstGeom prst="wedgeEllipseCallout">
            <a:avLst>
              <a:gd name="adj1" fmla="val -10416"/>
              <a:gd name="adj2" fmla="val 8112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260280"/>
            <a:ext cx="1944720" cy="720720"/>
          </a:xfrm>
          <a:prstGeom prst="wedgeEllipseCallout">
            <a:avLst>
              <a:gd name="adj1" fmla="val -35879"/>
              <a:gd name="adj2" fmla="val 9008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顺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260280"/>
            <a:ext cx="1511280" cy="720720"/>
          </a:xfrm>
          <a:prstGeom prst="wedgeEllipseCallout">
            <a:avLst>
              <a:gd name="adj1" fmla="val -113236"/>
              <a:gd name="adj2" fmla="val 7202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更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32360" y="476280"/>
            <a:ext cx="1008000" cy="577800"/>
          </a:xfrm>
          <a:prstGeom prst="wedgeEllipseCallout">
            <a:avLst>
              <a:gd name="adj1" fmla="val 113305"/>
              <a:gd name="adj2" fmla="val 7335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0"/>
            <a:ext cx="3311640" cy="865080"/>
          </a:xfrm>
          <a:prstGeom prst="wedgeEllipseCallout">
            <a:avLst>
              <a:gd name="adj1" fmla="val -30009"/>
              <a:gd name="adj2" fmla="val 8908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介宾短语后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700280"/>
            <a:ext cx="576360" cy="720720"/>
          </a:xfrm>
          <a:prstGeom prst="wedgeEllipseCallout">
            <a:avLst>
              <a:gd name="adj1" fmla="val 68458"/>
              <a:gd name="adj2" fmla="val 5903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1557360"/>
            <a:ext cx="1872000" cy="647640"/>
          </a:xfrm>
          <a:prstGeom prst="wedgeEllipseCallout">
            <a:avLst>
              <a:gd name="adj1" fmla="val -43046"/>
              <a:gd name="adj2" fmla="val 10343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句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1700280"/>
            <a:ext cx="1944720" cy="72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根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92720" y="1628640"/>
            <a:ext cx="2087640" cy="863640"/>
          </a:xfrm>
          <a:prstGeom prst="wedgeEllipseCallout">
            <a:avLst>
              <a:gd name="adj1" fmla="val -47643"/>
              <a:gd name="adj2" fmla="val 4871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句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3141720"/>
            <a:ext cx="934920" cy="574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3068640"/>
            <a:ext cx="1008000" cy="576360"/>
          </a:xfrm>
          <a:prstGeom prst="wedgeEllipseCallout">
            <a:avLst>
              <a:gd name="adj1" fmla="val 41495"/>
              <a:gd name="adj2" fmla="val 7754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3068640"/>
            <a:ext cx="136836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3068640"/>
            <a:ext cx="792000" cy="576360"/>
          </a:xfrm>
          <a:prstGeom prst="wedgeEllipseCallout">
            <a:avLst>
              <a:gd name="adj1" fmla="val 59217"/>
              <a:gd name="adj2" fmla="val 7011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80360" y="3068640"/>
            <a:ext cx="1763640" cy="576360"/>
          </a:xfrm>
          <a:prstGeom prst="wedgeEllipseCallout">
            <a:avLst>
              <a:gd name="adj1" fmla="val -37939"/>
              <a:gd name="adj2" fmla="val 7011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件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149720"/>
            <a:ext cx="2808360" cy="647640"/>
          </a:xfrm>
          <a:prstGeom prst="wedgeEllipseCallout">
            <a:avLst>
              <a:gd name="adj1" fmla="val -41180"/>
              <a:gd name="adj2" fmla="val 7009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写了这篇文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5445000"/>
            <a:ext cx="1440000" cy="505080"/>
          </a:xfrm>
          <a:prstGeom prst="wedgeEllipseCallout">
            <a:avLst>
              <a:gd name="adj1" fmla="val -58379"/>
              <a:gd name="adj2" fmla="val -805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95640" y="4221000"/>
            <a:ext cx="1871640" cy="5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…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4292640"/>
            <a:ext cx="2305080" cy="865080"/>
          </a:xfrm>
          <a:prstGeom prst="wedgeEllipseCallout">
            <a:avLst>
              <a:gd name="adj1" fmla="val -145523"/>
              <a:gd name="adj2" fmla="val -733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省略介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7010280" y="5486400"/>
            <a:ext cx="1149480" cy="1003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619280" y="112536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148428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方正舒体"/>
              </a:rPr>
              <a:t> 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方正舒体"/>
              </a:rPr>
              <a:t>本文多处运用了对比手法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方正舒体"/>
              </a:rPr>
              <a:t>,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方正舒体"/>
              </a:rPr>
              <a:t>你能对照课文谈谈吗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方正舒体"/>
              </a:rPr>
              <a:t>?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659640" y="4005360"/>
            <a:ext cx="1944720" cy="792000"/>
          </a:xfrm>
          <a:prstGeom prst="cloudCallout">
            <a:avLst>
              <a:gd name="adj1" fmla="val 15712"/>
              <a:gd name="adj2" fmla="val -16362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题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2602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5900"/>
                </a:solidFill>
                <a:latin typeface="Arial"/>
                <a:ea typeface="方正舒体"/>
              </a:rPr>
              <a:t>“</a:t>
            </a:r>
            <a:r>
              <a:rPr b="1" lang="zh-CN" sz="6000" spc="-1" strike="noStrike">
                <a:solidFill>
                  <a:srgbClr val="dc5900"/>
                </a:solidFill>
                <a:latin typeface="Arial"/>
                <a:ea typeface="方正舒体"/>
              </a:rPr>
              <a:t>毒”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14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2205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赋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84360" y="134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20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59280" y="1052640"/>
            <a:ext cx="288720" cy="2808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1052640"/>
            <a:ext cx="287280" cy="718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2276640"/>
            <a:ext cx="289080" cy="865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573360"/>
            <a:ext cx="288720" cy="792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836640"/>
            <a:ext cx="27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死则徙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吾以捕蛇独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80000" y="2276640"/>
            <a:ext cx="295272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鸡狗不得宁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吾则弛然而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则熙熙而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500280"/>
            <a:ext cx="252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乡邻旦旦有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岁犯死者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83280" y="2060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赋敛之毒甚于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15573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234936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56360" y="2205000"/>
            <a:ext cx="50472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113508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写作上有两个突出特点：①</a:t>
            </a:r>
            <a:r>
              <a:rPr b="1" lang="zh-CN" sz="3200" spc="-1" strike="noStrike">
                <a:solidFill>
                  <a:srgbClr val="dc5900"/>
                </a:solidFill>
                <a:latin typeface="Times New Roman"/>
              </a:rPr>
              <a:t>衬托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毒蛇之害以衬托重赋苛政之害。②</a:t>
            </a:r>
            <a:r>
              <a:rPr b="1" lang="zh-CN" sz="3200" spc="-1" strike="noStrike">
                <a:solidFill>
                  <a:srgbClr val="dc5900"/>
                </a:solidFill>
                <a:latin typeface="Times New Roman"/>
              </a:rPr>
              <a:t>对比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其乡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来由于苛赋之迫而“非死则徙”的遭遇与蒋氏“以捕蛇独存”的状况作对比，触目惊心地表明“赋敛之毒有甚是蛇者”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9640" y="907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Times New Roman"/>
                <a:ea typeface="华文行楷"/>
              </a:rPr>
              <a:t>        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课文通过对蒋氏三代宁可冒死捕蛇而不愿受苛政暴敛之害的描写，深刻揭露了封建社会横征暴敛的残酷，反映了作者对劳动者疾苦的同情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849680" y="73332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下列句子中的“之”字你知道他们的含义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3200" y="3124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2057400"/>
            <a:ext cx="381240" cy="3124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30720" y="1676520"/>
            <a:ext cx="261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永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野产异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若毒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君将哀而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悍吏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来吾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谨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比吾乡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死则已后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故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74120" y="17175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助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15440" y="22510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它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代捕蛇之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12720" y="27846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代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指代“我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45960" y="320040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助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用在主谓之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变句子为短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97600" y="37749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代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7120" y="4156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助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32240" y="4689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代这件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533520" y="5791320"/>
            <a:ext cx="685800" cy="8143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320"/>
              <a:gd name="textAreaBottom" fmla="*/ 770040 h 814320"/>
            </a:gdLst>
            <a:ahLst/>
            <a:rect l="textAreaLeft" t="textAreaTop" r="textAreaRight" b="textAreaBottom"/>
            <a:pathLst>
              <a:path w="21600" h="25646">
                <a:moveTo>
                  <a:pt x="0" y="0"/>
                </a:moveTo>
                <a:lnTo>
                  <a:pt x="21600" y="0"/>
                </a:lnTo>
                <a:lnTo>
                  <a:pt x="21600" y="25646"/>
                </a:lnTo>
                <a:lnTo>
                  <a:pt x="0" y="25646"/>
                </a:lnTo>
                <a:close/>
              </a:path>
              <a:path fill="lightenLess" w="21600" h="25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46">
                <a:moveTo>
                  <a:pt x="21600" y="0"/>
                </a:moveTo>
                <a:lnTo>
                  <a:pt x="21600" y="25646"/>
                </a:lnTo>
                <a:lnTo>
                  <a:pt x="20200" y="24246"/>
                </a:lnTo>
                <a:lnTo>
                  <a:pt x="20200" y="1400"/>
                </a:lnTo>
                <a:close/>
              </a:path>
              <a:path fill="darkenLess" w="21600" h="25646">
                <a:moveTo>
                  <a:pt x="21600" y="25646"/>
                </a:moveTo>
                <a:lnTo>
                  <a:pt x="0" y="25646"/>
                </a:lnTo>
                <a:lnTo>
                  <a:pt x="1400" y="24246"/>
                </a:lnTo>
                <a:lnTo>
                  <a:pt x="20200" y="24246"/>
                </a:lnTo>
                <a:close/>
              </a:path>
              <a:path fill="lighten" w="21600" h="25646">
                <a:moveTo>
                  <a:pt x="0" y="25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46"/>
                </a:lnTo>
                <a:close/>
              </a:path>
              <a:path fill="darken" w="21600" h="25646">
                <a:moveTo>
                  <a:pt x="7301" y="12823"/>
                </a:moveTo>
                <a:lnTo>
                  <a:pt x="17806" y="5816"/>
                </a:lnTo>
                <a:lnTo>
                  <a:pt x="17806" y="19829"/>
                </a:lnTo>
                <a:close/>
              </a:path>
              <a:path fill="darken" w="21600" h="25646">
                <a:moveTo>
                  <a:pt x="3794" y="5816"/>
                </a:moveTo>
                <a:lnTo>
                  <a:pt x="5456" y="5816"/>
                </a:lnTo>
                <a:lnTo>
                  <a:pt x="5456" y="19829"/>
                </a:lnTo>
                <a:lnTo>
                  <a:pt x="3794" y="19829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81080" y="152388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191565"/>
                </a:solidFill>
                <a:latin typeface="Times New Roman"/>
                <a:ea typeface="华文新魏"/>
              </a:rPr>
              <a:t>捕蛇者说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3526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73753"/>
                </a:solidFill>
                <a:latin typeface="Times New Roman"/>
                <a:ea typeface="华文行楷"/>
              </a:rPr>
              <a:t>柳宗元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3276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10640" y="649764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5776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柳宗元（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773-819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，唐代文学家，字子厚，河东解（今山西运城解州镇）人，世称柳河东</a:t>
            </a:r>
            <a:r>
              <a:rPr b="0" lang="zh-CN" sz="4000" spc="-1" strike="noStrike">
                <a:solidFill>
                  <a:srgbClr val="c0c0c0"/>
                </a:solidFill>
                <a:latin typeface="华文新魏"/>
                <a:ea typeface="华文新魏"/>
              </a:rPr>
              <a:t>。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柳宗元和韩愈同是唐代古文运动的倡导者和奠基人</a:t>
            </a:r>
            <a:r>
              <a:rPr b="0" lang="zh-CN" sz="4000" spc="-1" strike="noStrike">
                <a:solidFill>
                  <a:srgbClr val="c0c0c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05520" y="108000"/>
            <a:ext cx="3138480" cy="675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184560" y="3789360"/>
            <a:ext cx="28209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736560"/>
            <a:ext cx="792468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说”，是古代的一种文体。这种文章往往带有杂文、杂感的性质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，或因事发论，或抒发感触，行文较为自由灵活《捕蛇者说》中就蕴含着柳宗元当时的悲愤之情。这篇文章在写法上独具特色，特点是在末了点明主旨，即所谓“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卒章显其志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”。我们在学习时要注意研究这点。 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2360" y="22860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音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啮（    ）     腊（    ）     挛（     ）   踠（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瘘（    ）     疠（    ）     当（     ）其租入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嗣（    ）     几（    ）死者数 （      ）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莅（    ）     蹙（    ）      殚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踣（    ）     死者相藉（     ）            囊（     ）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隳（    ）     恂（    ）      缶（     ）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谨食（    ）之      熙（    ）    以俟（   ）夫（   ） 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914400"/>
            <a:ext cx="45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9920" y="914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ni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25960" y="914400"/>
            <a:ext cx="6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5320" y="914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luá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57960" y="914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ǎ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84240" y="1676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òu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3856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34040" y="1676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à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8576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6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61000" y="2362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shu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9480" y="312408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22720" y="31240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81640" y="3124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ā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4080" y="388620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4680" y="3886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ji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744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nǎ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2160" y="4591080"/>
            <a:ext cx="9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hu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41720" y="4572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ú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76960" y="4591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5680" y="533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37120" y="5334120"/>
            <a:ext cx="6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42400" y="5334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64240" y="533412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573120"/>
            <a:ext cx="8512200" cy="66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永州之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蛇，黑质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章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触草木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尽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啮人，无御之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得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腊之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以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饵，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大风、挛踠、瘘、疠，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死肌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杀三虫。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始，太医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王命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，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赋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，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能捕之者，当其租入。永之人争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3200" spc="-1" strike="noStrike">
                <a:solidFill>
                  <a:srgbClr val="dc5900"/>
                </a:solidFill>
                <a:latin typeface="宋体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92160" y="324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777960"/>
            <a:ext cx="1655640" cy="88092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260280"/>
            <a:ext cx="1368360" cy="647640"/>
          </a:xfrm>
          <a:prstGeom prst="wedgeEllipseCallout">
            <a:avLst>
              <a:gd name="adj1" fmla="val -66009"/>
              <a:gd name="adj2" fmla="val 4975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山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1413000"/>
            <a:ext cx="1584360" cy="504720"/>
          </a:xfrm>
          <a:prstGeom prst="wedgeEllipseCallout">
            <a:avLst>
              <a:gd name="adj1" fmla="val 67537"/>
              <a:gd name="adj2" fmla="val -7798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奇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1341360"/>
            <a:ext cx="2232000" cy="503280"/>
          </a:xfrm>
          <a:prstGeom prst="wedgeEllipseCallout">
            <a:avLst>
              <a:gd name="adj1" fmla="val 55120"/>
              <a:gd name="adj2" fmla="val -623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并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276640"/>
            <a:ext cx="1225800" cy="720720"/>
          </a:xfrm>
          <a:prstGeom prst="wedgeEllipseCallout">
            <a:avLst>
              <a:gd name="adj1" fmla="val 59328"/>
              <a:gd name="adj2" fmla="val -5330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如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2349360"/>
            <a:ext cx="2016360" cy="576360"/>
          </a:xfrm>
          <a:prstGeom prst="wedgeEllipseCallout">
            <a:avLst>
              <a:gd name="adj1" fmla="val 61495"/>
              <a:gd name="adj2" fmla="val -6460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····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2276640"/>
            <a:ext cx="1295280" cy="720720"/>
          </a:xfrm>
          <a:prstGeom prst="wedgeEllipseCallout">
            <a:avLst>
              <a:gd name="adj1" fmla="val 47060"/>
              <a:gd name="adj2" fmla="val -4691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可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2421000"/>
            <a:ext cx="1439640" cy="431640"/>
          </a:xfrm>
          <a:prstGeom prst="wedgeEllipseCallout">
            <a:avLst>
              <a:gd name="adj1" fmla="val 85833"/>
              <a:gd name="adj2" fmla="val -7279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用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0720" y="2421000"/>
            <a:ext cx="792000" cy="647640"/>
          </a:xfrm>
          <a:prstGeom prst="wedgeEllipseCallout">
            <a:avLst>
              <a:gd name="adj1" fmla="val -14930"/>
              <a:gd name="adj2" fmla="val -7990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57720"/>
            <a:ext cx="3276720" cy="576000"/>
          </a:xfrm>
          <a:prstGeom prst="wedgeEllipseCallout">
            <a:avLst>
              <a:gd name="adj1" fmla="val 2907"/>
              <a:gd name="adj2" fmla="val -6487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可以用（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3284640"/>
            <a:ext cx="1511280" cy="504720"/>
          </a:xfrm>
          <a:prstGeom prst="wedgeEllipseCallout">
            <a:avLst>
              <a:gd name="adj1" fmla="val 67120"/>
              <a:gd name="adj2" fmla="val -5219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消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365720"/>
            <a:ext cx="2303280" cy="576000"/>
          </a:xfrm>
          <a:prstGeom prst="wedgeEllipseCallout">
            <a:avLst>
              <a:gd name="adj1" fmla="val 22777"/>
              <a:gd name="adj2" fmla="val -698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拿，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4437000"/>
            <a:ext cx="1440000" cy="504720"/>
          </a:xfrm>
          <a:prstGeom prst="wedgeEllipseCallout">
            <a:avLst>
              <a:gd name="adj1" fmla="val -28388"/>
              <a:gd name="adj2" fmla="val -7956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征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4365720"/>
            <a:ext cx="3240360" cy="576000"/>
          </a:xfrm>
          <a:prstGeom prst="wedgeEllipseCallout">
            <a:avLst>
              <a:gd name="adj1" fmla="val -36134"/>
              <a:gd name="adj2" fmla="val -7341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每年，名作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365720"/>
            <a:ext cx="1368360" cy="576000"/>
          </a:xfrm>
          <a:prstGeom prst="wedgeEllipseCallout">
            <a:avLst>
              <a:gd name="adj1" fmla="val 37009"/>
              <a:gd name="adj2" fmla="val 4338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招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5734080"/>
            <a:ext cx="1295280" cy="719280"/>
          </a:xfrm>
          <a:prstGeom prst="wedgeEllipseCallout">
            <a:avLst>
              <a:gd name="adj1" fmla="val -88481"/>
              <a:gd name="adj2" fmla="val -99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于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333360"/>
            <a:ext cx="1726920" cy="574560"/>
          </a:xfrm>
          <a:prstGeom prst="wedgeEllipseCallout">
            <a:avLst>
              <a:gd name="adj1" fmla="val -44300"/>
              <a:gd name="adj2" fmla="val 6988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省略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85122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有蒋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</a:rPr>
              <a:t>氏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专其利三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</a:rPr>
              <a:t>世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问之，则曰“吾祖死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，吾父死于是。今吾嗣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之十二年，几死者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矣。”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</a:rPr>
              <a:t>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之，貌若</a:t>
            </a:r>
            <a:r>
              <a:rPr b="1" lang="zh-CN" sz="3200" spc="-1" strike="noStrike">
                <a:solidFill>
                  <a:srgbClr val="dc5900"/>
                </a:solidFill>
                <a:latin typeface="黑体"/>
              </a:rPr>
              <a:t>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戚者。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余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，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曰：“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若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乎？余将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告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莅事者，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役，复若赋，则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何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341360"/>
            <a:ext cx="1224000" cy="576360"/>
          </a:xfrm>
          <a:prstGeom prst="wedgeEllipseCallout">
            <a:avLst>
              <a:gd name="adj1" fmla="val -34824"/>
              <a:gd name="adj2" fmla="val 11005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1557360"/>
            <a:ext cx="934920" cy="649440"/>
          </a:xfrm>
          <a:prstGeom prst="wedgeEllipseCallout">
            <a:avLst>
              <a:gd name="adj1" fmla="val 189898"/>
              <a:gd name="adj2" fmla="val 5537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2492280"/>
            <a:ext cx="865080" cy="647640"/>
          </a:xfrm>
          <a:prstGeom prst="wedgeEllipseCallout">
            <a:avLst>
              <a:gd name="adj1" fmla="val 82291"/>
              <a:gd name="adj2" fmla="val 9289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2637000"/>
            <a:ext cx="792000" cy="720720"/>
          </a:xfrm>
          <a:prstGeom prst="wedgeEllipseCallout">
            <a:avLst>
              <a:gd name="adj1" fmla="val 152004"/>
              <a:gd name="adj2" fmla="val 5903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2852640"/>
            <a:ext cx="1224000" cy="505080"/>
          </a:xfrm>
          <a:prstGeom prst="wedgeEllipseCallout">
            <a:avLst>
              <a:gd name="adj1" fmla="val 48314"/>
              <a:gd name="adj2" fmla="val 7798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2565360"/>
            <a:ext cx="1224000" cy="863640"/>
          </a:xfrm>
          <a:prstGeom prst="wedgeEllipseCallout">
            <a:avLst>
              <a:gd name="adj1" fmla="val -45981"/>
              <a:gd name="adj2" fmla="val 7003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同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4005360"/>
            <a:ext cx="1547640" cy="503280"/>
          </a:xfrm>
          <a:prstGeom prst="wedgeEllipseCallout">
            <a:avLst>
              <a:gd name="adj1" fmla="val -10513"/>
              <a:gd name="adj2" fmla="val -9258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并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933720"/>
            <a:ext cx="1008000" cy="574920"/>
          </a:xfrm>
          <a:prstGeom prst="wedgeEllipseCallout">
            <a:avLst>
              <a:gd name="adj1" fmla="val 58662"/>
              <a:gd name="adj2" fmla="val 7320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933720"/>
            <a:ext cx="1439640" cy="503280"/>
          </a:xfrm>
          <a:prstGeom prst="wedgeEllipseCallout">
            <a:avLst>
              <a:gd name="adj1" fmla="val 11629"/>
              <a:gd name="adj2" fmla="val 8438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报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4005360"/>
            <a:ext cx="1657440" cy="576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9640" y="5229360"/>
            <a:ext cx="1944720" cy="431640"/>
          </a:xfrm>
          <a:prstGeom prst="wedgeEllipseCallout">
            <a:avLst>
              <a:gd name="adj1" fmla="val -21671"/>
              <a:gd name="adj2" fmla="val -10588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你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5084640"/>
            <a:ext cx="3384720" cy="576360"/>
          </a:xfrm>
          <a:prstGeom prst="wedgeEllipseCallout">
            <a:avLst>
              <a:gd name="adj1" fmla="val -45074"/>
              <a:gd name="adj2" fmla="val 7011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如何，怎么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439560"/>
            <a:ext cx="864216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蒋氏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戚，汪然出涕曰：“君将哀而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生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乎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役之不幸，未若复吾赋不幸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。向吾不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斯役，则久已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矣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氏三世居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，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岁矣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乡邻之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蹙，殚其地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竭其庐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入，号呼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徙，饥渴而顿踣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雨，犯寒暑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呼嘘毒疠，往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者相藉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0"/>
            <a:ext cx="1296720" cy="765000"/>
          </a:xfrm>
          <a:prstGeom prst="wedgeEllipseCallout">
            <a:avLst>
              <a:gd name="adj1" fmla="val 54037"/>
              <a:gd name="adj2" fmla="val 6680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非常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0"/>
            <a:ext cx="2160360" cy="692280"/>
          </a:xfrm>
          <a:prstGeom prst="wedgeEllipseCallout">
            <a:avLst>
              <a:gd name="adj1" fmla="val 95995"/>
              <a:gd name="adj2" fmla="val 6903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使动用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0"/>
            <a:ext cx="2449440" cy="549360"/>
          </a:xfrm>
          <a:prstGeom prst="wedgeEllipseCallout">
            <a:avLst>
              <a:gd name="adj1" fmla="val 8717"/>
              <a:gd name="adj2" fmla="val 10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代词，代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260280"/>
            <a:ext cx="1547640" cy="504720"/>
          </a:xfrm>
          <a:prstGeom prst="wedgeEllipseCallout">
            <a:avLst>
              <a:gd name="adj1" fmla="val -17587"/>
              <a:gd name="adj2" fmla="val 7012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可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197000"/>
            <a:ext cx="1008360" cy="503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3168720" cy="574920"/>
          </a:xfrm>
          <a:prstGeom prst="wedgeEllipseCallout">
            <a:avLst>
              <a:gd name="adj1" fmla="val 16430"/>
              <a:gd name="adj2" fmla="val 7651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厉害，严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2133720"/>
            <a:ext cx="2232000" cy="503280"/>
          </a:xfrm>
          <a:prstGeom prst="wedgeEllipseCallout">
            <a:avLst>
              <a:gd name="adj1" fmla="val 55120"/>
              <a:gd name="adj2" fmla="val 6671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困苦不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2205000"/>
            <a:ext cx="1657440" cy="503280"/>
          </a:xfrm>
          <a:prstGeom prst="wedgeEllipseCallout">
            <a:avLst>
              <a:gd name="adj1" fmla="val 16666"/>
              <a:gd name="adj2" fmla="val 5851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自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2133720"/>
            <a:ext cx="1079280" cy="503280"/>
          </a:xfrm>
          <a:prstGeom prst="wedgeEllipseCallout">
            <a:avLst>
              <a:gd name="adj1" fmla="val 58675"/>
              <a:gd name="adj2" fmla="val 6987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6000" y="2133720"/>
            <a:ext cx="1008000" cy="574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068640"/>
            <a:ext cx="1368360" cy="576360"/>
          </a:xfrm>
          <a:prstGeom prst="wedgeEllipseCallout">
            <a:avLst>
              <a:gd name="adj1" fmla="val 56958"/>
              <a:gd name="adj2" fmla="val 6019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可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2997360"/>
            <a:ext cx="2232000" cy="647640"/>
          </a:xfrm>
          <a:prstGeom prst="wedgeEllipseCallout">
            <a:avLst>
              <a:gd name="adj1" fmla="val 34069"/>
              <a:gd name="adj2" fmla="val 6225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一天天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2997360"/>
            <a:ext cx="2736720" cy="576000"/>
          </a:xfrm>
          <a:prstGeom prst="wedgeEllipseCallout">
            <a:avLst>
              <a:gd name="adj1" fmla="val 29754"/>
              <a:gd name="adj2" fmla="val 7341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出产的东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076640"/>
            <a:ext cx="1943280" cy="504720"/>
          </a:xfrm>
          <a:prstGeom prst="wedgeEllipseCallout">
            <a:avLst>
              <a:gd name="adj1" fmla="val 50736"/>
              <a:gd name="adj2" fmla="val 5754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顺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4076640"/>
            <a:ext cx="1368360" cy="504720"/>
          </a:xfrm>
          <a:prstGeom prst="wedgeEllipseCallout">
            <a:avLst>
              <a:gd name="adj1" fmla="val -45013"/>
              <a:gd name="adj2" fmla="val 7012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冒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5013360"/>
            <a:ext cx="2016000" cy="576360"/>
          </a:xfrm>
          <a:prstGeom prst="wedgeEllipseCallout">
            <a:avLst>
              <a:gd name="adj1" fmla="val -45277"/>
              <a:gd name="adj2" fmla="val 6762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修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276120"/>
            <a:ext cx="8458200" cy="68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曩与吾祖居者，今其室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无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焉；与吾父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，今其室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无二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焉；与吾居十二年者，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室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无四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焉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徙尔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捕蛇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。悍吏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吾乡，叫嚣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西，隳突乎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，哗然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骇者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鸡狗不得宁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0"/>
            <a:ext cx="3456000" cy="692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没有一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1197000"/>
            <a:ext cx="273528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不到两三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76640"/>
            <a:ext cx="2952720" cy="647640"/>
          </a:xfrm>
          <a:prstGeom prst="wedgeEllipseCallout">
            <a:avLst>
              <a:gd name="adj1" fmla="val 21291"/>
              <a:gd name="adj2" fmla="val 9240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不到四五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2349360"/>
            <a:ext cx="2737080" cy="648000"/>
          </a:xfrm>
          <a:prstGeom prst="wedgeEllipseCallout">
            <a:avLst>
              <a:gd name="adj1" fmla="val 22388"/>
              <a:gd name="adj2" fmla="val 7696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不是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‥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就是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‥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2349360"/>
            <a:ext cx="1224000" cy="719280"/>
          </a:xfrm>
          <a:prstGeom prst="wedgeEllipseCallout">
            <a:avLst>
              <a:gd name="adj1" fmla="val 46759"/>
              <a:gd name="adj2" fmla="val 8377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可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4360" y="2492280"/>
            <a:ext cx="1295280" cy="505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因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500280"/>
            <a:ext cx="2700360" cy="720720"/>
          </a:xfrm>
          <a:prstGeom prst="wedgeEllipseCallout">
            <a:avLst>
              <a:gd name="adj1" fmla="val 34833"/>
              <a:gd name="adj2" fmla="val 7555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助词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无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3645000"/>
            <a:ext cx="1584360" cy="718920"/>
          </a:xfrm>
          <a:prstGeom prst="wedgeEllipseCallout">
            <a:avLst>
              <a:gd name="adj1" fmla="val 63027"/>
              <a:gd name="adj2" fmla="val 4580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于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4653000"/>
            <a:ext cx="2017440" cy="792000"/>
          </a:xfrm>
          <a:prstGeom prst="wedgeEllipseCallout">
            <a:avLst>
              <a:gd name="adj1" fmla="val 54722"/>
              <a:gd name="adj2" fmla="val 67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修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4797360"/>
            <a:ext cx="2376360" cy="5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即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0:55:44Z</dcterms:created>
  <dc:creator>微软用户</dc:creator>
  <dc:description/>
  <dc:language>en-US</dc:language>
  <cp:lastModifiedBy>微软用户</cp:lastModifiedBy>
  <dcterms:modified xsi:type="dcterms:W3CDTF">2005-12-02T10:33:49Z</dcterms:modified>
  <cp:revision>103</cp:revision>
  <dc:subject/>
  <dc:title>幻灯片 1</dc:title>
</cp:coreProperties>
</file>