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463F5-C1D6-4C71-9153-73351FA7B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3E679-10B0-4D96-B435-6083C2EA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2B698-1541-479D-8441-232ACCF6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6D975-9AC4-4069-BAF2-666B3E6B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2E5F3-F450-438B-BE93-79424A8D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7156B-2781-4776-8B50-2907417D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702A-6926-4407-808E-3A5B5A57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2F1DF-6D80-4CB8-ABDA-0D322D1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9FF8C-7C19-411B-9F98-8ED6FD6B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376DF-D234-40EF-85B5-56E2C4FD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5A632-08BA-491E-921B-08EB135A6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7EE7CB-3FD6-4A2A-AA92-ADC7FDE4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85640" y="228600"/>
            <a:ext cx="61722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d947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71800" y="2514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7D59-0F89-42A0-954A-403601485B75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八声甘州（对潇潇、暮雨洒江天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08000" y="3499920"/>
            <a:ext cx="46008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柳  永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03280" y="522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2928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柳永，原名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三变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字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景庄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后改名永，字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耆卿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，是北宋专力写词的第一人。排行第七，人称“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柳七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”，终官屯田员外郎，世称“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柳屯田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”。他在扩大词境、发展慢词、丰富词作表现手法上都有杰出贡献。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其词多写城市风光，尤长于抒发羁旅行役之情，善于铺叙，情景交融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代表作有《八声甘州》、《望海潮》、《雨霖铃》、《夜半乐》等。著有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《乐章集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。     所著《乐章集》凡一百五十 馀曲。其词自成一派，世称“屯田蹊径”、“柳氏家 法”。《避暑录话》卷三记西夏归朝官语：“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凡有井水饮处，即能歌柳词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”可见柳词影响之大。其词对后 世词家及金元戏曲、明清小说有重大影响。 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14200" y="189000"/>
            <a:ext cx="8821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柳词内容有三类：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1</a:t>
            </a:r>
            <a:r>
              <a:rPr b="1" lang="zh-CN" sz="2500" spc="-1" strike="noStrike">
                <a:solidFill>
                  <a:srgbClr val="ff00ff"/>
                </a:solidFill>
                <a:latin typeface="Arial"/>
              </a:rPr>
              <a:t>描写城市的繁荣景象和市民的生活风尚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，《望海潮》最为有名。这是一首最早出现的，由文人创作的长调慢词，它形象地描绘出钱塘江的秀美景色和繁华富庶。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2</a:t>
            </a:r>
            <a:r>
              <a:rPr b="1" lang="zh-CN" sz="2500" spc="-1" strike="noStrike">
                <a:solidFill>
                  <a:srgbClr val="ff00ff"/>
                </a:solidFill>
                <a:latin typeface="Arial"/>
              </a:rPr>
              <a:t>描写男女情爱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。这类词中有表现下层人民不幸以及作者对他们的深切同情的，如《定风波》，有写妓女悲苦和她们对轻薄男子怨恨的，如《少年游》，有写妓女渴望自由、渴望真正爱情生活的，如《迷仙引》。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3</a:t>
            </a:r>
            <a:r>
              <a:rPr b="1" lang="zh-CN" sz="2500" spc="-1" strike="noStrike">
                <a:solidFill>
                  <a:srgbClr val="ff00ff"/>
                </a:solidFill>
                <a:latin typeface="Arial"/>
              </a:rPr>
              <a:t>江湖落拓的感慨是他词作的另一重要内容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。《雨霖铃》、《八声甘州》、《夜半乐》是这部分词的代表作。“叹年来踪迹，何事苦淹留”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《八声甘州》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、“今宵酒醒何处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?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杨柳岸晓风残月”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《雨霖铃》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，道出了居无定处，四海漂泊的乡思愁怀；“念去去千里烟波，暮霭沉沉楚天阔”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《雨霖铃》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、“败荷零落，衰杨掩映”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《夜半乐》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和“是处红衰翠减，冉冉物华休”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《八声甘州》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)</a:t>
            </a:r>
            <a:r>
              <a:rPr b="1" lang="zh-CN" sz="2500" spc="-1" strike="noStrike">
                <a:solidFill>
                  <a:srgbClr val="333333"/>
                </a:solidFill>
                <a:latin typeface="Arial"/>
              </a:rPr>
              <a:t>中主人公颓唐的心情将秋日景象涂抹上浓重的阴影。词人的离愁别绪与冷落清秋的景物相互交融，达到了高度的艺术境界。 </a:t>
            </a:r>
            <a:endParaRPr b="0" lang="en-US" sz="25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对潇潇暮雨洒江天，一番洗清秋。渐霜风凄紧，关河冷落，残照当楼。是处红衰翠减，苒苒物华休。惟有长江水，无语东流。 </a:t>
            </a:r>
            <a:br>
              <a:rPr sz="3200"/>
            </a:br>
            <a:r>
              <a:rPr b="1" lang="zh-CN" sz="3200" spc="-1" strike="noStrike">
                <a:solidFill>
                  <a:srgbClr val="cc9900"/>
                </a:solidFill>
                <a:latin typeface="Times New Roman"/>
              </a:rPr>
              <a:t>       不忍登高临远，望故乡渺邈，归思难收。叹年来踪迹，何事苦淹留？想佳人妆楼望，误几回、天际识归舟。争知我，倚阑干处，正恁闲愁。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44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8088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5112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67120" y="350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一、本词主要写的是什么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思乡——“望故乡渺邈，归思难受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怀人——“想佳人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二、可以看出本词的词眼是哪个字？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愁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5840" y="2930400"/>
            <a:ext cx="10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60280"/>
            <a:ext cx="87487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析上片</a:t>
            </a:r>
            <a:r>
              <a:rPr b="0" lang="zh-CN" sz="3200" spc="-1" strike="noStrike">
                <a:solidFill>
                  <a:srgbClr val="3333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它描绘了一幅怎样的画面？（从时间、天气、作者所见所感入手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　时间——暮秋、傍晚（“暮雨”、“清秋残照”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　天气——雨、风（潇潇、霜风凄惨）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　所感——霜风凄惨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　所见——</a:t>
            </a:r>
            <a:r>
              <a:rPr b="1" lang="zh-CN" sz="2400" spc="-1" strike="noStrike" u="sng">
                <a:solidFill>
                  <a:srgbClr val="333333"/>
                </a:solidFill>
                <a:uFillTx/>
                <a:latin typeface="Arial"/>
              </a:rPr>
              <a:t>关河冷落、残照当楼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、红衰翠减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　　　　　物华已休、江水东流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Arial"/>
              </a:rPr>
              <a:t>▲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</a:rPr>
              <a:t>由此，能否给这幅图片起个名字？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　　参考答案：秋江雨景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4076640"/>
            <a:ext cx="6480000" cy="1008000"/>
          </a:xfrm>
          <a:prstGeom prst="wedgeRoundRectCallout">
            <a:avLst>
              <a:gd name="adj1" fmla="val -18375"/>
              <a:gd name="adj2" fmla="val -122439"/>
              <a:gd name="adj3" fmla="val 16667"/>
            </a:avLst>
          </a:prstGeom>
          <a:solidFill>
            <a:srgbClr val="cccc00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苏轼一向看不起柳永，然而对这三句，却大加赞赏，认为“此语于诗句不减唐人高处。”为什么？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5640" y="4320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333360"/>
            <a:ext cx="8964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分析下片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33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１、作者抒发了自己思乡怀人之情，那他为什么不回去呢？你如何看待这个问题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“未名未禄，绮陌红楼，往往经岁迁延。……念利名、憔悴长萦绊。”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　　　　　　　　　　　　　　——柳永《戚氏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所以，作者在既没有取得“名”，也没有取得“利”的情况下，近年来还是落拓江湖，东飘西荡，内心充满了矛盾和困惑。对于归乡，更是有一种千回百转、四顾茫然的矛盾心态。个中酸甜苦辣，大概只有作者自己才能体会了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11280" y="1125360"/>
            <a:ext cx="7772400" cy="25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同样是写词，柳永达到了“凡有井水引处，即能歌柳词”。那么这首思乡词能够引起我们巨大的共鸣，除了它本身的才情之外，在写法上有什么特点？  </a:t>
            </a:r>
            <a:br>
              <a:rPr sz="3200"/>
            </a:b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342900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情景交融             想象　　　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虚实相生  　　　拟人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9T07:05:40Z</dcterms:created>
  <dc:creator>孙健</dc:creator>
  <dc:description/>
  <dc:language>en-US</dc:language>
  <cp:lastModifiedBy>zmj</cp:lastModifiedBy>
  <dcterms:modified xsi:type="dcterms:W3CDTF">2010-06-11T07:13:23Z</dcterms:modified>
  <cp:revision>11</cp:revision>
  <dc:subject/>
  <dc:title>八声甘州·对潇潇暮雨洒江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c02000000000001024120</vt:lpwstr>
  </property>
</Properties>
</file>