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969-0710-47E3-A129-92BC621E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608-6E3F-4AB4-9A39-CC407B7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3D8-304D-4D6C-9387-B4010131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9C0-5889-4D17-86CF-2E809F9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889-788C-499B-9F04-43A77339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8D8-9C8C-4CBE-A0B2-2EE6532E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4D7-E06C-4CA4-9AE0-810EADBF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B5A-8436-43B2-A946-3933CF4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559-1225-4834-B703-C482B36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6B5-ACAE-47B8-B0BC-0B3A4F0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7EF-5B4D-4FC1-A072-F48AD33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036-3821-4551-8D1D-8E6E70D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A8E-3644-48A3-8F2A-07D4D6DB7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66760" y="-2303640"/>
            <a:ext cx="635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56000" y="1844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伯  牙  绝  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219640" y="146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i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332000" y="28116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安徽淮南市八公山区第二小学　陈燕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324000" y="1989000"/>
            <a:ext cx="8964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哉，峨峨兮若泰山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-108000" y="32860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哉，洋洋兮若江河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1fe9925bc315c60f81d91a58db1cb13485477f4"/>
          <p:cNvPicPr/>
          <p:nvPr/>
        </p:nvPicPr>
        <p:blipFill>
          <a:blip r:embed="rId1"/>
          <a:srcRect l="0" t="0" r="0" b="8815"/>
          <a:stretch/>
        </p:blipFill>
        <p:spPr>
          <a:xfrm>
            <a:off x="324000" y="2097000"/>
            <a:ext cx="4103640" cy="411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泰山1"/>
          <p:cNvPicPr/>
          <p:nvPr/>
        </p:nvPicPr>
        <p:blipFill>
          <a:blip r:embed="rId2"/>
          <a:srcRect l="0" t="0" r="1609" b="10709"/>
          <a:stretch/>
        </p:blipFill>
        <p:spPr>
          <a:xfrm>
            <a:off x="4572000" y="2097000"/>
            <a:ext cx="4240080" cy="4068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50920" y="44280"/>
            <a:ext cx="8353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伯牙鼓琴，志在高山，钟子期曰：“善哉，峨峨兮若泰山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4000" y="-27000"/>
            <a:ext cx="8820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志在流水，钟子期曰：“善哉，洋洋兮若江河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黄河1"/>
          <p:cNvPicPr/>
          <p:nvPr/>
        </p:nvPicPr>
        <p:blipFill>
          <a:blip r:embed="rId1"/>
          <a:stretch/>
        </p:blipFill>
        <p:spPr>
          <a:xfrm>
            <a:off x="324000" y="2057400"/>
            <a:ext cx="4176720" cy="396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8926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1116000" y="2924280"/>
            <a:ext cx="6553080" cy="3933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00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95280" y="1052640"/>
            <a:ext cx="8569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伯牙鼓琴，志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高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钟子期曰：“善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峨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兮若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泰山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志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钟子期曰：“善哉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兮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!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志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钟子期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!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9220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9236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740720" y="6237360"/>
            <a:ext cx="43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541440" y="477720"/>
            <a:ext cx="17269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说话练习</a:t>
            </a:r>
            <a:endParaRPr b="1" lang="en-US" sz="2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39640" y="4637160"/>
            <a:ext cx="8425080" cy="2105640"/>
          </a:xfrm>
          <a:prstGeom prst="rect">
            <a:avLst/>
          </a:prstGeom>
          <a:solidFill>
            <a:srgbClr val="bbe0e3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炊烟袅袅 白雪     明月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杨柳     芳草     清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隶书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763640" y="57340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4211640" y="57340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6877080" y="57340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4211640" y="50133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804000" y="50133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449440" y="1609560"/>
            <a:ext cx="5435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伯牙所念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钟子期必得之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96360" y="5734080"/>
            <a:ext cx="86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940360" y="5950080"/>
            <a:ext cx="194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484000" y="1574280"/>
            <a:ext cx="598644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峨峨兮若泰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洋洋兮若江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835280" y="3660840"/>
            <a:ext cx="62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峨峨泰山一般的志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洋洋江河一样的胸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646200" y="549360"/>
            <a:ext cx="849780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伯牙善鼓琴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钟子期善听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伯牙鼓琴，志在高山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钟子期曰：“善哉，峨峨兮若泰山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志在流水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钟子期曰：“善哉，洋洋兮若江河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!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伯牙所念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钟子期必得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rcRect l="0" t="0" r="18732" b="17681"/>
          <a:stretch/>
        </p:blipFill>
        <p:spPr>
          <a:xfrm>
            <a:off x="-36360" y="0"/>
            <a:ext cx="92088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伯牙悼子期.mp3" descr="伯牙悼子期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-36360" y="5297400"/>
            <a:ext cx="9208800" cy="225828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子期死，伯牙谓世再无知音，乃破琴绝弦，终身不复鼓。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                                       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9175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116000" y="981000"/>
            <a:ext cx="763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忆昔去年春，江边曾会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今日重来访，不见知音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但见一抔土，惨然伤我心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伤心伤心复伤心，不忍泪珠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欢去何苦，江畔起愁云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此曲终兮不复弹，三尺瑶琴为君死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伯牙绝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000" y="1268280"/>
            <a:ext cx="8497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善鼓琴，（      ）善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鼓琴，志在（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曰：“善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兮若（      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志在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曰：“善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兮若（     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所念，（      ）必得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）死，（      ）谓世再无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乃（      ），终身（　　  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未命名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50920" y="919080"/>
            <a:ext cx="723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志在高山，钟子期曰：“善哉，峨峨兮若泰山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志在流水，钟子期曰：“善哉，洋洋兮若江河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自选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一写：子期死后，伯牙的心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查一查：搜集并积累描写真挚友情的名言或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未命名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00000" y="31719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98560" y="19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26668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659640" y="14428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919080"/>
            <a:ext cx="723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志在高山，钟子期曰：“善哉，峨峨兮若泰山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志在流水，钟子期曰：“善哉，洋洋兮若江河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9280" y="692280"/>
            <a:ext cx="7524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子期死，伯牙谓世再无知音，乃破琴绝弦，终身不复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19280" y="4221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47640" y="3645000"/>
            <a:ext cx="28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240680" y="243684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87280" y="2090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谓：①称为；②认为，以为；③评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187280" y="276228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乃：于是，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11280" y="692280"/>
            <a:ext cx="8137440" cy="3734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朗读课文，注意停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伯牙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善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鼓琴，钟子期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善听。伯牙鼓琴，志在高山，钟子期曰：“善哉，峨峨兮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泰山！”志在流水，钟子期曰：“善哉，洋洋兮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江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!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伯牙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所念，钟子期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必得之。子期死，伯牙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谓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世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再无知音，乃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破琴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绝弦，终身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复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684360" y="692280"/>
            <a:ext cx="7920000" cy="3138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朗读课文，注意停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伯牙善鼓琴，钟子期善听。伯牙鼓琴，志在高山，钟子期曰：“善哉，峨峨兮若泰山！”志在流水，钟子期曰：“善哉，洋洋兮若江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伯牙所念，钟子期必得之。子期死，伯牙谓世再无知音，乃破琴绝弦，终身不复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256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492360" y="40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关系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5496120" cy="1744560"/>
        </p:xfrm>
        <a:graphic>
          <a:graphicData uri="http://schemas.openxmlformats.org/drawingml/2006/table">
            <a:tbl>
              <a:tblPr/>
              <a:tblGrid>
                <a:gridCol w="671760"/>
                <a:gridCol w="2520720"/>
                <a:gridCol w="2303640"/>
              </a:tblGrid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俞伯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钟子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衣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衣着华贵，羽扇纶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布包头，两截布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身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大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樵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6680" y="836280"/>
            <a:ext cx="82216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伯牙善鼓琴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钟子期善听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u=2541934023,2854250273&amp;fm=21&amp;gp=0"/>
          <p:cNvPicPr/>
          <p:nvPr/>
        </p:nvPicPr>
        <p:blipFill>
          <a:blip r:embed="rId1">
            <a:alphaModFix amt="0"/>
          </a:blip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68360" y="3213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志在流水，钟子期曰：“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哉，洋洋兮若江河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042920" y="16257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伯牙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鼓琴，钟子期善听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16000" y="24922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（擅长、善于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91272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"/>
              </a:rPr>
              <a:t>（好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54:08Z</dcterms:created>
  <dc:creator>Billgates</dc:creator>
  <dc:description/>
  <cp:keywords/>
  <dc:language>en-US</dc:language>
  <cp:lastModifiedBy>PEP-User</cp:lastModifiedBy>
  <dcterms:modified xsi:type="dcterms:W3CDTF">2014-11-06T00:47:43Z</dcterms:modified>
  <cp:revision>4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