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A9A3-62D4-4533-95B8-5A40D922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500-92BF-4362-9F36-0A57D345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ECF-AC8F-4F68-A6EE-09A51F8B24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846-7036-454F-9E29-2FC41CB2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38B-1672-4426-BADF-8C5FF1A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E2C-1B20-47D1-A46A-24C18666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2CB-B829-4FC8-9718-EC1AACD0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549-2BB0-4DA6-9264-71DFACF8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384-EB19-4547-B917-DD19557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24A-59E7-4DB5-8B94-DB1A5830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726-5B01-49FF-8845-587EAE3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06C-6D07-434E-9438-91BFDA4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600-6C6D-4164-81E6-2E57819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83F-42A8-457A-8C53-59DFB27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2D6-914B-440F-8B55-57EDAA0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FB9-83EE-4771-B107-C16133AE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圆角矩形 6"/>
          <p:cNvGrpSpPr/>
          <p:nvPr/>
        </p:nvGrpSpPr>
        <p:grpSpPr>
          <a:xfrm>
            <a:off x="2206800" y="2992320"/>
            <a:ext cx="5011560" cy="798480"/>
            <a:chOff x="2206800" y="2992320"/>
            <a:chExt cx="5011560" cy="798480"/>
          </a:xfrm>
        </p:grpSpPr>
        <p:pic>
          <p:nvPicPr>
            <p:cNvPr id="49" name="圆角矩形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206800" y="2992320"/>
              <a:ext cx="501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98600" y="3103560"/>
              <a:ext cx="48340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北冥有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"/>
          <p:cNvSpPr/>
          <p:nvPr/>
        </p:nvSpPr>
        <p:spPr>
          <a:xfrm>
            <a:off x="214200" y="50004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六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857160" y="1500120"/>
            <a:ext cx="7286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楷体"/>
              </a:rPr>
              <a:t>21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楷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楷体"/>
              </a:rPr>
              <a:t>庄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楷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楷体"/>
              </a:rPr>
              <a:t>二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44856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第二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447920" y="2286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大鹏迁徙到南海。（乘风而起、击水三千、扶摇九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之苍苍，其正色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邪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     ）？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）而无所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）邪？其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视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)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）也，亦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则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已矣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495680" y="1522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同耶，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990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743200" y="990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高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324480" y="990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182880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尽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3962520" y="182880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638680" y="182880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向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609480" y="26668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3733920" y="266688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罢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0" y="0"/>
            <a:ext cx="6095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天之苍苍，其正色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其远而无所至极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其视下也，亦若是则已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0" y="1066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天色湛蓝，是它真正的颜色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0" y="2209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还是因为天空高远而看不到尽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大鹏从天空往下看，也不过像人在地面上看天一样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0" y="-76212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第三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文章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571760" y="8380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想象大鹏俯瞰大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04920" y="24382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借鲲和鹏的寓言，说明任何事物的存在都要依靠一定的条件，活动也要有所凭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50880" y="4343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艺术特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57200" y="49528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想象奇特，充满浪漫主义色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4"/>
          <p:cNvSpPr/>
          <p:nvPr/>
        </p:nvSpPr>
        <p:spPr>
          <a:xfrm>
            <a:off x="357120" y="1052640"/>
            <a:ext cx="8462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)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鲲鹏”可高飞九万里，能从北海飞到南海，但必须借助“海运”“扶摇”，意在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者为什么要引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齐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书中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概括鹏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课内文言文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39640" y="270828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鲲鹏是有所倚，非真正的自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611280" y="4221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对鲲鹏之事补充说明，使文章更具说服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80880" y="5638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硕大无比、力大无穷、志存高远、善借长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357120" y="105264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怎样理解“天之苍苍，其正色邪？其远而无所至极邪？其视下也，亦若是则已矣。”这句话的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课内文言文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39640" y="3262320"/>
            <a:ext cx="82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空是那么湛蓝，难道这就是它真正的颜色吗？抑或是高旷辽远没法看到它的尽头呢？鹏鸟向下看，不过也就像这个样子罢了。人往上看天，与鹏往下看人，道理是一样的，只是角度不同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可见鹏与人一样都受到了限制，没有获得真正的自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357120" y="1052640"/>
            <a:ext cx="846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综合分析选择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列对文章内容的理解和分析，不正确的一项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文章运用了夸张的修辞方法，如在写鹏起飞时，说它“翼若垂天之云”，显现出浩大的声势和广阔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课内文言文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79280" y="836640"/>
            <a:ext cx="8786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者列举野马、尘埃等“小”的形象，和鲲鹏作对比，以大小对立来阐述物皆有所待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者如此醉心“逍遥”，并将这种想象具体化，实则是蕴含了自己对理想的强烈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本文意境开阔，想象奇特，运用了幻想的、传说的和现实的事例来阐明自己的观点，使文章充满了现实主义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课内文言文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95280" y="60120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并非“现实主义”，应是“浪漫主义”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5840" y="-44640"/>
            <a:ext cx="2556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62240" y="533520"/>
            <a:ext cx="6881760" cy="68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庄子（约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69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8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，名周，后人称之为“南华真人”，战国时宋国著名的思想家、哲学家、文学家，是道家学派的代表人物，老子哲学思想的继承者和发展者。后世将他与老子并称为“老庄”，他们的哲学为“老庄哲学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26MC"/>
          <p:cNvPicPr/>
          <p:nvPr/>
        </p:nvPicPr>
        <p:blipFill>
          <a:blip r:embed="rId1"/>
          <a:stretch/>
        </p:blipFill>
        <p:spPr>
          <a:xfrm>
            <a:off x="-15840" y="1195560"/>
            <a:ext cx="22636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1440" y="777960"/>
            <a:ext cx="916128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庄子生活在社会矛盾及其复杂的乱世。战国时，诸侯征战不已，暴君奸臣杀人如麻。他的志向抱负无法在现实中实现，无法获得生命的自由。于是，他以追求精神上的自由来逃避纷乱的现实，在想象上天马行空，达到一种超然物外的境界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他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逍遥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，指没有任何束缚地、自由自在地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1268" descr="t0199adfd4ee74624f3"/>
          <p:cNvPicPr/>
          <p:nvPr/>
        </p:nvPicPr>
        <p:blipFill>
          <a:blip r:embed="rId1"/>
          <a:stretch/>
        </p:blipFill>
        <p:spPr>
          <a:xfrm>
            <a:off x="-235080" y="6019920"/>
            <a:ext cx="9563400" cy="790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74" descr="t015f2610feadc0b6a7"/>
          <p:cNvPicPr/>
          <p:nvPr/>
        </p:nvPicPr>
        <p:blipFill>
          <a:blip r:embed="rId2"/>
          <a:stretch/>
        </p:blipFill>
        <p:spPr>
          <a:xfrm>
            <a:off x="-1440" y="46080"/>
            <a:ext cx="1008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"/>
          <p:cNvSpPr/>
          <p:nvPr/>
        </p:nvSpPr>
        <p:spPr>
          <a:xfrm>
            <a:off x="0" y="0"/>
            <a:ext cx="9144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冥有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北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冥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          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鱼，其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鲲。鲲之大，不知其几千里也；化而为鸟，其名为鹏。鹏之背，不知其几千里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怒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             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而飞，其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   )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)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之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143000" y="12193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同“溟”，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553080" y="12193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名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38080" y="36576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用力鼓动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6553080" y="365760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52280" y="44956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1600200" y="44956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悬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0" y="0"/>
            <a:ext cx="914400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北冥有鱼，其名为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鲲之大，不知其几千里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化而为鸟，其名为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鹏之背，不知其几千里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怒而飞，其翼若垂天之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6858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北海有一条鱼，它的名字叫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19810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鲲体积巨大，不知道它有几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0" y="32767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鲲变化为鸟，它的名字叫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0" y="4572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鹏的背，不知道它长几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当它用力鼓动翅膀飞的时候，它的翅膀像悬挂在天空的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700200" y="144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第一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71760" y="15238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写鲲到鹏的变化（形体硕大、气象雄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0" y="0"/>
            <a:ext cx="896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鸟也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)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则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南冥。南冥者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天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                  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也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齐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者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 )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                  ）者也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之言曰：“鹏之徙于南冥也，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三千里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             )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扶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而上者九万里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  )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    ）六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者也。”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野马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                          ）也，尘埃也，生物之以息相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57200" y="152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2666880" y="1522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114800" y="15228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324480" y="1522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迁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33520" y="137160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记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4114800" y="19810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拍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52280" y="26668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盘旋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3200400" y="26668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旋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7467480" y="266688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离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505320" y="327672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362320" y="1371600"/>
            <a:ext cx="27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怪异的事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685800" y="3276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凭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304920" y="3962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山野中的雾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28600" y="457200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吹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514600" y="762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天然形成的水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是鸟也，海运则将徙于南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南冥者，天池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齐谐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者，志怪者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谐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之言曰：“鹏之徙于南冥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水击三千里，抟扶摇而上者九万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52280" y="152280"/>
            <a:ext cx="1843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6858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这只鸟，海水运动时将要迁徙到南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17524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南海是天然形成的水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0" y="27432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齐谐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是一本记载怪异事物的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0" y="3886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齐谐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记载说：“鹏迁徙到南海的时候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翅膀拍打水面，激起三千里的波涛，它乘着旋风盘旋飞到九万里的高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去以六月息者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野马也，尘埃也，生物之以息相吹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0" y="5335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凭借着六月的大风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山野中的雾气，空气中的尘埃，都是生物用气息吹拂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hp</cp:lastModifiedBy>
  <dcterms:modified xsi:type="dcterms:W3CDTF">2019-05-15T01:39:54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