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C48F-CC69-4708-A4C1-0613A62D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566-C629-47F0-84D5-FFB50EE5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2C7-143A-445A-9AA1-166C2F48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D89-996B-4B88-A651-9A51EE17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128F-09D5-4EA5-9165-0B6CFA7A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0A56-6DED-45DF-AC1A-93B9A1F7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1017-2AAE-4154-B9B4-0496D2FC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412D-2E1F-4D70-9FD4-4F6EFC0E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AFCF-A1CE-4635-AAE3-34C33E5B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9874-7DFE-4EEA-B371-8758AAA7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2252-6FEC-4CDD-9CF0-BEFA01DD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A20-1EAF-441A-9935-26C3F0E7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1BA5-E6BE-4EBF-B6F7-9BF8681D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9F4F-B8E0-4583-84F2-E10FF73E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0C56-27AD-4B1D-8954-2E13E525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1FC8-205B-4413-A2BF-0261A294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EE7C-7305-4497-8BEB-6967693D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4482-FCF5-4B48-B4E4-6AF85C25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A41E5-117F-4FFD-A27A-9EF84982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44DEA-E3A4-4527-82B7-2D2EE82B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7DCD-73FF-4EFC-8D89-4A0599D1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65205-871C-4F39-A69A-43DEF559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0B0-45BE-48E5-ACD6-25A1419E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0A69-A824-43A1-91AE-2CF61F99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8E006-667C-4099-B01F-39584BCB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CFE3C-EBD4-44C9-BDF1-CDDBE01B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E9ED-1BB1-4BED-8F6A-1C58154B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E4EDC-F98D-449D-AA3D-851A97BA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65D1B-32A7-4206-87C4-EFE954A4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7380C-9488-4F0C-84C5-47BD2980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ECEB-0D34-420E-8ED3-62C18FDE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91A1E-D83D-4140-A11F-FE0DA5B4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A9F94-E86C-4CEF-8AE8-25024CF5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AEB-0F25-40FD-BD7A-6C1053A5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AC5B9-4C39-4766-80B4-2D2AB1CF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AB268-1C97-48FC-AB4C-3A265D21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B4E38-D269-4F7F-9AF2-E4A67B62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1AAC1-3919-4396-A4F9-1A7ED061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AECFD-E77E-4BAA-8194-62B08D86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0FF16-5085-4125-8CE5-CBE35635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C9883-18FB-40C2-B847-EA7D233E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564F5-29BD-417E-A2F2-E00F3F38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4E1B0-018A-4BF6-9028-172D4434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BCA-9E91-417D-B369-4992AA60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74B-285D-41B1-B926-65E2DA03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CF4-E9F2-4AB8-9F5A-C08126E3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F67-8B86-4069-8AFD-FC763AA8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2D7-D832-4C1D-AC85-D9D60389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E500-6E72-41B5-B6E0-7EEADD9E4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4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5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8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9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0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5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6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8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9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0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1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2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3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4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7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8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9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0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1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2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3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4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5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7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8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1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2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3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4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5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6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7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8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9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0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1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2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5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6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7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8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9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0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1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2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3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4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5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6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9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0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1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2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5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6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7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8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9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0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1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2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3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4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5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6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B850-92C6-43E5-908E-C0B6C0C30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C7D3-2F84-480A-90F0-643F9B64E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0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71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2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8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9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0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1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2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3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84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85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6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7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8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0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1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2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3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4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5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6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7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8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9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0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1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2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3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4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5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6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7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8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9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0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1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2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3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4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5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6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7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8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9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0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1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2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3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4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5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6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7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8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9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0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1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2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3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4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5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6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7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8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9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0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1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2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3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4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5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6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7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8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9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0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1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2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3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4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5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6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7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8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9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0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1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2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3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4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5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6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7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8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9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0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1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2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3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4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5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6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7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8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9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0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1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2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3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4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5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6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7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8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9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0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1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2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3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4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5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6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7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8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9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0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1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2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3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4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5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6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7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8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9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0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1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2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3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4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5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6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7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8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9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0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1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2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3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4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5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6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7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8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9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30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31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2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3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4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5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6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7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8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9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0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1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3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6BAF-C46A-4521-8A12-B957E1478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6" name="WordArt 4"/>
          <p:cNvSpPr txBox="1"/>
          <p:nvPr/>
        </p:nvSpPr>
        <p:spPr>
          <a:xfrm>
            <a:off x="2195640" y="1484280"/>
            <a:ext cx="5329080" cy="18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庄子一则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87" name="WordArt 5"/>
          <p:cNvSpPr txBox="1"/>
          <p:nvPr/>
        </p:nvSpPr>
        <p:spPr>
          <a:xfrm>
            <a:off x="2916360" y="3716280"/>
            <a:ext cx="4248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北冥有鱼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826920" y="1700280"/>
            <a:ext cx="676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冥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7a77"/>
                </a:solidFill>
                <a:latin typeface="Tahoma"/>
              </a:rPr>
              <a:t>í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ng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鲲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鹏（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kūn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（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tu</a:t>
            </a:r>
            <a:r>
              <a:rPr b="1" lang="en-US" sz="3200" spc="-1" strike="noStrike">
                <a:solidFill>
                  <a:srgbClr val="007a77"/>
                </a:solidFill>
                <a:latin typeface="Tahoma"/>
              </a:rPr>
              <a:t>á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n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徙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（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xǐ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1908000" y="404640"/>
            <a:ext cx="534852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行楷"/>
              </a:rPr>
              <a:t>朗读，积累字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553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e40000"/>
                </a:solidFill>
                <a:latin typeface="华文行楷"/>
                <a:ea typeface="华文行楷"/>
              </a:rPr>
              <a:t>疏通、翻译课文第一部分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24000" y="907560"/>
            <a:ext cx="857376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北冥有鱼，其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鲲。鲲之大，不知其几千里也；化而为鸟，其名为鹏。鹏之背，不知其几千里也；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飞，其翼若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之云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鸟也，海运则将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南冥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冥者，天池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　　译文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北方的大海里有一条鱼，它的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名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叫做鲲。鲲的体积，真不知道大到几千里；变化成为鸟，它的名字就叫鹏。鹏的脊背，真不知道长到几千里；当它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奋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而飞的时候，那展开的双翅就像天边的云。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鹏鸟呀，随着海上汹涌的波涛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迁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南方的大海。南方的大海是个天然的大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75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75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75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86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　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齐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者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怪者也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言曰“鹏之徙于南冥也，水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千里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扶摇而上者九万里，去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六月息者也。”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野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，尘埃也，生物之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息相吹也。天之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苍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其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色邪？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而无所至极邪？其视下也，亦若是则已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译文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齐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一部专门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记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怪异事情的书，这本书上记载说：“鹏鸟迁徙到南方的大海，翅膀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拍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面激起几千里的波涛，</a:t>
            </a:r>
            <a:r>
              <a:rPr b="0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它乘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面上急骤的狂风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盘旋而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冲几万里高空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华文行楷"/>
                <a:ea typeface="华文行楷"/>
              </a:rPr>
              <a:t>它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华文行楷"/>
                <a:ea typeface="华文行楷"/>
              </a:rPr>
              <a:t>凭借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华文行楷"/>
                <a:ea typeface="华文行楷"/>
              </a:rPr>
              <a:t>着六月的大风离开了北海</a:t>
            </a: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春日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林泽原野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蒸腾浮动犹如奔马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的雾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低空里沸沸扬扬的尘埃，都是大自然里各种生物的气息吹拂所致。天空是那么湛蓝湛蓝的，难道这就是它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真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颜色吗？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抑或是因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旷辽远没法看到它的尽头呢？鹏鸟在高空往下看，不过也就像这个样子罢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也不过像人在地面上看天一样罢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75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75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75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75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75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75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WordArt 3"/>
          <p:cNvSpPr txBox="1"/>
          <p:nvPr/>
        </p:nvSpPr>
        <p:spPr>
          <a:xfrm>
            <a:off x="2916360" y="189000"/>
            <a:ext cx="28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6600cc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ff9900"/>
                  </a:outerShdw>
                </a:effectLst>
                <a:latin typeface="宋体"/>
              </a:rPr>
              <a:t>文章结构</a:t>
            </a:r>
            <a:endParaRPr b="1" lang="en-US" sz="6000" spc="1" strike="noStrike">
              <a:ln w="19080">
                <a:solidFill>
                  <a:srgbClr val="6600cc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ff99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754200" y="1557360"/>
            <a:ext cx="28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华文行楷"/>
                <a:ea typeface="华文行楷"/>
              </a:rPr>
              <a:t>第</a:t>
            </a:r>
            <a:r>
              <a:rPr b="1" lang="en-US" sz="3200" spc="-1" strike="noStrike">
                <a:solidFill>
                  <a:srgbClr val="660033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660033"/>
                </a:solidFill>
                <a:latin typeface="华文行楷"/>
                <a:ea typeface="华文行楷"/>
              </a:rPr>
              <a:t>层：</a:t>
            </a:r>
            <a:r>
              <a:rPr b="1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描述鲲鹏形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6" name="AutoShape 5"/>
          <p:cNvSpPr/>
          <p:nvPr/>
        </p:nvSpPr>
        <p:spPr>
          <a:xfrm>
            <a:off x="4211640" y="126828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4643280" y="1052640"/>
            <a:ext cx="362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形体硕大无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变化神奇莫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奋飞气势壮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179280" y="2924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华文行楷"/>
                <a:ea typeface="华文行楷"/>
              </a:rPr>
              <a:t>第</a:t>
            </a:r>
            <a:r>
              <a:rPr b="1" lang="en-US" sz="3200" spc="-1" strike="noStrike">
                <a:solidFill>
                  <a:srgbClr val="660033"/>
                </a:solidFill>
                <a:latin typeface="华文行楷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华文行楷"/>
                <a:ea typeface="华文行楷"/>
              </a:rPr>
              <a:t>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684360" y="4869000"/>
            <a:ext cx="8137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2781360"/>
            <a:ext cx="91440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鹏鸟奋飞：必须凭借强大的风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水雾尘埃：要靠气息相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根据上面分析，可以归纳第一部分大意如下：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行楷"/>
              </a:rPr>
              <a:t>阐明世间万事万物，大至鹏鸟，小至尘埃，它们的活动都“有所待”（待，依靠），都是没有绝对自由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行楷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AutoShape 4"/>
          <p:cNvSpPr/>
          <p:nvPr/>
        </p:nvSpPr>
        <p:spPr>
          <a:xfrm>
            <a:off x="2340000" y="2708280"/>
            <a:ext cx="360360" cy="151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81000 h 1512720"/>
              <a:gd name="textAreaBottom" fmla="*/ 14317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49"/>
                  <a:pt x="10800" y="3697"/>
                </a:cubicBezTo>
                <a:lnTo>
                  <a:pt x="10800" y="7103"/>
                </a:lnTo>
                <a:cubicBezTo>
                  <a:pt x="10800" y="8952"/>
                  <a:pt x="5400" y="10800"/>
                  <a:pt x="0" y="10800"/>
                </a:cubicBezTo>
                <a:cubicBezTo>
                  <a:pt x="5400" y="10800"/>
                  <a:pt x="10800" y="12649"/>
                  <a:pt x="10800" y="14497"/>
                </a:cubicBezTo>
                <a:lnTo>
                  <a:pt x="10800" y="17903"/>
                </a:lnTo>
                <a:cubicBezTo>
                  <a:pt x="10800" y="1975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3586320" cy="719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行楷"/>
              </a:rPr>
              <a:t>课文鉴赏要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华文行楷"/>
              </a:rPr>
              <a:t>　　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华文行楷"/>
              </a:rPr>
              <a:t>①借用寓言说理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文章借用大量的寓言把“无所待”的思想寄托于生动的形象中，如文中的鲲、鹏、蜩蝉、学鸠、斥鴳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华文行楷"/>
              </a:rPr>
              <a:t>　　②想象丰富，意境开阔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如关于鲲的神奇变化、鹏的遨游太空，丰富的想象让文章汪洋恣肆，充满浪漫主义色彩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　　③运用了比喻、夸张、拟人等多种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华文行楷"/>
              </a:rPr>
              <a:t>修辞手法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冥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：亦作溟，海之意。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北冥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就是北方的大海。下文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南冥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仿此。传说北海无边无际，水深而黑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②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怒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：奋起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③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垂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：边远；此词后代写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陲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④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海运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：海水运动，这里指汹涌的海涛；一说指鹏鸟在海面飞行。徙：迁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⑤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天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：天然的大池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⑥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志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：记载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⑦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击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：拍打，这里指鹏鸟奋飞而起双翼拍打水面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⑧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抟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ｔｕ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á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ｎ）：环绕而上。一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抟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当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搏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ó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，拍击的意思。扶摇：又名叫飙，由地面急剧盘旋而上的暴风。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⑨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去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：离，这里指离开北海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⑩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野马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：春天林泽中的雾气。雾气浮动状如奔马，故名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野马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3203640" y="0"/>
            <a:ext cx="232416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行楷"/>
              </a:rPr>
              <a:t>词语积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文本框 6194"/>
          <p:cNvSpPr/>
          <p:nvPr/>
        </p:nvSpPr>
        <p:spPr>
          <a:xfrm>
            <a:off x="966960" y="1701720"/>
            <a:ext cx="75546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  <a:ea typeface="黑体"/>
              </a:rPr>
              <a:t>一、重点词语积累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1.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重点实词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1)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其翼若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垂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天之云              垂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2)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海运则将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徙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于南冥          徙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3)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水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击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三千里                      击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4)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抟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扶摇而上者九万里      抟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去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以六月息者也              去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6)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亦若是则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已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矣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                  已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停止       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27" name="组合 6203"/>
          <p:cNvGrpSpPr/>
          <p:nvPr/>
        </p:nvGrpSpPr>
        <p:grpSpPr>
          <a:xfrm>
            <a:off x="395280" y="1052640"/>
            <a:ext cx="2303640" cy="489960"/>
            <a:chOff x="395280" y="1052640"/>
            <a:chExt cx="2303640" cy="489960"/>
          </a:xfrm>
        </p:grpSpPr>
        <p:pic>
          <p:nvPicPr>
            <p:cNvPr id="628" name="图片 6200" descr="PPT·（4字）"/>
            <p:cNvPicPr/>
            <p:nvPr/>
          </p:nvPicPr>
          <p:blipFill>
            <a:blip r:embed="rId1"/>
            <a:stretch/>
          </p:blipFill>
          <p:spPr>
            <a:xfrm>
              <a:off x="395280" y="1087560"/>
              <a:ext cx="23036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矩形 6201"/>
            <p:cNvSpPr/>
            <p:nvPr/>
          </p:nvSpPr>
          <p:spPr>
            <a:xfrm>
              <a:off x="1272240" y="1052640"/>
              <a:ext cx="97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知识梳理</a:t>
              </a:r>
              <a:endParaRPr b="0" lang="en-US" sz="2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30" name="文本框 1"/>
          <p:cNvSpPr/>
          <p:nvPr/>
        </p:nvSpPr>
        <p:spPr>
          <a:xfrm>
            <a:off x="5435640" y="2851200"/>
            <a:ext cx="168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悬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1" name="文本框 2"/>
          <p:cNvSpPr/>
          <p:nvPr/>
        </p:nvSpPr>
        <p:spPr>
          <a:xfrm>
            <a:off x="5435640" y="3340080"/>
            <a:ext cx="16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迁移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2" name="文本框 3"/>
          <p:cNvSpPr/>
          <p:nvPr/>
        </p:nvSpPr>
        <p:spPr>
          <a:xfrm>
            <a:off x="5435640" y="3879720"/>
            <a:ext cx="154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拍打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3" name="文本框 6"/>
          <p:cNvSpPr/>
          <p:nvPr/>
        </p:nvSpPr>
        <p:spPr>
          <a:xfrm>
            <a:off x="5316480" y="4398840"/>
            <a:ext cx="2136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环绕而上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4" name="文本框 8"/>
          <p:cNvSpPr/>
          <p:nvPr/>
        </p:nvSpPr>
        <p:spPr>
          <a:xfrm>
            <a:off x="5560920" y="4886280"/>
            <a:ext cx="164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离开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5" name="文本框 9"/>
          <p:cNvSpPr/>
          <p:nvPr/>
        </p:nvSpPr>
        <p:spPr>
          <a:xfrm>
            <a:off x="6591240" y="5373720"/>
            <a:ext cx="154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罢了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文本框 2"/>
          <p:cNvSpPr/>
          <p:nvPr/>
        </p:nvSpPr>
        <p:spPr>
          <a:xfrm>
            <a:off x="771480" y="1268280"/>
            <a:ext cx="74581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2.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通假字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1)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北冥有鱼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通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,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意思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    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。 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2)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其正色邪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通 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,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意思 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   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7" name="文本框 3"/>
          <p:cNvSpPr/>
          <p:nvPr/>
        </p:nvSpPr>
        <p:spPr>
          <a:xfrm>
            <a:off x="971640" y="2421000"/>
            <a:ext cx="55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冥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8" name="文本框 4"/>
          <p:cNvSpPr/>
          <p:nvPr/>
        </p:nvSpPr>
        <p:spPr>
          <a:xfrm>
            <a:off x="1763640" y="24922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溟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9" name="文本框 5"/>
          <p:cNvSpPr/>
          <p:nvPr/>
        </p:nvSpPr>
        <p:spPr>
          <a:xfrm>
            <a:off x="3922560" y="2492280"/>
            <a:ext cx="332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海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0" name="文本框 6"/>
          <p:cNvSpPr/>
          <p:nvPr/>
        </p:nvSpPr>
        <p:spPr>
          <a:xfrm>
            <a:off x="950760" y="3619440"/>
            <a:ext cx="5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邪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1" name="文本框 8"/>
          <p:cNvSpPr/>
          <p:nvPr/>
        </p:nvSpPr>
        <p:spPr>
          <a:xfrm>
            <a:off x="3492360" y="3648240"/>
            <a:ext cx="332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语气词，呢，吗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2" name="文本框 17"/>
          <p:cNvSpPr/>
          <p:nvPr/>
        </p:nvSpPr>
        <p:spPr>
          <a:xfrm>
            <a:off x="1833480" y="3659040"/>
            <a:ext cx="65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耶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文本框 2"/>
          <p:cNvSpPr/>
          <p:nvPr/>
        </p:nvSpPr>
        <p:spPr>
          <a:xfrm>
            <a:off x="727200" y="1131840"/>
            <a:ext cx="79660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3. 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古今异义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(1)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怒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而飞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古义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en-US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        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，义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en-US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(2)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海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运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则将徙于南冥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古义</a:t>
            </a:r>
            <a:r>
              <a:rPr b="1" lang="en-US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             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今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义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en-US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 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(3)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天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池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也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古义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en-US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            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，今义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en-US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 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野马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也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古义：                                       今义：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4" name="文本框 1"/>
          <p:cNvSpPr/>
          <p:nvPr/>
        </p:nvSpPr>
        <p:spPr>
          <a:xfrm>
            <a:off x="1714680" y="2276640"/>
            <a:ext cx="213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奋发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5" name="文本框 12"/>
          <p:cNvSpPr/>
          <p:nvPr/>
        </p:nvSpPr>
        <p:spPr>
          <a:xfrm>
            <a:off x="5651640" y="2276640"/>
            <a:ext cx="203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生气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发怒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6" name="文本框 13"/>
          <p:cNvSpPr/>
          <p:nvPr/>
        </p:nvSpPr>
        <p:spPr>
          <a:xfrm>
            <a:off x="1635120" y="3514680"/>
            <a:ext cx="1712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海动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7" name="文本框 14"/>
          <p:cNvSpPr/>
          <p:nvPr/>
        </p:nvSpPr>
        <p:spPr>
          <a:xfrm>
            <a:off x="5653080" y="3514680"/>
            <a:ext cx="254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泛指海上运输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8" name="文本框 15"/>
          <p:cNvSpPr/>
          <p:nvPr/>
        </p:nvSpPr>
        <p:spPr>
          <a:xfrm>
            <a:off x="1714680" y="4724280"/>
            <a:ext cx="359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天然形成的大水池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9" name="文本框 16"/>
          <p:cNvSpPr/>
          <p:nvPr/>
        </p:nvSpPr>
        <p:spPr>
          <a:xfrm>
            <a:off x="5925960" y="4727520"/>
            <a:ext cx="187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高山湖泊名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0" name="文本框 9224"/>
          <p:cNvSpPr/>
          <p:nvPr/>
        </p:nvSpPr>
        <p:spPr>
          <a:xfrm>
            <a:off x="1635120" y="5529240"/>
            <a:ext cx="32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春天林泽中的雾气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1" name="文本框 9226"/>
          <p:cNvSpPr/>
          <p:nvPr/>
        </p:nvSpPr>
        <p:spPr>
          <a:xfrm>
            <a:off x="6156360" y="55292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野生的马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文本框 1"/>
          <p:cNvSpPr/>
          <p:nvPr/>
        </p:nvSpPr>
        <p:spPr>
          <a:xfrm>
            <a:off x="812880" y="1530360"/>
            <a:ext cx="81738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4.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词类活用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1)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方位名词作状语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抟扶摇而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上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者九万里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原意为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在文中意思为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。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2)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形容词作名词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志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怪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者也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原意为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在文中意思为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  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3" name="文本框 2"/>
          <p:cNvSpPr/>
          <p:nvPr/>
        </p:nvSpPr>
        <p:spPr>
          <a:xfrm>
            <a:off x="2274840" y="3270240"/>
            <a:ext cx="32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方位名词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4" name="文本框 3"/>
          <p:cNvSpPr/>
          <p:nvPr/>
        </p:nvSpPr>
        <p:spPr>
          <a:xfrm>
            <a:off x="6370560" y="3282840"/>
            <a:ext cx="154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向上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5" name="文本框 4"/>
          <p:cNvSpPr/>
          <p:nvPr/>
        </p:nvSpPr>
        <p:spPr>
          <a:xfrm>
            <a:off x="2246400" y="5027760"/>
            <a:ext cx="134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奇怪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6" name="文本框 5"/>
          <p:cNvSpPr/>
          <p:nvPr/>
        </p:nvSpPr>
        <p:spPr>
          <a:xfrm>
            <a:off x="6083280" y="5027760"/>
            <a:ext cx="202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怪异的事物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4"/>
          <p:cNvSpPr/>
          <p:nvPr/>
        </p:nvSpPr>
        <p:spPr>
          <a:xfrm>
            <a:off x="2843280" y="549360"/>
            <a:ext cx="34034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课文学习重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826920" y="155736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行楷"/>
              </a:rPr>
              <a:t>　①理解本文以寓言故事设喻来说明道理的方法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826920" y="2708280"/>
            <a:ext cx="75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　②了解庄子想像奇特、意境开阔、富于浪漫色彩的写作风格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826920" y="3860640"/>
            <a:ext cx="75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　③理解庄子追求绝对自由的人生观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826920" y="4653000"/>
            <a:ext cx="76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行楷"/>
              </a:rPr>
              <a:t>　④积累文中重要的文言实词和虚词及文言句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文本框 9"/>
          <p:cNvSpPr/>
          <p:nvPr/>
        </p:nvSpPr>
        <p:spPr>
          <a:xfrm>
            <a:off x="900000" y="1989000"/>
            <a:ext cx="49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息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58" name="对象 11" descr=""/>
          <p:cNvPicPr/>
          <p:nvPr/>
        </p:nvPicPr>
        <p:blipFill>
          <a:blip r:embed="rId1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sp>
        <p:nvSpPr>
          <p:cNvPr id="659" name="文本框 12"/>
          <p:cNvSpPr/>
          <p:nvPr/>
        </p:nvSpPr>
        <p:spPr>
          <a:xfrm>
            <a:off x="1397160" y="1611360"/>
            <a:ext cx="49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a77"/>
                </a:solidFill>
                <a:latin typeface="方正兰亭超细黑简体"/>
                <a:ea typeface="方正兰亭超细黑简体"/>
              </a:rPr>
              <a:t>{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0" name="文本框 13"/>
          <p:cNvSpPr/>
          <p:nvPr/>
        </p:nvSpPr>
        <p:spPr>
          <a:xfrm>
            <a:off x="5211720" y="1577880"/>
            <a:ext cx="120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大风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文本框 15"/>
          <p:cNvSpPr/>
          <p:nvPr/>
        </p:nvSpPr>
        <p:spPr>
          <a:xfrm>
            <a:off x="4637160" y="2376360"/>
            <a:ext cx="230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名词，气息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2" name="文本框 6"/>
          <p:cNvSpPr/>
          <p:nvPr/>
        </p:nvSpPr>
        <p:spPr>
          <a:xfrm>
            <a:off x="727200" y="1195560"/>
            <a:ext cx="75484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5.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一词多义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去以六月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息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者也        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生物之以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息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相吹也</a:t>
            </a:r>
            <a:r>
              <a:rPr b="1" lang="zh-CN" sz="26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文本框 1"/>
          <p:cNvSpPr/>
          <p:nvPr/>
        </p:nvSpPr>
        <p:spPr>
          <a:xfrm>
            <a:off x="530280" y="720720"/>
            <a:ext cx="84074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二、关键句子翻译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1.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《齐谐》者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,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志怪者也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《齐谐》是记载怪异的事物的书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2.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怒而飞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,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其翼若垂天之云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当它振翅奋飞的时候，那展开的双翅就像悬挂在天边的云彩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3.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鹏之徙于南冥也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,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水击三千里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鹏鸟迁徙到南方的大海之时，振翅击水而行，激起的波涛浪花有三千里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4.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抟扶摇而上者九万里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,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去以六月息者也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它乘着旋风环绕而上，一直冲上九万里的高空，凭借着六月的大风才能离开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文本框 1"/>
          <p:cNvSpPr/>
          <p:nvPr/>
        </p:nvSpPr>
        <p:spPr>
          <a:xfrm>
            <a:off x="257040" y="527040"/>
            <a:ext cx="86313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a77"/>
                </a:solidFill>
                <a:latin typeface="Times New Roman"/>
              </a:rPr>
              <a:t>三、内容探究</a:t>
            </a:r>
            <a:endParaRPr b="0" lang="en-US" sz="2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本文开头描述鲲鹏的形象及奋飞时的壮美气势与论述“逍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遥游”有什么联系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答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鲲鹏展翅高飞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必须凭借六月的大风。说明世间万物都要凭借外力才能活动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从而回答了“逍遥”要有所依凭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a77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野马”“尘埃”的运动依靠什么？写它们有什么作用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7a77"/>
                </a:solidFill>
                <a:latin typeface="Times New Roman"/>
              </a:rPr>
              <a:t>答</a:t>
            </a:r>
            <a:r>
              <a:rPr b="1" lang="zh-CN" sz="22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野马”“尘埃”的运动也必须依靠气息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,“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生物之以息相吹也”。这里和鹏相比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说明万物均“有所待”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有所待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须凭借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要依靠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),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世上的万物无论大小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都受到不同的限制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处在不同的束缚之中。因此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鹏也好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,“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野马”“尘埃”也好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状似逍遥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其实并没有达到真正的逍遥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组合 6203"/>
          <p:cNvGrpSpPr/>
          <p:nvPr/>
        </p:nvGrpSpPr>
        <p:grpSpPr>
          <a:xfrm>
            <a:off x="395280" y="1052640"/>
            <a:ext cx="2303640" cy="489960"/>
            <a:chOff x="395280" y="1052640"/>
            <a:chExt cx="2303640" cy="489960"/>
          </a:xfrm>
        </p:grpSpPr>
        <p:pic>
          <p:nvPicPr>
            <p:cNvPr id="666" name="图片 6200" descr="PPT·（4字）"/>
            <p:cNvPicPr/>
            <p:nvPr/>
          </p:nvPicPr>
          <p:blipFill>
            <a:blip r:embed="rId1"/>
            <a:stretch/>
          </p:blipFill>
          <p:spPr>
            <a:xfrm>
              <a:off x="395280" y="1087560"/>
              <a:ext cx="23036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矩形 6201"/>
            <p:cNvSpPr/>
            <p:nvPr/>
          </p:nvSpPr>
          <p:spPr>
            <a:xfrm>
              <a:off x="1271520" y="1052640"/>
              <a:ext cx="97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金题演练</a:t>
              </a:r>
              <a:endParaRPr b="0" lang="en-US" sz="2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68" name="文本框 1"/>
          <p:cNvSpPr/>
          <p:nvPr/>
        </p:nvSpPr>
        <p:spPr>
          <a:xfrm>
            <a:off x="1057320" y="1817640"/>
            <a:ext cx="70437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一、阅读《〈庄子〉一则》完成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～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题。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15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分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)                                                               1.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解释下列加点词语。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4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分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１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怒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而飞              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                     )   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２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志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怪者也             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                    )                                                     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３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抟扶摇而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上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者九万里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                    )                              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４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其远而无所至极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邪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                    )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9" name="文本框 2"/>
          <p:cNvSpPr/>
          <p:nvPr/>
        </p:nvSpPr>
        <p:spPr>
          <a:xfrm>
            <a:off x="5046840" y="2997360"/>
            <a:ext cx="193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振动翅膀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0" name="文本框 3"/>
          <p:cNvSpPr/>
          <p:nvPr/>
        </p:nvSpPr>
        <p:spPr>
          <a:xfrm>
            <a:off x="5365800" y="3735360"/>
            <a:ext cx="161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记载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1" name="文本框 4"/>
          <p:cNvSpPr/>
          <p:nvPr/>
        </p:nvSpPr>
        <p:spPr>
          <a:xfrm>
            <a:off x="5365800" y="4595760"/>
            <a:ext cx="217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向上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2" name="文本框 6"/>
          <p:cNvSpPr/>
          <p:nvPr/>
        </p:nvSpPr>
        <p:spPr>
          <a:xfrm>
            <a:off x="4905360" y="5391000"/>
            <a:ext cx="185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尽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文本框 1"/>
          <p:cNvSpPr/>
          <p:nvPr/>
        </p:nvSpPr>
        <p:spPr>
          <a:xfrm>
            <a:off x="900000" y="1339920"/>
            <a:ext cx="727416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2.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将下列句子译成现代汉语。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4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分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１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是鸟也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,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海运则将徙于南冥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这只鸟，海动风起时就将迁往南海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２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天之苍苍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,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其正色邪？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天色深蓝，是它真正的颜色吗？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文本框 1"/>
          <p:cNvSpPr/>
          <p:nvPr/>
        </p:nvSpPr>
        <p:spPr>
          <a:xfrm>
            <a:off x="539640" y="1009800"/>
            <a:ext cx="8082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３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.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文章借鲲鹏的寓言说明什么道理？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(3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分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【解析】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文章借鲲鹏奋飞必须凭借海运和强大的风力、水雾尘埃要靠气息相吹来说明万物有所待的道理。借用寓言故事把道理寄托于生动的形象中，使文章生动活泼，颇具诗意，寓意隽永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【答案】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说明任何事物的存在都要依附于一定的条件，它们的活动都要有所凭借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４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.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你敬佩鲲鹏吗？谈谈你的理由。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(4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分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【解析】</a:t>
            </a:r>
            <a:r>
              <a:rPr b="1" lang="zh-CN" sz="2600" spc="-1" strike="noStrike">
                <a:solidFill>
                  <a:srgbClr val="007a77"/>
                </a:solidFill>
                <a:latin typeface="楷体"/>
                <a:ea typeface="楷体"/>
              </a:rPr>
              <a:t>解答这类题目，要求有自己的独特见解，并能对自己的观点进行简要的阐述，言之成理即可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文本框 2"/>
          <p:cNvSpPr/>
          <p:nvPr/>
        </p:nvSpPr>
        <p:spPr>
          <a:xfrm>
            <a:off x="539640" y="1268280"/>
            <a:ext cx="7899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【答案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示例一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敬佩鲲鹏，因为鲲鹏入深海，翔九天，胸怀远大的理想和抱负，搏击长空，纵横大海，就像范仲淹、诸葛亮、毛泽东等历史人物，他们以天下苍生为己任，推动历史向前发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示例二：我不敬佩，因为我喜欢知足常乐，淡泊名利，就像普通的劳动者，他们爱岗敬业，在平凡的岗位上做出不平凡的贡献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8" descr="0361"/>
          <p:cNvPicPr/>
          <p:nvPr/>
        </p:nvPicPr>
        <p:blipFill>
          <a:blip r:embed="rId1"/>
          <a:stretch/>
        </p:blipFill>
        <p:spPr>
          <a:xfrm>
            <a:off x="6548400" y="3094200"/>
            <a:ext cx="2595600" cy="3763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" descr="26MC"/>
          <p:cNvPicPr/>
          <p:nvPr/>
        </p:nvPicPr>
        <p:blipFill>
          <a:blip r:embed="rId2"/>
          <a:stretch/>
        </p:blipFill>
        <p:spPr>
          <a:xfrm>
            <a:off x="6588000" y="0"/>
            <a:ext cx="2556000" cy="306864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363600" y="939960"/>
            <a:ext cx="583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  <a:ea typeface="宋体"/>
              </a:rPr>
              <a:t>庄子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，名周，</a:t>
            </a:r>
            <a:r>
              <a:rPr b="1" lang="zh-CN" sz="2800" spc="-1" strike="noStrike">
                <a:solidFill>
                  <a:srgbClr val="e40000"/>
                </a:solidFill>
                <a:latin typeface="宋体"/>
                <a:ea typeface="宋体"/>
              </a:rPr>
              <a:t>后人称之为“南华真人”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宋体"/>
                <a:ea typeface="宋体"/>
              </a:rPr>
              <a:t>战国时宋国</a:t>
            </a:r>
            <a:r>
              <a:rPr b="1" lang="zh-CN" sz="2800" spc="-1" strike="noStrike">
                <a:solidFill>
                  <a:srgbClr val="e40000"/>
                </a:solidFill>
                <a:latin typeface="宋体"/>
                <a:ea typeface="宋体"/>
              </a:rPr>
              <a:t>著名的思想家、哲学家、文学家，是</a:t>
            </a:r>
            <a:r>
              <a:rPr b="1" lang="zh-CN" sz="2800" spc="-1" strike="noStrike">
                <a:solidFill>
                  <a:srgbClr val="00497b"/>
                </a:solidFill>
                <a:latin typeface="宋体"/>
                <a:ea typeface="宋体"/>
              </a:rPr>
              <a:t>道家学派</a:t>
            </a:r>
            <a:r>
              <a:rPr b="1" lang="zh-CN" sz="2800" spc="-1" strike="noStrike">
                <a:solidFill>
                  <a:srgbClr val="e40000"/>
                </a:solidFill>
                <a:latin typeface="宋体"/>
                <a:ea typeface="宋体"/>
              </a:rPr>
              <a:t>的代表人物，老子哲学思想的继承者和发展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e40000"/>
                </a:solidFill>
                <a:latin typeface="宋体"/>
                <a:ea typeface="宋体"/>
              </a:rPr>
              <a:t>后世将他与老子并称为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老庄</a:t>
            </a:r>
            <a:r>
              <a:rPr b="1" lang="zh-CN" sz="2800" spc="-1" strike="noStrike">
                <a:solidFill>
                  <a:srgbClr val="e40000"/>
                </a:solidFill>
                <a:latin typeface="宋体"/>
                <a:ea typeface="宋体"/>
              </a:rPr>
              <a:t>”，他们的哲学为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老庄哲学</a:t>
            </a:r>
            <a:r>
              <a:rPr b="1" lang="zh-CN" sz="2800" spc="-1" strike="noStrike">
                <a:solidFill>
                  <a:srgbClr val="e40000"/>
                </a:solidFill>
                <a:latin typeface="宋体"/>
                <a:ea typeface="宋体"/>
              </a:rPr>
              <a:t>”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2679840" y="4010040"/>
            <a:ext cx="646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7537320" y="3213000"/>
            <a:ext cx="5461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　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华文行楷"/>
              </a:rPr>
              <a:t>其文汪洋辟阖，仪态万方，晚周诸子之作，莫能先也。　　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华文行楷"/>
              </a:rPr>
              <a:t>—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华文行楷"/>
              </a:rPr>
              <a:t>鲁迅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文本框 1"/>
          <p:cNvSpPr/>
          <p:nvPr/>
        </p:nvSpPr>
        <p:spPr>
          <a:xfrm>
            <a:off x="515880" y="317520"/>
            <a:ext cx="616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宋体"/>
              </a:rPr>
              <a:t>他的主要思想是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天道无为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宋体"/>
              </a:rPr>
              <a:t>”，认为一切事物都在变化。主张“无为”，幻想一种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天地与我并生，万物与我为一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宋体"/>
              </a:rPr>
              <a:t>”的主观精神境界，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12720" y="3408480"/>
            <a:ext cx="779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  <a:ea typeface="宋体"/>
              </a:rPr>
              <a:t>　</a:t>
            </a: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  <a:ea typeface="宋体"/>
              </a:rPr>
              <a:t>庄子</a:t>
            </a: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  <a:ea typeface="宋体"/>
              </a:rPr>
              <a:t>散文最富有想象力和浪漫主义色彩，擅长用寓言故事来说明道理，</a:t>
            </a: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  <a:ea typeface="宋体"/>
              </a:rPr>
              <a:t>史记</a:t>
            </a: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  <a:ea typeface="宋体"/>
              </a:rPr>
              <a:t>载：“其著书十余万言，大抵率寓言也”。如丑女效颦、望洋兴叹、鲲鹏展翅、不龟手之药等，都是巧妙隽永、妙趣横生的寓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文本框 2"/>
          <p:cNvSpPr/>
          <p:nvPr/>
        </p:nvSpPr>
        <p:spPr>
          <a:xfrm>
            <a:off x="515880" y="2238480"/>
            <a:ext cx="76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宋体"/>
              </a:rPr>
              <a:t>庄周和他的门人以及后学者著有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庄子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宋体"/>
              </a:rPr>
              <a:t>（被道教奉为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南华经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宋体"/>
              </a:rPr>
              <a:t>），道家经典之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文本框 31745"/>
          <p:cNvSpPr/>
          <p:nvPr/>
        </p:nvSpPr>
        <p:spPr>
          <a:xfrm>
            <a:off x="2411280" y="907920"/>
            <a:ext cx="48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有关庄子的典故</a:t>
            </a: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文本框 31746"/>
          <p:cNvSpPr/>
          <p:nvPr/>
        </p:nvSpPr>
        <p:spPr>
          <a:xfrm>
            <a:off x="1050840" y="2120760"/>
            <a:ext cx="71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   “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昔者庄周梦为胡蝶，栩栩然胡蝶也，自喻适志与！不知周也。俄然觉，则蘧蘧然周也。不知周之梦为胡蝶与？胡蝶之梦为周与？周与胡蝶则必有分矣。此之谓物化。”（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庄子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内篇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齐物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）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262320" y="241200"/>
            <a:ext cx="2316240" cy="720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行楷"/>
              </a:rPr>
              <a:t>写作背景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庄子生活的年代，正是我国古代社会大变革、大动荡、大战乱的时代，其时周王朝名存实亡，各诸侯国之间的战争愈演愈烈，战争也空前残酷。庄子对这样的社会现实及统治者深为不满，时时进行尖锐的批判，发出沉痛的抗议；他对自己无力改变这样的社会现实心有不甘，想用自己的一套思想和人生观来影响和改造人们。这正是庄子思想产生的社会背景和主观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457200" y="62532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逍遥游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庄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代表篇目之一，充满奇特的想象和浪漫的色彩，寓说理于寓言和生动的比喻中，形成独特的风格。“逍遥游”也是庄子哲学思想的一个重要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全篇一再阐述无所依凭的主张，追求精神世界的绝对自由。在庄子的眼里，客观现实中的一事一物，包括人类本身都是对立而又相互依存的，这就没有绝对的自由，要想无所依凭就得无己。因而他希望一切顺乎自然，超脱于现实，否定人在社会生活中的一切作用，把人类的生活与万物的生存混为一体；提倡不滞于物，追求无条件的精神自由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文本框 34817"/>
          <p:cNvSpPr/>
          <p:nvPr/>
        </p:nvSpPr>
        <p:spPr>
          <a:xfrm>
            <a:off x="1044720" y="2060640"/>
            <a:ext cx="71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逍遥游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主要观点：人应当参透功名利禄、权势地位的作用力，打破其束缚，使精神活动臻至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宋体"/>
              </a:rPr>
              <a:t>优游自在，无牵无挂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境界。</a:t>
            </a:r>
            <a:r>
              <a:rPr b="0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5564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9080" y="1398600"/>
            <a:ext cx="868824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北冥有鱼，其名为鲲。鲲之大，不知其几千里也。化而为鸟，其名为鹏。鹏之背，不知其几千里也，怒而飞，其翼若垂天之云。是鸟也，海运则将徙于南冥。南冥者，天池也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齐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者，志怪者也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言曰：“鹏之徙于南冥也，水击三千里，抟扶摇而上者九万里，去以六月息者也。”野马也，尘埃也，生物之以息相吹也。天之苍苍，其正色邪？其远而无所至极邪？其视下也，亦若是则已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10:28Z</dcterms:created>
  <dc:creator>董志霞</dc:creator>
  <dc:description/>
  <dc:language>en-US</dc:language>
  <cp:lastModifiedBy>碧海听涛</cp:lastModifiedBy>
  <dcterms:modified xsi:type="dcterms:W3CDTF">2017-12-12T12:45:04Z</dcterms:modified>
  <cp:revision>163</cp:revision>
  <dc:subject/>
  <dc:title>《逍遥游》教学课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