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6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9A6-F590-423A-A578-E664E25B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8B8-F293-42A9-B9F8-64B7E271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DED-5F5A-4EC8-BC12-B1953D9E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595-4426-41EA-A5D3-8AB526CD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0950-3999-4C58-9312-6DDF3848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C497-6902-45C3-8EB1-9408B0E4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0DF1-0E86-44FC-A4CE-6D1FC5EE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0F57-6044-43D2-8705-C7ABDD4B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892-A7FF-47C1-A752-AB4DE7A3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EF0-528E-4BDC-8E1B-326A560A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35CB-5824-4B7E-8A61-27E19F60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8C5-1397-4C0B-ADA2-4294792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1AC0-F9F3-4665-834B-F809C4C7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6DD6-C761-4F64-809A-D0F0329C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36BB-4C97-4ADE-B5E0-91B986D9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4F3A-73D1-479D-9DBC-84BEEBBE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0D0D-53F0-44ED-A7F9-A5473E8F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D95-FE5F-4064-AB9E-4037353F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A73-80DA-4317-93C8-7D81456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03B-32ED-40FD-9B7A-C57DAF69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EA9-B283-4416-8E5B-1052E817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B05-F49F-4372-A5A4-09E300E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F12-348E-460C-9A08-7EF79C48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61A-14DA-42A2-8EBC-F8079AE5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FB1D-5F8C-41C8-9CE8-89ADF50D84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A6D0-5B45-4D09-8CDE-8FB62E20E3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22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121" descr="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5122"/>
          <p:cNvSpPr/>
          <p:nvPr/>
        </p:nvSpPr>
        <p:spPr>
          <a:xfrm>
            <a:off x="1116000" y="106668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  <a:ea typeface="汉仪篆书繁"/>
              </a:rPr>
              <a:t>《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汉仪篆书繁"/>
              </a:rPr>
              <a:t>庄子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  <a:ea typeface="汉仪篆书繁"/>
              </a:rPr>
              <a:t>》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汉仪篆书繁"/>
              </a:rPr>
              <a:t>一则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5123"/>
          <p:cNvSpPr/>
          <p:nvPr/>
        </p:nvSpPr>
        <p:spPr>
          <a:xfrm>
            <a:off x="2771640" y="3789360"/>
            <a:ext cx="14637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汉仪篆书繁"/>
              </a:rPr>
              <a:t>庄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14337"/>
          <p:cNvSpPr/>
          <p:nvPr/>
        </p:nvSpPr>
        <p:spPr>
          <a:xfrm>
            <a:off x="1187280" y="66672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书现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内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外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杂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。内篇当是庄子自撰，外篇、杂篇可能是庄周门人和后学所补。用艺术形象来阐明哲学道理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14338"/>
          <p:cNvSpPr/>
          <p:nvPr/>
        </p:nvSpPr>
        <p:spPr>
          <a:xfrm>
            <a:off x="3203640" y="2717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大特色，在文学意义上代表了了先秦散文最高成就。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行文多为寓言，善于虚构，汪洋恣肆，想象丰富奇特，气势波澜壮阔，且富浪漫主义色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组合 14339"/>
          <p:cNvGrpSpPr/>
          <p:nvPr/>
        </p:nvGrpSpPr>
        <p:grpSpPr>
          <a:xfrm>
            <a:off x="108000" y="3083040"/>
            <a:ext cx="2806560" cy="3774960"/>
            <a:chOff x="108000" y="3083040"/>
            <a:chExt cx="2806560" cy="3774960"/>
          </a:xfrm>
        </p:grpSpPr>
        <p:pic>
          <p:nvPicPr>
            <p:cNvPr id="111" name="图片 14340" descr="7898e23936ff0fd315cecbee"/>
            <p:cNvPicPr/>
            <p:nvPr/>
          </p:nvPicPr>
          <p:blipFill>
            <a:blip r:embed="rId1"/>
            <a:srcRect l="14856" t="31789" r="62603" b="0"/>
            <a:stretch/>
          </p:blipFill>
          <p:spPr>
            <a:xfrm>
              <a:off x="108000" y="3284640"/>
              <a:ext cx="244800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14341"/>
            <p:cNvSpPr/>
            <p:nvPr/>
          </p:nvSpPr>
          <p:spPr>
            <a:xfrm>
              <a:off x="1835280" y="3083040"/>
              <a:ext cx="1079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5361"/>
          <p:cNvSpPr/>
          <p:nvPr/>
        </p:nvSpPr>
        <p:spPr>
          <a:xfrm>
            <a:off x="2556000" y="404640"/>
            <a:ext cx="63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鲁迅先生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文汪洋辟阖，仪态万方，晚周诸子之作，莫能先也。”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文学史纲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郭沫若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以思想家而兼文章家的人，在中国古代哲人中，实在是绝无仅有。”也有人称他的作品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文学的哲学、哲学的文学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图片 15362" descr="图片2"/>
          <p:cNvPicPr/>
          <p:nvPr/>
        </p:nvPicPr>
        <p:blipFill>
          <a:blip r:embed="rId1"/>
          <a:srcRect l="15787" t="0" r="0" b="0"/>
          <a:stretch/>
        </p:blipFill>
        <p:spPr>
          <a:xfrm>
            <a:off x="41400" y="44280"/>
            <a:ext cx="287496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15363"/>
          <p:cNvSpPr/>
          <p:nvPr/>
        </p:nvSpPr>
        <p:spPr>
          <a:xfrm>
            <a:off x="539640" y="3860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庄子思想主要有天道无为观，相对认识论，无条件精神自由等。他追求的心灵总在幻想的绝对自由的境界里翱翔。从这种认识论出发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政治上，他主张无为而治；生活上，他的态度是：一切顺应自然，安时处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6385" descr="convers"/>
          <p:cNvPicPr/>
          <p:nvPr/>
        </p:nvPicPr>
        <p:blipFill>
          <a:blip r:embed="rId1"/>
          <a:stretch/>
        </p:blipFill>
        <p:spPr>
          <a:xfrm>
            <a:off x="1187280" y="333360"/>
            <a:ext cx="7239240" cy="144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7" name="文本框 16386"/>
          <p:cNvSpPr/>
          <p:nvPr/>
        </p:nvSpPr>
        <p:spPr>
          <a:xfrm>
            <a:off x="1676520" y="53352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隶书"/>
              </a:rPr>
              <a:t>背 景 介 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文本框 16387"/>
          <p:cNvSpPr/>
          <p:nvPr/>
        </p:nvSpPr>
        <p:spPr>
          <a:xfrm>
            <a:off x="109440" y="198288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庄子天才卓绝，聪明勤奋，并非生来就无用世之心。但是，“而今也以天下惑，予虽有祈向，不可得也”（</a:t>
            </a:r>
            <a:r>
              <a:rPr b="1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庄子</a:t>
            </a:r>
            <a:r>
              <a:rPr b="1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·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天地</a:t>
            </a:r>
            <a:r>
              <a:rPr b="1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）。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一方面腐败的社会使他不屑与之为伍，另一方面，“王公大人不能器之” 的现实处境又使他无法一展抱负。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人世间既然如此沉浊，他追求自由的心灵只好在幻想的天地里翱翔，在绝对自由的境界里寻求解脱。正是在这种情况下，他写出了苦闷心灵的追求之歌</a:t>
            </a:r>
            <a:r>
              <a:rPr b="1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逍遥游</a:t>
            </a:r>
            <a:r>
              <a:rPr b="1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7409"/>
          <p:cNvSpPr/>
          <p:nvPr/>
        </p:nvSpPr>
        <p:spPr>
          <a:xfrm>
            <a:off x="36360" y="406440"/>
            <a:ext cx="910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篇是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代表篇目之一，充满奇特的想象和浪漫色彩，寓说理于寓言和生动的比喻中，形成独特的风格。“逍遥游”也是庄子哲学思想的一个重要方面。全篇一再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阐述无所依凭的主张，追求精神世界的绝对自由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庄子的眼里，客观现实中的一事一物，包括人类本身都是对立而又相互依存的，这就没有绝对的自由，要想无所依凭就得无己。因而他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希望一切顺乎自然，超脱于现实，否定人在社会生活中的一切作用，把人类的生活与万物的生存混为一体；提倡不滞于物，追求无条件的精神自由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8433"/>
          <p:cNvSpPr/>
          <p:nvPr/>
        </p:nvSpPr>
        <p:spPr>
          <a:xfrm>
            <a:off x="685800" y="4572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预习检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18434"/>
          <p:cNvSpPr/>
          <p:nvPr/>
        </p:nvSpPr>
        <p:spPr>
          <a:xfrm>
            <a:off x="1905120" y="2205000"/>
            <a:ext cx="1828800" cy="64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" action="ppaction://hlinksldjump"/>
              </a:rPr>
              <a:t>通假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18435"/>
          <p:cNvSpPr/>
          <p:nvPr/>
        </p:nvSpPr>
        <p:spPr>
          <a:xfrm>
            <a:off x="1905120" y="3276720"/>
            <a:ext cx="1828800" cy="64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2" action="ppaction://hlinksldjump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18436"/>
          <p:cNvSpPr/>
          <p:nvPr/>
        </p:nvSpPr>
        <p:spPr>
          <a:xfrm>
            <a:off x="1905120" y="4495680"/>
            <a:ext cx="1828800" cy="64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3" action="ppaction://hlinksldjump"/>
              </a:rPr>
              <a:t>固定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图片 18437" descr="6"/>
          <p:cNvPicPr/>
          <p:nvPr/>
        </p:nvPicPr>
        <p:blipFill>
          <a:blip r:embed="rId4"/>
          <a:stretch/>
        </p:blipFill>
        <p:spPr>
          <a:xfrm>
            <a:off x="5105520" y="3200400"/>
            <a:ext cx="363528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直接连接符 18438"/>
          <p:cNvSpPr/>
          <p:nvPr/>
        </p:nvSpPr>
        <p:spPr>
          <a:xfrm>
            <a:off x="380880" y="1219320"/>
            <a:ext cx="41911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8439"/>
          <p:cNvSpPr/>
          <p:nvPr/>
        </p:nvSpPr>
        <p:spPr>
          <a:xfrm>
            <a:off x="1981080" y="1341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imes New Roman"/>
              </a:rPr>
              <a:t>生字生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170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注意下列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红色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注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2017440"/>
            <a:ext cx="3810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鹏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堂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988640"/>
            <a:ext cx="4033800" cy="41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í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鹏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ūn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án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ǐ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堂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o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è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è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21505"/>
          <p:cNvSpPr/>
          <p:nvPr/>
        </p:nvSpPr>
        <p:spPr>
          <a:xfrm>
            <a:off x="612720" y="620640"/>
            <a:ext cx="2160720" cy="6426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21506"/>
          <p:cNvSpPr/>
          <p:nvPr/>
        </p:nvSpPr>
        <p:spPr>
          <a:xfrm>
            <a:off x="1143000" y="1447920"/>
            <a:ext cx="57913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后乃今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莽苍者，三餐而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及大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此小大之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辩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征一国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旬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日而后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御六气之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组合 21507"/>
          <p:cNvGrpSpPr/>
          <p:nvPr/>
        </p:nvGrpSpPr>
        <p:grpSpPr>
          <a:xfrm>
            <a:off x="5105520" y="1447920"/>
            <a:ext cx="3276360" cy="4939920"/>
            <a:chOff x="5105520" y="1447920"/>
            <a:chExt cx="3276360" cy="4939920"/>
          </a:xfrm>
        </p:grpSpPr>
        <p:sp>
          <p:nvSpPr>
            <p:cNvPr id="133" name="文本框 21508"/>
            <p:cNvSpPr/>
            <p:nvPr/>
          </p:nvSpPr>
          <p:spPr>
            <a:xfrm>
              <a:off x="5105520" y="144792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通“溟”，大海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文本框 21509"/>
            <p:cNvSpPr/>
            <p:nvPr/>
          </p:nvSpPr>
          <p:spPr>
            <a:xfrm>
              <a:off x="5105520" y="2133360"/>
              <a:ext cx="289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（通“凭”，凭借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文本框 21510"/>
            <p:cNvSpPr/>
            <p:nvPr/>
          </p:nvSpPr>
          <p:spPr>
            <a:xfrm>
              <a:off x="5105520" y="274284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通“返”，返回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文本框 21511"/>
            <p:cNvSpPr/>
            <p:nvPr/>
          </p:nvSpPr>
          <p:spPr>
            <a:xfrm>
              <a:off x="5105520" y="3352680"/>
              <a:ext cx="32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（通“智”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文本框 21512"/>
            <p:cNvSpPr/>
            <p:nvPr/>
          </p:nvSpPr>
          <p:spPr>
            <a:xfrm>
              <a:off x="5105520" y="4038480"/>
              <a:ext cx="274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通“辨”，区别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文本框 21513"/>
            <p:cNvSpPr/>
            <p:nvPr/>
          </p:nvSpPr>
          <p:spPr>
            <a:xfrm>
              <a:off x="5105520" y="4647960"/>
              <a:ext cx="32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（通“耐”，才能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文本框 21514"/>
            <p:cNvSpPr/>
            <p:nvPr/>
          </p:nvSpPr>
          <p:spPr>
            <a:xfrm>
              <a:off x="5105520" y="5257440"/>
              <a:ext cx="25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通“又”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文本框 21515"/>
            <p:cNvSpPr/>
            <p:nvPr/>
          </p:nvSpPr>
          <p:spPr>
            <a:xfrm>
              <a:off x="5105520" y="5867280"/>
              <a:ext cx="22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（通“变”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左箭头 21516">
            <a:hlinkClick r:id="rId1" action="ppaction://hlinksldjump"/>
          </p:cNvPr>
          <p:cNvSpPr/>
          <p:nvPr/>
        </p:nvSpPr>
        <p:spPr>
          <a:xfrm>
            <a:off x="7543800" y="5867280"/>
            <a:ext cx="838080" cy="685800"/>
          </a:xfrm>
          <a:prstGeom prst="leftArrow">
            <a:avLst>
              <a:gd name="adj1" fmla="val 50000"/>
              <a:gd name="adj2" fmla="val 3054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2529"/>
          <p:cNvGrpSpPr/>
          <p:nvPr/>
        </p:nvGrpSpPr>
        <p:grpSpPr>
          <a:xfrm>
            <a:off x="6705720" y="1371600"/>
            <a:ext cx="2438280" cy="5010120"/>
            <a:chOff x="6705720" y="1371600"/>
            <a:chExt cx="2438280" cy="5010120"/>
          </a:xfrm>
        </p:grpSpPr>
        <p:sp>
          <p:nvSpPr>
            <p:cNvPr id="143" name="矩形 22530"/>
            <p:cNvSpPr/>
            <p:nvPr/>
          </p:nvSpPr>
          <p:spPr>
            <a:xfrm>
              <a:off x="6705720" y="1371600"/>
              <a:ext cx="24382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志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矩形 22531"/>
            <p:cNvSpPr/>
            <p:nvPr/>
          </p:nvSpPr>
          <p:spPr>
            <a:xfrm>
              <a:off x="6705720" y="2590920"/>
              <a:ext cx="243828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立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矩形 22532"/>
            <p:cNvSpPr/>
            <p:nvPr/>
          </p:nvSpPr>
          <p:spPr>
            <a:xfrm>
              <a:off x="6705720" y="3809880"/>
              <a:ext cx="24382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记述、记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矩形 22533"/>
            <p:cNvSpPr/>
            <p:nvPr/>
          </p:nvSpPr>
          <p:spPr>
            <a:xfrm>
              <a:off x="6705720" y="4648320"/>
              <a:ext cx="24382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记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矩形 22534"/>
            <p:cNvSpPr/>
            <p:nvPr/>
          </p:nvSpPr>
          <p:spPr>
            <a:xfrm>
              <a:off x="6705720" y="5638680"/>
              <a:ext cx="243828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标记、做标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文本框 22535"/>
          <p:cNvSpPr/>
          <p:nvPr/>
        </p:nvSpPr>
        <p:spPr>
          <a:xfrm>
            <a:off x="250920" y="620640"/>
            <a:ext cx="2209680" cy="5814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组合 22536"/>
          <p:cNvGrpSpPr/>
          <p:nvPr/>
        </p:nvGrpSpPr>
        <p:grpSpPr>
          <a:xfrm>
            <a:off x="304920" y="1600200"/>
            <a:ext cx="5779440" cy="4781520"/>
            <a:chOff x="304920" y="1600200"/>
            <a:chExt cx="5779440" cy="4781520"/>
          </a:xfrm>
        </p:grpSpPr>
        <p:sp>
          <p:nvSpPr>
            <p:cNvPr id="150" name="矩形 22537"/>
            <p:cNvSpPr/>
            <p:nvPr/>
          </p:nvSpPr>
          <p:spPr>
            <a:xfrm>
              <a:off x="1447560" y="1752480"/>
              <a:ext cx="373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燕雀安知鸿鹄之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志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矩形 22538"/>
            <p:cNvSpPr/>
            <p:nvPr/>
          </p:nvSpPr>
          <p:spPr>
            <a:xfrm>
              <a:off x="1447560" y="2590920"/>
              <a:ext cx="463356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士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志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于道，而耻恶衣恶食者，未足与议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矩形 22539"/>
            <p:cNvSpPr/>
            <p:nvPr/>
          </p:nvSpPr>
          <p:spPr>
            <a:xfrm>
              <a:off x="1295280" y="3809880"/>
              <a:ext cx="47890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《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齐谐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》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者，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志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怪者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矩形 22540"/>
            <p:cNvSpPr/>
            <p:nvPr/>
          </p:nvSpPr>
          <p:spPr>
            <a:xfrm>
              <a:off x="1523880" y="4724280"/>
              <a:ext cx="26488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博闻强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矩形 22541"/>
            <p:cNvSpPr/>
            <p:nvPr/>
          </p:nvSpPr>
          <p:spPr>
            <a:xfrm>
              <a:off x="1447560" y="5638680"/>
              <a:ext cx="441936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既出，得其船，便扶向路，处处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志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文本框 22542"/>
            <p:cNvSpPr/>
            <p:nvPr/>
          </p:nvSpPr>
          <p:spPr>
            <a:xfrm>
              <a:off x="304920" y="335268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51933"/>
                  </a:solidFill>
                  <a:latin typeface="Comic Sans MS"/>
                  <a:ea typeface="黑体"/>
                </a:rPr>
                <a:t>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左大括号 22543"/>
            <p:cNvSpPr/>
            <p:nvPr/>
          </p:nvSpPr>
          <p:spPr>
            <a:xfrm>
              <a:off x="1066680" y="1600200"/>
              <a:ext cx="151920" cy="434340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113040 h 4343400"/>
                <a:gd name="textAreaBottom" fmla="*/ 423036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23553"/>
          <p:cNvSpPr/>
          <p:nvPr/>
        </p:nvSpPr>
        <p:spPr>
          <a:xfrm>
            <a:off x="324000" y="620640"/>
            <a:ext cx="2209680" cy="5814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组合 23554"/>
          <p:cNvGrpSpPr/>
          <p:nvPr/>
        </p:nvGrpSpPr>
        <p:grpSpPr>
          <a:xfrm>
            <a:off x="6858000" y="1371600"/>
            <a:ext cx="2286000" cy="4476600"/>
            <a:chOff x="6858000" y="1371600"/>
            <a:chExt cx="2286000" cy="4476600"/>
          </a:xfrm>
        </p:grpSpPr>
        <p:sp>
          <p:nvSpPr>
            <p:cNvPr id="159" name="矩形 23555"/>
            <p:cNvSpPr/>
            <p:nvPr/>
          </p:nvSpPr>
          <p:spPr>
            <a:xfrm>
              <a:off x="6864480" y="1371600"/>
              <a:ext cx="22795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名称、名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矩形 23556"/>
            <p:cNvSpPr/>
            <p:nvPr/>
          </p:nvSpPr>
          <p:spPr>
            <a:xfrm>
              <a:off x="6934320" y="2286000"/>
              <a:ext cx="22096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命名、起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矩形 23557"/>
            <p:cNvSpPr/>
            <p:nvPr/>
          </p:nvSpPr>
          <p:spPr>
            <a:xfrm>
              <a:off x="6934320" y="3124080"/>
              <a:ext cx="13651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声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矩形 23558"/>
            <p:cNvSpPr/>
            <p:nvPr/>
          </p:nvSpPr>
          <p:spPr>
            <a:xfrm>
              <a:off x="6934320" y="3962520"/>
              <a:ext cx="220968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说出、指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矩形 23559"/>
            <p:cNvSpPr/>
            <p:nvPr/>
          </p:nvSpPr>
          <p:spPr>
            <a:xfrm>
              <a:off x="6858000" y="5105520"/>
              <a:ext cx="151776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名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组合 23560"/>
          <p:cNvGrpSpPr/>
          <p:nvPr/>
        </p:nvGrpSpPr>
        <p:grpSpPr>
          <a:xfrm>
            <a:off x="304920" y="1371600"/>
            <a:ext cx="6781680" cy="4705200"/>
            <a:chOff x="304920" y="1371600"/>
            <a:chExt cx="6781680" cy="4705200"/>
          </a:xfrm>
        </p:grpSpPr>
        <p:sp>
          <p:nvSpPr>
            <p:cNvPr id="165" name="矩形 23561"/>
            <p:cNvSpPr/>
            <p:nvPr/>
          </p:nvSpPr>
          <p:spPr>
            <a:xfrm>
              <a:off x="1371600" y="1371600"/>
              <a:ext cx="42418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北冥有鱼，其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名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曰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矩形 23562"/>
            <p:cNvSpPr/>
            <p:nvPr/>
          </p:nvSpPr>
          <p:spPr>
            <a:xfrm>
              <a:off x="1447920" y="2286000"/>
              <a:ext cx="42418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名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之者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矩形 23563"/>
            <p:cNvSpPr/>
            <p:nvPr/>
          </p:nvSpPr>
          <p:spPr>
            <a:xfrm>
              <a:off x="1447920" y="3124080"/>
              <a:ext cx="56386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至人无己，神人无功，圣人无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矩形 23564"/>
            <p:cNvSpPr/>
            <p:nvPr/>
          </p:nvSpPr>
          <p:spPr>
            <a:xfrm>
              <a:off x="1447920" y="4038480"/>
              <a:ext cx="502920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人虽有百口，口有百舌，不能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名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其一处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矩形 23565"/>
            <p:cNvSpPr/>
            <p:nvPr/>
          </p:nvSpPr>
          <p:spPr>
            <a:xfrm>
              <a:off x="1447920" y="5334120"/>
              <a:ext cx="510552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今将军外托服从之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名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，而内怀犹豫之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文本框 23566"/>
            <p:cNvSpPr/>
            <p:nvPr/>
          </p:nvSpPr>
          <p:spPr>
            <a:xfrm>
              <a:off x="304920" y="31240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51933"/>
                  </a:solidFill>
                  <a:latin typeface="Comic Sans MS"/>
                  <a:ea typeface="黑体"/>
                </a:rPr>
                <a:t>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左大括号 23567"/>
            <p:cNvSpPr/>
            <p:nvPr/>
          </p:nvSpPr>
          <p:spPr>
            <a:xfrm>
              <a:off x="1067040" y="1600200"/>
              <a:ext cx="75960" cy="41911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24577"/>
          <p:cNvSpPr/>
          <p:nvPr/>
        </p:nvSpPr>
        <p:spPr>
          <a:xfrm>
            <a:off x="324000" y="620640"/>
            <a:ext cx="2209680" cy="5814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组合 24578"/>
          <p:cNvGrpSpPr/>
          <p:nvPr/>
        </p:nvGrpSpPr>
        <p:grpSpPr>
          <a:xfrm>
            <a:off x="6183360" y="1676520"/>
            <a:ext cx="2960640" cy="4171320"/>
            <a:chOff x="6183360" y="1676520"/>
            <a:chExt cx="2960640" cy="4171320"/>
          </a:xfrm>
        </p:grpSpPr>
        <p:sp>
          <p:nvSpPr>
            <p:cNvPr id="174" name="矩形 24579"/>
            <p:cNvSpPr/>
            <p:nvPr/>
          </p:nvSpPr>
          <p:spPr>
            <a:xfrm>
              <a:off x="6705720" y="1676520"/>
              <a:ext cx="113184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图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矩形 24580"/>
            <p:cNvSpPr/>
            <p:nvPr/>
          </p:nvSpPr>
          <p:spPr>
            <a:xfrm>
              <a:off x="6705720" y="2514240"/>
              <a:ext cx="113184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地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矩形 24581"/>
            <p:cNvSpPr/>
            <p:nvPr/>
          </p:nvSpPr>
          <p:spPr>
            <a:xfrm>
              <a:off x="6629400" y="3504960"/>
              <a:ext cx="197028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谋划、筹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矩形 24582"/>
            <p:cNvSpPr/>
            <p:nvPr/>
          </p:nvSpPr>
          <p:spPr>
            <a:xfrm>
              <a:off x="6781680" y="4343040"/>
              <a:ext cx="9795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图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矩形 24583"/>
            <p:cNvSpPr/>
            <p:nvPr/>
          </p:nvSpPr>
          <p:spPr>
            <a:xfrm>
              <a:off x="6183360" y="5257440"/>
              <a:ext cx="296064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谋取、设法对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组合 24584"/>
          <p:cNvGrpSpPr/>
          <p:nvPr/>
        </p:nvGrpSpPr>
        <p:grpSpPr>
          <a:xfrm>
            <a:off x="380880" y="1600200"/>
            <a:ext cx="5632560" cy="4172040"/>
            <a:chOff x="380880" y="1600200"/>
            <a:chExt cx="5632560" cy="4172040"/>
          </a:xfrm>
        </p:grpSpPr>
        <p:sp>
          <p:nvSpPr>
            <p:cNvPr id="180" name="矩形 24585"/>
            <p:cNvSpPr/>
            <p:nvPr/>
          </p:nvSpPr>
          <p:spPr>
            <a:xfrm>
              <a:off x="1447560" y="1600200"/>
              <a:ext cx="45658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而后乃今将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图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矩形 24586"/>
            <p:cNvSpPr/>
            <p:nvPr/>
          </p:nvSpPr>
          <p:spPr>
            <a:xfrm>
              <a:off x="1447560" y="2590920"/>
              <a:ext cx="45658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图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穷匕首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矩形 24587"/>
            <p:cNvSpPr/>
            <p:nvPr/>
          </p:nvSpPr>
          <p:spPr>
            <a:xfrm>
              <a:off x="1371600" y="3505320"/>
              <a:ext cx="45655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如有离违，宜别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图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矩形 24588"/>
            <p:cNvSpPr/>
            <p:nvPr/>
          </p:nvSpPr>
          <p:spPr>
            <a:xfrm>
              <a:off x="1371600" y="4343400"/>
              <a:ext cx="45655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乃强起扶杖，执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图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谐寺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矩形 24589"/>
            <p:cNvSpPr/>
            <p:nvPr/>
          </p:nvSpPr>
          <p:spPr>
            <a:xfrm>
              <a:off x="1447560" y="5181480"/>
              <a:ext cx="45658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无使滋蔓，蔓难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图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文本框 24590"/>
            <p:cNvSpPr/>
            <p:nvPr/>
          </p:nvSpPr>
          <p:spPr>
            <a:xfrm>
              <a:off x="380880" y="33526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51933"/>
                  </a:solidFill>
                  <a:latin typeface="Comic Sans MS"/>
                  <a:ea typeface="黑体"/>
                </a:rPr>
                <a:t>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左大括号 24591"/>
            <p:cNvSpPr/>
            <p:nvPr/>
          </p:nvSpPr>
          <p:spPr>
            <a:xfrm>
              <a:off x="1143000" y="1905120"/>
              <a:ext cx="152280" cy="3733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97200 h 3733560"/>
                <a:gd name="textAreaBottom" fmla="*/ 3636360 h 37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新鸳鸯蝴蝶梦1.mp3" descr=""/>
          <p:cNvPicPr/>
          <p:nvPr/>
        </p:nvPicPr>
        <p:blipFill>
          <a:blip r:embed="rId1"/>
          <a:stretch/>
        </p:blipFill>
        <p:spPr>
          <a:xfrm>
            <a:off x="752472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6147" descr="图片1"/>
          <p:cNvPicPr/>
          <p:nvPr/>
        </p:nvPicPr>
        <p:blipFill>
          <a:blip r:embed="rId2"/>
          <a:stretch/>
        </p:blipFill>
        <p:spPr>
          <a:xfrm>
            <a:off x="762120" y="681120"/>
            <a:ext cx="7619760" cy="54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35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5601"/>
          <p:cNvSpPr/>
          <p:nvPr/>
        </p:nvSpPr>
        <p:spPr>
          <a:xfrm>
            <a:off x="324000" y="692280"/>
            <a:ext cx="2209680" cy="5814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组合 25602"/>
          <p:cNvGrpSpPr/>
          <p:nvPr/>
        </p:nvGrpSpPr>
        <p:grpSpPr>
          <a:xfrm>
            <a:off x="6648480" y="1752480"/>
            <a:ext cx="2495520" cy="3714840"/>
            <a:chOff x="6648480" y="1752480"/>
            <a:chExt cx="2495520" cy="3714840"/>
          </a:xfrm>
        </p:grpSpPr>
        <p:sp>
          <p:nvSpPr>
            <p:cNvPr id="189" name="矩形 25603"/>
            <p:cNvSpPr/>
            <p:nvPr/>
          </p:nvSpPr>
          <p:spPr>
            <a:xfrm>
              <a:off x="6648480" y="1752480"/>
              <a:ext cx="24955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放上、安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矩形 25604"/>
            <p:cNvSpPr/>
            <p:nvPr/>
          </p:nvSpPr>
          <p:spPr>
            <a:xfrm>
              <a:off x="6648480" y="2971800"/>
              <a:ext cx="24955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购置、添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矩形 25605"/>
            <p:cNvSpPr/>
            <p:nvPr/>
          </p:nvSpPr>
          <p:spPr>
            <a:xfrm>
              <a:off x="6648480" y="3962160"/>
              <a:ext cx="24955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放弃、放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矩形 25606"/>
            <p:cNvSpPr/>
            <p:nvPr/>
          </p:nvSpPr>
          <p:spPr>
            <a:xfrm>
              <a:off x="6648480" y="4876560"/>
              <a:ext cx="24955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摆、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组合 25607"/>
          <p:cNvGrpSpPr/>
          <p:nvPr/>
        </p:nvGrpSpPr>
        <p:grpSpPr>
          <a:xfrm>
            <a:off x="380880" y="1752480"/>
            <a:ext cx="5334120" cy="3733920"/>
            <a:chOff x="380880" y="1752480"/>
            <a:chExt cx="5334120" cy="3733920"/>
          </a:xfrm>
        </p:grpSpPr>
        <p:sp>
          <p:nvSpPr>
            <p:cNvPr id="194" name="矩形 25608"/>
            <p:cNvSpPr/>
            <p:nvPr/>
          </p:nvSpPr>
          <p:spPr>
            <a:xfrm>
              <a:off x="1371600" y="1752480"/>
              <a:ext cx="434340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覆杯水于坳堂之上，则芥为之舟，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置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杯焉则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矩形 25609"/>
            <p:cNvSpPr/>
            <p:nvPr/>
          </p:nvSpPr>
          <p:spPr>
            <a:xfrm>
              <a:off x="1371600" y="2971800"/>
              <a:ext cx="34290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郑人有且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置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履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矩形 25610"/>
            <p:cNvSpPr/>
            <p:nvPr/>
          </p:nvSpPr>
          <p:spPr>
            <a:xfrm>
              <a:off x="1371600" y="3962160"/>
              <a:ext cx="434340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沛公则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置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车骑，脱身独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矩形 25611"/>
            <p:cNvSpPr/>
            <p:nvPr/>
          </p:nvSpPr>
          <p:spPr>
            <a:xfrm>
              <a:off x="1371600" y="4876560"/>
              <a:ext cx="38098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夫人一夕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置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酒，跪白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文本框 25612"/>
            <p:cNvSpPr/>
            <p:nvPr/>
          </p:nvSpPr>
          <p:spPr>
            <a:xfrm>
              <a:off x="380880" y="3352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51933"/>
                  </a:solidFill>
                  <a:latin typeface="Comic Sans MS"/>
                  <a:ea typeface="黑体"/>
                </a:rPr>
                <a:t>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左大括号 25613"/>
            <p:cNvSpPr/>
            <p:nvPr/>
          </p:nvSpPr>
          <p:spPr>
            <a:xfrm>
              <a:off x="1218960" y="1752480"/>
              <a:ext cx="76320" cy="37339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26625"/>
          <p:cNvGrpSpPr/>
          <p:nvPr/>
        </p:nvGrpSpPr>
        <p:grpSpPr>
          <a:xfrm>
            <a:off x="5711760" y="1600200"/>
            <a:ext cx="3432240" cy="3790800"/>
            <a:chOff x="5711760" y="1600200"/>
            <a:chExt cx="3432240" cy="3790800"/>
          </a:xfrm>
        </p:grpSpPr>
        <p:sp>
          <p:nvSpPr>
            <p:cNvPr id="201" name="矩形 26626"/>
            <p:cNvSpPr/>
            <p:nvPr/>
          </p:nvSpPr>
          <p:spPr>
            <a:xfrm>
              <a:off x="6629400" y="1600200"/>
              <a:ext cx="15271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尽、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矩形 26627"/>
            <p:cNvSpPr/>
            <p:nvPr/>
          </p:nvSpPr>
          <p:spPr>
            <a:xfrm>
              <a:off x="6553080" y="2743200"/>
              <a:ext cx="21369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生活困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矩形 26628"/>
            <p:cNvSpPr/>
            <p:nvPr/>
          </p:nvSpPr>
          <p:spPr>
            <a:xfrm>
              <a:off x="6553080" y="3809880"/>
              <a:ext cx="16797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走到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矩形 26629"/>
            <p:cNvSpPr/>
            <p:nvPr/>
          </p:nvSpPr>
          <p:spPr>
            <a:xfrm>
              <a:off x="5711760" y="4800600"/>
              <a:ext cx="343224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不得志，与“达”相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文本框 26630"/>
          <p:cNvSpPr/>
          <p:nvPr/>
        </p:nvSpPr>
        <p:spPr>
          <a:xfrm>
            <a:off x="324000" y="692280"/>
            <a:ext cx="2209680" cy="5814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组合 26631"/>
          <p:cNvGrpSpPr/>
          <p:nvPr/>
        </p:nvGrpSpPr>
        <p:grpSpPr>
          <a:xfrm>
            <a:off x="228600" y="1676520"/>
            <a:ext cx="5370480" cy="3638520"/>
            <a:chOff x="228600" y="1676520"/>
            <a:chExt cx="5370480" cy="3638520"/>
          </a:xfrm>
        </p:grpSpPr>
        <p:sp>
          <p:nvSpPr>
            <p:cNvPr id="207" name="矩形 26632"/>
            <p:cNvSpPr/>
            <p:nvPr/>
          </p:nvSpPr>
          <p:spPr>
            <a:xfrm>
              <a:off x="1219320" y="1676520"/>
              <a:ext cx="437976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若夫乘天地之正，而御六气之辩，以游无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矩形 26633"/>
            <p:cNvSpPr/>
            <p:nvPr/>
          </p:nvSpPr>
          <p:spPr>
            <a:xfrm>
              <a:off x="1219320" y="2743200"/>
              <a:ext cx="43797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子孙习其家风，今多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穷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矩形 26634"/>
            <p:cNvSpPr/>
            <p:nvPr/>
          </p:nvSpPr>
          <p:spPr>
            <a:xfrm>
              <a:off x="1219320" y="3810240"/>
              <a:ext cx="43797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复前行，欲</a:t>
              </a: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穷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其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矩形 26635"/>
            <p:cNvSpPr/>
            <p:nvPr/>
          </p:nvSpPr>
          <p:spPr>
            <a:xfrm>
              <a:off x="1219320" y="4724640"/>
              <a:ext cx="43797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51933"/>
                  </a:solidFill>
                  <a:latin typeface="宋体"/>
                  <a:ea typeface="黑体"/>
                </a:rPr>
                <a:t>穷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不失义，达不离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文本框 26636"/>
            <p:cNvSpPr/>
            <p:nvPr/>
          </p:nvSpPr>
          <p:spPr>
            <a:xfrm>
              <a:off x="2286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51933"/>
                  </a:solidFill>
                  <a:latin typeface="Comic Sans MS"/>
                  <a:ea typeface="黑体"/>
                </a:rPr>
                <a:t>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左大括号 26637"/>
            <p:cNvSpPr/>
            <p:nvPr/>
          </p:nvSpPr>
          <p:spPr>
            <a:xfrm>
              <a:off x="1066680" y="1752840"/>
              <a:ext cx="76320" cy="34290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左箭头 26638">
            <a:hlinkClick r:id="rId1" action="ppaction://hlinksldjump"/>
          </p:cNvPr>
          <p:cNvSpPr/>
          <p:nvPr/>
        </p:nvSpPr>
        <p:spPr>
          <a:xfrm>
            <a:off x="7162920" y="5715000"/>
            <a:ext cx="990360" cy="685800"/>
          </a:xfrm>
          <a:prstGeom prst="leftArrow">
            <a:avLst>
              <a:gd name="adj1" fmla="val 50000"/>
              <a:gd name="adj2" fmla="val 360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27649"/>
          <p:cNvSpPr/>
          <p:nvPr/>
        </p:nvSpPr>
        <p:spPr>
          <a:xfrm>
            <a:off x="426960" y="1197000"/>
            <a:ext cx="8717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天之苍苍，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色邪？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而无所至极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奚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九万里而南</a:t>
            </a:r>
            <a:r>
              <a:rPr b="0" lang="zh-CN" sz="2800" spc="-1" strike="noStrike">
                <a:solidFill>
                  <a:srgbClr val="f51933"/>
                </a:solidFill>
                <a:latin typeface="黑体"/>
                <a:ea typeface="黑体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文本框 27650"/>
          <p:cNvSpPr/>
          <p:nvPr/>
        </p:nvSpPr>
        <p:spPr>
          <a:xfrm>
            <a:off x="920880" y="1905120"/>
            <a:ext cx="82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译为是</a:t>
            </a: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，还是</a:t>
            </a: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，用在选择句中，加强揣测语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文本框 27651"/>
          <p:cNvSpPr/>
          <p:nvPr/>
        </p:nvSpPr>
        <p:spPr>
          <a:xfrm>
            <a:off x="838080" y="3200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（奚以</a:t>
            </a: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为，表反问，译为“哪里用得着</a:t>
            </a: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呢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文本框 27654"/>
          <p:cNvSpPr/>
          <p:nvPr/>
        </p:nvSpPr>
        <p:spPr>
          <a:xfrm>
            <a:off x="324000" y="620640"/>
            <a:ext cx="2209680" cy="5814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固定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左箭头 27655">
            <a:hlinkClick r:id="rId1" action="ppaction://hlinksldjump"/>
          </p:cNvPr>
          <p:cNvSpPr/>
          <p:nvPr/>
        </p:nvSpPr>
        <p:spPr>
          <a:xfrm>
            <a:off x="7620120" y="5791320"/>
            <a:ext cx="838080" cy="685800"/>
          </a:xfrm>
          <a:prstGeom prst="leftArrow">
            <a:avLst>
              <a:gd name="adj1" fmla="val 50000"/>
              <a:gd name="adj2" fmla="val 3054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28673" descr="cover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29697" descr="002[6]"/>
          <p:cNvPicPr/>
          <p:nvPr/>
        </p:nvPicPr>
        <p:blipFill>
          <a:blip r:embed="rId1"/>
          <a:stretch/>
        </p:blipFill>
        <p:spPr>
          <a:xfrm>
            <a:off x="108000" y="154080"/>
            <a:ext cx="8207280" cy="658800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29698"/>
          <p:cNvSpPr/>
          <p:nvPr/>
        </p:nvSpPr>
        <p:spPr>
          <a:xfrm>
            <a:off x="7844040" y="83664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北冥有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30721" descr="003[6]"/>
          <p:cNvPicPr/>
          <p:nvPr/>
        </p:nvPicPr>
        <p:blipFill>
          <a:blip r:embed="rId1"/>
          <a:stretch/>
        </p:blipFill>
        <p:spPr>
          <a:xfrm>
            <a:off x="216000" y="181080"/>
            <a:ext cx="8101080" cy="656100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30722"/>
          <p:cNvSpPr/>
          <p:nvPr/>
        </p:nvSpPr>
        <p:spPr>
          <a:xfrm>
            <a:off x="7844040" y="83664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鲲化为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31745" descr="006[6]"/>
          <p:cNvPicPr/>
          <p:nvPr/>
        </p:nvPicPr>
        <p:blipFill>
          <a:blip r:embed="rId1"/>
          <a:stretch/>
        </p:blipFill>
        <p:spPr>
          <a:xfrm>
            <a:off x="181080" y="173160"/>
            <a:ext cx="8136000" cy="6568920"/>
          </a:xfrm>
          <a:prstGeom prst="rect">
            <a:avLst/>
          </a:prstGeom>
          <a:ln w="0">
            <a:noFill/>
          </a:ln>
        </p:spPr>
      </p:pic>
      <p:sp>
        <p:nvSpPr>
          <p:cNvPr id="225" name="文本框 31746"/>
          <p:cNvSpPr/>
          <p:nvPr/>
        </p:nvSpPr>
        <p:spPr>
          <a:xfrm>
            <a:off x="7844040" y="83664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扶摇羊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32769" descr="005[6]"/>
          <p:cNvPicPr/>
          <p:nvPr/>
        </p:nvPicPr>
        <p:blipFill>
          <a:blip r:embed="rId1"/>
          <a:stretch/>
        </p:blipFill>
        <p:spPr>
          <a:xfrm>
            <a:off x="108000" y="100080"/>
            <a:ext cx="8209080" cy="671364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32770"/>
          <p:cNvSpPr/>
          <p:nvPr/>
        </p:nvSpPr>
        <p:spPr>
          <a:xfrm>
            <a:off x="7844040" y="83664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水击千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3793" descr="004[6]"/>
          <p:cNvPicPr/>
          <p:nvPr/>
        </p:nvPicPr>
        <p:blipFill>
          <a:blip r:embed="rId1"/>
          <a:stretch/>
        </p:blipFill>
        <p:spPr>
          <a:xfrm>
            <a:off x="108000" y="73080"/>
            <a:ext cx="8209080" cy="66690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33794"/>
          <p:cNvSpPr/>
          <p:nvPr/>
        </p:nvSpPr>
        <p:spPr>
          <a:xfrm>
            <a:off x="7844040" y="83664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背负青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34817" descr="007[6]"/>
          <p:cNvPicPr/>
          <p:nvPr/>
        </p:nvPicPr>
        <p:blipFill>
          <a:blip r:embed="rId1"/>
          <a:stretch/>
        </p:blipFill>
        <p:spPr>
          <a:xfrm>
            <a:off x="142920" y="144360"/>
            <a:ext cx="8174160" cy="659772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34818"/>
          <p:cNvSpPr/>
          <p:nvPr/>
        </p:nvSpPr>
        <p:spPr>
          <a:xfrm>
            <a:off x="7844040" y="83664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二虫何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7169"/>
          <p:cNvSpPr/>
          <p:nvPr/>
        </p:nvSpPr>
        <p:spPr>
          <a:xfrm>
            <a:off x="1042920" y="1628640"/>
            <a:ext cx="72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把握文章旨趣，了解庄子思想；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想象魅力，体验神话境界；</a:t>
            </a:r>
            <a:br>
              <a:rPr sz="3600"/>
            </a:br>
            <a:r>
              <a:rPr b="1" lang="en-US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积累相关字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7170"/>
          <p:cNvSpPr/>
          <p:nvPr/>
        </p:nvSpPr>
        <p:spPr>
          <a:xfrm>
            <a:off x="757080" y="50468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庄子绝对自由精神的外化形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7171"/>
          <p:cNvSpPr txBox="1"/>
          <p:nvPr/>
        </p:nvSpPr>
        <p:spPr>
          <a:xfrm>
            <a:off x="2771640" y="476280"/>
            <a:ext cx="38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教学目的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0" name="矩形 7172"/>
          <p:cNvSpPr txBox="1"/>
          <p:nvPr/>
        </p:nvSpPr>
        <p:spPr>
          <a:xfrm>
            <a:off x="1403280" y="4005360"/>
            <a:ext cx="295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66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学习难点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66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91" name="图片 7173" descr="40d470211597677dad34deee"/>
          <p:cNvPicPr/>
          <p:nvPr/>
        </p:nvPicPr>
        <p:blipFill>
          <a:blip r:embed="rId1"/>
          <a:srcRect l="72606" t="8246" r="4793" b="52763"/>
          <a:stretch/>
        </p:blipFill>
        <p:spPr>
          <a:xfrm>
            <a:off x="6227640" y="4400640"/>
            <a:ext cx="2664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7889"/>
          <p:cNvSpPr/>
          <p:nvPr/>
        </p:nvSpPr>
        <p:spPr>
          <a:xfrm>
            <a:off x="1042920" y="1844640"/>
            <a:ext cx="72723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小物皆有运徙之待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自身所限没有绝对的自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矩形 37890"/>
          <p:cNvSpPr txBox="1"/>
          <p:nvPr/>
        </p:nvSpPr>
        <p:spPr>
          <a:xfrm>
            <a:off x="1332000" y="547560"/>
            <a:ext cx="374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76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整体阅读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34" name="图片 37891" descr="27"/>
          <p:cNvPicPr/>
          <p:nvPr/>
        </p:nvPicPr>
        <p:blipFill>
          <a:blip r:embed="rId1"/>
          <a:stretch/>
        </p:blipFill>
        <p:spPr>
          <a:xfrm>
            <a:off x="6767640" y="5559480"/>
            <a:ext cx="2376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疏通课文意思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8920" y="1341000"/>
            <a:ext cx="85741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冥有鱼，其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鲲。鲲之大，不知其几千里也；化而为鸟，其名为鹏。鹏之背，不知其几千里也；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飞，其翼若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之云。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也，海运则将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南冥。南冥者，天池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译文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北海有一条鱼，它的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名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叫鲲。鲲的大，不知道它有几千里。鲲变化成鸟，鸟的名称叫鹏。鹏的背，不知道它有几千里。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奋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飞，它的翅膀就像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天边的云彩。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只鸟，海动风起时就将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迁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南方。南海就是大自然的水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理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鲲鹏的形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体硕大无比，变化神奇莫测，奋飞时气势壮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68160" y="275760"/>
            <a:ext cx="7506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25000"/>
            <a:ext cx="8686800" cy="55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齐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怪者也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言曰“鹏之徙于南冥也，水击三千里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扶摇而上者九万里，去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月息者也。”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译文：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齐谐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记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怪异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齐谐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的话说：“当鹏迁往南海时，振翅拍水，水浪远达几千里。它乘着旋风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环旋而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几万里的高空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凭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着六月的大风离开了北海。”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理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鹏鸟南飞有所待，并以“野马”“尘埃”做比较，表明世间五万物都有所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7240" y="117360"/>
            <a:ext cx="77932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6360" y="982440"/>
            <a:ext cx="907272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野马也，尘埃也，生物之以息相吹也。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天之苍苍，其正色也？其远而无所至极邪？其视下也，亦若是则已矣。且夫水之积也不厚，则其负大舟也无力。覆杯水于坳堂之上，则芥为之舟，置杯焉则胶，水浅而舟大也。风之积也不厚，则其负大翼也无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译文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山野的雾气，空中的尘埃，都是生物用气息吹拂的结果。天色深蓝是它的真正颜色吗？还是因为天高地远而看不到它的尽头呢？鹏从高空往下看，也不过这样一来罢了。再说如果水的积聚不深厚，那么它负载的大船就没有力量。倒一杯水在堂上低洼的地方，那么就只能用小草做它的船，放上一只杯子就贴地了，是水太浅而船太大的缘故。风的积聚如果不大，那么它承载巨大的翅膀就没有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75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75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归纳第一段段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520" y="1828800"/>
            <a:ext cx="857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鹏鸟奋飞：必须凭借强大风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雾尘埃：要靠气息相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物都有所待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大舟无力：因为积水不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都没有绝对自由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杯水胶地：因为水浅舟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蜩鸠嘲鹏：不知自己“所待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行所待：备粮越远所待越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根据上面分析，可以归纳首段段意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阐明世间万事万物，大至鹏鸟，小至尘埃，它们的活动都“有所待”，都是不自由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左大括号 45059"/>
          <p:cNvSpPr/>
          <p:nvPr/>
        </p:nvSpPr>
        <p:spPr>
          <a:xfrm>
            <a:off x="3276720" y="2057400"/>
            <a:ext cx="228600" cy="2590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疏通课文意思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2-2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汤之问棘也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穷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北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南冥也。斥鴳笑之曰：“彼且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也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亦飞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而彼且奚适也？”此大小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汤问政于棘也是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这种情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不生长草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荒远之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将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南海去。斥鴳嘲笑它说：“它将要到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哪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去呢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也就是飞的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最高限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了，而它将要飞到哪里去呢？”这就是大和小的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区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里引用汤询问棘的一段话，是再次对前文谈到的“小知”与“大知”、“小年”与“大年”的区别的印证。在篇章上，与第一段照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归纳第二段段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828800"/>
            <a:ext cx="849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朝菌不知晦朔，蟪蛄不知道春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冥灵春秋五百岁，大椿春秋八千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小之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彭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众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鹏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斥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段意归纳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本段是对第一段的归纳、补充、印证，说明万物在“有所待”的范围内，存在着“大小之辩”的差异，但终归都是“有所待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48131"/>
          <p:cNvSpPr/>
          <p:nvPr/>
        </p:nvSpPr>
        <p:spPr>
          <a:xfrm>
            <a:off x="2362320" y="2057400"/>
            <a:ext cx="152280" cy="213372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疏通课文意思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3-1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1054080"/>
            <a:ext cx="8915400" cy="58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夫知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官，行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乡，德合一君，而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国者，其自视也，亦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若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矣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虽然，犹有未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夫列子御风而行，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泠然善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旬有五日而后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彼于致福者，未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数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然。此虽免乎行，犹有所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者也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曰：至人无己，神人无功，圣人无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那些才智足以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授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个官位，品行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顺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方百姓、道德符合君主心意、能力足使国人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信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人，他们看待自己，也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像斥鴳一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即使这样，还是没有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树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起来的最高境界。列子乘风而行，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飘然轻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十五日后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返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他对于招财纳福的事没有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拼命追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这虽然不用步行，但还是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凭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风力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说：至人无自我，神人无功利，圣人无名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51201"/>
          <p:cNvSpPr/>
          <p:nvPr/>
        </p:nvSpPr>
        <p:spPr>
          <a:xfrm>
            <a:off x="565920" y="549360"/>
            <a:ext cx="1278000" cy="6426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论证思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51202"/>
          <p:cNvSpPr/>
          <p:nvPr/>
        </p:nvSpPr>
        <p:spPr>
          <a:xfrm>
            <a:off x="3301560" y="380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万物皆“有所待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51203"/>
          <p:cNvSpPr/>
          <p:nvPr/>
        </p:nvSpPr>
        <p:spPr>
          <a:xfrm>
            <a:off x="2133720" y="1371600"/>
            <a:ext cx="45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万物所待有“小大之辩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文本框 51204"/>
          <p:cNvSpPr/>
          <p:nvPr/>
        </p:nvSpPr>
        <p:spPr>
          <a:xfrm>
            <a:off x="1295280" y="213372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世人亦“有所待”（这些都不算“逍遥游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文本框 51205"/>
          <p:cNvSpPr/>
          <p:nvPr/>
        </p:nvSpPr>
        <p:spPr>
          <a:xfrm>
            <a:off x="3505320" y="29718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怎样才算“逍遥游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直接连接符 51206"/>
          <p:cNvSpPr/>
          <p:nvPr/>
        </p:nvSpPr>
        <p:spPr>
          <a:xfrm>
            <a:off x="4267080" y="838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直接连接符 51207"/>
          <p:cNvSpPr/>
          <p:nvPr/>
        </p:nvSpPr>
        <p:spPr>
          <a:xfrm>
            <a:off x="358128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直接连接符 51208"/>
          <p:cNvSpPr/>
          <p:nvPr/>
        </p:nvSpPr>
        <p:spPr>
          <a:xfrm>
            <a:off x="601992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直接连接符 51209"/>
          <p:cNvSpPr/>
          <p:nvPr/>
        </p:nvSpPr>
        <p:spPr>
          <a:xfrm>
            <a:off x="48006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文本框 51210"/>
          <p:cNvSpPr/>
          <p:nvPr/>
        </p:nvSpPr>
        <p:spPr>
          <a:xfrm>
            <a:off x="1447920" y="50292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什么样的人可以入此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文本框 51211"/>
          <p:cNvSpPr/>
          <p:nvPr/>
        </p:nvSpPr>
        <p:spPr>
          <a:xfrm>
            <a:off x="304920" y="3733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Comic Sans MS"/>
                <a:ea typeface="隶书"/>
              </a:rPr>
              <a:t>乘天地之正，而御六气之辩，以游无穷者，彼且恶乎待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直接连接符 51212"/>
          <p:cNvSpPr/>
          <p:nvPr/>
        </p:nvSpPr>
        <p:spPr>
          <a:xfrm>
            <a:off x="388620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直接连接符 51213"/>
          <p:cNvSpPr/>
          <p:nvPr/>
        </p:nvSpPr>
        <p:spPr>
          <a:xfrm>
            <a:off x="3886200" y="5486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文本框 51214"/>
          <p:cNvSpPr/>
          <p:nvPr/>
        </p:nvSpPr>
        <p:spPr>
          <a:xfrm>
            <a:off x="1447920" y="5943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至人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隶书"/>
              </a:rPr>
              <a:t>无已</a:t>
            </a:r>
            <a:r>
              <a:rPr b="0" lang="zh-CN" sz="3200" spc="-1" strike="noStrike">
                <a:solidFill>
                  <a:srgbClr val="808080"/>
                </a:solidFill>
                <a:latin typeface="Comic Sans MS"/>
                <a:ea typeface="隶书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神人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隶书"/>
              </a:rPr>
              <a:t>无功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，圣人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隶书"/>
              </a:rPr>
              <a:t>无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矩形 51215"/>
          <p:cNvSpPr/>
          <p:nvPr/>
        </p:nvSpPr>
        <p:spPr>
          <a:xfrm>
            <a:off x="2286000" y="5943600"/>
            <a:ext cx="914400" cy="6094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矩形 51216"/>
          <p:cNvSpPr/>
          <p:nvPr/>
        </p:nvSpPr>
        <p:spPr>
          <a:xfrm>
            <a:off x="4343400" y="5943600"/>
            <a:ext cx="914400" cy="6094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矩形 51217"/>
          <p:cNvSpPr/>
          <p:nvPr/>
        </p:nvSpPr>
        <p:spPr>
          <a:xfrm>
            <a:off x="6400800" y="5943600"/>
            <a:ext cx="914400" cy="6094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7800" y="1372680"/>
            <a:ext cx="90709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2900" spc="-1" strike="noStrike">
                <a:solidFill>
                  <a:srgbClr val="3333cc"/>
                </a:solidFill>
                <a:latin typeface="Arial"/>
                <a:ea typeface="隶书"/>
              </a:rPr>
              <a:t>本文追求一种“无所待”的精神自由的逍遥境界，即顺应万物的本性，悠然自在，适心任性，达到物我一体的精神上的绝对自由。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2226"/>
          <p:cNvSpPr/>
          <p:nvPr/>
        </p:nvSpPr>
        <p:spPr>
          <a:xfrm>
            <a:off x="380880" y="312408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谓“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无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就是去掉功名利禄之心，不汲汲追逐外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谓“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无名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，就是忘掉荣辱毁誉得失，褒贬任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谓“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无已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，就是忘掉自我。不受外物的束缚，达到恬淡自适的境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样消除了物我对立，使精神与道融和为一，超越一切现实的矛盾，步入超越现实的绝对自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文本框 52227"/>
          <p:cNvSpPr/>
          <p:nvPr/>
        </p:nvSpPr>
        <p:spPr>
          <a:xfrm>
            <a:off x="710280" y="620640"/>
            <a:ext cx="1278000" cy="6426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本文主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196" descr="图片2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08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194"/>
          <p:cNvSpPr/>
          <p:nvPr/>
        </p:nvSpPr>
        <p:spPr>
          <a:xfrm>
            <a:off x="1547280" y="789120"/>
            <a:ext cx="318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庄生晓梦迷蝴蝶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望帝春心托杜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李商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锦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8195"/>
          <p:cNvSpPr/>
          <p:nvPr/>
        </p:nvSpPr>
        <p:spPr>
          <a:xfrm>
            <a:off x="2438280" y="28954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昔者庄周梦为蝴蝶，栩栩然蝴蝶也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自喻适志欤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不知周也。俄然觉，则蘧蘧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qú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然周也。不知周之梦为蝴蝶欤，蝴蝶之梦为周欤？庄周问老子，老子曰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周即蝴蝶，蝴蝶即周。以明道之为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54273"/>
          <p:cNvSpPr txBox="1"/>
          <p:nvPr/>
        </p:nvSpPr>
        <p:spPr>
          <a:xfrm>
            <a:off x="2700360" y="189000"/>
            <a:ext cx="326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阅读探究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2" name="文本框 54274"/>
          <p:cNvSpPr/>
          <p:nvPr/>
        </p:nvSpPr>
        <p:spPr>
          <a:xfrm>
            <a:off x="179280" y="220500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则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内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首，是阐发庄子追求绝对精神自由的思想观点的著名篇章，也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书的纲领。鲲鹏看似逍遥，实则未达逍遥的境界，因为鲲鹏还是“有所待”。与鲲鹏的“大”相对应，作者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又举出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野马、尘埃、蜩和学鸠等“小”的形象，以大小对立来阐述物皆有所待的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文本框 54275"/>
          <p:cNvSpPr/>
          <p:nvPr/>
        </p:nvSpPr>
        <p:spPr>
          <a:xfrm>
            <a:off x="611280" y="9050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结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庄子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则谈谈你对庄子思想的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56321"/>
          <p:cNvSpPr/>
          <p:nvPr/>
        </p:nvSpPr>
        <p:spPr>
          <a:xfrm>
            <a:off x="179280" y="40464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庄子为文，不拘一格而变幻无穷，突破世俗观念的藩篱，表现出一种特立独行的哲学精神，由是迥异于先秦诸子文风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则采用寓言的样式，举例设喻，多方诠释庄子思想核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绝对精神自由，神思飞越超拔，笔法汪洋恣肆。清代林云铭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：“篇中忽而叙事，忽而议论，以为断而未断，以为续而非续，以为复而非复，只见云气空濛，往返纸上，顷刻之间，顿成奇观。”这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意随笔至随文挥洒的笔法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看作庄子绝对自由精神的外化形式，是形式与内容的高度统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图片 56322" descr="40d470211597677dad34deee"/>
          <p:cNvPicPr/>
          <p:nvPr/>
        </p:nvPicPr>
        <p:blipFill>
          <a:blip r:embed="rId1"/>
          <a:srcRect l="72606" t="8246" r="4793" b="52763"/>
          <a:stretch/>
        </p:blipFill>
        <p:spPr>
          <a:xfrm>
            <a:off x="6659640" y="5113440"/>
            <a:ext cx="24494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57345" descr="300d26720904a4078601b0a9"/>
          <p:cNvPicPr/>
          <p:nvPr/>
        </p:nvPicPr>
        <p:blipFill>
          <a:blip r:embed="rId1"/>
          <a:stretch/>
        </p:blipFill>
        <p:spPr>
          <a:xfrm>
            <a:off x="6012000" y="5157720"/>
            <a:ext cx="2987640" cy="170028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57346"/>
          <p:cNvSpPr/>
          <p:nvPr/>
        </p:nvSpPr>
        <p:spPr>
          <a:xfrm>
            <a:off x="324000" y="119700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寓言即寄寓之言，“意在此而言寄于彼” 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一则寓言特色鲜明。一是暗喻性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中，鲲鹏等其实就是比喻，借以表达主题。二是想象性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一则中的人物不同于历史故事，大多是由自己想象虚构而成。三是多义性。解释庄子寓言，向来是丰富多义的，庄子文中寓意大多隐而不发，比较模糊，有的可以有多种解读，其意蕴无穷、内涵丰富，需要努力把握和领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57347"/>
          <p:cNvSpPr/>
          <p:nvPr/>
        </p:nvSpPr>
        <p:spPr>
          <a:xfrm>
            <a:off x="684360" y="4730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谈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庄子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则的寓言特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全文鉴赏要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借用寓言说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借用大量的寓言把“无所待”的思想寄托于生动的形象中，如文中的鲲、鹏、蜩蝉、学鸠、斥鴳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想象丰富，意境开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关于鲲的神奇变化、鹏的遨游太空，丰富的想象让文章汪洋恣肆，充满浪漫主义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了比喻、夸张、拟人等多种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修辞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59397" descr="图片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401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0666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ff"/>
                </a:solidFill>
                <a:latin typeface="Arial"/>
                <a:ea typeface="华文彩云"/>
              </a:rPr>
              <a:t>再     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9395"/>
          <p:cNvSpPr/>
          <p:nvPr/>
        </p:nvSpPr>
        <p:spPr>
          <a:xfrm>
            <a:off x="2843280" y="4941720"/>
            <a:ext cx="40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ff"/>
                </a:solidFill>
                <a:latin typeface="Tahoma"/>
              </a:rPr>
              <a:t>再          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任逍遥.mp3" descr=""/>
          <p:cNvPicPr/>
          <p:nvPr/>
        </p:nvPicPr>
        <p:blipFill>
          <a:blip r:embed="rId2"/>
          <a:stretch/>
        </p:blipFill>
        <p:spPr>
          <a:xfrm>
            <a:off x="845964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0"/>
                            </p:stCondLst>
                            <p:childTnLst>
                              <p:par>
                                <p:cTn id="6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3" dur="269584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9217"/>
          <p:cNvSpPr/>
          <p:nvPr/>
        </p:nvSpPr>
        <p:spPr>
          <a:xfrm>
            <a:off x="324000" y="404640"/>
            <a:ext cx="864072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  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1" lang="zh-TW" sz="4000" spc="-1" strike="noStrike">
                <a:solidFill>
                  <a:srgbClr val="3333cc"/>
                </a:solidFill>
                <a:latin typeface="Times New Roman"/>
                <a:ea typeface="PMingLiU"/>
              </a:rPr>
              <a:t>道教掌故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- 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莊周夢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PMingLiU"/>
              </a:rPr>
              <a:t>“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PMingLiU"/>
              </a:rPr>
              <a:t>莊 周 夢 蝶 ” ， 道 教 掌 故 之 一 ， 典 出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PMingLiU"/>
              </a:rPr>
              <a:t>《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PMingLiU"/>
              </a:rPr>
              <a:t>莊 子 ． 齊 物 論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PMingLiU"/>
              </a:rPr>
              <a:t>》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PMingLiU"/>
              </a:rPr>
              <a:t>。 根 據 該 書 的 記 載 ， 莊 子 夢 見 自 己 化 成 蝴 蝶 ， 翩 翩 而 飛 ， 竟 然 忘 記 了 自 己 是 莊 周 ； 醒 來 之 後 ， 又 覺 得 自 己 是 莊 周 。 到 底 是 莊 周 做 夢 化 成 蝴 蝶 ， 還 是 蝴 蝶 做 夢 化 成 莊 周 ？ 在 道 家 與 道 門 中 人 看 來 ， 不 論 莊 周 也 好 ， 蝴 蝶 也 好 ， 其 實 不 必 進 行 人 為 的 彼 此 區 分 ， 因 為 讓 思 維 處 於 物 我 一 體 的 狀 態 ， 彼 此 沒 有 分 別 ， 大 道 也 就 在 心 中 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0241" descr="1d3"/>
          <p:cNvPicPr/>
          <p:nvPr/>
        </p:nvPicPr>
        <p:blipFill>
          <a:blip r:embed="rId1"/>
          <a:stretch/>
        </p:blipFill>
        <p:spPr>
          <a:xfrm>
            <a:off x="0" y="0"/>
            <a:ext cx="2608200" cy="285264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0243"/>
          <p:cNvSpPr/>
          <p:nvPr/>
        </p:nvSpPr>
        <p:spPr>
          <a:xfrm>
            <a:off x="1547640" y="249228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庄子钓于濮水。楚王使大夫二人往先焉，曰：“愿以境内累矣！”庄子持竿不顾，曰：“吾闻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楚有神龟，死已三千岁矣。王巾笥而藏之庙堂之上。此龟者，宁其死为留骨而贵乎？宁其生而曳尾于涂中乎？” 二大夫曰：“宁生而曳尾涂中。”庄子曰：“往矣！吾将曳尾于涂中。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10244"/>
          <p:cNvSpPr txBox="1"/>
          <p:nvPr/>
        </p:nvSpPr>
        <p:spPr>
          <a:xfrm>
            <a:off x="3780000" y="692280"/>
            <a:ext cx="3528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钓于濮水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1265" descr="39"/>
          <p:cNvPicPr/>
          <p:nvPr/>
        </p:nvPicPr>
        <p:blipFill>
          <a:blip r:embed="rId1"/>
          <a:srcRect l="54425" t="57914" r="0" b="0"/>
          <a:stretch/>
        </p:blipFill>
        <p:spPr>
          <a:xfrm>
            <a:off x="6443640" y="4848120"/>
            <a:ext cx="270036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66"/>
          <p:cNvSpPr/>
          <p:nvPr/>
        </p:nvSpPr>
        <p:spPr>
          <a:xfrm>
            <a:off x="612720" y="54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庄子在濮水边钓鱼。楚王派两位大夫先行去请他（做官），（他们对庄子）说：“楚王想将国内的事务托付您。”庄子拿着鱼竿头也不回，说：“我听说楚国有（一只）神龟，死了已有三千年了，楚王将龟骨用白绸裹着、竹匣装着，珍藏在宗庙的堂上。这只龟，宁愿死去留下骨头来获得尊贵呢，还是情愿在泥水里摇尾巴活着呢？” 两个大夫说：“情愿在泥水里摇尾巴活着。” 庄子说：“请回吧！我要在泥水里摇尾巴活着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11267"/>
          <p:cNvSpPr/>
          <p:nvPr/>
        </p:nvSpPr>
        <p:spPr>
          <a:xfrm>
            <a:off x="5122800" y="5734080"/>
            <a:ext cx="1155960" cy="5814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参考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2289" descr="庄子"/>
          <p:cNvPicPr/>
          <p:nvPr/>
        </p:nvPicPr>
        <p:blipFill>
          <a:blip r:embed="rId1"/>
          <a:stretch/>
        </p:blipFill>
        <p:spPr>
          <a:xfrm>
            <a:off x="762120" y="620640"/>
            <a:ext cx="4797360" cy="5856480"/>
          </a:xfrm>
          <a:prstGeom prst="rect">
            <a:avLst/>
          </a:prstGeom>
          <a:ln w="57240">
            <a:solidFill>
              <a:srgbClr val="e6e6e6"/>
            </a:solidFill>
            <a:miter/>
          </a:ln>
        </p:spPr>
      </p:pic>
      <p:sp>
        <p:nvSpPr>
          <p:cNvPr id="103" name="矩形 12290"/>
          <p:cNvSpPr txBox="1"/>
          <p:nvPr/>
        </p:nvSpPr>
        <p:spPr>
          <a:xfrm rot="5400000">
            <a:off x="4838400" y="3543120"/>
            <a:ext cx="4419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333333"/>
                </a:solidFill>
                <a:latin typeface="华文行楷"/>
              </a:rPr>
              <a:t>庄周与《庄子》</a:t>
            </a:r>
            <a:endParaRPr b="0" lang="en-US" sz="4800" spc="-1" strike="noStrike">
              <a:ln w="0">
                <a:noFill/>
              </a:ln>
              <a:solidFill>
                <a:srgbClr val="333333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3313" descr="image010"/>
          <p:cNvPicPr/>
          <p:nvPr/>
        </p:nvPicPr>
        <p:blipFill>
          <a:blip r:embed="rId1"/>
          <a:stretch/>
        </p:blipFill>
        <p:spPr>
          <a:xfrm>
            <a:off x="0" y="0"/>
            <a:ext cx="2760840" cy="3933720"/>
          </a:xfrm>
          <a:prstGeom prst="rect">
            <a:avLst/>
          </a:prstGeom>
          <a:ln w="0">
            <a:noFill/>
          </a:ln>
        </p:spPr>
      </p:pic>
      <p:sp>
        <p:nvSpPr>
          <p:cNvPr id="105" name="矩形 13314"/>
          <p:cNvSpPr txBox="1"/>
          <p:nvPr/>
        </p:nvSpPr>
        <p:spPr>
          <a:xfrm>
            <a:off x="4067280" y="623880"/>
            <a:ext cx="35290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作家作品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6" name="文本框 13315"/>
          <p:cNvSpPr/>
          <p:nvPr/>
        </p:nvSpPr>
        <p:spPr>
          <a:xfrm>
            <a:off x="2771640" y="1747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约前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69-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86)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名周，战国时宋国人，做过漆园吏。著名的思想家，道家学派的代表人物，与老子并称为“老庄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13316"/>
          <p:cNvSpPr/>
          <p:nvPr/>
        </p:nvSpPr>
        <p:spPr>
          <a:xfrm>
            <a:off x="539640" y="383544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子天才卓绝，“其学无所不窥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遭逢乱世，有感于世间沉浊，“不可与庄语”，故不与统治阶级合作。相传楚王曾经用千金聘礼请他为相，被拒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3:26:59Z</dcterms:created>
  <dc:creator>haier</dc:creator>
  <dc:description/>
  <cp:keywords/>
  <dc:language>en-US</dc:language>
  <cp:lastModifiedBy>PC</cp:lastModifiedBy>
  <dcterms:modified xsi:type="dcterms:W3CDTF">2018-09-05T05:55:18Z</dcterms:modified>
  <cp:revision>71</cp:revision>
  <dc:subject/>
  <dc:title>杜甫律诗三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