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png" ContentType="image/png"/>
  <Override PartName="/ppt/media/image22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13.gif" ContentType="image/gif"/>
  <Override PartName="/ppt/media/image16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1-09-27T13:43:21.045000000" idx="1">
    <p:pos x="3276" y="21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B61-5584-493E-9D89-C867926A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F0C-9777-411E-906A-7F58ADCF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361-65DE-439C-87D1-9A75EFE4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00B-8EF8-49F2-849B-EEC90484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40E-3C50-4251-B5BE-8A975972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28E-00F0-4741-B8C2-1CB28B82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84B-E68E-49E6-8E18-31CA913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C58-D6C8-46BE-B52F-66D4912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07E-B64F-434B-AC1C-DD5DB6E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9B5-47CB-47A7-A685-F9C1353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227-8295-4FB7-B362-660DE61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1D3-A120-4AE9-B4C9-D9DBDDC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E295-4523-433A-BF75-477A5D4BE6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<Relationship Id="rId21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sms.5music.org/index.htm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image" Target="../media/image11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483.htm" TargetMode="External"/><Relationship Id="rId2" Type="http://schemas.openxmlformats.org/officeDocument/2006/relationships/hyperlink" Target="http://baike.baidu.com/view/572774.htm" TargetMode="External"/><Relationship Id="rId3" Type="http://schemas.openxmlformats.org/officeDocument/2006/relationships/hyperlink" Target="http://baike.baidu.com/view/332036.htm" TargetMode="External"/><Relationship Id="rId4" Type="http://schemas.openxmlformats.org/officeDocument/2006/relationships/hyperlink" Target="http://baike.baidu.com/view/23685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hyperlink" Target="http://sms.5music.org/index.htm" TargetMode="Externa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8.jpeg"/><Relationship Id="rId15" Type="http://schemas.openxmlformats.org/officeDocument/2006/relationships/image" Target="../media/image11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hyperlink" Target="http://sms.5music.org/index.htm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5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205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1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2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3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4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5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753640" y="4062240"/>
            <a:ext cx="35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喜庆五谷丰登，享用劳动成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53640" y="4854600"/>
            <a:ext cx="35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祈求来年好运，祝愿平安幸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60160" y="56466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宋体"/>
              </a:rPr>
              <a:t>增进亲人感情，和睦人际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56536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过年寄托着人们的哪些期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过年习俗中蕴含着什么文化内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21920" y="1197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合作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229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2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3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4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4920" y="357336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们是怎样过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84240" y="486900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与文章中所描述的习俗相比有哪些变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谈谈你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3600" y="21398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合作探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251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2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4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5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6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476360" y="126828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实践拓展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552200" y="4649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在贺卡上写下真挚的祝福，然后传递你的祝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2920" y="3425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对不同的人群说吉利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87840" y="60930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用两周时间制作一份以过年为专题的手抄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274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0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1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2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3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4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5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16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476360" y="126828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实践拓展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4552200" y="3857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在贺卡上写下真挚的祝福，然后传递你的祝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72920" y="2778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对不同的人群说吉利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42720" y="4721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你对祖国说一句祝福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45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8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9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0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1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2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0" y="1125360"/>
            <a:ext cx="2987640" cy="295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1640" y="2657520"/>
            <a:ext cx="882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66"/>
                </a:solidFill>
                <a:latin typeface="Arial"/>
                <a:ea typeface="华文行楷"/>
              </a:rPr>
              <a:t>本命年的回想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4395960"/>
            <a:ext cx="33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 刘绍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 rot="2287800">
            <a:off x="7740360" y="5027760"/>
            <a:ext cx="1152360" cy="200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57340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镇江新区大港中学七年级语文备课组       朱晓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刘绍棠 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390528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绍棠是著名作家，河北通县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生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开始发表作品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成为中国作家协会最年轻的会员，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中国文坛的“神童作家”。是“荷花淀派”的代表作家之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被划成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右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，并开除党籍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恢复名誉。曾任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作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协会副主席 等。他创作的大量作品中有：短篇小说集：《青枝绿叶》、《老师领进门》（选入人教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级下册语文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出版短篇小说集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青枝绿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本命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回想》被选入中学语文课本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因病逝世于北京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47840" y="220968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184464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995640" y="115920"/>
            <a:ext cx="48592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692360" y="260280"/>
            <a:ext cx="466560" cy="34308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74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6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9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3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4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5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6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7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1125360"/>
            <a:ext cx="741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教学目标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知识能力目标：联系课文的文化背景，了解春节民俗文化的丰富内涵欣赏作品展现的优美画面，体会作者的美好情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程方法目标：欣赏作品独特的语言风格，体会其中浓郁的乡土气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情感态度目标：通过学生自己过年时的亲身感受与作者的感受的对比，他们能体会到春节的变化与传统民俗的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7840" y="1201680"/>
            <a:ext cx="51321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同时想像你眼前出现了哪些热闹的场景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44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2901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99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3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5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6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76360" y="3213000"/>
            <a:ext cx="73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簸箕      嚼     糁     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秫 秸     鬏     渍     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读准字音、认清字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8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bò 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4360" y="28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ji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shē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46204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t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shú ji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40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40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076640"/>
            <a:ext cx="6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42840"/>
            <a:ext cx="8317080" cy="681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16200" y="6315120"/>
            <a:ext cx="2971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050920" y="4076640"/>
            <a:ext cx="5334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腊八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846000" cy="2903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846000" cy="29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4360" y="0"/>
            <a:ext cx="8459640" cy="6853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5400000">
            <a:off x="5562360" y="25909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灶王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84360" y="260280"/>
            <a:ext cx="3958920" cy="576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788000" y="260280"/>
            <a:ext cx="4356000" cy="576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916360" y="4797360"/>
            <a:ext cx="3581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宋体"/>
              </a:rPr>
              <a:t>门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348000" y="479736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1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拜新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-181080" y="0"/>
            <a:ext cx="9324720" cy="6553080"/>
            <a:chOff x="-181080" y="0"/>
            <a:chExt cx="9324720" cy="6553080"/>
          </a:xfrm>
        </p:grpSpPr>
        <p:sp>
          <p:nvSpPr>
            <p:cNvPr id="140" name=""/>
            <p:cNvSpPr/>
            <p:nvPr/>
          </p:nvSpPr>
          <p:spPr>
            <a:xfrm>
              <a:off x="5760" y="1447920"/>
              <a:ext cx="913788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5760" y="228600"/>
              <a:ext cx="104184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7440480" y="1384200"/>
              <a:ext cx="6609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7"/>
            <a:stretch/>
          </p:blipFill>
          <p:spPr>
            <a:xfrm>
              <a:off x="8066880" y="1384200"/>
              <a:ext cx="107676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9"/>
            <a:stretch/>
          </p:blipFill>
          <p:spPr>
            <a:xfrm>
              <a:off x="3031560" y="388800"/>
              <a:ext cx="106200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0"/>
            <a:stretch/>
          </p:blipFill>
          <p:spPr>
            <a:xfrm>
              <a:off x="6598800" y="304920"/>
              <a:ext cx="150588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1"/>
            <a:stretch/>
          </p:blipFill>
          <p:spPr>
            <a:xfrm>
              <a:off x="8091720" y="304920"/>
              <a:ext cx="105192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2"/>
            <a:stretch/>
          </p:blipFill>
          <p:spPr>
            <a:xfrm>
              <a:off x="4073760" y="533520"/>
              <a:ext cx="10620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3"/>
            <a:stretch/>
          </p:blipFill>
          <p:spPr>
            <a:xfrm>
              <a:off x="5136120" y="533520"/>
              <a:ext cx="14792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4"/>
            <a:stretch/>
          </p:blipFill>
          <p:spPr>
            <a:xfrm>
              <a:off x="1989720" y="533520"/>
              <a:ext cx="106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5"/>
            <a:stretch/>
          </p:blipFill>
          <p:spPr>
            <a:xfrm>
              <a:off x="1047960" y="476280"/>
              <a:ext cx="10616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67000" y="1371600"/>
              <a:ext cx="801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0" y="1197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87280" y="18748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文章写了家乡过年时的哪些习俗？按什么顺序写的？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4560" y="33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炒年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456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吃腊八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5280" y="33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买糖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45120" y="334152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挑绒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0720" y="32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杀牲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3280" y="436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备糕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0560" y="436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送灶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5280" y="436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换门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6560" y="4349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除夕守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69160" y="4292640"/>
            <a:ext cx="13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拜新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013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005360"/>
            <a:ext cx="151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400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4560" y="4005360"/>
            <a:ext cx="122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67640" y="400536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5013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5013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5013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77080" y="5013360"/>
            <a:ext cx="118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400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1924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594828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76680" y="558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结构清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219640" y="260280"/>
            <a:ext cx="466920" cy="343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067280" y="260280"/>
            <a:ext cx="466560" cy="34308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-181080" y="0"/>
            <a:ext cx="9324720" cy="6857640"/>
            <a:chOff x="-181080" y="0"/>
            <a:chExt cx="9324720" cy="6857640"/>
          </a:xfrm>
        </p:grpSpPr>
        <p:sp>
          <p:nvSpPr>
            <p:cNvPr id="183" name=""/>
            <p:cNvSpPr/>
            <p:nvPr/>
          </p:nvSpPr>
          <p:spPr>
            <a:xfrm>
              <a:off x="5760" y="1515240"/>
              <a:ext cx="9137880" cy="534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20000"/>
                  </a:solidFill>
                  <a:latin typeface="MS Outlook"/>
                  <a:ea typeface="MS Outlook"/>
                </a:rPr>
                <a:t></a:t>
              </a:r>
              <a:br>
                <a:rPr sz="4400"/>
              </a:b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5760" y="239040"/>
              <a:ext cx="1041840" cy="19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440480" y="1448280"/>
              <a:ext cx="660960" cy="6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8066880" y="1448280"/>
              <a:ext cx="1076760" cy="6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8"/>
            <a:stretch/>
          </p:blipFill>
          <p:spPr>
            <a:xfrm>
              <a:off x="59040" y="0"/>
              <a:ext cx="90842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9"/>
            <a:stretch/>
          </p:blipFill>
          <p:spPr>
            <a:xfrm>
              <a:off x="3031560" y="406800"/>
              <a:ext cx="1062000" cy="126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0"/>
            <a:stretch/>
          </p:blipFill>
          <p:spPr>
            <a:xfrm>
              <a:off x="6598800" y="318960"/>
              <a:ext cx="1505880" cy="12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1"/>
            <a:stretch/>
          </p:blipFill>
          <p:spPr>
            <a:xfrm>
              <a:off x="8091720" y="318960"/>
              <a:ext cx="10519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2"/>
            <a:stretch/>
          </p:blipFill>
          <p:spPr>
            <a:xfrm>
              <a:off x="4073760" y="558000"/>
              <a:ext cx="106200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3"/>
            <a:stretch/>
          </p:blipFill>
          <p:spPr>
            <a:xfrm>
              <a:off x="5136120" y="558000"/>
              <a:ext cx="14792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4"/>
            <a:stretch/>
          </p:blipFill>
          <p:spPr>
            <a:xfrm>
              <a:off x="1989720" y="558000"/>
              <a:ext cx="1061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5"/>
            <a:stretch/>
          </p:blipFill>
          <p:spPr>
            <a:xfrm>
              <a:off x="1047960" y="498240"/>
              <a:ext cx="1061640" cy="10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67000" y="1435320"/>
              <a:ext cx="801000" cy="71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216000" y="1413000"/>
            <a:ext cx="1290600" cy="194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21920" y="1362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作者用怎样的语言描述过年时的习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请找出你最喜欢的一幅图景，作简要品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0" y="49021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请你尝试描绘一幅街上、小村镇或家里过节的图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3:19:25Z</dcterms:created>
  <dc:creator/>
  <dc:description/>
  <dc:language>en-US</dc:language>
  <cp:lastModifiedBy>新课标第一网</cp:lastModifiedBy>
  <dcterms:modified xsi:type="dcterms:W3CDTF">2011-09-27T05:43:22Z</dcterms:modified>
  <cp:revision>110</cp:revision>
  <dc:subject/>
  <dc:title/>
</cp:coreProperties>
</file>