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3.jpeg" ContentType="image/jpeg"/>
  <Override PartName="/ppt/media/image39.jpeg" ContentType="image/jpeg"/>
  <Override PartName="/ppt/media/image43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15.png" ContentType="image/png"/>
  <Override PartName="/ppt/media/image18.jpeg" ContentType="image/jpeg"/>
  <Override PartName="/ppt/media/image4.wmf" ContentType="image/x-wmf"/>
  <Override PartName="/ppt/media/image8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08F-B3DD-4FE2-B586-A8FC74D6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898-02C6-4C34-8E0C-B493D56C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12-0249-4DA1-B90B-5AF76D14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ED4-1A1E-4953-8625-1F3B702C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0EB-A716-4922-9E00-04D8B482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6069-09AB-4C11-94DE-A37B0BC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31E-0F0A-41B3-856B-DB9581E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FE04-27AD-481E-AAF9-ED54C474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31F-60B9-4B2C-B28C-5688312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AB1-687C-4B8B-B663-9E96FDD1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41F6-812A-4E32-9E3A-79DA702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032-E1D1-4C75-9CAC-A27C62C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F083-8AF7-4ED1-A038-E369C72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F32-85D0-46C8-B0C9-5CB903E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930-C232-40CD-8083-DE45C30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5AF2-9DA6-4FD1-8713-B4E2445E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A11E-E44A-40DA-B042-82975CF8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497-01E4-4387-8B0B-D60C97EF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7E7-1E19-4F72-B1A1-7ABECA3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C5E-2A24-45A9-9AB3-5E6F84C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AB9-8098-4194-83FE-115B8EA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061-4310-47C5-AF8A-185CB1F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E77-44E0-45D1-9B44-56C54A8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FFF-525B-494D-9E10-88379AF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D9B-E888-4350-A160-1B378CB207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4FE0-3206-4E02-A348-9BD43B16A4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004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56000" y="0"/>
            <a:ext cx="2987640" cy="6858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33cc33"/>
                </a:solidFill>
                <a:latin typeface="华文新魏"/>
                <a:ea typeface="华文新魏"/>
              </a:rPr>
              <a:t>  </a:t>
            </a:r>
            <a:r>
              <a:rPr b="1" lang="zh-CN" sz="5100" spc="-1" strike="noStrike">
                <a:solidFill>
                  <a:srgbClr val="33cc33"/>
                </a:solidFill>
                <a:latin typeface="华文新魏"/>
                <a:ea typeface="华文新魏"/>
              </a:rPr>
              <a:t>信息台</a:t>
            </a:r>
            <a:br>
              <a:rPr sz="4600"/>
            </a:b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br>
              <a:rPr sz="3400"/>
            </a:b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斑羚，也称青羊、山羊。体长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～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2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米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形似家养的山羊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但颌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(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华文隶书"/>
              </a:rPr>
              <a:t>é</a:t>
            </a:r>
            <a:r>
              <a:rPr b="0" lang="en-US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下无须</a:t>
            </a:r>
            <a:r>
              <a:rPr b="0" lang="zh-CN" sz="21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雌雄都有角。四肢细长，跑得快，善于跳跃。耐干渴，角可以入药，有清热、解毒等作用，所以常被人捕杀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t004"/>
          <p:cNvPicPr/>
          <p:nvPr/>
        </p:nvPicPr>
        <p:blipFill>
          <a:blip r:embed="rId2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图片5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940360" y="0"/>
            <a:ext cx="32036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Arial"/>
                <a:ea typeface="隶书"/>
              </a:rPr>
              <a:t>  </a:t>
            </a:r>
            <a:r>
              <a:rPr b="1" lang="zh-CN" sz="6000" spc="-1" strike="noStrike">
                <a:solidFill>
                  <a:srgbClr val="00cc00"/>
                </a:solidFill>
                <a:latin typeface="Arial"/>
                <a:ea typeface="隶书"/>
              </a:rPr>
              <a:t>信息台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br>
              <a:rPr sz="5400"/>
            </a:b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斑羚，也称青羊、山羊。体长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隶书"/>
              </a:rPr>
              <a:t>—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1.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米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形似家养的山羊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但颌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(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隶书"/>
              </a:rPr>
              <a:t>é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下无须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，雌雄都有角。四肢细长，跑得快，善于跳跃。耐干渴，角可以入药，有清热、解毒等作用，所以常被人捕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116000" y="1628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5250"/>
                </a:solidFill>
                <a:latin typeface="华文新魏"/>
                <a:ea typeface="华文新魏"/>
              </a:rPr>
              <a:t>        </a:t>
            </a:r>
            <a:r>
              <a:rPr b="1" lang="zh-CN" sz="6000" spc="-1" strike="noStrike">
                <a:solidFill>
                  <a:srgbClr val="033d19"/>
                </a:solidFill>
                <a:latin typeface="华文新魏"/>
                <a:ea typeface="华文新魏"/>
              </a:rPr>
              <a:t>这篇文章叙述了一个什么故事？请用简洁的语言概括。</a:t>
            </a:r>
            <a:r>
              <a:rPr b="1" lang="zh-CN" sz="6000" spc="-1" strike="noStrike">
                <a:solidFill>
                  <a:srgbClr val="005250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图片122"/>
          <p:cNvPicPr/>
          <p:nvPr/>
        </p:nvPicPr>
        <p:blipFill>
          <a:blip r:embed="rId1"/>
          <a:stretch/>
        </p:blipFill>
        <p:spPr>
          <a:xfrm>
            <a:off x="0" y="-1611360"/>
            <a:ext cx="9144000" cy="8469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55640" y="1628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本文叙述了一群被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逼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至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绝境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的斑羚，为了赢得种群的生存机会，用牺牲一半挽救另一半的方法摆脱困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图片2"/>
          <p:cNvPicPr/>
          <p:nvPr/>
        </p:nvPicPr>
        <p:blipFill>
          <a:blip r:embed="rId1"/>
          <a:stretch/>
        </p:blipFill>
        <p:spPr>
          <a:xfrm>
            <a:off x="-433440" y="0"/>
            <a:ext cx="9758520" cy="1002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68360" y="260280"/>
            <a:ext cx="41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00"/>
                </a:solidFill>
                <a:latin typeface="Arial"/>
                <a:ea typeface="华文行楷"/>
              </a:rPr>
              <a:t>想一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177336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文章中详细描述了第一对斑羚试跳成功的全过程，试用自己的话加以复述，相互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老少斑羚在山涧上空成功对接是飞渡过程中最精彩的场面，找出相关描写文字以及用得准确的动词和副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找出文中描写老斑羚悲惨结局的语句，看看运用了什么修辞手法？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800x600sc4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10009080" cy="7316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3473280"/>
            <a:ext cx="84978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文章详细描述了第一对斑羚试跳成功的全过程，请认真品读，看课文是怎样描写的</a:t>
            </a:r>
            <a:r>
              <a:rPr b="0" lang="en-US" sz="4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16000" y="765000"/>
            <a:ext cx="3743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品读轩</a:t>
            </a:r>
            <a:br>
              <a:rPr sz="72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11280" y="76500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、      一老一少两只斑羚走到伤心崖，后退几步，半大斑羚突然朝前飞奔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差不多同时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，老斑羚也快速起跑；到悬崖边缘，半大斑羚纵身一跃，朝山涧对面跳去，老斑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紧跟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在后面，头一勾，也从悬崖上蹿跃出去，一老一少跳跃时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稍分先后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，跳跃幅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略有差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。在山涧上空，它们成功对接，半大斑羚在老斑羚背上猛蹬一下，在空中再度起跳，下坠的身体也再度升高，轻巧地落在对面山峰上，而老斑羚则笔直坠落山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276720" y="58672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斑羚飞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ShockwaveFlash1"/>
          <p:cNvGraphicFramePr/>
          <p:nvPr/>
        </p:nvGraphicFramePr>
        <p:xfrm>
          <a:off x="0" y="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6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71640" y="692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半大斑羚的四只蹄子在老斑羚宽阔结实的背上猛蹬了一下，就像踏在一块跳板上，它在空中再度起跳，下坠的身体奇迹般地再度升高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900000" y="33577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此句用词准确，成功描写了半大斑羚获得重生的场面。“蹬”“跳”“升”三个动词写出了半大斑羚的空中动作，动作轻巧连贯。而两个“再度”则描写了半大斑羚得以重生的条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图片12"/>
          <p:cNvPicPr/>
          <p:nvPr/>
        </p:nvPicPr>
        <p:blipFill>
          <a:blip r:embed="rId1"/>
          <a:stretch/>
        </p:blipFill>
        <p:spPr>
          <a:xfrm>
            <a:off x="-684360" y="-53172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40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老斑羚就像燃料已输送完了的火箭残壳，自动脱离宇宙飞船，不，比火箭残壳更悲惨，在半大斑羚的猛力踢蹬下，像只突然断翅的鸟笔直坠落下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24000" y="26226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这句连用两个比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开始把下坠的老斑羚比作火箭的残壳。火箭的残壳是完成使命后的写照，写出了老斑羚悲惨的结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后来又把下坠的老斑羚比作断翅的鸟，鸟无翅膀则无法飞翔，毫无生还能力。第二个比喻更突出了老斑羚死的悲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116000" y="54936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Arial"/>
                <a:ea typeface="隶书"/>
              </a:rPr>
              <a:t>思考：从这群斑羚身上，我们看到什么样的精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332000" y="321300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团结合作，舍己为人， 自我牺牲，视死如归</a:t>
            </a: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3741840" y="0"/>
            <a:ext cx="54021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通读全文后，镰刀头羊给每个人留下了深刻的印象，它是这场飞渡的组织者，文中重点写了它的哪些表现？谈谈你对镰刀头羊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峨眉山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195640" y="177336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华文行楷"/>
              </a:rPr>
              <a:t>斑羚飞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780000" y="378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  <a:ea typeface="隶书"/>
              </a:rPr>
              <a:t>沈石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图片12"/>
          <p:cNvPicPr/>
          <p:nvPr/>
        </p:nvPicPr>
        <p:blipFill>
          <a:blip r:embed="rId1"/>
          <a:stretch/>
        </p:blipFill>
        <p:spPr>
          <a:xfrm>
            <a:off x="-938160" y="-747720"/>
            <a:ext cx="10082160" cy="8342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-252360" y="0"/>
            <a:ext cx="939636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对镰刀头羊的描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外形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叫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行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5280" y="119700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身材特别高大、毛色深棕油光水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头上的角像两把镰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908000" y="2852640"/>
            <a:ext cx="60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一、表示无能为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二、唤醒母斑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发出号令，指挥飞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三、既是忧伤的叹息，也是召唤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908000" y="587700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冷静指挥，自觉为桥墩；从容赴死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00"/>
                </a:solidFill>
                <a:latin typeface="Arial"/>
                <a:ea typeface="黑体"/>
              </a:rPr>
              <a:t>•</a:t>
            </a:r>
            <a:r>
              <a:rPr b="0" lang="en-US" sz="21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r>
              <a:rPr b="0" lang="zh-CN" sz="2100" spc="-1" strike="noStrike">
                <a:solidFill>
                  <a:srgbClr val="333300"/>
                </a:solidFill>
                <a:latin typeface="黑体"/>
                <a:ea typeface="黑体"/>
              </a:rPr>
              <a:t>文中重点写了镰刀头羊的三次叫声，第一次，当 发现陷入绝境时，悲哀地咩了数声，这是无能为 力的表示；第二次，当一头母斑羚恍惚地走进的 斑斓光带里，镰刀头羊发出咩的吼叫，招回母斑 羚，并告诉大家，他已有了自救的办法，并组织 实施；第三次，在老年和年轻斑羚两个队伍力量 悬殊时，镰刀头羊悲怆地轻咩一声，表示为了让 更多年轻的斑羚获救，只能牺牲包括自己在内的 正当盛年的斑羚，这既是忧伤的叹息，也是召唤 补充死亡队伍的命令。 </a:t>
            </a:r>
            <a:r>
              <a:rPr b="0" lang="en-US" sz="2100" spc="-1" strike="noStrike">
                <a:solidFill>
                  <a:srgbClr val="333300"/>
                </a:solidFill>
                <a:latin typeface="Arial"/>
                <a:ea typeface="黑体"/>
              </a:rPr>
              <a:t>•</a:t>
            </a:r>
            <a:r>
              <a:rPr b="0" lang="en-US" sz="2100" spc="-1" strike="noStrike">
                <a:solidFill>
                  <a:srgbClr val="333300"/>
                </a:solidFill>
                <a:latin typeface="黑体"/>
                <a:ea typeface="黑体"/>
              </a:rPr>
              <a:t> </a:t>
            </a:r>
            <a:r>
              <a:rPr b="0" lang="zh-CN" sz="2100" spc="-1" strike="noStrike">
                <a:solidFill>
                  <a:srgbClr val="333300"/>
                </a:solidFill>
                <a:latin typeface="黑体"/>
                <a:ea typeface="黑体"/>
              </a:rPr>
              <a:t>它的叫声和行动给读者留下了深刻的印象：富 于智慧，有决断力，遇事镇定，临难从容。它最 后的悲壮献身，产生了震撼人心的力量。</a:t>
            </a:r>
            <a:br>
              <a:rPr sz="2100"/>
            </a:br>
            <a:br>
              <a:rPr sz="3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971640" y="76500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Arial"/>
                <a:ea typeface="隶书"/>
              </a:rPr>
              <a:t>概括镰刀头羊的形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619280" y="3429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富于智慧，有决断力，遇事镇定，临难从容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900000" y="1125360"/>
            <a:ext cx="1755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835280" y="2095560"/>
            <a:ext cx="136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484360" y="2924280"/>
            <a:ext cx="136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227400" y="3786120"/>
            <a:ext cx="15606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6372360" y="1268280"/>
            <a:ext cx="216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7956720" y="2276640"/>
            <a:ext cx="1152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7596360" y="2924280"/>
            <a:ext cx="122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7164360" y="3524400"/>
            <a:ext cx="205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732720" y="4149720"/>
            <a:ext cx="1330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356000" y="4941720"/>
            <a:ext cx="27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859280" y="562464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4859280" y="6164280"/>
            <a:ext cx="27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6836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找出文中对彩虹的三次描写，并指出其意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3964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三是渲染头羊自我牺牲的崇高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468360" y="1773360"/>
            <a:ext cx="76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华文行楷"/>
              </a:rPr>
              <a:t>一是身陷绝境时（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华文行楷"/>
              </a:rPr>
              <a:t>）；二是斑羚飞渡时（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华文行楷"/>
              </a:rPr>
              <a:t>11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华文行楷"/>
              </a:rPr>
              <a:t>）；三是头羊走向绚丽彩虹时（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华文行楷"/>
              </a:rPr>
              <a:t>16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  <a:ea typeface="华文行楷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11280" y="314172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一是渲染一种神秘色彩；并推动情节发展，启示斑羚想出飞渡办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611280" y="450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二是</a:t>
            </a:r>
            <a:r>
              <a:rPr b="1" lang="zh-CN" sz="3200" spc="-1" strike="noStrike">
                <a:solidFill>
                  <a:srgbClr val="41ff0d"/>
                </a:solidFill>
                <a:latin typeface="Arial"/>
                <a:ea typeface="隶书"/>
              </a:rPr>
              <a:t>烘托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飞渡气势，渲染飞渡的悲壮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e006"/>
            </a:gs>
            <a:gs pos="100000">
              <a:srgbClr val="1d680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1219320" y="1143000"/>
            <a:ext cx="7619760" cy="2878200"/>
          </a:xfrm>
          <a:custGeom>
            <a:avLst/>
            <a:gdLst>
              <a:gd name="textAreaLeft" fmla="*/ 1333440 w 7619760"/>
              <a:gd name="textAreaRight" fmla="*/ 5524560 w 7619760"/>
              <a:gd name="textAreaTop" fmla="*/ 385560 h 2878200"/>
              <a:gd name="textAreaBottom" fmla="*/ 2492640 h 287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572000" y="3500280"/>
            <a:ext cx="2101680" cy="959040"/>
          </a:xfrm>
          <a:custGeom>
            <a:avLst/>
            <a:gdLst>
              <a:gd name="textAreaLeft" fmla="*/ 307800 w 2101680"/>
              <a:gd name="textAreaRight" fmla="*/ 1793880 w 2101680"/>
              <a:gd name="textAreaTop" fmla="*/ 140400 h 959040"/>
              <a:gd name="textAreaBottom" fmla="*/ 818640 h 959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4718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2627280" y="3573360"/>
            <a:ext cx="3678120" cy="1677960"/>
            <a:chOff x="2627280" y="3573360"/>
            <a:chExt cx="3678120" cy="1677960"/>
          </a:xfrm>
        </p:grpSpPr>
        <p:sp>
          <p:nvSpPr>
            <p:cNvPr id="187" name="AutoShape 5"/>
            <p:cNvSpPr/>
            <p:nvPr/>
          </p:nvSpPr>
          <p:spPr>
            <a:xfrm>
              <a:off x="2627280" y="3573360"/>
              <a:ext cx="2101680" cy="959040"/>
            </a:xfrm>
            <a:custGeom>
              <a:avLst/>
              <a:gdLst>
                <a:gd name="textAreaLeft" fmla="*/ 307800 w 2101680"/>
                <a:gd name="textAreaRight" fmla="*/ 1793880 w 2101680"/>
                <a:gd name="textAreaTop" fmla="*/ 139680 h 959040"/>
                <a:gd name="textAreaBottom" fmla="*/ 81936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152880" y="4292640"/>
              <a:ext cx="3152520" cy="958680"/>
            </a:xfrm>
            <a:custGeom>
              <a:avLst/>
              <a:gdLst>
                <a:gd name="textAreaLeft" fmla="*/ 461880 w 3152520"/>
                <a:gd name="textAreaRight" fmla="*/ 2690640 w 3152520"/>
                <a:gd name="textAreaTop" fmla="*/ 139680 h 958680"/>
                <a:gd name="textAreaBottom" fmla="*/ 81900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99" y="9242"/>
                  </a:moveTo>
                  <a:cubicBezTo>
                    <a:pt x="17265" y="5852"/>
                    <a:pt x="14267" y="3434"/>
                    <a:pt x="10800" y="3434"/>
                  </a:cubicBezTo>
                  <a:cubicBezTo>
                    <a:pt x="6940" y="3433"/>
                    <a:pt x="3735" y="6412"/>
                    <a:pt x="3453" y="10262"/>
                  </a:cubicBezTo>
                  <a:lnTo>
                    <a:pt x="28" y="10011"/>
                  </a:lnTo>
                  <a:cubicBezTo>
                    <a:pt x="442" y="4367"/>
                    <a:pt x="5141" y="-1"/>
                    <a:pt x="10800" y="0"/>
                  </a:cubicBezTo>
                  <a:cubicBezTo>
                    <a:pt x="15884" y="0"/>
                    <a:pt x="20280" y="3546"/>
                    <a:pt x="21355" y="8515"/>
                  </a:cubicBezTo>
                  <a:lnTo>
                    <a:pt x="23994" y="7944"/>
                  </a:lnTo>
                  <a:lnTo>
                    <a:pt x="20612" y="13195"/>
                  </a:lnTo>
                  <a:lnTo>
                    <a:pt x="15360" y="9813"/>
                  </a:lnTo>
                  <a:lnTo>
                    <a:pt x="17999" y="9242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7"/>
          <p:cNvSpPr/>
          <p:nvPr/>
        </p:nvSpPr>
        <p:spPr>
          <a:xfrm>
            <a:off x="1835280" y="4149720"/>
            <a:ext cx="7887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宁死不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58000" y="4149720"/>
            <a:ext cx="73836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飞渡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419640" y="4724280"/>
            <a:ext cx="2358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舍己为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延续种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10"/>
          <p:cNvSpPr txBox="1"/>
          <p:nvPr/>
        </p:nvSpPr>
        <p:spPr>
          <a:xfrm>
            <a:off x="2590920" y="0"/>
            <a:ext cx="396216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悲壮美</a:t>
            </a:r>
            <a:endParaRPr b="1" lang="en-US" sz="1800" spc="1" strike="noStrike">
              <a:ln w="0">
                <a:noFill/>
              </a:ln>
              <a:solidFill>
                <a:srgbClr val="cccc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接受生命援助的斑羚为什么没有表现出特别的感激？“只是兴奋地咩叫一声，钻到磐石后面不见了。”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183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00"/>
                </a:solidFill>
                <a:latin typeface="Arial"/>
              </a:rPr>
              <a:t>因为这些获救者有一天也会站到老年斑羚那一拨去，去为另一群年轻斑羚做桥墩。对它们来说，为种族做出牺牲，只是自己的天性、本能，所以不需要特别的感激。 </a:t>
            </a:r>
            <a:br>
              <a:rPr sz="3000"/>
            </a:br>
            <a:br>
              <a:rPr sz="34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d20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08000" y="404640"/>
            <a:ext cx="575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感情朗读   体会悲壮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700360" y="206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请同学们用自己喜欢的方式充满感情地朗读最让你感动的课文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699920"/>
            <a:ext cx="720108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333300"/>
                </a:solidFill>
                <a:latin typeface="Arial"/>
              </a:rPr>
              <a:t>山涧上空，和那道彩虹平行，又架起了一座桥， 那是一座用死亡做桥墩架设起来的桥。 为什么说那座桥是“用死亡做桥墩” ？</a:t>
            </a:r>
            <a:br>
              <a:rPr sz="2500"/>
            </a:br>
            <a:br>
              <a:rPr sz="3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因为每一只获得新生的斑羚，都是以另一 只斑羚的身体为跳板完成飞渡的。 是这些 必死的斑羚组成了新生的桥，所以说是 “用死亡做桥墩”。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72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333300"/>
                </a:solidFill>
                <a:latin typeface="Arial"/>
              </a:rPr>
              <a:t>．我十分注意盯着那群注定要送死的老斑羚，心想， 或许有个别滑头的老斑羚会从注定死亡的那拨偷偷溜到 新生的那拨去但让我震惊的是， 从头至尾没有一只老斑羚调换位置。（“从头至尾没有一只老斑羚调换位置”一事为什么让 “我”感到震惊？）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333300"/>
                </a:solidFill>
                <a:latin typeface="Arial"/>
              </a:rPr>
              <a:t>我是个猎人，参照人类在此种情景下常有临阵脱逃的表现，所以震惊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3. “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它走了上去，消失在一片灿烂中。在这句话里，灿烂只是指那一道弯弯的彩虹吗？”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7200" y="3443040"/>
            <a:ext cx="813924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只是指那道彩虹，更是象征镰刀头羊 行为和精神的闪光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图片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484360" y="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4039"/>
                </a:solidFill>
                <a:latin typeface="Arial"/>
                <a:ea typeface="隶书"/>
              </a:rPr>
              <a:t>议一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0920" y="1413000"/>
            <a:ext cx="83534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人说：课文描写的斑羚飞渡成功，是以时间先后选择的精确、跳跃幅度控制的高超、跳跃技巧掌握的娴熟、对接时机衔接的吻合为前提的，而这群斑羚并未经过事先排练，真能飞渡成功吗？斑羚真能在生死关头为种族延续自我牺牲吗？猎人们会眼睁睁地看完这一幕，而不举猎枪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771640" y="69228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试一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403280" y="3429000"/>
            <a:ext cx="6481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思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与动物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的关系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拟写一两则关于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保护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动物的标语。</a:t>
            </a:r>
            <a:r>
              <a:rPr b="1" lang="zh-CN" sz="3600" spc="-1" strike="noStrike">
                <a:solidFill>
                  <a:srgbClr val="d9d8e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图片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122560" y="105264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f2a0f"/>
                </a:solidFill>
                <a:latin typeface="Arial"/>
                <a:ea typeface="隶书"/>
              </a:rPr>
              <a:t>善待动物善待生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图片1"/>
          <p:cNvPicPr/>
          <p:nvPr/>
        </p:nvPicPr>
        <p:blipFill>
          <a:blip r:embed="rId2"/>
          <a:stretch/>
        </p:blipFill>
        <p:spPr>
          <a:xfrm>
            <a:off x="324000" y="4532400"/>
            <a:ext cx="8699400" cy="192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悠悠白云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042920" y="112536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人与动物应和谐共处，共建美好家园。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zg79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所有的动物都有它们的尊严，如果我们能得到动物的理解和喜爱，那将是我们人类的荣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动物世界拍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金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沃尔哈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图片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547640" y="62064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84039"/>
                </a:solidFill>
                <a:latin typeface="Arial"/>
                <a:ea typeface="隶书"/>
              </a:rPr>
              <a:t>   </a:t>
            </a:r>
            <a:r>
              <a:rPr b="1" lang="zh-CN" sz="8000" spc="-1" strike="noStrike">
                <a:solidFill>
                  <a:srgbClr val="084039"/>
                </a:solidFill>
                <a:latin typeface="Arial"/>
                <a:ea typeface="隶书"/>
              </a:rPr>
              <a:t>我能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24000" y="3141720"/>
            <a:ext cx="83534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、假如你是一只小斑羚，在成功飞渡后，会怎样想？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２、请给猎人们写几句你最想说的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ff3300"/>
                </a:solidFill>
                <a:latin typeface="Arial"/>
              </a:rPr>
              <a:t>、在整个事件中，人充当什么角色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54200" y="4370040"/>
            <a:ext cx="730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776680" y="350028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自然的侵害者和掠夺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3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340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图片1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30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2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30200" y="2781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沈石溪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，原名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沈一鸣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，</a:t>
            </a:r>
            <a:r>
              <a:rPr b="0" lang="en-US" sz="3600" spc="-1" strike="noStrike">
                <a:solidFill>
                  <a:srgbClr val="db253f"/>
                </a:solidFill>
                <a:latin typeface="隶书"/>
                <a:ea typeface="隶书"/>
              </a:rPr>
              <a:t>1952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生于上海。</a:t>
            </a:r>
            <a:r>
              <a:rPr b="0" lang="en-US" sz="3600" spc="-1" strike="noStrike">
                <a:solidFill>
                  <a:srgbClr val="db253f"/>
                </a:solidFill>
                <a:latin typeface="隶书"/>
                <a:ea typeface="隶书"/>
              </a:rPr>
              <a:t>1969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初中毕业赴云南西双版纳傣族村寨插队落户，有着丰富的生活体验。</a:t>
            </a:r>
            <a:r>
              <a:rPr b="0" lang="en-US" sz="3600" spc="-1" strike="noStrike">
                <a:solidFill>
                  <a:srgbClr val="db253f"/>
                </a:solidFill>
                <a:latin typeface="隶书"/>
                <a:ea typeface="隶书"/>
              </a:rPr>
              <a:t>1975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当兵，历任新闻干事和宣传部长。</a:t>
            </a:r>
            <a:r>
              <a:rPr b="0" lang="en-US" sz="3600" spc="-1" strike="noStrike">
                <a:solidFill>
                  <a:srgbClr val="db253f"/>
                </a:solidFill>
                <a:latin typeface="隶书"/>
                <a:ea typeface="隶书"/>
              </a:rPr>
              <a:t>1980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开始从事儿童文学创作，所著动物小说将故事性和知识性融为一体，充满哲理内涵，风格独特。作品多次获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4360" y="549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走近名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沈石溪"/>
          <p:cNvPicPr/>
          <p:nvPr/>
        </p:nvPicPr>
        <p:blipFill>
          <a:blip r:embed="rId2"/>
          <a:stretch/>
        </p:blipFill>
        <p:spPr>
          <a:xfrm>
            <a:off x="5435640" y="0"/>
            <a:ext cx="3529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00"/>
                </a:solidFill>
                <a:latin typeface="Arial"/>
              </a:rPr>
              <a:t>看完这些图片，你想说些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333300"/>
                </a:solidFill>
                <a:latin typeface="Arial"/>
              </a:rPr>
              <a:t>作业： </a:t>
            </a:r>
            <a:r>
              <a:rPr b="0" lang="en-US" sz="38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0" lang="zh-CN" sz="3800" spc="-1" strike="noStrike">
                <a:solidFill>
                  <a:srgbClr val="333300"/>
                </a:solidFill>
                <a:latin typeface="Arial"/>
              </a:rPr>
              <a:t>、动物是人类的朋友，试着给狩猎队写一 封信，谈谈对这件事的看法。 </a:t>
            </a:r>
            <a:br>
              <a:rPr sz="3800"/>
            </a:br>
            <a:r>
              <a:rPr b="0" lang="zh-CN" sz="3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0" lang="zh-CN" sz="3800" spc="-1" strike="noStrike">
                <a:solidFill>
                  <a:srgbClr val="333300"/>
                </a:solidFill>
                <a:latin typeface="Arial"/>
              </a:rPr>
              <a:t>、请以动物身份给人类写一封信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2411280" y="1773360"/>
            <a:ext cx="4114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再 见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-4932360" y="5657760"/>
            <a:ext cx="554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藏羚羊，被称为 可可西里 藏羚羊，被称为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可可西里 的骄傲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，我国特有物种，国家一级保护动物，只要你看到它 们成群结队在雪后初霁的地平 线上涌出，精灵一般的身材， 优美得飞翔一样的跑姿，你就 会相信，它能够在这片土地上 生存数千万年，是因为它就是 属于这里的。 它不是一种自身 濒临灭绝、适应能力差的动物， 只要你不去管它，它自己就能 活得好好的。 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要栖息于海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0—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的荒漠草甸高原 等环境中。为寻觅足够的食物和抵御严寒，经过长期适应，藏羚羊形成了集群迁徙的习性，雌藏羚羊生育后代时 都要千里迢迢的到可可西里生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类为获取珍贵的藏羚羊绒而肆虐的捕杀藏羚羊。在沙石、 冰碛中藏羚羊的蹄子经常会被磨破，但它们从不放弃跋涉， 而是以惊人的毅力忍着疼痛，流着血，一步步走向新希望。  千万年来，藏羚羊在这片“世界屋脊”上自由自在地生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而，由于冰川融化、河流干涸、草场退化、生态环境变 迁等影响，加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以来种群已由成百万只减 迁等影响，减 少到 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只，这高原上“不朽的精灵”正陷入灭绝的 边缘，保护藏羚羊的意义和影响已不亚于保护国宝大熊猫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藏羚羊绒贸易给盗猎分子带来巨额利润。大量藏羚羊被猎杀取绒后，一部分绒被走私分子藏夹在棉被、棉被、羽绒服中 或藏匿在汽油桶、车辆和羊绒中，蒙混通过中国西藏的樟木、普兰等口岸出境；而另一些走私分子则人背畜驮到边境秘密交易点进行交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在中国境外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公斤藏羚羊生绒价格可达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0―2000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美元，而一条用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00―4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克藏羚羊绒织成的围巾价格可高达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000―300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美元。如此高额的利润，进一步刺激了盗猎分子欲望，并使他们有条件获得更有效的武器和装备，用于大肆屠杀藏羚羊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03:11:20Z</dcterms:created>
  <dc:creator>wlf</dc:creator>
  <dc:description/>
  <dc:language>en-US</dc:language>
  <cp:lastModifiedBy>Administrator</cp:lastModifiedBy>
  <dcterms:modified xsi:type="dcterms:W3CDTF">2016-10-26T06:47:05Z</dcterms:modified>
  <cp:revision>223</cp:revision>
  <dc:subject/>
  <dc:title>幻灯片 1</dc:title>
</cp:coreProperties>
</file>