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026-A88C-4E36-8F83-C98CF6EF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C19-7ACE-4398-B368-80744D80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27A-86BB-4AD5-817E-82C61EB3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590-5968-45D4-A06B-456A599C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4952-86A9-465C-AC60-52216020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5A3E-AB15-4D6E-B096-9279CC4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D43B-DCC4-4E37-B5F4-4104150A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4A3F-ECB1-403C-BD2F-7B4D6743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7E89-CEA7-4503-B23D-8A4C759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D937-E4B8-42D3-907D-2EEBD6FC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4B82-885C-4A85-AE58-C204189E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E7F-267F-4612-AEAD-C10DB56D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B4DC-91B6-4DC4-98BC-4E7D09AB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924-F998-4506-9CE6-1AA43055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6656-6190-4078-8E0B-E03BA1A0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D35-DE6B-4868-8289-10A6300B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475C-4585-4B9F-8DDB-AB8BC14C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C3A-8A6D-478A-837A-FABB9C0F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9E0-5292-43AE-B8A4-C950EE61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E3C-4AA2-4A88-9786-FB8B077E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92D-96D9-4F1F-8E5D-0D5CCF23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C37-7EB9-4720-B16F-4B216EC5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54F-67B7-4AA8-9ED3-90562936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5C9-AD7B-4C25-8CC2-F935F4E9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AE0-49B3-4303-83CA-2793E77662B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B3A2-D52E-4BEF-88E1-707092513D1B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177336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华文行楷"/>
              </a:rPr>
              <a:t>斑羚飞渡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3789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沈石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433440" y="0"/>
            <a:ext cx="9758520" cy="1002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260280"/>
            <a:ext cx="41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00"/>
                </a:solidFill>
                <a:latin typeface="Arial"/>
                <a:ea typeface="华文行楷"/>
              </a:rPr>
              <a:t>想一想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1773360"/>
            <a:ext cx="842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、文章中详细描述了第一对斑羚试跳成功的全过程，试用自己的话加以复述，相互交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、老少斑羚在山涧上空成功对接是飞渡过程中最精彩的场面，找出相关描写文字以及用得准确的动词和副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、找出文中描写老斑羚悲惨结局的语句，看看运用了什么修辞手法？起什么作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76500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、      一老一少两只斑羚走到伤心崖，后退几步，半大斑羚突然朝前飞奔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差不多同时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，老斑羚也快速起跑；到悬崖边缘，半大斑羚纵身一跃，朝山涧对面跳去，老斑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紧跟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在后面，头一勾，也从悬崖上蹿跃出去，一老一少跳跃时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稍分先后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，跳跃幅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略有差异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行楷"/>
              </a:rPr>
              <a:t>。在山涧上空，它们成功对接，半大斑羚在老斑羚背上猛蹬一下，在空中再度起跳，下坠的身体也再度升高，轻巧地落在对面山峰上，而老斑羚则笔直坠落山崖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6922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692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“半大斑羚的四只蹄子在老斑羚宽阔结实的背上猛蹬了一下，就像踏在一块跳板上，它在空中再度起跳，下坠的身体奇迹般地再度升高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335772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此句用词准确，成功描写了半大斑羚获得重生的场面。“蹬”“跳”“升”三个动词写出了半大斑羚的空中动作，动作轻巧连贯。而两个“再度”则描写了半大斑羚得以重生的条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84360" y="-53172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6922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04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“老斑羚就像燃料已输送完了的火箭残壳，自动脱离宇宙飞船，不，比火箭残壳更悲惨，在半大斑羚的猛力踢蹬下，像只突然断翅的鸟笔直坠落下去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26226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这句连用两个比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开始把下坠的老斑羚比作火箭的残壳。火箭的残壳是完成使命后的写照，写出了老斑羚悲惨的结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后来又把下坠的老斑羚比作断翅的鸟，鸟无翅膀则无法飞翔，毫无生还能力。第二个比喻更突出了老斑羚死的悲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54936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Arial"/>
                <a:ea typeface="隶书"/>
              </a:rPr>
              <a:t>思考：从这群斑羚身上，我们看到什么样的精神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3213000"/>
            <a:ext cx="63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团结合作，舍己为人， 自我牺牲，视死如归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741840" y="0"/>
            <a:ext cx="540216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通读全文后，镰刀头羊给每个人留下了深刻的印象，它是这场飞渡的组织者，文中重点写了它的哪些表现？谈谈你对镰刀头羊的印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938160" y="-747720"/>
            <a:ext cx="10082160" cy="8342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5640" y="6922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252360" y="0"/>
            <a:ext cx="9396360" cy="85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对镰刀头羊的描写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外形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叫声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行为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119700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身材特别高大、毛色深棕油光水滑”   “头上的角像两把镰刀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2852640"/>
            <a:ext cx="60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一、表示无能为力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二、唤醒母斑羚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发出号令，指挥飞渡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三、既是忧伤的叹息，也是召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587700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冷静指挥，自觉为桥墩；从容赴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195640" y="1700280"/>
            <a:ext cx="47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213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76500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9900"/>
                </a:solidFill>
                <a:latin typeface="Arial"/>
                <a:ea typeface="隶书"/>
              </a:rPr>
              <a:t>概括镰刀头羊的形象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42900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隶书"/>
              </a:rPr>
              <a:t>富于智慧，有决断力，遇事镇定，临难从容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隶书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00000" y="1125360"/>
            <a:ext cx="17557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095560"/>
            <a:ext cx="136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2924280"/>
            <a:ext cx="1365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27400" y="3786120"/>
            <a:ext cx="15606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1268280"/>
            <a:ext cx="2160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2276640"/>
            <a:ext cx="1152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96360" y="2924280"/>
            <a:ext cx="122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524400"/>
            <a:ext cx="2050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4149720"/>
            <a:ext cx="1330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4941720"/>
            <a:ext cx="273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562464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6164280"/>
            <a:ext cx="27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找出文中对彩虹的三次描写，并指出其意义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三是渲染头羊自我牺牲的崇高之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773360"/>
            <a:ext cx="76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一是身陷绝境时（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5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）；二是斑羚飞渡时（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11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）；三是头羊走向绚丽彩虹时（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16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行楷"/>
              </a:rPr>
              <a:t>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14172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一是渲染一种神秘色彩；并推动情节发展，启示斑羚想出飞渡办法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450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二是</a:t>
            </a:r>
            <a:r>
              <a:rPr b="1" lang="zh-CN" sz="3200" spc="-1" strike="noStrike">
                <a:solidFill>
                  <a:srgbClr val="41ff0d"/>
                </a:solidFill>
                <a:latin typeface="Arial"/>
                <a:ea typeface="隶书"/>
              </a:rPr>
              <a:t>烘托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隶书"/>
              </a:rPr>
              <a:t>飞渡气势，渲染飞渡的悲壮美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e006"/>
            </a:gs>
            <a:gs pos="100000">
              <a:srgbClr val="1d670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1143000"/>
            <a:ext cx="7619760" cy="2878200"/>
          </a:xfrm>
          <a:custGeom>
            <a:avLst/>
            <a:gdLst>
              <a:gd name="textAreaLeft" fmla="*/ 1333440 w 7619760"/>
              <a:gd name="textAreaRight" fmla="*/ 5524560 w 7619760"/>
              <a:gd name="textAreaTop" fmla="*/ 385560 h 2878200"/>
              <a:gd name="textAreaBottom" fmla="*/ 2492640 h 287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00280"/>
            <a:ext cx="2101680" cy="959040"/>
          </a:xfrm>
          <a:custGeom>
            <a:avLst/>
            <a:gdLst>
              <a:gd name="textAreaLeft" fmla="*/ 0 w 2101680"/>
              <a:gd name="textAreaRight" fmla="*/ 2101680 w 210168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6e6900"/>
              </a:gs>
              <a:gs pos="100000">
                <a:srgbClr val="f0e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627280" y="3573360"/>
            <a:ext cx="3678120" cy="1677960"/>
            <a:chOff x="2627280" y="3573360"/>
            <a:chExt cx="3678120" cy="1677960"/>
          </a:xfrm>
        </p:grpSpPr>
        <p:sp>
          <p:nvSpPr>
            <p:cNvPr id="169" name=""/>
            <p:cNvSpPr/>
            <p:nvPr/>
          </p:nvSpPr>
          <p:spPr>
            <a:xfrm>
              <a:off x="2627280" y="3573360"/>
              <a:ext cx="2101680" cy="959040"/>
            </a:xfrm>
            <a:custGeom>
              <a:avLst/>
              <a:gdLst>
                <a:gd name="textAreaLeft" fmla="*/ 0 w 2101680"/>
                <a:gd name="textAreaRight" fmla="*/ 2101680 w 210168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52880" y="4292640"/>
              <a:ext cx="3152520" cy="958680"/>
            </a:xfrm>
            <a:custGeom>
              <a:avLst/>
              <a:gdLst>
                <a:gd name="textAreaLeft" fmla="*/ 0 w 3152520"/>
                <a:gd name="textAreaRight" fmla="*/ 3152880 w 315252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1" y="12358"/>
                  </a:moveTo>
                  <a:arcTo wR="-7366" hR="-7366" stAng="10067404" swAng="-9816116"/>
                  <a:lnTo>
                    <a:pt x="29" y="10011"/>
                  </a:lnTo>
                  <a:arcTo wR="10800" hR="10800" stAng="-10548712" swAng="9816116"/>
                  <a:lnTo>
                    <a:pt x="23995" y="7945"/>
                  </a:lnTo>
                  <a:lnTo>
                    <a:pt x="20612" y="13196"/>
                  </a:lnTo>
                  <a:lnTo>
                    <a:pt x="15360" y="9813"/>
                  </a:lnTo>
                  <a:close/>
                </a:path>
              </a:pathLst>
            </a:custGeom>
            <a:gradFill rotWithShape="0">
              <a:gsLst>
                <a:gs pos="0">
                  <a:srgbClr val="175e5e"/>
                </a:gs>
                <a:gs pos="100000">
                  <a:srgbClr val="33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835280" y="4149720"/>
            <a:ext cx="7887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宁死不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149720"/>
            <a:ext cx="73836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飞渡成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4724280"/>
            <a:ext cx="2358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舍己为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延续种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590920" y="0"/>
            <a:ext cx="396216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悲壮美</a:t>
            </a:r>
            <a:endParaRPr b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25360"/>
            <a:ext cx="9144000" cy="730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8000" y="404640"/>
            <a:ext cx="575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感情朗读   体会悲壮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206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请同学们用自己喜欢的方式充满感情地朗读最让你感动的课文片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195640" y="1700280"/>
            <a:ext cx="47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96360" y="3213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69228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试一试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429000"/>
            <a:ext cx="6481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思考“人与动物”的关系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拟写一两则关于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保护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动物的标语。</a:t>
            </a:r>
            <a:r>
              <a:rPr b="1" lang="zh-CN" sz="3600" spc="-1" strike="noStrike">
                <a:solidFill>
                  <a:srgbClr val="00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95640" y="1700280"/>
            <a:ext cx="47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105264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f2a0f"/>
                </a:solidFill>
                <a:latin typeface="Arial"/>
                <a:ea typeface="隶书"/>
              </a:rPr>
              <a:t>善待动物善待生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96360" y="3213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4532400"/>
            <a:ext cx="8699400" cy="192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42920" y="112536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人与动物应和谐共处，共建美好家园。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所有的动物都有它们的尊严，如果我们能得到动物的理解和喜爱，那将是我们人类的荣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动物世界拍摄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沃尔哈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62064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4039"/>
                </a:solidFill>
                <a:latin typeface="Arial"/>
                <a:ea typeface="隶书"/>
              </a:rPr>
              <a:t>   </a:t>
            </a:r>
            <a:r>
              <a:rPr b="1" lang="zh-CN" sz="8000" spc="-1" strike="noStrike">
                <a:solidFill>
                  <a:srgbClr val="084039"/>
                </a:solidFill>
                <a:latin typeface="Arial"/>
                <a:ea typeface="隶书"/>
              </a:rPr>
              <a:t>我能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141720"/>
            <a:ext cx="83534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、假如你是一只小斑羚，在成功飞渡后，会怎样想？怎样做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２、请给猎人们写几句你最想说的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4039"/>
                </a:solidFill>
                <a:latin typeface="Arial"/>
                <a:ea typeface="隶书"/>
              </a:rPr>
              <a:t>议一议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413000"/>
            <a:ext cx="835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人说：课文描写的斑羚飞渡成功，是以时间先后选择的精确、跳跃幅度控制的高超、跳跃技巧掌握的娴熟、对接时机衔接的吻合为前提的，而这群斑羚并未经过事先排练，真能飞渡成功吗？斑羚真能在生死关头为种族延续自我牺牲吗？猎人们会眼睁睁地看完这一幕，而不举猎枪吗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364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411280" y="1773360"/>
            <a:ext cx="411480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 见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5" name=""/>
          <p:cNvSpPr/>
          <p:nvPr/>
        </p:nvSpPr>
        <p:spPr>
          <a:xfrm>
            <a:off x="-4932360" y="5657760"/>
            <a:ext cx="554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56000" y="0"/>
            <a:ext cx="2987640" cy="6858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cc33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33cc33"/>
                </a:solidFill>
                <a:latin typeface="华文新魏"/>
                <a:ea typeface="华文新魏"/>
              </a:rPr>
              <a:t>信息台</a:t>
            </a:r>
            <a:br>
              <a:rPr sz="5400"/>
            </a:b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　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　</a:t>
            </a:r>
            <a:br>
              <a:rPr sz="4000"/>
            </a:b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斑羚，也称青羊、山羊。体长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1.2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米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形似家养的山羊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但颌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(hé)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下无须</a:t>
            </a: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，雌雄都有角。四肢细长，跑得快，善于跳跃。耐干渴，角可以入药，有清热、解毒等作用，所以常被人捕杀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940360" y="0"/>
            <a:ext cx="32036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33"/>
                </a:solidFill>
                <a:latin typeface="Arial"/>
                <a:ea typeface="隶书"/>
              </a:rPr>
              <a:t>  </a:t>
            </a:r>
            <a:r>
              <a:rPr b="1" lang="zh-CN" sz="6000" spc="-1" strike="noStrike">
                <a:solidFill>
                  <a:srgbClr val="00cc00"/>
                </a:solidFill>
                <a:latin typeface="Arial"/>
                <a:ea typeface="隶书"/>
              </a:rPr>
              <a:t>信息台</a:t>
            </a:r>
            <a:br>
              <a:rPr sz="5400"/>
            </a:b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　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　</a:t>
            </a:r>
            <a:br>
              <a:rPr sz="5400"/>
            </a:b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斑羚，也称青羊、山羊。体长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1—1.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米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形似家养的山羊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但颌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hé)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下无须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，雌雄都有角。四肢细长，跑得快，善于跳跃。耐干渴，角可以入药，有清热、解毒等作用，所以常被人捕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0200" y="2781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沈石溪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，原名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沈一鸣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，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1952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年生于上海。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1969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年初中毕业赴云南西双版纳傣族村寨插队落户，有着丰富的生活体验。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1975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年当兵，历任新闻干事和宣传部长。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1980</a:t>
            </a:r>
            <a:r>
              <a:rPr b="0" lang="zh-CN" sz="3600" spc="-1" strike="noStrike">
                <a:solidFill>
                  <a:srgbClr val="db253f"/>
                </a:solidFill>
                <a:latin typeface="隶书"/>
                <a:ea typeface="隶书"/>
              </a:rPr>
              <a:t>年开始从事儿童文学创作，所著动物小说将故事性和知识性融为一体，充满哲理内涵，风格独特。作品多次获奖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49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走近名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35640" y="0"/>
            <a:ext cx="3529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6922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62864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5250"/>
                </a:solidFill>
                <a:latin typeface="华文新魏"/>
                <a:ea typeface="华文新魏"/>
              </a:rPr>
              <a:t>        </a:t>
            </a:r>
            <a:r>
              <a:rPr b="1" lang="zh-CN" sz="6000" spc="-1" strike="noStrike">
                <a:solidFill>
                  <a:srgbClr val="033d19"/>
                </a:solidFill>
                <a:latin typeface="华文新魏"/>
                <a:ea typeface="华文新魏"/>
              </a:rPr>
              <a:t>这篇文章叙述了一个什么故事？请用简洁的语言概括。</a:t>
            </a:r>
            <a:r>
              <a:rPr b="1" lang="zh-CN" sz="6000" spc="-1" strike="noStrike">
                <a:solidFill>
                  <a:srgbClr val="005250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611360"/>
            <a:ext cx="9144000" cy="846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62864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本文叙述了一群被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逼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至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绝境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的斑羚，为了赢得种群的生存机会，用牺牲一半挽救另一半的方法摆脱困境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10009080" cy="7316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473280"/>
            <a:ext cx="8497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文章详细描述了第一对斑羚试跳成功的全过程，请认真品读，看课文是怎样描写的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765000"/>
            <a:ext cx="3743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品读轩</a:t>
            </a:r>
            <a:br>
              <a:rPr sz="72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ShockwaveFlash1"/>
          <p:cNvGraphicFramePr/>
          <p:nvPr/>
        </p:nvGraphicFramePr>
        <p:xfrm>
          <a:off x="0" y="0"/>
          <a:ext cx="91440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867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276720" y="58672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斑羚飞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4T03:11:20Z</dcterms:created>
  <dc:creator>wlf</dc:creator>
  <dc:description/>
  <dc:language>en-US</dc:language>
  <cp:lastModifiedBy>zmj</cp:lastModifiedBy>
  <dcterms:modified xsi:type="dcterms:W3CDTF">2011-11-11T15:51:10Z</dcterms:modified>
  <cp:revision>214</cp:revision>
  <dc:subject/>
  <dc:title>幻灯片 1</dc:title>
</cp:coreProperties>
</file>