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media/image20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6.png" ContentType="image/png"/>
  <Override PartName="/ppt/media/chimes.wav" ContentType="audio/x-wav"/>
  <Override PartName="/ppt/media/image8.png" ContentType="image/png"/>
  <Override PartName="/ppt/media/image22.jpeg" ContentType="image/jpeg"/>
  <Override PartName="/ppt/media/image9.png" ContentType="image/png"/>
  <Override PartName="/ppt/media/camera.wav" ContentType="audio/x-wav"/>
  <Override PartName="/ppt/media/image26.jpeg" ContentType="image/jpeg"/>
  <Override PartName="/ppt/media/image28.jpeg" ContentType="image/jpeg"/>
  <Override PartName="/ppt/media/image6.jpeg" ContentType="image/jpeg"/>
  <Override PartName="/ppt/media/type.wav" ContentType="audio/x-wav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5.png" ContentType="image/png"/>
  <Override PartName="/ppt/media/image11.jpeg" ContentType="image/jpeg"/>
  <Override PartName="/ppt/media/image12.jpeg" ContentType="image/jpeg"/>
  <Override PartName="/ppt/media/image13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gif" ContentType="image/gif"/>
  <Override PartName="/ppt/media/image21.gif" ContentType="image/gi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921-089F-48CF-A729-59440855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B71-648D-4C8D-B6AE-625B4DAA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AFF-E69B-4B7D-B56E-E6BFBDC3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782-B1BF-4505-8A8B-DE965627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DE4-F28F-47A6-BB26-A397B1CD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6A2-626E-4677-A1EA-F084F2DD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0B1-81E4-4AC9-AA09-0EE0C988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2B3-EA57-4B64-976F-1475A6B3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EF8-2757-4B90-8A9E-B250C3F1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4403-0564-4D9E-ABB2-E0FE2E3C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036-0926-44A3-9B12-DC165FB9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E2F-6952-40A7-9A4E-E35B0234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AB74-E92D-4A9E-B274-A7482C1E2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C:%5CDocuments%20and%20Settings%5Czhao%5CLocal%20Settings%5CWINDOWS%5CTemporary%20Internet%20Files%5CContent.IE5%5CGDA9CRCB%5C&#21464;&#33394;&#40857;.ppt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audio" Target="../media/camera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hyperlink" Target="260,5,&#24187;&#28783;&#29255; 5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60,5,&#24187;&#28783;&#29255; 5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TW_117"/>
          <p:cNvPicPr/>
          <p:nvPr/>
        </p:nvPicPr>
        <p:blipFill>
          <a:blip r:embed="rId1"/>
          <a:stretch/>
        </p:blipFill>
        <p:spPr>
          <a:xfrm>
            <a:off x="833400" y="476280"/>
            <a:ext cx="7319880" cy="3451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BJ_001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833400" y="3695760"/>
            <a:ext cx="7319880" cy="2212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684360" y="2916360"/>
            <a:ext cx="701028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cc"/>
                </a:solidFill>
                <a:latin typeface="华文彩云"/>
                <a:ea typeface="华文彩云"/>
              </a:rPr>
              <a:t>      </a:t>
            </a:r>
            <a:r>
              <a:rPr b="1" lang="zh-CN" sz="7200" spc="-1" strike="noStrike">
                <a:solidFill>
                  <a:srgbClr val="0000cc"/>
                </a:solidFill>
                <a:latin typeface="华文彩云"/>
                <a:ea typeface="华文彩云"/>
              </a:rPr>
              <a:t>变</a:t>
            </a:r>
            <a:r>
              <a:rPr b="1" lang="zh-CN" sz="7200" spc="-1" strike="noStrike">
                <a:solidFill>
                  <a:srgbClr val="663300"/>
                </a:solidFill>
                <a:latin typeface="华文彩云"/>
                <a:ea typeface="华文彩云"/>
              </a:rPr>
              <a:t> </a:t>
            </a:r>
            <a:r>
              <a:rPr b="1" lang="zh-CN" sz="3600" spc="-1" strike="noStrike">
                <a:solidFill>
                  <a:srgbClr val="663300"/>
                </a:solidFill>
                <a:latin typeface="华文彩云"/>
                <a:ea typeface="华文彩云"/>
              </a:rPr>
              <a:t>                       </a:t>
            </a:r>
            <a:r>
              <a:rPr b="0" lang="zh-CN" sz="7200" spc="-1" strike="noStrike">
                <a:solidFill>
                  <a:srgbClr val="ff0000"/>
                </a:solidFill>
                <a:latin typeface="华文彩云"/>
                <a:ea typeface="华文彩云"/>
              </a:rPr>
              <a:t>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4024440" y="2627280"/>
            <a:ext cx="1143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latin typeface="华文彩云"/>
              </a:rPr>
              <a:t>色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latin typeface="华文彩云"/>
              <a:ea typeface="华文彩云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617640" y="4960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10"/>
          <p:cNvSpPr txBox="1"/>
          <p:nvPr/>
        </p:nvSpPr>
        <p:spPr>
          <a:xfrm>
            <a:off x="3911760" y="4802040"/>
            <a:ext cx="1368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琥珀"/>
              </a:rPr>
              <a:t>契诃夫</a:t>
            </a:r>
            <a:endParaRPr b="0" i="1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BJ_042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-193680" y="2057400"/>
            <a:ext cx="1033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奥楚蔑洛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762120" y="312408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5800" y="1219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将军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是将军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 flipV="1">
            <a:off x="1143000" y="190476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FC_002"/>
          <p:cNvPicPr/>
          <p:nvPr/>
        </p:nvPicPr>
        <p:blipFill>
          <a:blip r:embed="rId2"/>
          <a:stretch/>
        </p:blipFill>
        <p:spPr>
          <a:xfrm>
            <a:off x="44956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FC_001"/>
          <p:cNvPicPr/>
          <p:nvPr/>
        </p:nvPicPr>
        <p:blipFill>
          <a:blip r:embed="rId3"/>
          <a:stretch/>
        </p:blipFill>
        <p:spPr>
          <a:xfrm>
            <a:off x="5105520" y="1905120"/>
            <a:ext cx="350640" cy="350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FC_002"/>
          <p:cNvPicPr/>
          <p:nvPr/>
        </p:nvPicPr>
        <p:blipFill>
          <a:blip r:embed="rId4"/>
          <a:stretch/>
        </p:blipFill>
        <p:spPr>
          <a:xfrm>
            <a:off x="28195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FC_002"/>
          <p:cNvPicPr/>
          <p:nvPr/>
        </p:nvPicPr>
        <p:blipFill>
          <a:blip r:embed="rId5"/>
          <a:stretch/>
        </p:blipFill>
        <p:spPr>
          <a:xfrm>
            <a:off x="60199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FC_001"/>
          <p:cNvPicPr/>
          <p:nvPr/>
        </p:nvPicPr>
        <p:blipFill>
          <a:blip r:embed="rId6"/>
          <a:stretch/>
        </p:blipFill>
        <p:spPr>
          <a:xfrm>
            <a:off x="3581280" y="1905120"/>
            <a:ext cx="351000" cy="350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FC_001"/>
          <p:cNvPicPr/>
          <p:nvPr/>
        </p:nvPicPr>
        <p:blipFill>
          <a:blip r:embed="rId7"/>
          <a:stretch/>
        </p:blipFill>
        <p:spPr>
          <a:xfrm>
            <a:off x="6629400" y="1905120"/>
            <a:ext cx="351000" cy="350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4"/>
          <p:cNvSpPr/>
          <p:nvPr/>
        </p:nvSpPr>
        <p:spPr>
          <a:xfrm>
            <a:off x="2362320" y="4495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疯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3809880" y="4495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下贱胚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5638680" y="44956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野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3124080" y="1371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小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4572000" y="1371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名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6172200" y="1371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伶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1600200" y="2743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见风使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3276720" y="27432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媚上欺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029200" y="27432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趋炎附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6781680" y="27432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沙皇走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>
            <a:off x="1143000" y="312408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5"/>
          <p:cNvSpPr/>
          <p:nvPr/>
        </p:nvSpPr>
        <p:spPr>
          <a:xfrm flipV="1">
            <a:off x="3048120" y="2285640"/>
            <a:ext cx="609480" cy="1676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6"/>
          <p:cNvSpPr/>
          <p:nvPr/>
        </p:nvSpPr>
        <p:spPr>
          <a:xfrm>
            <a:off x="3809880" y="2286000"/>
            <a:ext cx="762120" cy="1676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7"/>
          <p:cNvSpPr/>
          <p:nvPr/>
        </p:nvSpPr>
        <p:spPr>
          <a:xfrm flipV="1">
            <a:off x="4648320" y="2209320"/>
            <a:ext cx="533160" cy="1752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5334120" y="2286000"/>
            <a:ext cx="761760" cy="1676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9"/>
          <p:cNvSpPr/>
          <p:nvPr/>
        </p:nvSpPr>
        <p:spPr>
          <a:xfrm flipV="1">
            <a:off x="6248520" y="2209320"/>
            <a:ext cx="533160" cy="1752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1143000" y="1676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7848720" y="31240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32"/>
          <p:cNvSpPr txBox="1"/>
          <p:nvPr/>
        </p:nvSpPr>
        <p:spPr>
          <a:xfrm>
            <a:off x="1523880" y="54864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结论</a:t>
            </a:r>
            <a:endParaRPr b="0" lang="en-US" sz="1800" spc="-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8" name="Text Box 33"/>
          <p:cNvSpPr/>
          <p:nvPr/>
        </p:nvSpPr>
        <p:spPr>
          <a:xfrm>
            <a:off x="228600" y="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板书设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J_01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BJ_012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BJ_012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371600" y="17524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838080" y="32004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不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666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狗的评价和看法，因狗的主人不同而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666880" y="3429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性，即见风使舵、媚上欺下、趋炎附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7543800" y="59436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EPSZ_51LHsLXEvlO8e8u5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762120" y="1752480"/>
            <a:ext cx="7924680" cy="15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问题探究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本文为什么以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变色龙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为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ff"/>
                </a:solidFill>
                <a:latin typeface="Arial"/>
                <a:ea typeface="华文行楷"/>
              </a:rPr>
              <a:t>合 作 探 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896472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小说为什么用“变色龙”做题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因为小说写的是主人公奥楚蔑洛夫处理“狗咬人”的问题。他六次淋漓尽致的巧妙表演，好象蜥蜴一样善于变色，讽喻那种狡猾善变、出尔反尔的人。所以作者用“变色龙”为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问号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571680"/>
          </a:xfrm>
          <a:prstGeom prst="rect">
            <a:avLst/>
          </a:prstGeom>
          <a:ln w="0">
            <a:noFill/>
          </a:ln>
        </p:spPr>
      </p:pic>
      <p:sp>
        <p:nvSpPr>
          <p:cNvPr id="182" name="Oval 5"/>
          <p:cNvSpPr/>
          <p:nvPr/>
        </p:nvSpPr>
        <p:spPr>
          <a:xfrm>
            <a:off x="304920" y="541008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638080" y="5433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  <a:ea typeface="隶书"/>
              </a:rPr>
              <a:t>铁公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038480" y="54100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  <a:ea typeface="隶书"/>
              </a:rPr>
              <a:t>笑面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638680" y="54100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  <a:ea typeface="隶书"/>
              </a:rPr>
              <a:t>白眼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7238880" y="5410080"/>
            <a:ext cx="15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  <a:ea typeface="隶书"/>
              </a:rPr>
              <a:t>地头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304920" y="386064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样不仅揭示了要鞭挞的对象，富有讽刺意义，而且形象生动，非常恰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BJ_00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143000" y="609480"/>
            <a:ext cx="373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社会意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2193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色龙，是蜥蜴的一种，表皮下有多种色素块，能随时变成不同的保护色。现在多比喻政治上善于变化和伪装的人，含贬义。在俄语中，这个词的含义是“反复无常的小人”、“见风使舵的小人”。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小说用它来讽喻那种狡猾善变、出尔反尔的人。用变色龙作标题，不仅揭示了要鞭挞的对象，富有讽刺意义，而且形象生动，非常恰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在“变色龙”成了世界文学宝库中不可多得的人物形象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这一名词已成为见风使舵的小人的代名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>
            <a:hlinkClick r:id="rId2"/>
          </p:cNvPr>
          <p:cNvSpPr/>
          <p:nvPr/>
        </p:nvSpPr>
        <p:spPr>
          <a:xfrm>
            <a:off x="7848720" y="57913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116000" y="166860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像奥楚蔑洛夫这样的媚上欺下看风使舵的走狗、奴才，可以说是当时沙皇腐败统治的产物。作者以极端憎恶的感情，用尖锐辛辣的笔触揭露了这些走狗、奴才的丑态和肮脏的灵魂，用以揭示沙皇统治的腐败黑暗。这是作者塑造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变色龙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──奥楚蔑洛夫这样一个典型所具有的社会意义。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514600" y="685800"/>
            <a:ext cx="35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小　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0" y="1523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章最后写道奥楚蔑洛夫“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裹紧大衣，接着穿过市场的广场径自走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，请设想一下奥楚蔑洛夫离开广场后去了哪里？要求设计的情节符合人物的性格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277920" y="320040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继续去别的地方搜刮民脂民膏。</a:t>
            </a:r>
            <a:br>
              <a:rPr sz="2400"/>
            </a:b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又遇见了一起类似狗咬人的案件，又做出了相同的处理，或者处理得更圆滑了。</a:t>
            </a:r>
            <a:br>
              <a:rPr sz="2400"/>
            </a:b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去找普洛诃尔套近乎。</a:t>
            </a:r>
            <a:br>
              <a:rPr sz="2400"/>
            </a:b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去将军家邀功请赏，在此之前到首饰店索要一些金银珠宝，一并送给将军。</a:t>
            </a:r>
            <a:br>
              <a:rPr sz="2400"/>
            </a:b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*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买”一只小狗送给将军的哥哥。</a:t>
            </a:r>
            <a:br>
              <a:rPr sz="2400"/>
            </a:b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*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去赫留金工作的首饰店寻点儿麻烦。</a:t>
            </a:r>
            <a:br>
              <a:rPr sz="2400"/>
            </a:b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去纠集一批地痞流氓准备欧打赫留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380880" y="0"/>
            <a:ext cx="22860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拓展与延伸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dissolv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0" y="2890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续写：奥楚蔑洛夫离开广场后发生的事，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400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字以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6400800" y="4419720"/>
            <a:ext cx="23623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业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BJ1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2"/>
          <p:cNvSpPr/>
          <p:nvPr/>
        </p:nvSpPr>
        <p:spPr>
          <a:xfrm>
            <a:off x="1295280" y="3733920"/>
            <a:ext cx="2438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57084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28600" y="1177920"/>
            <a:ext cx="86644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1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、进一步熟悉课文的主要情节及写法特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2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、体会环境描写的作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3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、了解和学习刻画人物性格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026"/>
          <p:cNvSpPr/>
          <p:nvPr/>
        </p:nvSpPr>
        <p:spPr>
          <a:xfrm>
            <a:off x="1676520" y="6019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疯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27"/>
          <p:cNvSpPr/>
          <p:nvPr/>
        </p:nvSpPr>
        <p:spPr>
          <a:xfrm>
            <a:off x="3733920" y="6019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下贱胚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28"/>
          <p:cNvSpPr/>
          <p:nvPr/>
        </p:nvSpPr>
        <p:spPr>
          <a:xfrm>
            <a:off x="6934320" y="60199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野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29"/>
          <p:cNvSpPr/>
          <p:nvPr/>
        </p:nvSpPr>
        <p:spPr>
          <a:xfrm>
            <a:off x="-621360" y="2209680"/>
            <a:ext cx="1399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奥楚蔑洛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30"/>
          <p:cNvSpPr/>
          <p:nvPr/>
        </p:nvSpPr>
        <p:spPr>
          <a:xfrm>
            <a:off x="990720" y="3352680"/>
            <a:ext cx="7772400" cy="0"/>
          </a:xfrm>
          <a:prstGeom prst="line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031"/>
          <p:cNvSpPr/>
          <p:nvPr/>
        </p:nvSpPr>
        <p:spPr>
          <a:xfrm>
            <a:off x="1828800" y="914400"/>
            <a:ext cx="1295280" cy="121932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032"/>
          <p:cNvSpPr/>
          <p:nvPr/>
        </p:nvSpPr>
        <p:spPr>
          <a:xfrm>
            <a:off x="1752480" y="4572000"/>
            <a:ext cx="1371600" cy="1295280"/>
          </a:xfrm>
          <a:prstGeom prst="smileyFace">
            <a:avLst>
              <a:gd name="adj" fmla="val -4652"/>
            </a:avLst>
          </a:prstGeom>
          <a:solidFill>
            <a:srgbClr val="9900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33"/>
          <p:cNvSpPr/>
          <p:nvPr/>
        </p:nvSpPr>
        <p:spPr>
          <a:xfrm>
            <a:off x="6934320" y="914400"/>
            <a:ext cx="1295280" cy="121932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034"/>
          <p:cNvSpPr/>
          <p:nvPr/>
        </p:nvSpPr>
        <p:spPr>
          <a:xfrm>
            <a:off x="4267080" y="914400"/>
            <a:ext cx="1295640" cy="121932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035"/>
          <p:cNvSpPr/>
          <p:nvPr/>
        </p:nvSpPr>
        <p:spPr>
          <a:xfrm>
            <a:off x="6804000" y="4581360"/>
            <a:ext cx="1371600" cy="1295640"/>
          </a:xfrm>
          <a:prstGeom prst="smileyFace">
            <a:avLst>
              <a:gd name="adj" fmla="val -4652"/>
            </a:avLst>
          </a:prstGeom>
          <a:solidFill>
            <a:srgbClr val="9900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36"/>
          <p:cNvSpPr/>
          <p:nvPr/>
        </p:nvSpPr>
        <p:spPr>
          <a:xfrm>
            <a:off x="4114800" y="4572000"/>
            <a:ext cx="1371600" cy="1295280"/>
          </a:xfrm>
          <a:prstGeom prst="smileyFace">
            <a:avLst>
              <a:gd name="adj" fmla="val -4652"/>
            </a:avLst>
          </a:prstGeom>
          <a:solidFill>
            <a:srgbClr val="9900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37"/>
          <p:cNvSpPr/>
          <p:nvPr/>
        </p:nvSpPr>
        <p:spPr>
          <a:xfrm>
            <a:off x="533520" y="1295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是将军的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38"/>
          <p:cNvSpPr/>
          <p:nvPr/>
        </p:nvSpPr>
        <p:spPr>
          <a:xfrm>
            <a:off x="838080" y="3809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不是将军的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39"/>
          <p:cNvSpPr/>
          <p:nvPr/>
        </p:nvSpPr>
        <p:spPr>
          <a:xfrm>
            <a:off x="1676520" y="304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小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40"/>
          <p:cNvSpPr/>
          <p:nvPr/>
        </p:nvSpPr>
        <p:spPr>
          <a:xfrm>
            <a:off x="4191120" y="304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名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41"/>
          <p:cNvSpPr/>
          <p:nvPr/>
        </p:nvSpPr>
        <p:spPr>
          <a:xfrm>
            <a:off x="6781680" y="304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伶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42"/>
          <p:cNvSpPr/>
          <p:nvPr/>
        </p:nvSpPr>
        <p:spPr>
          <a:xfrm>
            <a:off x="2438280" y="2819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媚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43"/>
          <p:cNvSpPr/>
          <p:nvPr/>
        </p:nvSpPr>
        <p:spPr>
          <a:xfrm>
            <a:off x="3733920" y="2819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欺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44"/>
          <p:cNvSpPr/>
          <p:nvPr/>
        </p:nvSpPr>
        <p:spPr>
          <a:xfrm>
            <a:off x="5105520" y="28195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趋炎    附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45"/>
          <p:cNvSpPr/>
          <p:nvPr/>
        </p:nvSpPr>
        <p:spPr>
          <a:xfrm>
            <a:off x="731520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沙皇走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46"/>
          <p:cNvSpPr/>
          <p:nvPr/>
        </p:nvSpPr>
        <p:spPr>
          <a:xfrm>
            <a:off x="7515360" y="227664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（态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47"/>
          <p:cNvSpPr/>
          <p:nvPr/>
        </p:nvSpPr>
        <p:spPr>
          <a:xfrm>
            <a:off x="7596360" y="371628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（对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48"/>
          <p:cNvSpPr/>
          <p:nvPr/>
        </p:nvSpPr>
        <p:spPr>
          <a:xfrm>
            <a:off x="838080" y="2819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见风使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049"/>
          <p:cNvSpPr/>
          <p:nvPr/>
        </p:nvSpPr>
        <p:spPr>
          <a:xfrm flipV="1">
            <a:off x="2133720" y="2133360"/>
            <a:ext cx="380880" cy="2438280"/>
          </a:xfrm>
          <a:prstGeom prst="line">
            <a:avLst/>
          </a:prstGeom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50"/>
          <p:cNvSpPr/>
          <p:nvPr/>
        </p:nvSpPr>
        <p:spPr>
          <a:xfrm>
            <a:off x="2666880" y="2133720"/>
            <a:ext cx="1981440" cy="2438280"/>
          </a:xfrm>
          <a:prstGeom prst="line">
            <a:avLst/>
          </a:prstGeom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051"/>
          <p:cNvSpPr/>
          <p:nvPr/>
        </p:nvSpPr>
        <p:spPr>
          <a:xfrm flipV="1">
            <a:off x="4648320" y="2133360"/>
            <a:ext cx="380880" cy="2361960"/>
          </a:xfrm>
          <a:prstGeom prst="line">
            <a:avLst/>
          </a:prstGeom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52"/>
          <p:cNvSpPr/>
          <p:nvPr/>
        </p:nvSpPr>
        <p:spPr>
          <a:xfrm>
            <a:off x="5029200" y="2133720"/>
            <a:ext cx="2057400" cy="2514600"/>
          </a:xfrm>
          <a:prstGeom prst="line">
            <a:avLst/>
          </a:prstGeom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53"/>
          <p:cNvSpPr/>
          <p:nvPr/>
        </p:nvSpPr>
        <p:spPr>
          <a:xfrm flipV="1">
            <a:off x="7086600" y="2133360"/>
            <a:ext cx="380880" cy="2438280"/>
          </a:xfrm>
          <a:prstGeom prst="line">
            <a:avLst/>
          </a:prstGeom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5"/>
          <p:cNvSpPr/>
          <p:nvPr/>
        </p:nvSpPr>
        <p:spPr>
          <a:xfrm>
            <a:off x="1403280" y="3213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五"/>
          <p:cNvPicPr/>
          <p:nvPr/>
        </p:nvPicPr>
        <p:blipFill>
          <a:blip r:embed="rId1"/>
          <a:stretch/>
        </p:blipFill>
        <p:spPr>
          <a:xfrm>
            <a:off x="0" y="-768240"/>
            <a:ext cx="9144000" cy="76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642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自主研读：选择文中自己喜欢的细节，说说喜欢的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4479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细节描写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指文艺作品中对人物某些细小的         举止行动或细微事件的描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94000" y="2990880"/>
            <a:ext cx="158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手指头</a:t>
            </a:r>
            <a:r>
              <a:rPr b="0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2514600" y="2987640"/>
            <a:ext cx="64771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一细节描写，反映了赫留金的遭遇，一开始它是赫留金用来要挟狗主人的资本，要求赔偿的本钱；但当有人说狗是将军家的时，手指头又成了冒犯名种狗的罪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PIC_016"/>
          <p:cNvPicPr/>
          <p:nvPr/>
        </p:nvPicPr>
        <p:blipFill>
          <a:blip r:embed="rId1"/>
          <a:srcRect l="0" t="21381" r="66280" b="50901"/>
          <a:stretch/>
        </p:blipFill>
        <p:spPr>
          <a:xfrm>
            <a:off x="0" y="0"/>
            <a:ext cx="2286000" cy="31240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613800" y="289548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军大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381840" y="177840"/>
            <a:ext cx="40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文章共四次写到军大衣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362320" y="838080"/>
            <a:ext cx="6629400" cy="19353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100" spc="-1" strike="noStrike">
                <a:solidFill>
                  <a:srgbClr val="0000cc"/>
                </a:solidFill>
                <a:latin typeface="华文新魏"/>
                <a:ea typeface="华文新魏"/>
              </a:rPr>
              <a:t>开头</a:t>
            </a:r>
            <a:r>
              <a:rPr b="0" lang="zh-CN" sz="31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奥楚蔑洛夫穿着新军大衣出场，这件大衣是沙皇警犬的标志，也是他装腔作势，作以吓人的工具；</a:t>
            </a:r>
            <a:r>
              <a:rPr b="0" lang="zh-CN" sz="3100" spc="-1" strike="noStrike">
                <a:solidFill>
                  <a:srgbClr val="0000cc"/>
                </a:solidFill>
                <a:latin typeface="华文新魏"/>
                <a:ea typeface="华文新魏"/>
              </a:rPr>
              <a:t>结局</a:t>
            </a:r>
            <a:r>
              <a:rPr b="0" lang="zh-CN" sz="31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3100" spc="-1" strike="noStrike">
                <a:solidFill>
                  <a:srgbClr val="000000"/>
                </a:solidFill>
                <a:latin typeface="华文新魏"/>
                <a:ea typeface="华文新魏"/>
              </a:rPr>
              <a:t>裹紧大衣</a:t>
            </a:r>
            <a:r>
              <a:rPr b="0" lang="zh-CN" sz="31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0" lang="zh-CN" sz="3100" spc="-1" strike="noStrike">
                <a:solidFill>
                  <a:srgbClr val="000000"/>
                </a:solidFill>
                <a:latin typeface="华文新魏"/>
                <a:ea typeface="华文新魏"/>
              </a:rPr>
              <a:t>离场，他力图保持自己的威风，但对于自己不光彩的表演，却显得难堪，与开头照应。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52280" y="4869000"/>
            <a:ext cx="8839440" cy="6483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中间的两次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和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），他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了狗而吃惊、胆怯，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一热一冷，一脱一穿，这一细节描写充分表现了他内心的恐慌和强作镇定的复杂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533520" y="1268280"/>
            <a:ext cx="8431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下里一片沉静。广场上一个人也没有。商店和饭馆的门无精打采地敞着，面对上帝创造的这个世界，就跟许多饥饿的嘴巴一样；门口连一个乞丐也没有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539640" y="4005360"/>
            <a:ext cx="839016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描写了社会环境的冷清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萧条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这正是军警宪兵当道的沙皇统治下的俄国社会的写照，交代了“案子”发生的社会背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965240" y="3189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找出文中的环境描写并分析其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小说运用什么手法来刻画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3640" y="1197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运用人物自己的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语言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来突现人物性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运用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动作、神态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表现人物的心理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28"/>
          <p:cNvSpPr/>
          <p:nvPr/>
        </p:nvSpPr>
        <p:spPr>
          <a:xfrm>
            <a:off x="539640" y="3429000"/>
            <a:ext cx="1079640" cy="27367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迁移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29"/>
          <p:cNvSpPr/>
          <p:nvPr/>
        </p:nvSpPr>
        <p:spPr>
          <a:xfrm>
            <a:off x="4168080" y="3429000"/>
            <a:ext cx="24145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运用语言、细节等描写方法刻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个你熟悉的人物（最好是本班的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要求：人物语言、细节符合人物个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90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026"/>
          <p:cNvSpPr/>
          <p:nvPr/>
        </p:nvSpPr>
        <p:spPr>
          <a:xfrm>
            <a:off x="609480" y="5335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阅读思考：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文中一共写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27"/>
          <p:cNvSpPr/>
          <p:nvPr/>
        </p:nvSpPr>
        <p:spPr>
          <a:xfrm>
            <a:off x="1905120" y="1523880"/>
            <a:ext cx="14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（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28"/>
          <p:cNvSpPr/>
          <p:nvPr/>
        </p:nvSpPr>
        <p:spPr>
          <a:xfrm>
            <a:off x="1905120" y="214776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Times New Roman"/>
              </a:rPr>
              <a:t>（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29"/>
          <p:cNvSpPr/>
          <p:nvPr/>
        </p:nvSpPr>
        <p:spPr>
          <a:xfrm>
            <a:off x="1905120" y="28335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（四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30"/>
          <p:cNvSpPr/>
          <p:nvPr/>
        </p:nvSpPr>
        <p:spPr>
          <a:xfrm>
            <a:off x="1905120" y="351936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31"/>
          <p:cNvSpPr/>
          <p:nvPr/>
        </p:nvSpPr>
        <p:spPr>
          <a:xfrm>
            <a:off x="1905120" y="420516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（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32"/>
          <p:cNvSpPr/>
          <p:nvPr/>
        </p:nvSpPr>
        <p:spPr>
          <a:xfrm>
            <a:off x="1905120" y="489096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33"/>
          <p:cNvSpPr/>
          <p:nvPr/>
        </p:nvSpPr>
        <p:spPr>
          <a:xfrm>
            <a:off x="1600200" y="1752480"/>
            <a:ext cx="228600" cy="3581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034"/>
          <p:cNvGrpSpPr/>
          <p:nvPr/>
        </p:nvGrpSpPr>
        <p:grpSpPr>
          <a:xfrm>
            <a:off x="2057400" y="1523880"/>
            <a:ext cx="2666880" cy="581400"/>
            <a:chOff x="2057400" y="1523880"/>
            <a:chExt cx="2666880" cy="581400"/>
          </a:xfrm>
        </p:grpSpPr>
        <p:sp>
          <p:nvSpPr>
            <p:cNvPr id="257" name="Text Box 1035"/>
            <p:cNvSpPr/>
            <p:nvPr/>
          </p:nvSpPr>
          <p:spPr>
            <a:xfrm>
              <a:off x="3124080" y="152388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次判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036"/>
            <p:cNvSpPr/>
            <p:nvPr/>
          </p:nvSpPr>
          <p:spPr>
            <a:xfrm>
              <a:off x="2057400" y="205704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037"/>
          <p:cNvGrpSpPr/>
          <p:nvPr/>
        </p:nvGrpSpPr>
        <p:grpSpPr>
          <a:xfrm>
            <a:off x="2057400" y="2163600"/>
            <a:ext cx="2895480" cy="581400"/>
            <a:chOff x="2057400" y="2163600"/>
            <a:chExt cx="2895480" cy="581400"/>
          </a:xfrm>
        </p:grpSpPr>
        <p:sp>
          <p:nvSpPr>
            <p:cNvPr id="260" name="Text Box 1038"/>
            <p:cNvSpPr/>
            <p:nvPr/>
          </p:nvSpPr>
          <p:spPr>
            <a:xfrm>
              <a:off x="3124080" y="216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次变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039"/>
            <p:cNvSpPr/>
            <p:nvPr/>
          </p:nvSpPr>
          <p:spPr>
            <a:xfrm>
              <a:off x="2057400" y="26971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040"/>
          <p:cNvGrpSpPr/>
          <p:nvPr/>
        </p:nvGrpSpPr>
        <p:grpSpPr>
          <a:xfrm>
            <a:off x="2057400" y="2849400"/>
            <a:ext cx="3429000" cy="581400"/>
            <a:chOff x="2057400" y="2849400"/>
            <a:chExt cx="3429000" cy="581400"/>
          </a:xfrm>
        </p:grpSpPr>
        <p:sp>
          <p:nvSpPr>
            <p:cNvPr id="263" name="Text Box 1041"/>
            <p:cNvSpPr/>
            <p:nvPr/>
          </p:nvSpPr>
          <p:spPr>
            <a:xfrm>
              <a:off x="3124080" y="28494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次写军大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042"/>
            <p:cNvSpPr/>
            <p:nvPr/>
          </p:nvSpPr>
          <p:spPr>
            <a:xfrm>
              <a:off x="2057400" y="338256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043"/>
          <p:cNvGrpSpPr/>
          <p:nvPr/>
        </p:nvGrpSpPr>
        <p:grpSpPr>
          <a:xfrm>
            <a:off x="2057400" y="3535200"/>
            <a:ext cx="3657600" cy="581400"/>
            <a:chOff x="2057400" y="3535200"/>
            <a:chExt cx="3657600" cy="581400"/>
          </a:xfrm>
        </p:grpSpPr>
        <p:sp>
          <p:nvSpPr>
            <p:cNvPr id="266" name="Text Box 1044"/>
            <p:cNvSpPr/>
            <p:nvPr/>
          </p:nvSpPr>
          <p:spPr>
            <a:xfrm>
              <a:off x="3124080" y="353520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次提到法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045"/>
            <p:cNvSpPr/>
            <p:nvPr/>
          </p:nvSpPr>
          <p:spPr>
            <a:xfrm>
              <a:off x="2057400" y="406836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046"/>
          <p:cNvGrpSpPr/>
          <p:nvPr/>
        </p:nvGrpSpPr>
        <p:grpSpPr>
          <a:xfrm>
            <a:off x="2057400" y="4221000"/>
            <a:ext cx="3886200" cy="581400"/>
            <a:chOff x="2057400" y="4221000"/>
            <a:chExt cx="3886200" cy="581400"/>
          </a:xfrm>
        </p:grpSpPr>
        <p:sp>
          <p:nvSpPr>
            <p:cNvPr id="269" name="Text Box 1047"/>
            <p:cNvSpPr/>
            <p:nvPr/>
          </p:nvSpPr>
          <p:spPr>
            <a:xfrm>
              <a:off x="3124080" y="422100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次写围观群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048"/>
            <p:cNvSpPr/>
            <p:nvPr/>
          </p:nvSpPr>
          <p:spPr>
            <a:xfrm>
              <a:off x="2057400" y="475416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049"/>
          <p:cNvGrpSpPr/>
          <p:nvPr/>
        </p:nvGrpSpPr>
        <p:grpSpPr>
          <a:xfrm>
            <a:off x="2057400" y="4906800"/>
            <a:ext cx="3581280" cy="581400"/>
            <a:chOff x="2057400" y="4906800"/>
            <a:chExt cx="3581280" cy="581400"/>
          </a:xfrm>
        </p:grpSpPr>
        <p:sp>
          <p:nvSpPr>
            <p:cNvPr id="272" name="Text Box 1050"/>
            <p:cNvSpPr/>
            <p:nvPr/>
          </p:nvSpPr>
          <p:spPr>
            <a:xfrm>
              <a:off x="3124080" y="490680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次环境描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051"/>
            <p:cNvSpPr/>
            <p:nvPr/>
          </p:nvSpPr>
          <p:spPr>
            <a:xfrm>
              <a:off x="2057400" y="5410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BJ_026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3"/>
          <p:cNvSpPr/>
          <p:nvPr/>
        </p:nvSpPr>
        <p:spPr>
          <a:xfrm>
            <a:off x="228600" y="176040"/>
            <a:ext cx="89154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第七段，赫留金提出法律根据，反映了底层人民机敏的一面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作者讽喻沙皇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人民的压迫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第十二段，赫留金引用法律为自己辩护，接着抬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宪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兄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人物语言揭露沙皇法律的实质是：宪兵就是法律，对沙皇法律的又一次尖锐讽刺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第十七段，从侧面揭露法律在统治阶级眼里，不过是一纸空文，说明法律的虚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79280" y="49705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总之，三提法律，不仅交代了时代背景，而且深化了主题，使小说的主题不仅仅停留在对一个小警官的揭露上，把矛头直指沙皇的专制统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942200" y="22860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两次写围观群众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281160" y="1066680"/>
            <a:ext cx="86342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木材厂四周很快就聚了一群人，仿佛一下子从地底下钻出来的。”写出了围观的人聚结之快和他们的无聊心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看热闹为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28600" y="3048120"/>
            <a:ext cx="8915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尾处对围观群众的描写深刻地揭示了小市民阶层的麻木、庸俗、愚昧，也揭示了当时俄国社会的病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437360" y="5181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两次描写使小说的社会意义更为深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BJ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变色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的取材有哪些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50560" y="1268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作者只选取了社会生活的一个片段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街头巷尾极为平常的狗咬人的小事，但却表现了一个尖锐的重大的社会问题，即官僚警察是维护统治阶级利益的工具，专制制度肆无忌惮地欺压人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小事情反映大主题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以小见大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，正是契诃夫短篇小说的独特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2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作为一篇讽刺小说，它的讽刺艺术主要表现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134136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夸张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在短短的时间里，随着狗的主人身份的不断变化，奥楚蔑洛夫的态度也发生了五次变色。变化之快，跨度之大，令人瞠目。使人物性格鲜明突出，给人留下深刻的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对比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奥楚蔑洛夫面对狗主人的身份的变化，不停地改变着自己的态度，时而威风凛凛，时而奴颜婢膝，一会儿痛骂小狗是“疯狗”“下贱胚子”，一会儿又夸小狗“名贵”“伶俐”，前后矛盾，对比鲜明，使小说的喜剧效果更加突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9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4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PM_04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407880" y="15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小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228600" y="838080"/>
            <a:ext cx="87631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小说运用了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环境描写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烘托了冷清、凄凉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黑暗的社会氛围</a:t>
            </a:r>
            <a:r>
              <a:rPr b="0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这正是军警宪兵当道的沙皇统治的真实写照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72880" y="3048120"/>
            <a:ext cx="8871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多次运用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细节描写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形象具体地凸现了警官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楚蔑洛夫的性格特点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揭露了沙皇统治的黑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228600" y="4495680"/>
            <a:ext cx="86868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本文最突出的特点是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对话描写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它通过个性化的语言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鲜明表现了人物的性格特征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具有十分强烈的讽刺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六月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森"/>
          <p:cNvPicPr/>
          <p:nvPr/>
        </p:nvPicPr>
        <p:blipFill>
          <a:blip r:embed="rId2"/>
          <a:stretch/>
        </p:blipFill>
        <p:spPr>
          <a:xfrm>
            <a:off x="7238880" y="556272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BJ1010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68360" y="2636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华文彩云"/>
                <a:ea typeface="华文彩云"/>
              </a:rPr>
              <a:t>              </a:t>
            </a:r>
            <a:r>
              <a:rPr b="0" lang="zh-CN" sz="3200" spc="-1" strike="noStrike">
                <a:solidFill>
                  <a:srgbClr val="9900cc"/>
                </a:solidFill>
                <a:latin typeface="华文彩云"/>
                <a:ea typeface="华文彩云"/>
              </a:rPr>
              <a:t>理情节</a:t>
            </a:r>
            <a:r>
              <a:rPr b="0" lang="en-US" sz="3200" spc="-1" strike="noStrike">
                <a:solidFill>
                  <a:srgbClr val="9900cc"/>
                </a:solidFill>
                <a:latin typeface="华文彩云"/>
                <a:ea typeface="华文彩云"/>
              </a:rPr>
              <a:t>,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  <a:ea typeface="华文彩云"/>
              </a:rPr>
              <a:t> </a:t>
            </a:r>
            <a:r>
              <a:rPr b="0" lang="zh-CN" sz="3200" spc="-1" strike="noStrike">
                <a:solidFill>
                  <a:srgbClr val="9900cc"/>
                </a:solidFill>
                <a:latin typeface="华文彩云"/>
                <a:ea typeface="华文彩云"/>
              </a:rPr>
              <a:t>知内容</a:t>
            </a:r>
            <a:r>
              <a:rPr b="0" lang="en-US" sz="3200" spc="-1" strike="noStrike">
                <a:solidFill>
                  <a:srgbClr val="9900cc"/>
                </a:solidFill>
                <a:latin typeface="华文彩云"/>
                <a:ea typeface="华文彩云"/>
              </a:rPr>
              <a:t>;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华文彩云"/>
                <a:ea typeface="华文彩云"/>
              </a:rPr>
              <a:t>              </a:t>
            </a:r>
            <a:r>
              <a:rPr b="0" lang="zh-CN" sz="3200" spc="-1" strike="noStrike">
                <a:solidFill>
                  <a:srgbClr val="9900cc"/>
                </a:solidFill>
                <a:latin typeface="华文彩云"/>
                <a:ea typeface="华文彩云"/>
              </a:rPr>
              <a:t>抓人物，看言行，知性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华文彩云"/>
                <a:ea typeface="华文彩云"/>
              </a:rPr>
              <a:t>              </a:t>
            </a:r>
            <a:r>
              <a:rPr b="0" lang="zh-CN" sz="3200" spc="-1" strike="noStrike">
                <a:solidFill>
                  <a:srgbClr val="9900cc"/>
                </a:solidFill>
                <a:latin typeface="华文彩云"/>
                <a:ea typeface="华文彩云"/>
              </a:rPr>
              <a:t>析环境，认社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7"/>
          <p:cNvSpPr txBox="1"/>
          <p:nvPr/>
        </p:nvSpPr>
        <p:spPr>
          <a:xfrm>
            <a:off x="2124000" y="98100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怎样才能学好小说呢？ 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PM_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2626920" y="892080"/>
            <a:ext cx="58453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新魏"/>
              </a:rPr>
              <a:t>                  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新魏"/>
              </a:rPr>
              <a:t>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Arial"/>
                <a:ea typeface="隶书"/>
              </a:rPr>
              <a:t>           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  <a:ea typeface="隶书"/>
              </a:rPr>
              <a:t>同学们，契诃夫用漫画式的写法塑造了鲜活的变色龙形象，让我们惊叹小说的精妙。精短的篇幅中蕴含着深刻的思想和艺术内涵。值得我们仔细品味。反观现实，类似善变的后果则会是人际交往的荒漠，所以真诚友善才应是我们处事待人的追求。</a:t>
            </a:r>
            <a:r>
              <a:rPr b="0" lang="zh-CN" sz="2800" spc="-1" strike="noStrike">
                <a:solidFill>
                  <a:srgbClr val="cc00cc"/>
                </a:solidFill>
                <a:latin typeface="隶书"/>
                <a:ea typeface="隶书"/>
              </a:rPr>
              <a:t>让我们工整地写就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  <a:ea typeface="隶书"/>
              </a:rPr>
              <a:t>“</a:t>
            </a:r>
            <a:r>
              <a:rPr b="0" lang="zh-CN" sz="2800" spc="-1" strike="noStrike">
                <a:solidFill>
                  <a:srgbClr val="cc00cc"/>
                </a:solidFill>
                <a:latin typeface="隶书"/>
                <a:ea typeface="隶书"/>
              </a:rPr>
              <a:t>人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  <a:ea typeface="隶书"/>
              </a:rPr>
              <a:t>” </a:t>
            </a:r>
            <a:r>
              <a:rPr b="0" lang="zh-CN" sz="2800" spc="-1" strike="noStrike">
                <a:solidFill>
                  <a:srgbClr val="cc00cc"/>
                </a:solidFill>
                <a:latin typeface="隶书"/>
                <a:ea typeface="隶书"/>
              </a:rPr>
              <a:t>字的一撇一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11280" y="9064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一个荒唐的年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11280" y="17701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一个善变的警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11280" y="26337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一条无辜的小狗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1280" y="34974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一群无聊的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11280" y="43624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给我们上演了一段可笑而又使人压抑的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30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3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300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BJ_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BJ_0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1219320" y="13716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作者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219320" y="29718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文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219320" y="4419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出处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97180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契诃夫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60—190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，俄国短篇小说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800600" y="3200400"/>
            <a:ext cx="512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048120" y="3124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819520" y="45720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契诃夫小说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>
            <a:hlinkClick r:id="" action="ppaction://hlinkshowjump?jump=previousslide"/>
          </p:cNvPr>
          <p:cNvSpPr/>
          <p:nvPr/>
        </p:nvSpPr>
        <p:spPr>
          <a:xfrm>
            <a:off x="754380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nk 12" descr=""/>
          <p:cNvPicPr/>
          <p:nvPr/>
        </p:nvPicPr>
        <p:blipFill>
          <a:blip r:embed="rId3"/>
          <a:stretch/>
        </p:blipFill>
        <p:spPr>
          <a:xfrm>
            <a:off x="7969320" y="6384960"/>
            <a:ext cx="33120" cy="33480"/>
          </a:xfrm>
          <a:prstGeom prst="rect">
            <a:avLst/>
          </a:prstGeom>
          <a:ln w="0">
            <a:noFill/>
          </a:ln>
        </p:spPr>
      </p:pic>
      <p:pic>
        <p:nvPicPr>
          <p:cNvPr id="67" name="Ink 13" descr=""/>
          <p:cNvPicPr/>
          <p:nvPr/>
        </p:nvPicPr>
        <p:blipFill>
          <a:blip r:embed="rId4"/>
          <a:stretch/>
        </p:blipFill>
        <p:spPr>
          <a:xfrm>
            <a:off x="8083440" y="6477120"/>
            <a:ext cx="33480" cy="33120"/>
          </a:xfrm>
          <a:prstGeom prst="rect">
            <a:avLst/>
          </a:prstGeom>
          <a:ln w="0">
            <a:noFill/>
          </a:ln>
        </p:spPr>
      </p:pic>
      <p:pic>
        <p:nvPicPr>
          <p:cNvPr id="68" name="Ink 14" descr=""/>
          <p:cNvPicPr/>
          <p:nvPr/>
        </p:nvPicPr>
        <p:blipFill>
          <a:blip r:embed="rId5"/>
          <a:stretch/>
        </p:blipFill>
        <p:spPr>
          <a:xfrm>
            <a:off x="9904320" y="5918040"/>
            <a:ext cx="42840" cy="34920"/>
          </a:xfrm>
          <a:prstGeom prst="rect">
            <a:avLst/>
          </a:prstGeom>
          <a:ln w="0">
            <a:noFill/>
          </a:ln>
        </p:spPr>
      </p:pic>
      <p:pic>
        <p:nvPicPr>
          <p:cNvPr id="69" name="Ink 15" descr=""/>
          <p:cNvPicPr/>
          <p:nvPr/>
        </p:nvPicPr>
        <p:blipFill>
          <a:blip r:embed="rId6"/>
          <a:stretch/>
        </p:blipFill>
        <p:spPr>
          <a:xfrm>
            <a:off x="9485280" y="6391440"/>
            <a:ext cx="33480" cy="34920"/>
          </a:xfrm>
          <a:prstGeom prst="rect">
            <a:avLst/>
          </a:prstGeom>
          <a:ln w="0">
            <a:noFill/>
          </a:ln>
        </p:spPr>
      </p:pic>
      <p:pic>
        <p:nvPicPr>
          <p:cNvPr id="70" name="Ink 16" descr=""/>
          <p:cNvPicPr/>
          <p:nvPr/>
        </p:nvPicPr>
        <p:blipFill>
          <a:blip r:embed="rId7"/>
          <a:stretch/>
        </p:blipFill>
        <p:spPr>
          <a:xfrm>
            <a:off x="10026720" y="6832440"/>
            <a:ext cx="33120" cy="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契诃夫照片1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契诃夫照片2"/>
          <p:cNvPicPr/>
          <p:nvPr/>
        </p:nvPicPr>
        <p:blipFill>
          <a:blip r:embed="rId2"/>
          <a:stretch/>
        </p:blipFill>
        <p:spPr>
          <a:xfrm>
            <a:off x="4724280" y="3510000"/>
            <a:ext cx="4419720" cy="3341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1128960" y="1634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  <a:ea typeface="隶书"/>
              </a:rPr>
              <a:t>作者简介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04920" y="1130400"/>
            <a:ext cx="4114800" cy="33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3"/>
              </a:rPr>
              <a:t>契诃夫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是</a:t>
            </a:r>
            <a:r>
              <a:rPr b="0" lang="en-US" sz="3600" spc="-1" strike="noStrike">
                <a:solidFill>
                  <a:srgbClr val="0000cc"/>
                </a:solidFill>
                <a:latin typeface="隶书"/>
                <a:ea typeface="隶书"/>
              </a:rPr>
              <a:t>19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世纪末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隶书"/>
                <a:ea typeface="隶书"/>
              </a:rPr>
              <a:t>俄国批判现实主义作家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，代表作品有</a:t>
            </a:r>
            <a:r>
              <a:rPr b="0" lang="en-US" sz="3600" spc="-1" strike="noStrike">
                <a:solidFill>
                  <a:srgbClr val="0000cc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装在套子里的人</a:t>
            </a:r>
            <a:r>
              <a:rPr b="0" lang="en-US" sz="3600" spc="-1" strike="noStrike">
                <a:solidFill>
                  <a:srgbClr val="0000cc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0000cc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小公务员之死</a:t>
            </a:r>
            <a:r>
              <a:rPr b="0" lang="en-US" sz="3600" spc="-1" strike="noStrike">
                <a:solidFill>
                  <a:srgbClr val="0000cc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0000cc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变色龙</a:t>
            </a:r>
            <a:r>
              <a:rPr b="0" lang="en-US" sz="3600" spc="-1" strike="noStrike">
                <a:solidFill>
                  <a:srgbClr val="0000cc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00000" y="1773360"/>
            <a:ext cx="7632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　　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变色龙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写于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884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，反映了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9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世纪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80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代俄国生活中的一种应诅咒的现实。当时马克思主义与俄国工人阶级革命运动刚刚兴起，革命浪潮冲击着沙皇的专制统治。为了强化反动统治，他们豢养了一批媚上欺下看风使舵的走狗，为其镇压革命运动服务。本文中的警官奥楚蔑洛夫就是沙皇专制警察统治的化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124080" y="620640"/>
            <a:ext cx="42562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  <a:hlinkClick r:id="rId1"/>
              </a:rPr>
              <a:t>时代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浪漫式1"/>
          <p:cNvPicPr/>
          <p:nvPr/>
        </p:nvPicPr>
        <p:blipFill>
          <a:blip r:embed="rId1"/>
          <a:stretch/>
        </p:blipFill>
        <p:spPr>
          <a:xfrm>
            <a:off x="-1116000" y="0"/>
            <a:ext cx="10260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1600200" y="16002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ff"/>
                </a:solidFill>
                <a:uFillTx/>
                <a:latin typeface="隶书"/>
                <a:ea typeface="隶书"/>
              </a:rPr>
              <a:t>合 作 题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79280" y="28526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奥楚蔑洛夫在处理狗咬人事件上     反复改判了几次？都是怎样判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79280" y="4005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奥楚蔑洛夫不断变化的依据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79280" y="47242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奥楚蔑洛夫身上有没有始终不变的东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781680"/>
            <a:chOff x="0" y="0"/>
            <a:chExt cx="9144000" cy="6781680"/>
          </a:xfrm>
        </p:grpSpPr>
        <p:sp>
          <p:nvSpPr>
            <p:cNvPr id="83" name="Rectangle 3"/>
            <p:cNvSpPr/>
            <p:nvPr/>
          </p:nvSpPr>
          <p:spPr>
            <a:xfrm>
              <a:off x="6653160" y="5783400"/>
              <a:ext cx="249084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3505320" y="5783400"/>
              <a:ext cx="314784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762120" y="5783400"/>
              <a:ext cx="274320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厨师说是将军哥哥家的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0" y="5783400"/>
              <a:ext cx="7621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6653160" y="4805280"/>
              <a:ext cx="249084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3505320" y="4805280"/>
              <a:ext cx="314784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762120" y="4805280"/>
              <a:ext cx="27432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厨师说不是将军家的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0" y="4805280"/>
              <a:ext cx="76212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6653160" y="3825720"/>
              <a:ext cx="24908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3505320" y="3825720"/>
              <a:ext cx="31478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762120" y="3825720"/>
              <a:ext cx="27432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巡警说是将军家的狗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0" y="3825720"/>
              <a:ext cx="76212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6653160" y="2844720"/>
              <a:ext cx="249084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3505320" y="2844720"/>
              <a:ext cx="314784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762120" y="2844720"/>
              <a:ext cx="27432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巡警说不是将军家的狗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0" y="2844720"/>
              <a:ext cx="76212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>
              <a:off x="6653160" y="1865160"/>
              <a:ext cx="24908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>
              <a:off x="3505320" y="1865160"/>
              <a:ext cx="31478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1"/>
            <p:cNvSpPr/>
            <p:nvPr/>
          </p:nvSpPr>
          <p:spPr>
            <a:xfrm>
              <a:off x="762120" y="1865160"/>
              <a:ext cx="27432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有人说好象是将军家的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2"/>
            <p:cNvSpPr/>
            <p:nvPr/>
          </p:nvSpPr>
          <p:spPr>
            <a:xfrm>
              <a:off x="0" y="1865160"/>
              <a:ext cx="76212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>
              <a:off x="6653160" y="1066680"/>
              <a:ext cx="24908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>
              <a:off x="3505320" y="1066680"/>
              <a:ext cx="31478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762120" y="1066680"/>
              <a:ext cx="27432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不知狗的主人是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>
              <a:off x="0" y="1066680"/>
              <a:ext cx="7621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6653160" y="0"/>
              <a:ext cx="24908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对赫留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3505320" y="0"/>
              <a:ext cx="31478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对小猎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>
              <a:off x="762120" y="0"/>
              <a:ext cx="2743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0"/>
            <p:cNvSpPr/>
            <p:nvPr/>
          </p:nvSpPr>
          <p:spPr>
            <a:xfrm>
              <a:off x="0" y="0"/>
              <a:ext cx="762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1"/>
            <p:cNvSpPr/>
            <p:nvPr/>
          </p:nvSpPr>
          <p:spPr>
            <a:xfrm>
              <a:off x="0" y="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2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33"/>
            <p:cNvSpPr/>
            <p:nvPr/>
          </p:nvSpPr>
          <p:spPr>
            <a:xfrm>
              <a:off x="0" y="186516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4"/>
            <p:cNvSpPr/>
            <p:nvPr/>
          </p:nvSpPr>
          <p:spPr>
            <a:xfrm>
              <a:off x="0" y="28447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5"/>
            <p:cNvSpPr/>
            <p:nvPr/>
          </p:nvSpPr>
          <p:spPr>
            <a:xfrm>
              <a:off x="0" y="38257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6"/>
            <p:cNvSpPr/>
            <p:nvPr/>
          </p:nvSpPr>
          <p:spPr>
            <a:xfrm>
              <a:off x="0" y="480528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7"/>
            <p:cNvSpPr/>
            <p:nvPr/>
          </p:nvSpPr>
          <p:spPr>
            <a:xfrm>
              <a:off x="0" y="57834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8"/>
            <p:cNvSpPr/>
            <p:nvPr/>
          </p:nvSpPr>
          <p:spPr>
            <a:xfrm>
              <a:off x="0" y="6781680"/>
              <a:ext cx="91440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9"/>
            <p:cNvSpPr/>
            <p:nvPr/>
          </p:nvSpPr>
          <p:spPr>
            <a:xfrm>
              <a:off x="0" y="0"/>
              <a:ext cx="0" cy="678168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0"/>
            <p:cNvSpPr/>
            <p:nvPr/>
          </p:nvSpPr>
          <p:spPr>
            <a:xfrm>
              <a:off x="762120" y="0"/>
              <a:ext cx="0" cy="678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1"/>
            <p:cNvSpPr/>
            <p:nvPr/>
          </p:nvSpPr>
          <p:spPr>
            <a:xfrm>
              <a:off x="3505320" y="0"/>
              <a:ext cx="0" cy="678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2"/>
            <p:cNvSpPr/>
            <p:nvPr/>
          </p:nvSpPr>
          <p:spPr>
            <a:xfrm>
              <a:off x="6653160" y="0"/>
              <a:ext cx="0" cy="678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3"/>
            <p:cNvSpPr/>
            <p:nvPr/>
          </p:nvSpPr>
          <p:spPr>
            <a:xfrm>
              <a:off x="762120" y="0"/>
              <a:ext cx="83818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4"/>
            <p:cNvSpPr/>
            <p:nvPr/>
          </p:nvSpPr>
          <p:spPr>
            <a:xfrm>
              <a:off x="9144000" y="5783400"/>
              <a:ext cx="0" cy="998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5"/>
            <p:cNvSpPr/>
            <p:nvPr/>
          </p:nvSpPr>
          <p:spPr>
            <a:xfrm>
              <a:off x="9144000" y="0"/>
              <a:ext cx="0" cy="57834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46"/>
          <p:cNvSpPr/>
          <p:nvPr/>
        </p:nvSpPr>
        <p:spPr>
          <a:xfrm>
            <a:off x="3657600" y="11430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野畜生，疯狗把它弄死好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7"/>
          <p:cNvSpPr/>
          <p:nvPr/>
        </p:nvSpPr>
        <p:spPr>
          <a:xfrm>
            <a:off x="678168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肯定赫是被狗咬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8"/>
          <p:cNvSpPr/>
          <p:nvPr/>
        </p:nvSpPr>
        <p:spPr>
          <a:xfrm>
            <a:off x="3581280" y="19810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它是那么小，它怎么会咬着你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9"/>
          <p:cNvSpPr/>
          <p:nvPr/>
        </p:nvSpPr>
        <p:spPr>
          <a:xfrm>
            <a:off x="6705720" y="19051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你那手指头一定是给钉子弄破的。鬼东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0"/>
          <p:cNvSpPr/>
          <p:nvPr/>
        </p:nvSpPr>
        <p:spPr>
          <a:xfrm>
            <a:off x="3657600" y="2971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下贱胚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1"/>
          <p:cNvSpPr/>
          <p:nvPr/>
        </p:nvSpPr>
        <p:spPr>
          <a:xfrm>
            <a:off x="6705720" y="2971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受了害，我决不能不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2"/>
          <p:cNvSpPr/>
          <p:nvPr/>
        </p:nvSpPr>
        <p:spPr>
          <a:xfrm>
            <a:off x="3657600" y="39625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名贵的狗，狗是娇贵的动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3"/>
          <p:cNvSpPr/>
          <p:nvPr/>
        </p:nvSpPr>
        <p:spPr>
          <a:xfrm>
            <a:off x="6705720" y="3886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你这混蛋不用把你那手指头伸出来！怪你不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4"/>
          <p:cNvSpPr/>
          <p:nvPr/>
        </p:nvSpPr>
        <p:spPr>
          <a:xfrm>
            <a:off x="3657600" y="49528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野狗，弄死它算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5"/>
          <p:cNvSpPr/>
          <p:nvPr/>
        </p:nvSpPr>
        <p:spPr>
          <a:xfrm>
            <a:off x="3657600" y="58514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真不赖，怪伶俐的，一口就咬破了这家伙的手指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6"/>
          <p:cNvSpPr/>
          <p:nvPr/>
        </p:nvSpPr>
        <p:spPr>
          <a:xfrm>
            <a:off x="6629400" y="59436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我早晚要收拾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12:06:07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8T06:27:22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