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5D69-A77E-4EF1-90FD-40D1CF6E94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v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FF2-9438-4CCE-B2B6-99AC091F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E5B-6B1C-4694-9B7D-469F9271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2FA-F733-41CC-9553-EE6AE81E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55A-688C-438A-8406-24A4C41B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A7B-25BB-4389-9C29-F5A8A4E0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519-D0EF-403E-B87E-E4E173DF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445-4A04-49FD-B0AD-5E2AF77E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AB3-2F3D-40CE-B991-69CB7CFB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5E4-BDED-404D-86A1-5BAE3180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947-211F-424C-A500-6214908D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29D-2614-4E46-9951-FDE3EE42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F09-3E59-4E60-9A75-3078B57C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BDE2-91AC-4F18-8C05-B6C2F1D37A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18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421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07840" y="282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蝙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4920" y="282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雷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07400" y="260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楷体_GB2312"/>
              </a:rPr>
              <a:t>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验结论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193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三次不同的试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证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蝙蝠夜里飞行，靠的不是眼睛，它是用嘴和耳朵配合起来探路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6960" y="4581360"/>
            <a:ext cx="511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三次不同的试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证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蝙蝠夜里飞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靠的不是眼睛，它是用嘴和耳朵探路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59280" y="6308640"/>
            <a:ext cx="17524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比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4389840" y="2852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：用可靠的事实来表明结论的真实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3213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3429000"/>
            <a:ext cx="1676520" cy="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根据三次试验的内容，分别用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”一词说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197000"/>
          <a:ext cx="8280000" cy="4463640"/>
        </p:xfrm>
        <a:graphic>
          <a:graphicData uri="http://schemas.openxmlformats.org/drawingml/2006/table">
            <a:tbl>
              <a:tblPr/>
              <a:tblGrid>
                <a:gridCol w="613080"/>
                <a:gridCol w="459720"/>
                <a:gridCol w="537840"/>
                <a:gridCol w="459720"/>
                <a:gridCol w="1458720"/>
                <a:gridCol w="4750920"/>
              </a:tblGrid>
              <a:tr h="802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眼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蝙蝠飞了几个钟头，铃铛一个也没响，那么多的绳子，它一根也没碰着。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次试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次试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结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627280" y="1413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3213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365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10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494172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次不同的试验证明，蝙蝠夜里飞行，靠的不是眼睛，它是用嘴和耳朵配合起来探路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692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词语：证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13971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证明：用可靠的事实来表明结论的真实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7040" y="19810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联系上下文找句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708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6200" y="2637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据三次试验的内容，分别用“证明”一词说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1676520" cy="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4005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蝙蝠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1280" y="1557360"/>
            <a:ext cx="2881080" cy="39592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66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11280" y="1806480"/>
            <a:ext cx="2857320" cy="119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40000" y="4724280"/>
            <a:ext cx="1008000" cy="72072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2924280"/>
            <a:ext cx="863640" cy="230040"/>
          </a:xfrm>
          <a:custGeom>
            <a:avLst/>
            <a:gdLst/>
            <a:ahLst/>
            <a:rect l="l" t="t" r="r" b="b"/>
            <a:pathLst>
              <a:path w="544" h="145">
                <a:moveTo>
                  <a:pt x="0" y="46"/>
                </a:moveTo>
                <a:cubicBezTo>
                  <a:pt x="90" y="95"/>
                  <a:pt x="181" y="145"/>
                  <a:pt x="272" y="137"/>
                </a:cubicBezTo>
                <a:cubicBezTo>
                  <a:pt x="363" y="129"/>
                  <a:pt x="499" y="23"/>
                  <a:pt x="5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3068640"/>
            <a:ext cx="144000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0" y="46"/>
                </a:moveTo>
                <a:cubicBezTo>
                  <a:pt x="128" y="140"/>
                  <a:pt x="257" y="235"/>
                  <a:pt x="408" y="227"/>
                </a:cubicBezTo>
                <a:cubicBezTo>
                  <a:pt x="559" y="219"/>
                  <a:pt x="733" y="109"/>
                  <a:pt x="90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3284640"/>
            <a:ext cx="2016000" cy="517320"/>
          </a:xfrm>
          <a:custGeom>
            <a:avLst/>
            <a:gdLst/>
            <a:ahLst/>
            <a:rect l="l" t="t" r="r" b="b"/>
            <a:pathLst>
              <a:path w="1270" h="326">
                <a:moveTo>
                  <a:pt x="0" y="46"/>
                </a:moveTo>
                <a:cubicBezTo>
                  <a:pt x="143" y="186"/>
                  <a:pt x="287" y="326"/>
                  <a:pt x="499" y="318"/>
                </a:cubicBezTo>
                <a:cubicBezTo>
                  <a:pt x="711" y="310"/>
                  <a:pt x="990" y="155"/>
                  <a:pt x="12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3645000"/>
            <a:ext cx="2376720" cy="731880"/>
          </a:xfrm>
          <a:custGeom>
            <a:avLst/>
            <a:gdLst/>
            <a:ahLst/>
            <a:rect l="l" t="t" r="r" b="b"/>
            <a:pathLst>
              <a:path w="1497" h="461">
                <a:moveTo>
                  <a:pt x="0" y="45"/>
                </a:moveTo>
                <a:cubicBezTo>
                  <a:pt x="193" y="253"/>
                  <a:pt x="386" y="461"/>
                  <a:pt x="635" y="454"/>
                </a:cubicBezTo>
                <a:cubicBezTo>
                  <a:pt x="884" y="447"/>
                  <a:pt x="1353" y="76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76640"/>
            <a:ext cx="2592720" cy="912960"/>
          </a:xfrm>
          <a:custGeom>
            <a:avLst/>
            <a:gdLst/>
            <a:ahLst/>
            <a:rect l="l" t="t" r="r" b="b"/>
            <a:pathLst>
              <a:path w="1633" h="575">
                <a:moveTo>
                  <a:pt x="0" y="182"/>
                </a:moveTo>
                <a:cubicBezTo>
                  <a:pt x="272" y="378"/>
                  <a:pt x="545" y="575"/>
                  <a:pt x="817" y="545"/>
                </a:cubicBezTo>
                <a:cubicBezTo>
                  <a:pt x="1089" y="515"/>
                  <a:pt x="1497" y="91"/>
                  <a:pt x="1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508640"/>
            <a:ext cx="358920" cy="288720"/>
          </a:xfrm>
          <a:custGeom>
            <a:avLst/>
            <a:gdLst/>
            <a:ahLst/>
            <a:rect l="l" t="t" r="r" b="b"/>
            <a:pathLst>
              <a:path w="226" h="182">
                <a:moveTo>
                  <a:pt x="0" y="182"/>
                </a:moveTo>
                <a:cubicBezTo>
                  <a:pt x="4" y="151"/>
                  <a:pt x="8" y="121"/>
                  <a:pt x="45" y="91"/>
                </a:cubicBezTo>
                <a:cubicBezTo>
                  <a:pt x="82" y="61"/>
                  <a:pt x="196" y="15"/>
                  <a:pt x="22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005360"/>
            <a:ext cx="863640" cy="718920"/>
          </a:xfrm>
          <a:custGeom>
            <a:avLst/>
            <a:gdLst/>
            <a:ahLst/>
            <a:rect l="l" t="t" r="r" b="b"/>
            <a:pathLst>
              <a:path w="544" h="453">
                <a:moveTo>
                  <a:pt x="0" y="453"/>
                </a:moveTo>
                <a:cubicBezTo>
                  <a:pt x="22" y="355"/>
                  <a:pt x="45" y="257"/>
                  <a:pt x="136" y="181"/>
                </a:cubicBezTo>
                <a:cubicBezTo>
                  <a:pt x="227" y="105"/>
                  <a:pt x="385" y="52"/>
                  <a:pt x="544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76360" y="3429000"/>
            <a:ext cx="1440000" cy="1079640"/>
          </a:xfrm>
          <a:custGeom>
            <a:avLst/>
            <a:gdLst/>
            <a:ahLst/>
            <a:rect l="l" t="t" r="r" b="b"/>
            <a:pathLst>
              <a:path w="907" h="680">
                <a:moveTo>
                  <a:pt x="0" y="680"/>
                </a:moveTo>
                <a:cubicBezTo>
                  <a:pt x="37" y="532"/>
                  <a:pt x="75" y="385"/>
                  <a:pt x="226" y="272"/>
                </a:cubicBezTo>
                <a:cubicBezTo>
                  <a:pt x="377" y="159"/>
                  <a:pt x="642" y="79"/>
                  <a:pt x="90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924280"/>
            <a:ext cx="2087640" cy="1296720"/>
          </a:xfrm>
          <a:custGeom>
            <a:avLst/>
            <a:gdLst/>
            <a:ahLst/>
            <a:rect l="l" t="t" r="r" b="b"/>
            <a:pathLst>
              <a:path w="1315" h="817">
                <a:moveTo>
                  <a:pt x="0" y="817"/>
                </a:moveTo>
                <a:cubicBezTo>
                  <a:pt x="140" y="590"/>
                  <a:pt x="280" y="363"/>
                  <a:pt x="499" y="227"/>
                </a:cubicBezTo>
                <a:cubicBezTo>
                  <a:pt x="718" y="91"/>
                  <a:pt x="1016" y="45"/>
                  <a:pt x="131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2276640"/>
            <a:ext cx="2374920" cy="1368360"/>
          </a:xfrm>
          <a:custGeom>
            <a:avLst/>
            <a:gdLst/>
            <a:ahLst/>
            <a:rect l="l" t="t" r="r" b="b"/>
            <a:pathLst>
              <a:path w="1496" h="862">
                <a:moveTo>
                  <a:pt x="0" y="862"/>
                </a:moveTo>
                <a:cubicBezTo>
                  <a:pt x="147" y="594"/>
                  <a:pt x="295" y="326"/>
                  <a:pt x="544" y="182"/>
                </a:cubicBezTo>
                <a:cubicBezTo>
                  <a:pt x="793" y="38"/>
                  <a:pt x="1144" y="19"/>
                  <a:pt x="14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68360" y="497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</a:rPr>
              <a:t>障碍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47628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课文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节，动手画画示意图，说说蝙蝠用嘴和耳朵配合起来探路的经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2519280" cy="936720"/>
          </a:xfrm>
          <a:custGeom>
            <a:avLst/>
            <a:gdLst/>
            <a:ahLst/>
            <a:rect l="l" t="t" r="r" b="b"/>
            <a:pathLst>
              <a:path w="1587" h="590">
                <a:moveTo>
                  <a:pt x="0" y="590"/>
                </a:moveTo>
                <a:cubicBezTo>
                  <a:pt x="207" y="386"/>
                  <a:pt x="415" y="182"/>
                  <a:pt x="680" y="91"/>
                </a:cubicBezTo>
                <a:cubicBezTo>
                  <a:pt x="945" y="0"/>
                  <a:pt x="1443" y="53"/>
                  <a:pt x="1587" y="4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167652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一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种声音叫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人的耳朵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蝙蝠的耳朵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波浪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样向前推进，遇到障碍物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传到蝙蝠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，蝙蝠就立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9640" y="692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七小节，完成下列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162864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            (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达的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当于蝙蝠的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            (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63640" y="2491920"/>
            <a:ext cx="506520" cy="1197000"/>
            <a:chOff x="1763640" y="2491920"/>
            <a:chExt cx="506520" cy="1197000"/>
          </a:xfrm>
        </p:grpSpPr>
        <p:sp>
          <p:nvSpPr>
            <p:cNvPr id="158" name=""/>
            <p:cNvSpPr/>
            <p:nvPr/>
          </p:nvSpPr>
          <p:spPr>
            <a:xfrm flipV="1">
              <a:off x="1763640" y="24919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3640" y="313272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3640" y="31327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372360" y="2491920"/>
            <a:ext cx="506160" cy="1197000"/>
            <a:chOff x="6372360" y="2491920"/>
            <a:chExt cx="506160" cy="1197000"/>
          </a:xfrm>
        </p:grpSpPr>
        <p:sp>
          <p:nvSpPr>
            <p:cNvPr id="162" name=""/>
            <p:cNvSpPr/>
            <p:nvPr/>
          </p:nvSpPr>
          <p:spPr>
            <a:xfrm flipV="1">
              <a:off x="6372360" y="24919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72360" y="3132720"/>
              <a:ext cx="5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72360" y="31327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686040" y="2492280"/>
            <a:ext cx="505080" cy="1151640"/>
            <a:chOff x="3686040" y="2492280"/>
            <a:chExt cx="505080" cy="1151640"/>
          </a:xfrm>
        </p:grpSpPr>
        <p:sp>
          <p:nvSpPr>
            <p:cNvPr id="166" name=""/>
            <p:cNvSpPr/>
            <p:nvPr/>
          </p:nvSpPr>
          <p:spPr>
            <a:xfrm>
              <a:off x="3686040" y="249228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86040" y="31125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686040" y="311220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411280" y="1989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600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28954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线电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290988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超声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3716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荧光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47242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“因为……所以……”说说蝙蝠和雷达之间的科学联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9640" y="476280"/>
            <a:ext cx="777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08000"/>
                </a:solidFill>
                <a:latin typeface="Times New Roman"/>
                <a:ea typeface="楷体_GB2312"/>
              </a:rPr>
              <a:t>小结：科学家从蝙蝠探路的试验和研究得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启示</a:t>
            </a:r>
            <a:r>
              <a:rPr b="1" lang="zh-CN" sz="2800" spc="-1" strike="noStrike">
                <a:solidFill>
                  <a:srgbClr val="808000"/>
                </a:solidFill>
                <a:latin typeface="Times New Roman"/>
                <a:ea typeface="楷体_GB2312"/>
              </a:rPr>
              <a:t>，发明了雷达，这就是蝙蝠与雷达的联系，所以课题要用“和”来连接。</a:t>
            </a:r>
            <a:r>
              <a:rPr b="0" lang="zh-CN" sz="2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2666880"/>
            <a:ext cx="22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启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26370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启发指示，使有所领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3429000"/>
            <a:ext cx="777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、查字典比较“试验”和“实验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4114800"/>
            <a:ext cx="820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试验：为了查看某事的结果或某物的性能而从事某种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4941720"/>
            <a:ext cx="8154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实验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为了检验某种科学理论或假设而进行某种操作或从事某种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01080" y="476280"/>
            <a:ext cx="838080" cy="711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301840" y="4876920"/>
            <a:ext cx="11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检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038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查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32544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还知道哪些东西也是受到动物特点的启发而发明的？向同学作介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26920" y="1839960"/>
            <a:ext cx="2297160" cy="180648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685800" y="3809880"/>
            <a:ext cx="2309760" cy="181476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3348000" y="1851120"/>
            <a:ext cx="2367000" cy="177624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348000" y="3836880"/>
            <a:ext cx="2519280" cy="182736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6019920" y="1762200"/>
            <a:ext cx="2819160" cy="187956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6172200" y="3784680"/>
            <a:ext cx="2514600" cy="1800000"/>
          </a:xfrm>
          <a:prstGeom prst="rect">
            <a:avLst/>
          </a:prstGeom>
          <a:ln w="381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3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907920"/>
            <a:ext cx="82803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抄写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达  避开  敏锐  模仿  超声波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碍物  荧光屏  横七竖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照样子把下面的句子补充完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漆黑的夜里，飞机怎么能安全飞行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原来是人们从蝙蝠身上得到了启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是星期一，学校里怎么一个学生也没有呢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外收集资料，说说事物之间有什么联系，又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联系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84360" y="836640"/>
            <a:ext cx="7921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词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验    实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家经过反复（    ），终于揭开了蝙蝠能在夜间飞行的秘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识课上，老师为我们做了“火烧纸杯”的（   ），看得我们目瞪口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472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试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485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实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80880" y="762120"/>
            <a:ext cx="79218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敏锐    敏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兔子（       ）地一跳，躲开了老鹰的攻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蝙蝠能在夜间安全飞行，是因为它的眼睛特别（       ）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选词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2286000"/>
            <a:ext cx="16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敏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0292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敏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893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1989000"/>
            <a:ext cx="727416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一读：读准字音，读通课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想一想：在漆黑的夜里，飞机怎么能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飞行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问一问：读了课文，你有什么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33520"/>
            <a:ext cx="8610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生字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蛾 铛 蒙 蝇 障 碍 摹 荧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3024000" cy="30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" name=""/>
          <p:cNvSpPr/>
          <p:nvPr/>
        </p:nvSpPr>
        <p:spPr>
          <a:xfrm>
            <a:off x="1349640" y="2276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74320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音节读准字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蛾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碍（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2924280"/>
            <a:ext cx="3529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é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à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380880"/>
            <a:ext cx="906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达  蝙蝠  避开 敏锐  模仿 捕捉 漆黑  超声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碍物 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启示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试验 铃铛 荧光屏 配合 探路 秘密 横七竖八 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摹仿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研究 驾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漆黑的夜里，飞机怎么能安全飞行呢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原来是人们从蝙蝠身上得到了</a:t>
            </a:r>
            <a:r>
              <a:rPr b="1" lang="zh-CN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启示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93680" y="508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启发指示，使有所领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00" y="19080"/>
            <a:ext cx="9115200" cy="6819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9061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蝙蝠在夜里飞行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还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捉飞蛾和蚊子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而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无论怎么飞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从来没见过它跟什么东西相撞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根极细的电线，它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能灵巧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避开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难道它的眼睛特别敏锐，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在漆黑的夜里看清楚所有的东西吗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四小节，完成第一次试验记录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26920" y="1773360"/>
          <a:ext cx="777744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720"/>
                <a:gridCol w="4464000"/>
              </a:tblGrid>
              <a:tr h="934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_________________________________________________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80988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眼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3086280"/>
            <a:ext cx="424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飞了几个钟头，铃铛一个也没响，那么多的绳子，它一根也没碰着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四小节，完成第一次试验记录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26920" y="1773360"/>
          <a:ext cx="777744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720"/>
                <a:gridCol w="4464000"/>
              </a:tblGrid>
              <a:tr h="934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3733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四小节，完成第一次试验记录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26920" y="1773360"/>
          <a:ext cx="7777440" cy="38718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720720"/>
                <a:gridCol w="1368720"/>
                <a:gridCol w="4464000"/>
              </a:tblGrid>
              <a:tr h="934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733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2004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x0127</cp:lastModifiedBy>
  <dcterms:modified xsi:type="dcterms:W3CDTF">2013-02-05T14:26:28Z</dcterms:modified>
  <cp:revision>51</cp:revision>
  <dc:subject/>
  <dc:title>PowerPoint Presentation</dc:title>
</cp:coreProperties>
</file>