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0040-6154-4287-BC80-4C508C95E7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v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77A-9A92-4213-96EB-EC5F48F8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EE0-B4B7-41DB-95BE-1DB24BED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8D6-94C2-4D7D-8AB6-C7706EBB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6D4-2548-48AA-AC8A-E8717AFF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CAB-677A-4107-AE95-D6F08509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76B-61DE-4F72-85DB-F80BAFE2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D54-DE79-4672-AF11-71E960AD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F87-27C2-4B24-AF0C-C0370E26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6AA-3B19-4EB9-93A8-26DB9979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72A-D62D-4004-88C8-FAE7999C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49A-2B0D-4B02-8BB1-1DFD20DF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0C2-0B7F-4808-A468-7C6D6FC0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85F5-DB71-4AB9-BA33-E3357551A2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20000" y="530064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蝙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漆黑的夜里，飞机怎么能安全飞行呢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原来是人们从蝙蝠身上得到了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启示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93680" y="508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启发指示，使有所领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鹰的眼睛特别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敏锐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，在几千米的高空就能搜索到草中伏着的小兔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敏锐对敏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762120"/>
            <a:ext cx="79218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敏锐    敏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兔子（       ）地一跳，躲开了老鹰的攻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蝙蝠能在夜间安全飞行，是因为它的眼睛特别（       ）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选词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2286000"/>
            <a:ext cx="16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敏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50292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敏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836640"/>
            <a:ext cx="7921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词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验    实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家经过反复（    ），终于揭开了蝙蝠能在夜间飞行的秘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识课上，老师为我们做了“火烧纸杯”的（   ），看得我们目瞪口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472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试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485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实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快速浏览和跳读课文，思考课文主要讲了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00" y="19080"/>
            <a:ext cx="9115200" cy="6819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9061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蝙蝠在夜里飞行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还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捉飞蛾和蚊子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而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无论怎么飞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从来没见过它跟什么东西相撞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根极细的电线，它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能灵巧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避开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难道它的眼睛特别敏锐，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在漆黑的夜里看清楚所有的东西吗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5280" y="4437000"/>
            <a:ext cx="50576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飞机在夜里安全飞行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与蝙蝠飞行的联系。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95640" y="1341360"/>
            <a:ext cx="4495680" cy="16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科学家是怎样揭开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蝙蝠在夜里飞行的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秘密的？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4076640"/>
            <a:ext cx="5327640" cy="206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539640" y="1197000"/>
          <a:ext cx="8280000" cy="4463640"/>
        </p:xfrm>
        <a:graphic>
          <a:graphicData uri="http://schemas.openxmlformats.org/drawingml/2006/table">
            <a:tbl>
              <a:tblPr/>
              <a:tblGrid>
                <a:gridCol w="613080"/>
                <a:gridCol w="459720"/>
                <a:gridCol w="537840"/>
                <a:gridCol w="459720"/>
                <a:gridCol w="1458720"/>
                <a:gridCol w="4750920"/>
              </a:tblGrid>
              <a:tr h="802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次试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次试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结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627280" y="1125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31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65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410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94172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次不同的试验证明，蝙蝠夜里飞行，靠的不是眼睛，它是用嘴和耳朵配合起来探路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2276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眼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206064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蝙蝠飞了几个钟头，铃铛一个也没响，那么多的绳子，它一根也没碰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验结论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2193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三次不同的试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证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蝙蝠夜里飞行，靠的不是眼睛，它是用嘴和耳朵配合起来探路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3213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692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词语：证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13971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证明：用可靠的事实来表明结论的真实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7040" y="19810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联系上下文找句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2708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6200" y="2637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据三次试验的内容，分别用“证明”一词说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1905120"/>
            <a:ext cx="1676520" cy="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4005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蝙蝠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80320" cy="561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7120" y="537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789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楷体_GB2312"/>
              </a:rPr>
              <a:t>蝙蝠是哺乳动物，头部和躯干像老鼠，有黑褐色细毛，四肢和尾部有皮质的膜，夜间在空中飞翔，吃蚊、蛾等昆虫。视力很弱，靠本身发出的超声波引导飞行。休息时用爪倒挂在屋檐下或树下，冬季在隐藏的地方冬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我的启示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科学家经过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无数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试验，终于知晓了蝙蝠夜行的秘密，你从中受到了什么启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科学家又是如何根据蝙蝠探路的原理发明了雷 达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1280" y="1557360"/>
            <a:ext cx="2881080" cy="39592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66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11280" y="1806480"/>
            <a:ext cx="2857320" cy="1190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40000" y="4724280"/>
            <a:ext cx="1008000" cy="72072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2924280"/>
            <a:ext cx="863640" cy="230040"/>
          </a:xfrm>
          <a:custGeom>
            <a:avLst/>
            <a:gdLst/>
            <a:ahLst/>
            <a:rect l="l" t="t" r="r" b="b"/>
            <a:pathLst>
              <a:path w="544" h="145">
                <a:moveTo>
                  <a:pt x="0" y="46"/>
                </a:moveTo>
                <a:cubicBezTo>
                  <a:pt x="90" y="95"/>
                  <a:pt x="181" y="145"/>
                  <a:pt x="272" y="137"/>
                </a:cubicBezTo>
                <a:cubicBezTo>
                  <a:pt x="363" y="129"/>
                  <a:pt x="499" y="23"/>
                  <a:pt x="5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3068640"/>
            <a:ext cx="144000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0" y="46"/>
                </a:moveTo>
                <a:cubicBezTo>
                  <a:pt x="128" y="140"/>
                  <a:pt x="257" y="235"/>
                  <a:pt x="408" y="227"/>
                </a:cubicBezTo>
                <a:cubicBezTo>
                  <a:pt x="559" y="219"/>
                  <a:pt x="733" y="109"/>
                  <a:pt x="90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3284640"/>
            <a:ext cx="2016000" cy="517320"/>
          </a:xfrm>
          <a:custGeom>
            <a:avLst/>
            <a:gdLst/>
            <a:ahLst/>
            <a:rect l="l" t="t" r="r" b="b"/>
            <a:pathLst>
              <a:path w="1270" h="326">
                <a:moveTo>
                  <a:pt x="0" y="46"/>
                </a:moveTo>
                <a:cubicBezTo>
                  <a:pt x="143" y="186"/>
                  <a:pt x="287" y="326"/>
                  <a:pt x="499" y="318"/>
                </a:cubicBezTo>
                <a:cubicBezTo>
                  <a:pt x="711" y="310"/>
                  <a:pt x="990" y="155"/>
                  <a:pt x="12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645000"/>
            <a:ext cx="2376720" cy="731880"/>
          </a:xfrm>
          <a:custGeom>
            <a:avLst/>
            <a:gdLst/>
            <a:ahLst/>
            <a:rect l="l" t="t" r="r" b="b"/>
            <a:pathLst>
              <a:path w="1497" h="461">
                <a:moveTo>
                  <a:pt x="0" y="45"/>
                </a:moveTo>
                <a:cubicBezTo>
                  <a:pt x="193" y="253"/>
                  <a:pt x="386" y="461"/>
                  <a:pt x="635" y="454"/>
                </a:cubicBezTo>
                <a:cubicBezTo>
                  <a:pt x="884" y="447"/>
                  <a:pt x="1353" y="76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4076640"/>
            <a:ext cx="2592720" cy="912960"/>
          </a:xfrm>
          <a:custGeom>
            <a:avLst/>
            <a:gdLst/>
            <a:ahLst/>
            <a:rect l="l" t="t" r="r" b="b"/>
            <a:pathLst>
              <a:path w="1633" h="575">
                <a:moveTo>
                  <a:pt x="0" y="182"/>
                </a:moveTo>
                <a:cubicBezTo>
                  <a:pt x="272" y="378"/>
                  <a:pt x="545" y="575"/>
                  <a:pt x="817" y="545"/>
                </a:cubicBezTo>
                <a:cubicBezTo>
                  <a:pt x="1089" y="515"/>
                  <a:pt x="1497" y="91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4508640"/>
            <a:ext cx="358920" cy="288720"/>
          </a:xfrm>
          <a:custGeom>
            <a:avLst/>
            <a:gdLst/>
            <a:ahLst/>
            <a:rect l="l" t="t" r="r" b="b"/>
            <a:pathLst>
              <a:path w="226" h="182">
                <a:moveTo>
                  <a:pt x="0" y="182"/>
                </a:moveTo>
                <a:cubicBezTo>
                  <a:pt x="4" y="151"/>
                  <a:pt x="8" y="121"/>
                  <a:pt x="45" y="91"/>
                </a:cubicBezTo>
                <a:cubicBezTo>
                  <a:pt x="82" y="61"/>
                  <a:pt x="196" y="15"/>
                  <a:pt x="22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005360"/>
            <a:ext cx="863640" cy="718920"/>
          </a:xfrm>
          <a:custGeom>
            <a:avLst/>
            <a:gdLst/>
            <a:ahLst/>
            <a:rect l="l" t="t" r="r" b="b"/>
            <a:pathLst>
              <a:path w="544" h="453">
                <a:moveTo>
                  <a:pt x="0" y="453"/>
                </a:moveTo>
                <a:cubicBezTo>
                  <a:pt x="22" y="355"/>
                  <a:pt x="45" y="257"/>
                  <a:pt x="136" y="181"/>
                </a:cubicBezTo>
                <a:cubicBezTo>
                  <a:pt x="227" y="105"/>
                  <a:pt x="385" y="52"/>
                  <a:pt x="544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429000"/>
            <a:ext cx="1440000" cy="1079640"/>
          </a:xfrm>
          <a:custGeom>
            <a:avLst/>
            <a:gdLst/>
            <a:ahLst/>
            <a:rect l="l" t="t" r="r" b="b"/>
            <a:pathLst>
              <a:path w="907" h="680">
                <a:moveTo>
                  <a:pt x="0" y="680"/>
                </a:moveTo>
                <a:cubicBezTo>
                  <a:pt x="37" y="532"/>
                  <a:pt x="75" y="385"/>
                  <a:pt x="226" y="272"/>
                </a:cubicBezTo>
                <a:cubicBezTo>
                  <a:pt x="377" y="159"/>
                  <a:pt x="642" y="79"/>
                  <a:pt x="90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2924280"/>
            <a:ext cx="2087640" cy="1296720"/>
          </a:xfrm>
          <a:custGeom>
            <a:avLst/>
            <a:gdLst/>
            <a:ahLst/>
            <a:rect l="l" t="t" r="r" b="b"/>
            <a:pathLst>
              <a:path w="1315" h="817">
                <a:moveTo>
                  <a:pt x="0" y="817"/>
                </a:moveTo>
                <a:cubicBezTo>
                  <a:pt x="140" y="590"/>
                  <a:pt x="280" y="363"/>
                  <a:pt x="499" y="227"/>
                </a:cubicBezTo>
                <a:cubicBezTo>
                  <a:pt x="718" y="91"/>
                  <a:pt x="1016" y="45"/>
                  <a:pt x="131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2276640"/>
            <a:ext cx="2374920" cy="1368360"/>
          </a:xfrm>
          <a:custGeom>
            <a:avLst/>
            <a:gdLst/>
            <a:ahLst/>
            <a:rect l="l" t="t" r="r" b="b"/>
            <a:pathLst>
              <a:path w="1496" h="862">
                <a:moveTo>
                  <a:pt x="0" y="862"/>
                </a:moveTo>
                <a:cubicBezTo>
                  <a:pt x="147" y="594"/>
                  <a:pt x="295" y="326"/>
                  <a:pt x="544" y="182"/>
                </a:cubicBezTo>
                <a:cubicBezTo>
                  <a:pt x="793" y="38"/>
                  <a:pt x="1144" y="19"/>
                  <a:pt x="14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497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</a:rPr>
              <a:t>障碍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7628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课文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节，动手画画示意图，说说蝙蝠用嘴和耳朵配合起来探路的经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1844640"/>
            <a:ext cx="2519280" cy="936720"/>
          </a:xfrm>
          <a:custGeom>
            <a:avLst/>
            <a:gdLst/>
            <a:ahLst/>
            <a:rect l="l" t="t" r="r" b="b"/>
            <a:pathLst>
              <a:path w="1587" h="590">
                <a:moveTo>
                  <a:pt x="0" y="590"/>
                </a:moveTo>
                <a:cubicBezTo>
                  <a:pt x="207" y="386"/>
                  <a:pt x="415" y="182"/>
                  <a:pt x="680" y="91"/>
                </a:cubicBezTo>
                <a:cubicBezTo>
                  <a:pt x="945" y="0"/>
                  <a:pt x="1443" y="53"/>
                  <a:pt x="1587" y="4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67652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一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种声音叫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人的耳朵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蝙蝠的耳朵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波浪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样向前推进，遇到障碍物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传到蝙蝠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，蝙蝠就立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692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七小节，完成下列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62864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            (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达的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当于蝙蝠的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            (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763640" y="2491920"/>
            <a:ext cx="506520" cy="1197000"/>
            <a:chOff x="1763640" y="2491920"/>
            <a:chExt cx="506520" cy="1197000"/>
          </a:xfrm>
        </p:grpSpPr>
        <p:sp>
          <p:nvSpPr>
            <p:cNvPr id="164" name=""/>
            <p:cNvSpPr/>
            <p:nvPr/>
          </p:nvSpPr>
          <p:spPr>
            <a:xfrm flipV="1">
              <a:off x="1763640" y="24919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63640" y="313272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63640" y="31327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372360" y="2491920"/>
            <a:ext cx="506160" cy="1197000"/>
            <a:chOff x="6372360" y="2491920"/>
            <a:chExt cx="506160" cy="1197000"/>
          </a:xfrm>
        </p:grpSpPr>
        <p:sp>
          <p:nvSpPr>
            <p:cNvPr id="168" name=""/>
            <p:cNvSpPr/>
            <p:nvPr/>
          </p:nvSpPr>
          <p:spPr>
            <a:xfrm flipV="1">
              <a:off x="6372360" y="24919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72360" y="3132720"/>
              <a:ext cx="5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72360" y="31327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86040" y="2492280"/>
            <a:ext cx="505080" cy="1151640"/>
            <a:chOff x="3686040" y="2492280"/>
            <a:chExt cx="505080" cy="1151640"/>
          </a:xfrm>
        </p:grpSpPr>
        <p:sp>
          <p:nvSpPr>
            <p:cNvPr id="172" name=""/>
            <p:cNvSpPr/>
            <p:nvPr/>
          </p:nvSpPr>
          <p:spPr>
            <a:xfrm>
              <a:off x="3686040" y="249228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86040" y="31125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686040" y="311220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411280" y="1989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600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28954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线电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290988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超声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3716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荧光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2000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47242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“因为……所以……”说说蝙蝠和雷达之间的科学联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谈谈学了这课，你最想说的话，或者谈谈你的收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32544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还知道哪些东西也是受到动物特点的启发而发明的？向同学作介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826920" y="1839960"/>
            <a:ext cx="2297160" cy="180648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85800" y="3809880"/>
            <a:ext cx="2309760" cy="181476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3348000" y="1851120"/>
            <a:ext cx="2367000" cy="177624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3348000" y="3836880"/>
            <a:ext cx="2519280" cy="182736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6019920" y="1762200"/>
            <a:ext cx="2819160" cy="187956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6172200" y="3784680"/>
            <a:ext cx="2514600" cy="180000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由令人讨厌的苍蝇，仿制成功一种十分奇特的小型气体分析仪。已经被安装在宇宙飞船的座舱里，用来检测舱内气体的成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水母的顺风耳，仿照水母耳朵的结构和功能，设计了水母耳风暴预测仪，能提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对风暴作出预报，对航海和渔业的安全都有重要意义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现代起重机的挂钩起源于许多动物的爪子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锯子学的是螳螂臂，或锯齿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苍耳属植物获取灵感发明了尼龙搭扣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嗅觉灵敏的龙虾为人们制造气味探测仪提供了思路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壁虎脚趾对制造能反复使用的粘性录音带提供了令人鼓舞的前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贝用它的蛋白质生成的胶体非常牢固，这样一种胶体可应用在从外科手术的缝合到补船等一切事情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33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907920"/>
            <a:ext cx="8280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照样子把下面的句子补充完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漆黑的夜里，飞机怎么能安全飞行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原来是人们从蝙蝠身上得到了启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是星期一，学校里怎么一个学生也没有呢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外收集资料，了解事物，尝试着发明一样东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56240" y="1052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Arial"/>
                <a:ea typeface="幼圆"/>
              </a:rPr>
              <a:t>比一比，组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70360" y="1989000"/>
            <a:ext cx="530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蝙（　）蝠（　）捕（　）蛾（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骗（　）幅（　）哺（　）饿（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蚊（　）避（　）锐（　）铛（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纹（　）辟（　）说（　）挡（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蝇（　）揭（　）碍（　）荧（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绳（　）竭（　）得（　）萤（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四小节，完成第一次试验记录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26920" y="1773360"/>
          <a:ext cx="777744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720"/>
                <a:gridCol w="4464000"/>
              </a:tblGrid>
              <a:tr h="934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_________________________________________________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380988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眼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飞了几个钟头，铃铛一个也没响，那么多的绳子，它一根也没碰着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70880" cy="5688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77040" y="5667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雷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四小节，完成第一次试验记录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773360"/>
          <a:ext cx="777744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720"/>
                <a:gridCol w="4464000"/>
              </a:tblGrid>
              <a:tr h="934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3733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四小节，完成第一次试验记录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1773360"/>
          <a:ext cx="777744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720"/>
                <a:gridCol w="4464000"/>
              </a:tblGrid>
              <a:tr h="934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3733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70880" cy="568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43280" y="286704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雷达是利用极短的无线电波进行探测的装置。可用来测定目标的方向、距离、大小等，在使用上不受气候条件的影响，它广泛应用于军事、天文、气象、航海、航空等方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42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07840" y="282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蝙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4920" y="282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雷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07400" y="260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楷体_GB2312"/>
              </a:rPr>
              <a:t>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1989000"/>
            <a:ext cx="727416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一读：读准字音，读通课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想一想：在漆黑的夜里，飞机怎么能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飞行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问一问：读了课文，你有什么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784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700280"/>
            <a:ext cx="777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biān</a:t>
            </a: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　 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fú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　   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bǔ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　   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蝙　　蝠　　捕　　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wén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　 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bì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　   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ruì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　 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dā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蚊　　避　    锐　    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yíng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　 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jiē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　    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ài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　　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yí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蝇　　揭　    碍　　 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34800" y="105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Arial"/>
              </a:rPr>
              <a:t>生字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533520"/>
            <a:ext cx="8610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生字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蛾 铛 蒙 蝇 障 碍 摹 荧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3024000" cy="30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"/>
          <p:cNvSpPr/>
          <p:nvPr/>
        </p:nvSpPr>
        <p:spPr>
          <a:xfrm>
            <a:off x="1349640" y="2276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74320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音节读准字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蛾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碍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2924280"/>
            <a:ext cx="3529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é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à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184320"/>
            <a:ext cx="9067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达  蝙蝠  避开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敏锐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模仿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捕捉 漆黑  超声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碍物 </a:t>
            </a:r>
            <a:r>
              <a:rPr b="1" lang="zh-CN" sz="6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启示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试验 铃铛 荧光屏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配合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探路 秘密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横七竖八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研究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驾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蒙眼    行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x0127</cp:lastModifiedBy>
  <dcterms:modified xsi:type="dcterms:W3CDTF">2013-02-05T14:26:48Z</dcterms:modified>
  <cp:revision>52</cp:revision>
  <dc:subject/>
  <dc:title>PowerPoint Presentation</dc:title>
</cp:coreProperties>
</file>