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4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C980-41F9-4173-87CA-1480FE19B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95CD-4421-4978-9628-D7C8E19D01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3400-95D5-4454-B413-38A714B9C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1B32-0286-475D-BE51-C1DE71A7B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68B3-A818-400B-A6C5-5C99ECC23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5E8A-AC79-4775-B5C4-894B72E8E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000" y="213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FA8F-3926-4C6D-9194-53E66DCB8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08C4-75EB-4502-8F2E-17D7DAE84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2163-65AD-4010-9595-57CD7DC09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6203-2311-4AF5-A700-728183D28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213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41B5-A1F9-4C80-877A-F42176D44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3DC0-CEBE-4E45-A06E-C8FB0F66E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E0B2-571C-40A7-B852-44840D2D3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F30F-E276-496C-AA9C-F51F98FE7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f59b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8418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71535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1B41D6E-E777-4772-BDA4-4F1BF1CC22D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9794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82760" y="839520"/>
            <a:ext cx="590544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蝙蝠和雷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31" descr=""/>
          <p:cNvPicPr/>
          <p:nvPr/>
        </p:nvPicPr>
        <p:blipFill>
          <a:blip r:embed="rId1"/>
          <a:stretch/>
        </p:blipFill>
        <p:spPr>
          <a:xfrm>
            <a:off x="334800" y="2697120"/>
            <a:ext cx="4160880" cy="416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91000" y="2685960"/>
            <a:ext cx="3213000" cy="32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1E7B-1884-4E3C-A211-8BDF00F289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88560" y="1341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  <a:ea typeface="宋体"/>
              </a:rPr>
              <a:t>造句练习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9973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468bd"/>
                </a:solidFill>
                <a:latin typeface="Arial"/>
                <a:ea typeface="宋体"/>
              </a:rPr>
              <a:t>    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根据“反复”、“证明”的意思，结合生活实际造两个句子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6783-F0CC-47AE-AF71-6128080462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162864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884183"/>
                </a:solidFill>
                <a:latin typeface="楷体_GB2312"/>
                <a:ea typeface="楷体_GB2312"/>
              </a:rPr>
              <a:t>例：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84183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884183"/>
                </a:solidFill>
                <a:latin typeface="楷体_GB2312"/>
                <a:ea typeface="楷体_GB2312"/>
              </a:rPr>
              <a:t>反复</a:t>
            </a:r>
            <a:r>
              <a:rPr b="0" lang="en-US" sz="4000" spc="-1" strike="noStrike">
                <a:solidFill>
                  <a:srgbClr val="884183"/>
                </a:solidFill>
                <a:latin typeface="楷体_GB2312"/>
                <a:ea typeface="楷体_GB2312"/>
              </a:rPr>
              <a:t>——</a:t>
            </a:r>
            <a:r>
              <a:rPr b="0" lang="zh-CN" sz="4000" spc="-1" strike="noStrike">
                <a:solidFill>
                  <a:srgbClr val="884183"/>
                </a:solidFill>
                <a:latin typeface="楷体_GB2312"/>
                <a:ea typeface="楷体_GB2312"/>
              </a:rPr>
              <a:t>经过反复思考和计算，小明终于做出了这道题。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84183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884183"/>
                </a:solidFill>
                <a:latin typeface="楷体_GB2312"/>
                <a:ea typeface="楷体_GB2312"/>
              </a:rPr>
              <a:t>证明</a:t>
            </a:r>
            <a:r>
              <a:rPr b="0" lang="en-US" sz="4000" spc="-1" strike="noStrike">
                <a:solidFill>
                  <a:srgbClr val="884183"/>
                </a:solidFill>
                <a:latin typeface="楷体_GB2312"/>
                <a:ea typeface="楷体_GB2312"/>
              </a:rPr>
              <a:t>——</a:t>
            </a:r>
            <a:r>
              <a:rPr b="0" lang="zh-CN" sz="4000" spc="-1" strike="noStrike">
                <a:solidFill>
                  <a:srgbClr val="884183"/>
                </a:solidFill>
                <a:latin typeface="楷体_GB2312"/>
                <a:ea typeface="楷体_GB2312"/>
              </a:rPr>
              <a:t>看到蚂蚁搬家，小军说要下雨了，果然，一会儿豆大的雨点落了下来，证明小军说得对。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AFC7-9FF8-4CDF-8052-3DFF4332F2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1160" y="1071720"/>
            <a:ext cx="66164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课文主要讲了一件什么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640" y="232884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楷体_GB2312"/>
              </a:rPr>
              <a:t>课文主要讲科学家通过反复试验，揭开了蝙蝠能在夜间飞行的原因，并从中受到启发，给飞机装上了雷达，解决了飞机在夜间飞行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4D67-7B69-4344-B8E1-C8D6E38F0EA0}" type="slidenum">
              <a:t>12</a:t>
            </a:fld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8642520" cy="392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9600" y="380052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从哪儿看出蝙蝠的飞行本领高超？划出有关句子，说说你的理解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FA5A-47F5-4066-8B18-0EC185A6369B}" type="slidenum">
              <a:t>13</a:t>
            </a:fld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42920" y="2276640"/>
            <a:ext cx="650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4400" spc="-1" strike="noStrike">
                <a:solidFill>
                  <a:srgbClr val="ff66cc"/>
                </a:solidFill>
                <a:latin typeface="Arial"/>
                <a:ea typeface="楷体_GB2312"/>
              </a:rPr>
              <a:t>夜间飞行能捕捉极小的飞虫，从来不跟什么东西相撞，即使一根极细的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  <a:ea typeface="楷体_GB2312"/>
              </a:rPr>
              <a:t>电线，也能灵巧地避开</a:t>
            </a:r>
            <a:r>
              <a:rPr b="0" lang="zh-CN" sz="4400" spc="-1" strike="noStrike">
                <a:solidFill>
                  <a:srgbClr val="ff66cc"/>
                </a:solidFill>
                <a:latin typeface="Arial"/>
                <a:ea typeface="宋体"/>
              </a:rPr>
              <a:t>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A80F-2D89-4D1B-AC91-67DC52870613}" type="slidenum">
              <a:t>14</a:t>
            </a:fld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42920" y="1484280"/>
            <a:ext cx="727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  <a:ea typeface="楷体_GB2312"/>
              </a:rPr>
              <a:t>　　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这些引起了科学家怎样的思考？为了弄清楚，科学家们做了几次实验？每次实验的目的是什么？用了什么方法？结果怎样？（填写下列表格）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A96C-E5D7-4BC4-9601-80E888F73C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2560" y="80820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四自然段，完成第一次试验记录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3560" y="1773360"/>
          <a:ext cx="8299440" cy="4583160"/>
        </p:xfrm>
        <a:graphic>
          <a:graphicData uri="http://schemas.openxmlformats.org/drawingml/2006/table">
            <a:tbl>
              <a:tblPr/>
              <a:tblGrid>
                <a:gridCol w="614520"/>
                <a:gridCol w="692280"/>
                <a:gridCol w="876240"/>
                <a:gridCol w="806400"/>
                <a:gridCol w="5310000"/>
              </a:tblGrid>
              <a:tr h="1106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 验 条 件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    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655720" y="184932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33560" y="415440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眼睛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70120" y="3627360"/>
            <a:ext cx="4959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飞了几个钟头，铃铛一个也没响，那么多的绳子，它一根也没碰着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F120-172A-4393-AA8D-1D3B687C556F}" type="slidenum">
              <a:t>16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822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五自然段，完成第二次试验记录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0720" y="1628640"/>
          <a:ext cx="8153280" cy="4654440"/>
        </p:xfrm>
        <a:graphic>
          <a:graphicData uri="http://schemas.openxmlformats.org/drawingml/2006/table">
            <a:tbl>
              <a:tblPr/>
              <a:tblGrid>
                <a:gridCol w="604080"/>
                <a:gridCol w="678960"/>
                <a:gridCol w="755640"/>
                <a:gridCol w="1434960"/>
                <a:gridCol w="4679640"/>
              </a:tblGrid>
              <a:tr h="1123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 验 条 件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塞住蝙蝠的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     果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771640" y="17622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70000" y="40989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59080" y="3330720"/>
            <a:ext cx="44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3870-E38D-4917-80C7-E59F5B17C31C}" type="slidenum">
              <a:t>17</a:t>
            </a:fld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765000"/>
            <a:ext cx="74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然段，完成第三次试验记录表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76200" y="1569960"/>
          <a:ext cx="8227800" cy="4684320"/>
        </p:xfrm>
        <a:graphic>
          <a:graphicData uri="http://schemas.openxmlformats.org/drawingml/2006/table">
            <a:tbl>
              <a:tblPr/>
              <a:tblGrid>
                <a:gridCol w="609480"/>
                <a:gridCol w="685440"/>
                <a:gridCol w="762480"/>
                <a:gridCol w="1447920"/>
                <a:gridCol w="4722480"/>
              </a:tblGrid>
              <a:tr h="1131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 验 条 件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三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次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封住蝙蝠的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_________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    果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771640" y="164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2720" y="402444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086280"/>
            <a:ext cx="42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3200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蝙蝠就像没头苍蝇似的到处乱撞，挂在绳子上的铃铛响个不停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A200-5691-4C8C-B4A0-14EB26FBB227}" type="slidenum">
              <a:t>18</a:t>
            </a:fld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51000" y="71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次试验的结论怎样？继续完成表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0840" y="1484280"/>
          <a:ext cx="8327880" cy="4830840"/>
        </p:xfrm>
        <a:graphic>
          <a:graphicData uri="http://schemas.openxmlformats.org/drawingml/2006/table">
            <a:tbl>
              <a:tblPr/>
              <a:tblGrid>
                <a:gridCol w="465120"/>
                <a:gridCol w="579240"/>
                <a:gridCol w="406440"/>
                <a:gridCol w="601560"/>
                <a:gridCol w="1474920"/>
                <a:gridCol w="4800600"/>
              </a:tblGrid>
              <a:tr h="868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条件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7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情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次试验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蒙住蝙蝠的  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眼睛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蝙蝠飞了几个钟头，铃铛一个也没响，那么多的绳子，它一根也没碰着。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次试验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塞住蝙蝠的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耳朵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蝙蝠就像没头苍蝇似的到处乱撞，挂在绳子上的铃铛响个不停。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次试验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封住蝙蝠的 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嘴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结果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蝙蝠就像没头苍蝇似的到处乱撞，挂在绳子上的铃铛响个不停。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试验结论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627280" y="1413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一间屋子里横七竖八地拉了许多绳子，绳子上系着许多铃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60800" y="3921120"/>
            <a:ext cx="7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45000" y="356076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74840" y="4830840"/>
            <a:ext cx="7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30680" y="46594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89040" y="5448240"/>
            <a:ext cx="70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次不同的试验证明，蝙蝠夜里飞行，靠的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是眼睛，它是用嘴和耳朵配合起来探路的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72DE-186C-4C7B-9DAE-72C411F59446}" type="slidenum">
              <a:t>19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80320" cy="561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2712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789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蝙蝠是哺乳动物，头部和躯干像老鼠，有黑褐色细毛，四肢和尾部有皮质的膜，夜间在空中飞翔，吃蚊、蛾等昆虫。视力很弱，靠本身发出的超声波引导飞行。休息时用爪倒挂在屋檐下或树下，冬季在隐藏的地方冬眠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770B-EFBF-477B-8E5D-4CCFD80D4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211932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4400" spc="-1" strike="noStrike">
                <a:solidFill>
                  <a:srgbClr val="cccc00"/>
                </a:solidFill>
                <a:latin typeface="Arial"/>
                <a:ea typeface="楷体_GB2312"/>
              </a:rPr>
              <a:t>“蝙蝠夜里飞行，靠的不是眼睛，它是用嘴和耳朵来探路的。”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00"/>
                </a:solidFill>
                <a:latin typeface="Arial"/>
                <a:ea typeface="楷体_GB2312"/>
              </a:rPr>
              <a:t>　　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这个结论和书上的有什么不同？哪一个更科学？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75D8-4A35-4730-9040-7E7BA98B6A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484280"/>
            <a:ext cx="856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00"/>
                </a:solidFill>
                <a:latin typeface="Arial"/>
                <a:ea typeface="楷体_GB2312"/>
              </a:rPr>
              <a:t>　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　丢掉“配合”是不科学的，因为第二次和第三次两次实验，分别塞住耳朵，封住嘴，也就是说单独将耳朵或嘴露在外面，但蝙蝠都失去了暗中探路的本领，这说明探路时靠的是这两种器官同时发挥作用，所以课文上用上“</a:t>
            </a: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楷体_GB2312"/>
              </a:rPr>
              <a:t>配合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”是科学的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489B-A03B-49FA-827C-F85E9817D2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25858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楷体_GB2312"/>
              </a:rPr>
              <a:t>科学家经过反复研究，终于揭开了蝙蝠能在夜里飞行的秘密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BC30-F564-440A-8627-96BA10D387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4005360"/>
            <a:ext cx="85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　　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楷体_GB2312"/>
              </a:rPr>
              <a:t>它一边飞，一边从嘴里发出一种声音。这种声音叫做超声波，人的耳朵是听不见的，蝙蝠的耳朵却能听见。超声波像波浪一样向前推进，遇到障碍物就反射回来，传到蝙蝠的耳朵里，蝙蝠就立刻改变飞行方向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D140-848B-4762-ADBD-6FC582F244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53880" y="16635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03640" y="1268280"/>
            <a:ext cx="50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嘴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耳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28880" y="2133720"/>
            <a:ext cx="201600" cy="1258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51480" y="1628640"/>
            <a:ext cx="12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超声波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93080" y="1700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140360" y="2205000"/>
            <a:ext cx="33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211640" y="2924280"/>
            <a:ext cx="33130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73520" y="3098880"/>
            <a:ext cx="976320" cy="142920"/>
          </a:xfrm>
          <a:prstGeom prst="leftArrow">
            <a:avLst>
              <a:gd name="adj1" fmla="val 50000"/>
              <a:gd name="adj2" fmla="val 1707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2276640"/>
            <a:ext cx="976320" cy="142560"/>
          </a:xfrm>
          <a:prstGeom prst="rightArrow">
            <a:avLst>
              <a:gd name="adj1" fmla="val 50000"/>
              <a:gd name="adj2" fmla="val 1712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7000" y="4773600"/>
            <a:ext cx="32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蝙  蝠 探 路 的 方 法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28760" y="3362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反射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46080" y="166068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障碍物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2280" y="390384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蝙  蝠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609F-E8A1-4F89-9D68-B97DF99638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3440" y="-360"/>
            <a:ext cx="74437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漆黑的夜里，飞机怎么能安全飞行呢？原来是人们从蝙蝠身上得到了启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55440" y="4822920"/>
            <a:ext cx="69310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学家模仿蝙蝠探路的方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飞机装上了雷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10120" y="3232080"/>
            <a:ext cx="13590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5DEB-0501-4358-B9B4-8BC1F45860F0}" type="slidenum">
              <a:t>25</a:t>
            </a:fld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8040" y="2340000"/>
            <a:ext cx="2376720" cy="292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01960" y="3144960"/>
            <a:ext cx="201600" cy="1258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03640" y="1268280"/>
            <a:ext cx="50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6560" y="296064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天线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荧光屏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757920" y="31622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115240" y="2714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无线电波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4000" y="3160800"/>
            <a:ext cx="3024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13400" y="4155840"/>
            <a:ext cx="2735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7040" y="4213080"/>
            <a:ext cx="976320" cy="144720"/>
          </a:xfrm>
          <a:prstGeom prst="leftArrow">
            <a:avLst>
              <a:gd name="adj1" fmla="val 50000"/>
              <a:gd name="adj2" fmla="val 16865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62640" y="3390840"/>
            <a:ext cx="976320" cy="142920"/>
          </a:xfrm>
          <a:prstGeom prst="rightArrow">
            <a:avLst>
              <a:gd name="adj1" fmla="val 50000"/>
              <a:gd name="adj2" fmla="val 1707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34000" y="107964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 达 探 测 器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06480" y="4344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反射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7320" y="30402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障碍物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87120" y="5407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雷  达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20BB-F593-4FDF-B140-C41A3BD7DC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692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读课文，完成下列填空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3577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62864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的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于蝙蝠的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            (  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63640" y="2491920"/>
            <a:ext cx="506520" cy="1197000"/>
            <a:chOff x="1763640" y="2491920"/>
            <a:chExt cx="506520" cy="1197000"/>
          </a:xfrm>
        </p:grpSpPr>
        <p:sp>
          <p:nvSpPr>
            <p:cNvPr id="185" name=""/>
            <p:cNvSpPr/>
            <p:nvPr/>
          </p:nvSpPr>
          <p:spPr>
            <a:xfrm flipV="1">
              <a:off x="1763640" y="24919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63640" y="313272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63640" y="3132720"/>
              <a:ext cx="50652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372360" y="2491920"/>
            <a:ext cx="506160" cy="1197000"/>
            <a:chOff x="6372360" y="2491920"/>
            <a:chExt cx="506160" cy="1197000"/>
          </a:xfrm>
        </p:grpSpPr>
        <p:sp>
          <p:nvSpPr>
            <p:cNvPr id="189" name=""/>
            <p:cNvSpPr/>
            <p:nvPr/>
          </p:nvSpPr>
          <p:spPr>
            <a:xfrm flipV="1">
              <a:off x="6372360" y="24919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72360" y="3132720"/>
              <a:ext cx="5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72360" y="3132720"/>
              <a:ext cx="506160" cy="55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686040" y="2492280"/>
            <a:ext cx="505080" cy="1151640"/>
            <a:chOff x="3686040" y="2492280"/>
            <a:chExt cx="505080" cy="1151640"/>
          </a:xfrm>
        </p:grpSpPr>
        <p:sp>
          <p:nvSpPr>
            <p:cNvPr id="193" name=""/>
            <p:cNvSpPr/>
            <p:nvPr/>
          </p:nvSpPr>
          <p:spPr>
            <a:xfrm>
              <a:off x="3686040" y="249228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86040" y="31125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686040" y="3112200"/>
              <a:ext cx="50508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397240" y="1960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线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嘴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28954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线电波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89680" y="286560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超声波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98600" y="37749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荧光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耳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47242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70E8-9ACA-4ED8-A646-36C5AC4143A6}" type="slidenum">
              <a:t>27</a:t>
            </a:fld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42920" y="170028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851040"/>
            <a:ext cx="8280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抄写词语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达  避开  敏锐  模仿  超声波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碍物  荧光屏  横七竖八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照样子把下面的句子补充完整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漆黑的夜里，飞机怎么能安全飞行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原来是人们从蝙蝠身上得到了启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是星期一，学校里怎么一个学生也没有呢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外收集资料，说说事物之间有什么联系，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是怎样联系的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5E4D-EBDC-4BFF-AB16-87AE04CFEBC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583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6B57-8FD7-43C1-974F-DAEFDFC75C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70880" cy="568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77040" y="5667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  <a:ea typeface="宋体"/>
              </a:rPr>
              <a:t>雷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95AB-C149-417A-A416-AA338B3199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1079640" y="4529160"/>
            <a:ext cx="5673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74720" y="3352680"/>
            <a:ext cx="373248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谢观赏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0793-ACD7-4AC3-9C56-E82FEC0771AE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468600"/>
            <a:ext cx="8861400" cy="310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273320"/>
            <a:ext cx="887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雷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利用无线电波来测定物体位置的无线电设备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磁波同声波一样，遇到障碍物要发生反射，雷达就是利用电磁波的这个特性工作的。波长越短的电磁波，传播的直线性越好，反射性能越强，因此，雷达用的是微波波段的无线电波。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43020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什么是雷达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EF67-4B64-4268-942D-513F7B0DAE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4784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170028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biān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　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f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ú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b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ǔ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é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蝙　　蝠　　捕　　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wén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b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ì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ruì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dāng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蚊　　避　    锐　    铛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yíng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ji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ē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ài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宋体"/>
              </a:rPr>
              <a:t>　　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宋体"/>
              </a:rPr>
              <a:t>yíng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蝇　　揭　    碍　　 荧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052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  <a:ea typeface="宋体"/>
              </a:rPr>
              <a:t>生字学习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0DFC-819C-4942-8319-20A60C8B2F41}" type="slidenum">
              <a:t>5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6240" y="1052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  <a:ea typeface="幼圆"/>
              </a:rPr>
              <a:t>比一比，组词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70360" y="1989000"/>
            <a:ext cx="530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蝙（　）蝠（　）捕（　）蛾（　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骗（　）幅（　）哺（　）饿（　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蚊（　）避（　）锐（　）铛（　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纹（　）辟（　）说（　）挡（　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蝇（　）揭（　）碍（　）荧（　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绳（　）竭（　）得（　）萤（　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6484-5E9B-4394-A9E7-C3AB4BE0F5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9480" y="1125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宋体"/>
              </a:rPr>
              <a:t>理解词语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421000"/>
            <a:ext cx="8964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       </a:t>
            </a: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感觉灵敏，眼光尖锐。本课指眼光尖锐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　　                 形容纵横杂乱。本课指科学家在做实验的房子里拉的绳子很多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　　          照某种现成的样子学着做。本课指科学家根据蝙蝠探路的原理发明了雷达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34936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敏锐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1920" y="357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横七竖八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92120" y="4581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模仿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9B87-FE83-4B8E-8C47-386528F959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162864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cc"/>
                </a:solidFill>
                <a:latin typeface="宋体"/>
                <a:ea typeface="宋体"/>
              </a:rPr>
              <a:t>   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遍又一遍；多次重复。②颠过来倒过去。③重复的情况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找出课文中带有“反复”的句子读一读。看看应选哪种解释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科学家经过反复研究，终于揭开了蝙蝠能在夜里飞行的秘密。”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选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400" spc="-1" strike="noStrike">
                <a:solidFill>
                  <a:srgbClr val="cc0099"/>
                </a:solidFill>
                <a:latin typeface="Arial"/>
                <a:ea typeface="宋体"/>
              </a:rPr>
              <a:t>反复：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BF05-3E74-42C1-BBED-35E717E87B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820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84464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可靠的材料来表明或断定人或事物的真实性。 ②证明书和证明信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文中找出带有“证明”的句子读一读，看看应选哪种解释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次不同的实验证明，蝙蝠夜里飞行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靠的不是眼睛，它是用嘴和耳朵配合起来探路的。”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选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95880" y="1700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  <a:ea typeface="宋体"/>
              </a:rPr>
              <a:t>证明：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7D1F-8A57-4B1B-8AED-A334C1867E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lcx0127</cp:lastModifiedBy>
  <dcterms:modified xsi:type="dcterms:W3CDTF">2013-02-05T14:27:09Z</dcterms:modified>
  <cp:revision>174</cp:revision>
  <dc:subject/>
  <dc:title>PowerPoint Template</dc:title>
</cp:coreProperties>
</file>