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7.jpeg" ContentType="image/jpeg"/>
  <Override PartName="/ppt/media/image3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AB9-6ABB-4A4D-BCA5-0EFB6B87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4CE-005E-4304-9218-3753F4E8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28F-2F42-45C5-BE23-FDB2496B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F68-0395-4208-A50F-43D3D931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F6D-C5FD-49CF-9A42-4370D947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D52-1979-4648-AEA2-3F8CF29A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FB5-9CB1-4F71-8E65-26D51749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FED-8EB7-4039-A14B-53077603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7C8-F5C4-4B48-BDB9-0985CB7E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D46-FBEE-43FA-9081-3A258BE3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996-D1E0-4A00-B382-2DA16F8D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6A5-8F60-4D80-859F-8B12A6AF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4416-DA7C-446A-B082-7886A84107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slide" Target="slide14.xml"/><Relationship Id="rId9" Type="http://schemas.openxmlformats.org/officeDocument/2006/relationships/image" Target="../media/image5.png"/><Relationship Id="rId10" Type="http://schemas.openxmlformats.org/officeDocument/2006/relationships/slide" Target="slide22.xml"/><Relationship Id="rId11" Type="http://schemas.openxmlformats.org/officeDocument/2006/relationships/image" Target="../media/image6.png"/><Relationship Id="rId12" Type="http://schemas.openxmlformats.org/officeDocument/2006/relationships/slide" Target="slide23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26.xml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2.xm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16000" y="2133720"/>
            <a:ext cx="684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26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、蝙蝠和雷达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1989000"/>
            <a:ext cx="727416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一读：读准字音，读通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想一想：在漆黑的夜里，飞机怎么能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飞行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问一问：读了课文，你有什么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33520"/>
            <a:ext cx="8610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生字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蛾 铛 蒙 蝇 障 碍 摹 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84360" y="2492280"/>
            <a:ext cx="302400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0" name=""/>
          <p:cNvSpPr/>
          <p:nvPr/>
        </p:nvSpPr>
        <p:spPr>
          <a:xfrm>
            <a:off x="1349640" y="2276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74320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音节读准字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蛾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碍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2819520"/>
            <a:ext cx="352872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é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à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228600"/>
            <a:ext cx="883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漆黑的夜里，飞机怎么能安全飞行呢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原来是人们从蝙蝠身上得到了启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762120"/>
            <a:ext cx="79218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敏锐    敏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兔子（       ）地一跳，躲开了老鹰的攻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蝙蝠能在夜间安全飞行，是因为它的眼睛特别（       ）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选词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2286000"/>
            <a:ext cx="16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敏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50292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敏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小节，完成第一次试验记录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773360"/>
          <a:ext cx="777744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720"/>
                <a:gridCol w="4464000"/>
              </a:tblGrid>
              <a:tr h="93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_______________________________________________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80988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眼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3086280"/>
            <a:ext cx="424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飞了几个钟头，铃铛一个也没响，那么多的绳子，它一根也没碰着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小节，完成第一次试验记录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26920" y="1773360"/>
          <a:ext cx="777744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720"/>
                <a:gridCol w="4464000"/>
              </a:tblGrid>
              <a:tr h="93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3733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小节，完成第一次试验记录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77744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720"/>
                <a:gridCol w="4464000"/>
              </a:tblGrid>
              <a:tr h="93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733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验结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193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次不同的试验证明，蝙蝠夜里飞行，靠的不是眼睛，它是用嘴和耳朵配合起来探路的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33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还有两次试验是怎么进行的？读课文第五小节，继续完成表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484280"/>
          <a:ext cx="8209080" cy="4176720"/>
        </p:xfrm>
        <a:graphic>
          <a:graphicData uri="http://schemas.openxmlformats.org/drawingml/2006/table">
            <a:tbl>
              <a:tblPr/>
              <a:tblGrid>
                <a:gridCol w="608040"/>
                <a:gridCol w="455760"/>
                <a:gridCol w="533160"/>
                <a:gridCol w="455760"/>
                <a:gridCol w="1446120"/>
                <a:gridCol w="4710240"/>
              </a:tblGrid>
              <a:tr h="750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眼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蝙蝠飞了几个钟头，铃铛一个也没响，那么多的绳子，它一根也没碰着。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次试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次试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结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627280" y="1413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213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365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410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9417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次不同的试验证明，蝙蝠夜里飞行，靠的不是眼睛，它是用嘴和耳朵配合起来探路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692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词语：证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13971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证明：用可靠的事实来表明结论的真实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7040" y="19810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联系上下文找句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708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蝙蝠的眼睛蒙上，让它在屋子里飞。蝙蝠飞了几个钟头，铃铛一个也没响，那么多的绳子，它一根也没碰着。把蝙蝠的耳朵塞上，把蝙蝠的嘴封住，让它在屋子里飞。蝙蝠就像没头苍蝇似的到处乱撞，挂在绳子上的铃铛响个不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2560" y="5229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据三次试验的内容，分别用“证明”一词说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905120"/>
            <a:ext cx="1676520" cy="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3382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962520" cy="339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5053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蝙蝠是唯一能飞的哺乳类动物（还有一些哺乳类动物，如飞鼠，只能滑行）。在大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种不同的蝙蝠中，有一半以上依赖于回声定位来发现飞行中的障碍物，寻找回巢的路以及捕获猎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1557360"/>
            <a:ext cx="2881080" cy="39592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66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11280" y="1806480"/>
            <a:ext cx="2857320" cy="1190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40000" y="4724280"/>
            <a:ext cx="1008000" cy="72072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2924280"/>
            <a:ext cx="863640" cy="230040"/>
          </a:xfrm>
          <a:custGeom>
            <a:avLst/>
            <a:gdLst/>
            <a:ahLst/>
            <a:rect l="l" t="t" r="r" b="b"/>
            <a:pathLst>
              <a:path w="544" h="145">
                <a:moveTo>
                  <a:pt x="0" y="46"/>
                </a:moveTo>
                <a:cubicBezTo>
                  <a:pt x="90" y="95"/>
                  <a:pt x="181" y="145"/>
                  <a:pt x="272" y="137"/>
                </a:cubicBezTo>
                <a:cubicBezTo>
                  <a:pt x="363" y="129"/>
                  <a:pt x="499" y="23"/>
                  <a:pt x="5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068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0" y="46"/>
                </a:moveTo>
                <a:cubicBezTo>
                  <a:pt x="128" y="140"/>
                  <a:pt x="257" y="235"/>
                  <a:pt x="408" y="227"/>
                </a:cubicBezTo>
                <a:cubicBezTo>
                  <a:pt x="559" y="219"/>
                  <a:pt x="733" y="109"/>
                  <a:pt x="90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3284640"/>
            <a:ext cx="2016000" cy="517320"/>
          </a:xfrm>
          <a:custGeom>
            <a:avLst/>
            <a:gdLst/>
            <a:ahLst/>
            <a:rect l="l" t="t" r="r" b="b"/>
            <a:pathLst>
              <a:path w="1270" h="326">
                <a:moveTo>
                  <a:pt x="0" y="46"/>
                </a:moveTo>
                <a:cubicBezTo>
                  <a:pt x="143" y="186"/>
                  <a:pt x="287" y="326"/>
                  <a:pt x="499" y="318"/>
                </a:cubicBezTo>
                <a:cubicBezTo>
                  <a:pt x="711" y="310"/>
                  <a:pt x="990" y="155"/>
                  <a:pt x="12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3645000"/>
            <a:ext cx="2376720" cy="731880"/>
          </a:xfrm>
          <a:custGeom>
            <a:avLst/>
            <a:gdLst/>
            <a:ahLst/>
            <a:rect l="l" t="t" r="r" b="b"/>
            <a:pathLst>
              <a:path w="1497" h="461">
                <a:moveTo>
                  <a:pt x="0" y="45"/>
                </a:moveTo>
                <a:cubicBezTo>
                  <a:pt x="193" y="253"/>
                  <a:pt x="386" y="461"/>
                  <a:pt x="635" y="454"/>
                </a:cubicBezTo>
                <a:cubicBezTo>
                  <a:pt x="884" y="447"/>
                  <a:pt x="1353" y="76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076640"/>
            <a:ext cx="2592720" cy="912960"/>
          </a:xfrm>
          <a:custGeom>
            <a:avLst/>
            <a:gdLst/>
            <a:ahLst/>
            <a:rect l="l" t="t" r="r" b="b"/>
            <a:pathLst>
              <a:path w="1633" h="575">
                <a:moveTo>
                  <a:pt x="0" y="182"/>
                </a:moveTo>
                <a:cubicBezTo>
                  <a:pt x="272" y="378"/>
                  <a:pt x="545" y="575"/>
                  <a:pt x="817" y="545"/>
                </a:cubicBezTo>
                <a:cubicBezTo>
                  <a:pt x="1089" y="515"/>
                  <a:pt x="1497" y="91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4508640"/>
            <a:ext cx="358920" cy="288720"/>
          </a:xfrm>
          <a:custGeom>
            <a:avLst/>
            <a:gdLst/>
            <a:ahLst/>
            <a:rect l="l" t="t" r="r" b="b"/>
            <a:pathLst>
              <a:path w="226" h="182">
                <a:moveTo>
                  <a:pt x="0" y="182"/>
                </a:moveTo>
                <a:cubicBezTo>
                  <a:pt x="4" y="151"/>
                  <a:pt x="8" y="121"/>
                  <a:pt x="45" y="91"/>
                </a:cubicBezTo>
                <a:cubicBezTo>
                  <a:pt x="82" y="61"/>
                  <a:pt x="196" y="15"/>
                  <a:pt x="22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4005360"/>
            <a:ext cx="863640" cy="718920"/>
          </a:xfrm>
          <a:custGeom>
            <a:avLst/>
            <a:gdLst/>
            <a:ahLst/>
            <a:rect l="l" t="t" r="r" b="b"/>
            <a:pathLst>
              <a:path w="544" h="453">
                <a:moveTo>
                  <a:pt x="0" y="453"/>
                </a:moveTo>
                <a:cubicBezTo>
                  <a:pt x="22" y="355"/>
                  <a:pt x="45" y="257"/>
                  <a:pt x="136" y="181"/>
                </a:cubicBezTo>
                <a:cubicBezTo>
                  <a:pt x="227" y="105"/>
                  <a:pt x="385" y="52"/>
                  <a:pt x="544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3429000"/>
            <a:ext cx="1440000" cy="1079640"/>
          </a:xfrm>
          <a:custGeom>
            <a:avLst/>
            <a:gdLst/>
            <a:ahLst/>
            <a:rect l="l" t="t" r="r" b="b"/>
            <a:pathLst>
              <a:path w="907" h="680">
                <a:moveTo>
                  <a:pt x="0" y="680"/>
                </a:moveTo>
                <a:cubicBezTo>
                  <a:pt x="37" y="532"/>
                  <a:pt x="75" y="385"/>
                  <a:pt x="226" y="272"/>
                </a:cubicBezTo>
                <a:cubicBezTo>
                  <a:pt x="377" y="159"/>
                  <a:pt x="642" y="79"/>
                  <a:pt x="90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924280"/>
            <a:ext cx="2087640" cy="1296720"/>
          </a:xfrm>
          <a:custGeom>
            <a:avLst/>
            <a:gdLst/>
            <a:ahLst/>
            <a:rect l="l" t="t" r="r" b="b"/>
            <a:pathLst>
              <a:path w="1315" h="817">
                <a:moveTo>
                  <a:pt x="0" y="817"/>
                </a:moveTo>
                <a:cubicBezTo>
                  <a:pt x="140" y="590"/>
                  <a:pt x="280" y="363"/>
                  <a:pt x="499" y="227"/>
                </a:cubicBezTo>
                <a:cubicBezTo>
                  <a:pt x="718" y="91"/>
                  <a:pt x="1016" y="45"/>
                  <a:pt x="131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2276640"/>
            <a:ext cx="2374920" cy="1368360"/>
          </a:xfrm>
          <a:custGeom>
            <a:avLst/>
            <a:gdLst/>
            <a:ahLst/>
            <a:rect l="l" t="t" r="r" b="b"/>
            <a:pathLst>
              <a:path w="1496" h="862">
                <a:moveTo>
                  <a:pt x="0" y="862"/>
                </a:moveTo>
                <a:cubicBezTo>
                  <a:pt x="147" y="594"/>
                  <a:pt x="295" y="326"/>
                  <a:pt x="544" y="182"/>
                </a:cubicBezTo>
                <a:cubicBezTo>
                  <a:pt x="793" y="38"/>
                  <a:pt x="1144" y="19"/>
                  <a:pt x="14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97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障碍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762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课文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节，动手画画示意图，说说蝙蝠用嘴和耳朵配合起来探路的经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844640"/>
            <a:ext cx="2519280" cy="936720"/>
          </a:xfrm>
          <a:custGeom>
            <a:avLst/>
            <a:gdLst/>
            <a:ahLst/>
            <a:rect l="l" t="t" r="r" b="b"/>
            <a:pathLst>
              <a:path w="1587" h="590">
                <a:moveTo>
                  <a:pt x="0" y="590"/>
                </a:moveTo>
                <a:cubicBezTo>
                  <a:pt x="207" y="386"/>
                  <a:pt x="415" y="182"/>
                  <a:pt x="680" y="91"/>
                </a:cubicBezTo>
                <a:cubicBezTo>
                  <a:pt x="945" y="0"/>
                  <a:pt x="1443" y="53"/>
                  <a:pt x="1587" y="4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167652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一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种声音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人的耳朵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蝙蝠的耳朵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向前推进，遇到障碍物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传到蝙蝠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，蝙蝠就立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9640" y="692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七小节，完成下列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62864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的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于蝙蝠的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763640" y="2491920"/>
            <a:ext cx="506520" cy="1197000"/>
            <a:chOff x="1763640" y="2491920"/>
            <a:chExt cx="506520" cy="1197000"/>
          </a:xfrm>
        </p:grpSpPr>
        <p:sp>
          <p:nvSpPr>
            <p:cNvPr id="170" name=""/>
            <p:cNvSpPr/>
            <p:nvPr/>
          </p:nvSpPr>
          <p:spPr>
            <a:xfrm flipV="1">
              <a:off x="1763640" y="24919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63640" y="31327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3640" y="31327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72360" y="2491920"/>
            <a:ext cx="506160" cy="1197000"/>
            <a:chOff x="6372360" y="2491920"/>
            <a:chExt cx="506160" cy="1197000"/>
          </a:xfrm>
        </p:grpSpPr>
        <p:sp>
          <p:nvSpPr>
            <p:cNvPr id="174" name=""/>
            <p:cNvSpPr/>
            <p:nvPr/>
          </p:nvSpPr>
          <p:spPr>
            <a:xfrm flipV="1">
              <a:off x="6372360" y="24919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72360" y="3132720"/>
              <a:ext cx="5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72360" y="31327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686040" y="2492280"/>
            <a:ext cx="505080" cy="1151640"/>
            <a:chOff x="3686040" y="2492280"/>
            <a:chExt cx="505080" cy="1151640"/>
          </a:xfrm>
        </p:grpSpPr>
        <p:sp>
          <p:nvSpPr>
            <p:cNvPr id="178" name=""/>
            <p:cNvSpPr/>
            <p:nvPr/>
          </p:nvSpPr>
          <p:spPr>
            <a:xfrm>
              <a:off x="3686040" y="249228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6040" y="31125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686040" y="311220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41128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28954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线电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90988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超声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37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荧光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20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47242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“因为……所以……”说说蝙蝠和雷达之间的科学联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476280"/>
            <a:ext cx="777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08000"/>
                </a:solidFill>
                <a:latin typeface="Times New Roman"/>
                <a:ea typeface="楷体_GB2312"/>
              </a:rPr>
              <a:t>小结：科学家从蝙蝠探路的试验和研究得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启示</a:t>
            </a:r>
            <a:r>
              <a:rPr b="1" lang="zh-CN" sz="2800" spc="-1" strike="noStrike">
                <a:solidFill>
                  <a:srgbClr val="808000"/>
                </a:solidFill>
                <a:latin typeface="Times New Roman"/>
                <a:ea typeface="楷体_GB2312"/>
              </a:rPr>
              <a:t>，发明了雷达，这就是蝙蝠与雷达的联系，所以课题要用“和”来连接。</a:t>
            </a:r>
            <a:r>
              <a:rPr b="0" lang="zh-CN" sz="2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6668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启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254016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启发指示，使有所领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3429000"/>
            <a:ext cx="777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、查字典比较“试验”和“实验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4114800"/>
            <a:ext cx="820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试验：为了查看某事的结果或某物的性能而从事某种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4941720"/>
            <a:ext cx="8154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实验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为了检验某种科学理论或假设而进行某种操作或从事某种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01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447280" y="4876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4038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查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3254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还知道哪些东西也是受到动物特点的启发而发明的？向同学作介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826920" y="1839960"/>
            <a:ext cx="2297160" cy="180648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85800" y="3809880"/>
            <a:ext cx="2309760" cy="18147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3348000" y="1851120"/>
            <a:ext cx="2367000" cy="177624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348000" y="3836880"/>
            <a:ext cx="2519280" cy="18273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6019920" y="1762200"/>
            <a:ext cx="2819160" cy="18795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6172200" y="3784680"/>
            <a:ext cx="2514600" cy="180000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907920"/>
            <a:ext cx="8280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抄写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  避开  敏锐  模仿  超声波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碍物  荧光屏  横七竖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照样子把下面的句子补充完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漆黑的夜里，飞机怎么能安全飞行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原来是人们从蝙蝠身上得到了启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是星期一，学校里怎么一个学生也没有呢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外收集资料，说说事物之间有什么联系，又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联系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38088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  蝙蝠  避开 敏锐  模仿 捕捉 漆黑  超声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碍物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试验 铃铛 荧光屏 配合 探路 秘密 横七竖八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摹仿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研究 驾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4360" y="836640"/>
            <a:ext cx="7921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词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验    实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家经过反复（    ），终于揭开了蝙蝠能在夜间飞行的秘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识课上，老师为我们做了“火烧纸杯”的（   ），看得我们目瞪口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试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485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实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种类似于雷达的回声定位具体是怎么回事呢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原来，蝙蝠在飞行的时候，喉部内能够产生超声波，超声波通过口腔发射出来。当超声波遇到昆虫或障碍物而反射回来时，蝙蝠能够用耳朵接受，并能判断探测目标是昆虫还是障碍物，以及距离它有多远。人们通常把蝙蝠的这种探测目标的方式，叫做“回声定位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8576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蝙蝠在寻食、定向和飞行时发出的信号是由类似语言音素的超声波音素组成。蝙蝠必须在收到回声并分析出这种回声的振幅、频率、信号间隔等的声音特征后，才能决定下一步采取什么行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靠回声测距和定位的蝙蝠只发出一个简单的声音信号，这种信号通常是由一个或二个音素按一定规律反复地出现而组成的。当蝙蝠在飞行时，发出的信号被物体弹回，形成了根据物体性质不同而有不同声音特征的回声。然后蝙蝠在分析回声的频率、音调和声音间隔等声音特征后，决定物体的性质和位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461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蝙蝠大脑的不同部分能截获回声信号的不同成分。蝙蝠大脑中某些神经元对回声频率敏感，而另一些则对二个连续声音之间的时间间隔敏感。大脑各部分的共同协作使蝙蝠做出对反射物体性状的判断。蝙蝠用回声定位来捕捉昆虫的灵活性和准确性，是非常惊人的。有人统计，蝙蝠在几秒钟内就能捕捉到一只昆虫，一分钟可以捕捉十几只昆虫。同时，蝙蝠还有惊人的抗干扰能力，能从杂乱无章的充满噪声的回声中检测出某一特殊的声音，然后很快地分析和辨别这种声音，以区别反射音波的物体是昆虫还是石块，或者更精确地决定是可食昆虫，还是不可食昆虫。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只蝙蝠生活在同一个洞穴里时，也不会因为空间的超声波太多而互相干扰。蝙蝠回声定位的精确性和抗干扰能力，对于人们研究提高雷达的灵敏度和抗干扰能力，有重要的参考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010640" cy="26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蝙蝠的分辨能力也是惊人的。如有一种在热带生活、专吃鱼的食鱼蝠，常常在水面上飞行觅食。当它在水面上飞过时，就向水里发射超声波。尽管超声波遇到鱼体反射回来的信号非常微弱，但食鱼蝠仍能听到回声，并迅速降落到水面把鱼抓住。食鱼蝠的探测本领，引起了军事科学家的注意，他们想仿制出一种能在飞机上发现潜水艇的雷达，以准确地打击潜水艇。现在已经知道，许多农业害虫一听到蝙蝠的呼叫就会仓皇逃命，于是人们便想模仿蝙蝠的声音来驱赶害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47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根据蝙蝠超声定位器的原理，人们还仿制了盲人用的“探路仪”。这种探路仪内部装有一个超声波发射器，盲人带着它可以发现电杆、台阶、桥上的人等。如今，有类似作用的“超声眼镜”也已经研制成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116000" y="2133720"/>
            <a:ext cx="684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26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、蝙蝠和雷达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50920" y="404640"/>
            <a:ext cx="8642160" cy="56883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932360" y="404640"/>
            <a:ext cx="3960720" cy="309564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x0127</cp:lastModifiedBy>
  <dcterms:modified xsi:type="dcterms:W3CDTF">2013-02-05T14:26:11Z</dcterms:modified>
  <cp:revision>47</cp:revision>
  <dc:subject/>
  <dc:title>PowerPoint Presentation</dc:title>
</cp:coreProperties>
</file>