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8.png" ContentType="image/png"/>
  <Override PartName="/ppt/media/image38.jpeg" ContentType="image/jpeg"/>
  <Override PartName="/ppt/media/image27.png" ContentType="image/png"/>
  <Override PartName="/ppt/media/image24.gif" ContentType="image/gif"/>
  <Override PartName="/ppt/media/image17.png" ContentType="image/png"/>
  <Override PartName="/ppt/media/image32.jpeg" ContentType="image/jpeg"/>
  <Override PartName="/ppt/media/image23.gif" ContentType="image/gif"/>
  <Override PartName="/ppt/media/image16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19.png" ContentType="image/png"/>
  <Override PartName="/ppt/media/camera.wav" ContentType="audio/x-wav"/>
  <Override PartName="/ppt/media/image34.png" ContentType="image/png"/>
  <Override PartName="/ppt/media/image40.jpeg" ContentType="image/jpeg"/>
  <Override PartName="/ppt/media/image6.gif" ContentType="image/gif"/>
  <Override PartName="/ppt/media/image36.gif" ContentType="image/gif"/>
  <Override PartName="/ppt/media/image41.png" ContentType="image/png"/>
  <Override PartName="/ppt/media/image33.png" ContentType="image/png"/>
  <Override PartName="/ppt/media/image30.gif" ContentType="image/gif"/>
  <Override PartName="/ppt/media/image14.jpeg" ContentType="image/jpeg"/>
  <Override PartName="/ppt/media/image11.jpeg" ContentType="image/jpeg"/>
  <Override PartName="/ppt/media/image13.png" ContentType="image/png"/>
  <Override PartName="/ppt/media/image37.png" ContentType="image/png"/>
  <Override PartName="/ppt/media/image10.png" ContentType="image/png"/>
  <Override PartName="/ppt/media/image35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8.png" ContentType="image/png"/>
  <Override PartName="/ppt/media/image39.jpeg" ContentType="image/jpeg"/>
  <Override PartName="/ppt/media/image12.gif" ContentType="image/gif"/>
  <Override PartName="/ppt/media/image3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1.png" ContentType="image/png"/>
  <Override PartName="/ppt/media/image21.gif" ContentType="image/gif"/>
  <Override PartName="/ppt/media/image15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<Relationship Id="rId50" Type="http://schemas.openxmlformats.org/officeDocument/2006/relationships/commentAuthors" Target="commentAuthors.xml"/>
</Relationships>
</file>

<file path=ppt/comments/comment18.xml><?xml version="1.0" encoding="utf-8"?>
<p:cmLst xmlns:p="http://schemas.openxmlformats.org/presentationml/2006/main">
  <p:cm authorId="0" dt="2011-09-28T15:33:43.198000000" idx="1">
    <p:pos x="4066" y="110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D5C4-34D5-4B82-898E-B235D22C0A0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思考讨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解答第一题，引出第二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解答第四题，引出第五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解答第一题，引出第二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解答第一题，引出第二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解答第四题，引出第五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归纳小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导学达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0B12-5FCB-4241-8C61-D9F0FF432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0A78-C289-45D7-BF6C-F0D5E52B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B66-1E54-4C9F-B7D6-AFCA0434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107B-FCDF-4ACF-B626-7A381E2E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61A8-6D60-4108-B06F-A1EEC36A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CAF2-005A-4719-9A60-5F7E193C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4394-4CD6-425C-BA18-2FA3443F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4C4A-6A6D-4EE0-9F7E-AAE24DB0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C146-0913-4921-B79B-506ADD1B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0F2B-0302-446D-8A22-4E94C24C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F99-E0CE-442D-892A-FA038861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36D1-D45F-45CF-8BD9-FFA73AAD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66A8-311F-4774-959B-25FD38E142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2.xml"/><Relationship Id="rId8" Type="http://schemas.openxmlformats.org/officeDocument/2006/relationships/comments" Target="../comments/comment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" Target="slide20.xml"/><Relationship Id="rId4" Type="http://schemas.openxmlformats.org/officeDocument/2006/relationships/image" Target="../media/image22.jpeg"/><Relationship Id="rId5" Type="http://schemas.openxmlformats.org/officeDocument/2006/relationships/slide" Target="slide18.xml"/><Relationship Id="rId6" Type="http://schemas.openxmlformats.org/officeDocument/2006/relationships/image" Target="../media/image22.jpeg"/><Relationship Id="rId7" Type="http://schemas.openxmlformats.org/officeDocument/2006/relationships/slide" Target="slide19.xml"/><Relationship Id="rId8" Type="http://schemas.openxmlformats.org/officeDocument/2006/relationships/image" Target="../media/image22.jpeg"/><Relationship Id="rId9" Type="http://schemas.openxmlformats.org/officeDocument/2006/relationships/slide" Target="slide31.xml"/><Relationship Id="rId10" Type="http://schemas.openxmlformats.org/officeDocument/2006/relationships/image" Target="../media/image22.jpeg"/><Relationship Id="rId11" Type="http://schemas.openxmlformats.org/officeDocument/2006/relationships/slide" Target="slide21.xml"/><Relationship Id="rId12" Type="http://schemas.openxmlformats.org/officeDocument/2006/relationships/image" Target="../media/image22.jpeg"/><Relationship Id="rId13" Type="http://schemas.openxmlformats.org/officeDocument/2006/relationships/slide" Target="slide13.xml"/><Relationship Id="rId14" Type="http://schemas.openxmlformats.org/officeDocument/2006/relationships/image" Target="../media/image12.gif"/><Relationship Id="rId15" Type="http://schemas.openxmlformats.org/officeDocument/2006/relationships/image" Target="../media/image7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" Target="slide19.xml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23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jpeg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slide" Target="slide19.xml"/><Relationship Id="rId8" Type="http://schemas.openxmlformats.org/officeDocument/2006/relationships/image" Target="../media/image6.gif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2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2.jpeg"/><Relationship Id="rId3" Type="http://schemas.openxmlformats.org/officeDocument/2006/relationships/slide" Target="slide22.xml"/><Relationship Id="rId4" Type="http://schemas.openxmlformats.org/officeDocument/2006/relationships/image" Target="../media/image6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image" Target="../media/image3.jpeg"/><Relationship Id="rId6" Type="http://schemas.openxmlformats.org/officeDocument/2006/relationships/slide" Target="slide8.xml"/><Relationship Id="rId7" Type="http://schemas.openxmlformats.org/officeDocument/2006/relationships/image" Target="../media/image4.jpeg"/><Relationship Id="rId8" Type="http://schemas.openxmlformats.org/officeDocument/2006/relationships/slide" Target="slide7.xml"/><Relationship Id="rId9" Type="http://schemas.openxmlformats.org/officeDocument/2006/relationships/slide" Target="slide6.xml"/><Relationship Id="rId10" Type="http://schemas.openxmlformats.org/officeDocument/2006/relationships/image" Target="../media/image5.jpeg"/><Relationship Id="rId11" Type="http://schemas.openxmlformats.org/officeDocument/2006/relationships/slide" Target="slide6.xml"/><Relationship Id="rId12" Type="http://schemas.openxmlformats.org/officeDocument/2006/relationships/slide" Target="slide2.xml"/><Relationship Id="rId13" Type="http://schemas.openxmlformats.org/officeDocument/2006/relationships/image" Target="../media/image6.gif"/><Relationship Id="rId14" Type="http://schemas.openxmlformats.org/officeDocument/2006/relationships/image" Target="../media/image7.gif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1.gif"/><Relationship Id="rId3" Type="http://schemas.openxmlformats.org/officeDocument/2006/relationships/image" Target="../media/image22.jpeg"/><Relationship Id="rId4" Type="http://schemas.openxmlformats.org/officeDocument/2006/relationships/slide" Target="slide19.xml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2.jpeg"/><Relationship Id="rId3" Type="http://schemas.openxmlformats.org/officeDocument/2006/relationships/slide" Target="slide22.xml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.xml"/><Relationship Id="rId3" Type="http://schemas.openxmlformats.org/officeDocument/2006/relationships/image" Target="../media/image12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7.gif"/><Relationship Id="rId4" Type="http://schemas.openxmlformats.org/officeDocument/2006/relationships/slide" Target="slide13.xml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" Target="slide3.xml"/><Relationship Id="rId4" Type="http://schemas.openxmlformats.org/officeDocument/2006/relationships/image" Target="../media/image12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" Target="slide3.xml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" Target="slide3.xml"/><Relationship Id="rId4" Type="http://schemas.openxmlformats.org/officeDocument/2006/relationships/image" Target="../media/image12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68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45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088880" y="838080"/>
            <a:ext cx="45075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背影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8240" y="2438280"/>
            <a:ext cx="2618280" cy="34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朱自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1295280"/>
            <a:ext cx="861048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21404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621404"/>
                </a:solidFill>
                <a:latin typeface="黑体"/>
                <a:ea typeface="黑体"/>
              </a:rPr>
              <a:t>、正音练习：给加底线的词注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卸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）  奔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丧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）  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橘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晶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）  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腐（   ）  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琐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栏（   ）  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差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使（   ） 照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行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狼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）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帖（   ）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踌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唐（   ）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蹒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）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簌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拭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干（    ） 巨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箸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　　）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游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92520" y="4906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一、预习展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295280"/>
            <a:ext cx="9144000" cy="53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21404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621404"/>
                </a:solidFill>
                <a:latin typeface="黑体"/>
                <a:ea typeface="黑体"/>
              </a:rPr>
              <a:t>、正音练习：给加底线的词注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卸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xi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奔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丧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sāng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橘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j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晶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í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ng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腐（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yū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琐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suǒxi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栏（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zh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差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使（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chāi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照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行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狼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jí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帖（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tuǒ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踌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hóuch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唐（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tuí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蹒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pánshān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簌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拭干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shì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 巨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箸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zh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游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uà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6600"/>
                </a:solidFill>
                <a:latin typeface="Times New Roman"/>
              </a:rPr>
              <a:t>3</a:t>
            </a:r>
            <a:r>
              <a:rPr b="1" lang="zh-CN" sz="4500" spc="-1" strike="noStrike">
                <a:solidFill>
                  <a:srgbClr val="ff6600"/>
                </a:solidFill>
                <a:latin typeface="Times New Roman"/>
              </a:rPr>
              <a:t>、看意思说出相应的词语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63640" y="1125360"/>
            <a:ext cx="7848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乱七八糟的样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纷纷落下的样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凄惨暗淡，不景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失业在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短时间停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言行守旧，不合时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衰颓败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看到某种情况，心里感到悲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情积在心里不得发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小而繁多（的事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105264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狼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1628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簌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213372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惨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708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赋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321300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勾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371628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迂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4221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颓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797360"/>
            <a:ext cx="22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触目伤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37372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情郁于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587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琐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8244000" y="6237360"/>
            <a:ext cx="431640" cy="620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620640"/>
              <a:gd name="textAreaBottom" fmla="*/ 592920 h 620640"/>
            </a:gdLst>
            <a:ahLst/>
            <a:rect l="textAreaLeft" t="textAreaTop" r="textAreaRight" b="textAreaBottom"/>
            <a:pathLst>
              <a:path w="21600" h="31050">
                <a:moveTo>
                  <a:pt x="0" y="0"/>
                </a:moveTo>
                <a:lnTo>
                  <a:pt x="21600" y="0"/>
                </a:lnTo>
                <a:lnTo>
                  <a:pt x="21600" y="31050"/>
                </a:lnTo>
                <a:lnTo>
                  <a:pt x="0" y="31050"/>
                </a:lnTo>
                <a:close/>
              </a:path>
              <a:path fill="lightenLess" w="21600" h="310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050">
                <a:moveTo>
                  <a:pt x="21600" y="0"/>
                </a:moveTo>
                <a:lnTo>
                  <a:pt x="21600" y="31050"/>
                </a:lnTo>
                <a:lnTo>
                  <a:pt x="20200" y="29650"/>
                </a:lnTo>
                <a:lnTo>
                  <a:pt x="20200" y="1400"/>
                </a:lnTo>
                <a:close/>
              </a:path>
              <a:path fill="darkenLess" w="21600" h="31050">
                <a:moveTo>
                  <a:pt x="21600" y="31050"/>
                </a:moveTo>
                <a:lnTo>
                  <a:pt x="0" y="31050"/>
                </a:lnTo>
                <a:lnTo>
                  <a:pt x="1400" y="29650"/>
                </a:lnTo>
                <a:lnTo>
                  <a:pt x="20200" y="29650"/>
                </a:lnTo>
                <a:close/>
              </a:path>
              <a:path fill="lighten" w="21600" h="31050">
                <a:moveTo>
                  <a:pt x="0" y="310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9650"/>
                </a:lnTo>
                <a:close/>
              </a:path>
              <a:path fill="darken" w="21600" h="31050">
                <a:moveTo>
                  <a:pt x="7301" y="15525"/>
                </a:moveTo>
                <a:lnTo>
                  <a:pt x="17806" y="8519"/>
                </a:lnTo>
                <a:lnTo>
                  <a:pt x="17806" y="22531"/>
                </a:lnTo>
                <a:close/>
              </a:path>
              <a:path fill="darken" w="21600" h="31050">
                <a:moveTo>
                  <a:pt x="3794" y="8519"/>
                </a:moveTo>
                <a:lnTo>
                  <a:pt x="5456" y="8519"/>
                </a:lnTo>
                <a:lnTo>
                  <a:pt x="5456" y="22531"/>
                </a:lnTo>
                <a:lnTo>
                  <a:pt x="3794" y="22531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4920" y="297000"/>
            <a:ext cx="8839080" cy="73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牢记下列成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祸不单行            变卖典质              触目伤怀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情不自已            情郁于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解释下列词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狼藉    簌簌    赋闲    踌躇    迂    蹒跚  琐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颓唐    祸不单行      变卖典质         触目伤怀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情不自已            情郁于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68360" y="2349360"/>
            <a:ext cx="6714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1371600"/>
            <a:ext cx="82296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听名家朗读，</a:t>
            </a:r>
            <a:r>
              <a:rPr b="1" lang="zh-CN" sz="3200" spc="-1" strike="noStrike">
                <a:solidFill>
                  <a:srgbClr val="b74e07"/>
                </a:solidFill>
                <a:latin typeface="Times New Roman"/>
              </a:rPr>
              <a:t>用下列符号进行圈点批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522360"/>
            <a:ext cx="4681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Tahoma"/>
                <a:ea typeface="黑体"/>
              </a:rPr>
              <a:t>听一听，品一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2262240"/>
            <a:ext cx="6781680" cy="381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能理解的词语用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横线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认为用得好的用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方框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关键语句（或写得好的语句）用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波浪线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疑问的地方，用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括号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问号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304920"/>
            <a:ext cx="914400" cy="91440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195640" y="5950080"/>
            <a:ext cx="27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20640"/>
            <a:ext cx="9144000" cy="577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734080"/>
            <a:ext cx="914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-7920" y="6165720"/>
            <a:ext cx="9151920" cy="132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-36360" y="-674640"/>
            <a:ext cx="9180360" cy="132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300880" y="6190920"/>
            <a:ext cx="830520" cy="457920"/>
          </a:xfrm>
          <a:custGeom>
            <a:avLst/>
            <a:gdLst>
              <a:gd name="textAreaLeft" fmla="*/ 29520 w 830520"/>
              <a:gd name="textAreaRight" fmla="*/ 801000 w 83052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62" h="21600">
                <a:moveTo>
                  <a:pt x="0" y="0"/>
                </a:moveTo>
                <a:lnTo>
                  <a:pt x="39162" y="0"/>
                </a:lnTo>
                <a:lnTo>
                  <a:pt x="39162" y="21600"/>
                </a:lnTo>
                <a:lnTo>
                  <a:pt x="0" y="21600"/>
                </a:lnTo>
                <a:close/>
              </a:path>
              <a:path fill="lightenLess" w="39162" h="21600">
                <a:moveTo>
                  <a:pt x="0" y="0"/>
                </a:moveTo>
                <a:lnTo>
                  <a:pt x="39162" y="0"/>
                </a:lnTo>
                <a:lnTo>
                  <a:pt x="37762" y="1400"/>
                </a:lnTo>
                <a:lnTo>
                  <a:pt x="1400" y="1400"/>
                </a:lnTo>
                <a:close/>
              </a:path>
              <a:path fill="darken" w="39162" h="21600">
                <a:moveTo>
                  <a:pt x="39162" y="0"/>
                </a:moveTo>
                <a:lnTo>
                  <a:pt x="39162" y="21600"/>
                </a:lnTo>
                <a:lnTo>
                  <a:pt x="37762" y="20200"/>
                </a:lnTo>
                <a:lnTo>
                  <a:pt x="37762" y="1400"/>
                </a:lnTo>
                <a:close/>
              </a:path>
              <a:path fill="darkenLess" w="39162" h="21600">
                <a:moveTo>
                  <a:pt x="39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62" y="20200"/>
                </a:lnTo>
                <a:close/>
              </a:path>
              <a:path fill="lighten" w="39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920" y="838080"/>
            <a:ext cx="1008000" cy="1511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50920" y="2565360"/>
            <a:ext cx="72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隶书"/>
              </a:rPr>
              <a:t>整体感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88200" y="620640"/>
            <a:ext cx="1335960" cy="5545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8000" y="1633680"/>
            <a:ext cx="8763120" cy="25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《背影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一篇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　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现父亲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         　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84720" y="242100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回忆散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343548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爱子之情 （主题）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01920" y="1062000"/>
            <a:ext cx="519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内容理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620640"/>
            <a:ext cx="9144000" cy="577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7920" y="6165720"/>
            <a:ext cx="9151920" cy="132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36360" y="-674640"/>
            <a:ext cx="9180360" cy="132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8300880" y="6190920"/>
            <a:ext cx="830520" cy="457920"/>
          </a:xfrm>
          <a:custGeom>
            <a:avLst/>
            <a:gdLst>
              <a:gd name="textAreaLeft" fmla="*/ 29520 w 830520"/>
              <a:gd name="textAreaRight" fmla="*/ 801000 w 83052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62" h="21600">
                <a:moveTo>
                  <a:pt x="0" y="0"/>
                </a:moveTo>
                <a:lnTo>
                  <a:pt x="39162" y="0"/>
                </a:lnTo>
                <a:lnTo>
                  <a:pt x="39162" y="21600"/>
                </a:lnTo>
                <a:lnTo>
                  <a:pt x="0" y="21600"/>
                </a:lnTo>
                <a:close/>
              </a:path>
              <a:path fill="lightenLess" w="39162" h="21600">
                <a:moveTo>
                  <a:pt x="0" y="0"/>
                </a:moveTo>
                <a:lnTo>
                  <a:pt x="39162" y="0"/>
                </a:lnTo>
                <a:lnTo>
                  <a:pt x="37762" y="1400"/>
                </a:lnTo>
                <a:lnTo>
                  <a:pt x="1400" y="1400"/>
                </a:lnTo>
                <a:close/>
              </a:path>
              <a:path fill="darken" w="39162" h="21600">
                <a:moveTo>
                  <a:pt x="39162" y="0"/>
                </a:moveTo>
                <a:lnTo>
                  <a:pt x="39162" y="21600"/>
                </a:lnTo>
                <a:lnTo>
                  <a:pt x="37762" y="20200"/>
                </a:lnTo>
                <a:lnTo>
                  <a:pt x="37762" y="1400"/>
                </a:lnTo>
                <a:close/>
              </a:path>
              <a:path fill="darkenLess" w="39162" h="21600">
                <a:moveTo>
                  <a:pt x="39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62" y="20200"/>
                </a:lnTo>
                <a:close/>
              </a:path>
              <a:path fill="lighten" w="39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50920" y="838080"/>
            <a:ext cx="1008000" cy="1511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50920" y="2565360"/>
            <a:ext cx="72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隶书"/>
              </a:rPr>
              <a:t>寻找背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88200" y="620640"/>
            <a:ext cx="1335960" cy="5545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49200" y="692280"/>
            <a:ext cx="7570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本文共有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几次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写到“背影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52720" y="14842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共有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四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3280" y="2060640"/>
            <a:ext cx="7561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四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背影”各出现在课文什么地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32000" y="2852640"/>
            <a:ext cx="795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第一次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开头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，“最不能忘记的是他的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背影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第二次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浦口车站送别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时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父亲去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买橘子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背影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第三次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车门话别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，望着父亲的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背影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混入来来往往的人群里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第四次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结尾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，“在晶莹的泪光中，又看见那肥胖的、青布棉袍黑布马褂的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背影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206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、关键点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95640" y="5950080"/>
            <a:ext cx="27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20640"/>
            <a:ext cx="9144000" cy="577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7920" y="6165720"/>
            <a:ext cx="9151920" cy="132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36360" y="-674640"/>
            <a:ext cx="9180360" cy="132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8300880" y="6190920"/>
            <a:ext cx="830520" cy="457920"/>
          </a:xfrm>
          <a:custGeom>
            <a:avLst/>
            <a:gdLst>
              <a:gd name="textAreaLeft" fmla="*/ 29520 w 830520"/>
              <a:gd name="textAreaRight" fmla="*/ 801000 w 83052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62" h="21600">
                <a:moveTo>
                  <a:pt x="0" y="0"/>
                </a:moveTo>
                <a:lnTo>
                  <a:pt x="39162" y="0"/>
                </a:lnTo>
                <a:lnTo>
                  <a:pt x="39162" y="21600"/>
                </a:lnTo>
                <a:lnTo>
                  <a:pt x="0" y="21600"/>
                </a:lnTo>
                <a:close/>
              </a:path>
              <a:path fill="lightenLess" w="39162" h="21600">
                <a:moveTo>
                  <a:pt x="0" y="0"/>
                </a:moveTo>
                <a:lnTo>
                  <a:pt x="39162" y="0"/>
                </a:lnTo>
                <a:lnTo>
                  <a:pt x="37762" y="1400"/>
                </a:lnTo>
                <a:lnTo>
                  <a:pt x="1400" y="1400"/>
                </a:lnTo>
                <a:close/>
              </a:path>
              <a:path fill="darken" w="39162" h="21600">
                <a:moveTo>
                  <a:pt x="39162" y="0"/>
                </a:moveTo>
                <a:lnTo>
                  <a:pt x="39162" y="21600"/>
                </a:lnTo>
                <a:lnTo>
                  <a:pt x="37762" y="20200"/>
                </a:lnTo>
                <a:lnTo>
                  <a:pt x="37762" y="1400"/>
                </a:lnTo>
                <a:close/>
              </a:path>
              <a:path fill="darkenLess" w="39162" h="21600">
                <a:moveTo>
                  <a:pt x="39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62" y="20200"/>
                </a:lnTo>
                <a:close/>
              </a:path>
              <a:path fill="lighten" w="39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0920" y="838080"/>
            <a:ext cx="1008000" cy="1511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0920" y="2565360"/>
            <a:ext cx="72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隶书"/>
              </a:rPr>
              <a:t>寻找背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88200" y="620640"/>
            <a:ext cx="1335960" cy="5545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03280" y="1700280"/>
            <a:ext cx="68407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难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背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~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刻画、惜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背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再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背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7120" y="476280"/>
            <a:ext cx="7365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四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背影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理清结构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找出线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1628640"/>
            <a:ext cx="5473440" cy="31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点题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开门见山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前后照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288320" y="1700280"/>
            <a:ext cx="667800" cy="3600360"/>
            <a:chOff x="4288320" y="1700280"/>
            <a:chExt cx="667800" cy="3600360"/>
          </a:xfrm>
        </p:grpSpPr>
        <p:sp>
          <p:nvSpPr>
            <p:cNvPr id="158" name=""/>
            <p:cNvSpPr/>
            <p:nvPr/>
          </p:nvSpPr>
          <p:spPr>
            <a:xfrm>
              <a:off x="4572000" y="1700280"/>
              <a:ext cx="46080" cy="360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88320" y="2708280"/>
              <a:ext cx="667800" cy="25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线    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 flipH="1" rot="10800000">
            <a:off x="304920" y="114228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380880" y="152388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请找出本文的文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5" action="ppaction://hlinksldjump"/>
          </p:cNvPr>
          <p:cNvSpPr/>
          <p:nvPr/>
        </p:nvSpPr>
        <p:spPr>
          <a:xfrm>
            <a:off x="380880" y="2438280"/>
            <a:ext cx="8458200" cy="99072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文中一共写了父亲几个背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7" action="ppaction://hlinksldjump"/>
          </p:cNvPr>
          <p:cNvSpPr/>
          <p:nvPr/>
        </p:nvSpPr>
        <p:spPr>
          <a:xfrm>
            <a:off x="304920" y="358128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送行过程中父亲为儿子做了哪些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9" action="ppaction://hlinksldjump"/>
          </p:cNvPr>
          <p:cNvSpPr/>
          <p:nvPr/>
        </p:nvSpPr>
        <p:spPr>
          <a:xfrm>
            <a:off x="304920" y="4495680"/>
            <a:ext cx="8534160" cy="121932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请找出父亲送儿子上车的过程说的四句话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并体会它所含的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11" action="ppaction://hlinksldjump"/>
          </p:cNvPr>
          <p:cNvSpPr/>
          <p:nvPr/>
        </p:nvSpPr>
        <p:spPr>
          <a:xfrm>
            <a:off x="380880" y="586728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1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课文写了“我”几次流泪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543800" y="228600"/>
            <a:ext cx="1371600" cy="563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" action="ppaction://hlinkshowjump?jump=previousslide"/>
          </p:cNvPr>
          <p:cNvPicPr/>
          <p:nvPr/>
        </p:nvPicPr>
        <p:blipFill>
          <a:blip r:embed="rId15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33336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9280" y="1484280"/>
            <a:ext cx="7885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有感情地朗读课文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体会文章蕴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的思想感情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学习本文抓住人物特征刻画人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的方法品味简洁朴实的语言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珍爱亲情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增进与父母的沟通与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流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培养中华民族传统美德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8172360" y="6291360"/>
            <a:ext cx="647640" cy="566640"/>
          </a:xfrm>
          <a:custGeom>
            <a:avLst/>
            <a:gdLst>
              <a:gd name="textAreaLeft" fmla="*/ 36720 w 647640"/>
              <a:gd name="textAreaRight" fmla="*/ 610920 w 647640"/>
              <a:gd name="textAreaTop" fmla="*/ 36720 h 566640"/>
              <a:gd name="textAreaBottom" fmla="*/ 529920 h 566640"/>
            </a:gdLst>
            <a:ahLst/>
            <a:rect l="textAreaLeft" t="textAreaTop" r="textAreaRight" b="textAreaBottom"/>
            <a:pathLst>
              <a:path w="24686" h="21600">
                <a:moveTo>
                  <a:pt x="0" y="0"/>
                </a:moveTo>
                <a:lnTo>
                  <a:pt x="24686" y="0"/>
                </a:lnTo>
                <a:lnTo>
                  <a:pt x="24686" y="21600"/>
                </a:lnTo>
                <a:lnTo>
                  <a:pt x="0" y="21600"/>
                </a:lnTo>
                <a:close/>
              </a:path>
              <a:path fill="lightenLess" w="24686" h="21600">
                <a:moveTo>
                  <a:pt x="0" y="0"/>
                </a:moveTo>
                <a:lnTo>
                  <a:pt x="24686" y="0"/>
                </a:lnTo>
                <a:lnTo>
                  <a:pt x="23286" y="1400"/>
                </a:lnTo>
                <a:lnTo>
                  <a:pt x="1400" y="1400"/>
                </a:lnTo>
                <a:close/>
              </a:path>
              <a:path fill="darken" w="24686" h="21600">
                <a:moveTo>
                  <a:pt x="24686" y="0"/>
                </a:moveTo>
                <a:lnTo>
                  <a:pt x="24686" y="21600"/>
                </a:lnTo>
                <a:lnTo>
                  <a:pt x="23286" y="20200"/>
                </a:lnTo>
                <a:lnTo>
                  <a:pt x="23286" y="1400"/>
                </a:lnTo>
                <a:close/>
              </a:path>
              <a:path fill="darkenLess" w="24686" h="21600">
                <a:moveTo>
                  <a:pt x="246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6" y="20200"/>
                </a:lnTo>
                <a:close/>
              </a:path>
              <a:path fill="lighten" w="246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6" h="21600">
                <a:moveTo>
                  <a:pt x="8844" y="10800"/>
                </a:moveTo>
                <a:lnTo>
                  <a:pt x="19349" y="3794"/>
                </a:lnTo>
                <a:lnTo>
                  <a:pt x="19349" y="17806"/>
                </a:lnTo>
                <a:close/>
              </a:path>
              <a:path fill="darken" w="24686" h="21600">
                <a:moveTo>
                  <a:pt x="5336" y="3794"/>
                </a:moveTo>
                <a:lnTo>
                  <a:pt x="6999" y="3794"/>
                </a:lnTo>
                <a:lnTo>
                  <a:pt x="6999" y="17806"/>
                </a:lnTo>
                <a:lnTo>
                  <a:pt x="533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 flipH="1" rot="10800000">
            <a:off x="304920" y="114228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219320" y="29718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ff"/>
                </a:solidFill>
                <a:latin typeface="黑体"/>
                <a:ea typeface="黑体"/>
              </a:rPr>
              <a:t>我最不能忘记的是他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52388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请找出本文的文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0120" y="594360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2590920" y="35053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 flipH="1" rot="10800000">
            <a:off x="304920" y="114228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80880" y="1523880"/>
            <a:ext cx="9015480" cy="7621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文中一共写了父亲几个背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251460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ccff"/>
              </a:gs>
              <a:gs pos="100000">
                <a:srgbClr val="b2b2b2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96080" y="2514600"/>
            <a:ext cx="106704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ccff"/>
              </a:gs>
              <a:gs pos="100000">
                <a:srgbClr val="b2b2b2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251460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ccff"/>
              </a:gs>
              <a:gs pos="100000">
                <a:srgbClr val="b2b2b2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251460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ccff"/>
              </a:gs>
              <a:gs pos="100000">
                <a:srgbClr val="b2b2b2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思念父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66880" y="5653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望父买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父子分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67480" y="5653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别后怀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1905120" y="5791320"/>
            <a:ext cx="1295280" cy="2635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4267080" y="5791320"/>
            <a:ext cx="1295640" cy="2635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6781680" y="5791320"/>
            <a:ext cx="1295640" cy="2635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848720" y="617220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 flipH="1" rot="10800000">
            <a:off x="304920" y="114228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371600" y="47242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望父买橘所见背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1523880"/>
            <a:ext cx="8458200" cy="2286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哪一个背影给你印象最深且最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你感动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为什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7620120" y="594360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0" y="1341360"/>
          <a:ext cx="2843280" cy="55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284328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324000" y="3333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朗读与欣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43280" y="1273320"/>
            <a:ext cx="63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看见他戴着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穿着黑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布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深青布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走到铁道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慢慢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身下去，尚不大难。可是他穿过铁道 ，要爬上那边月台 ，就不容易了 。他用两手 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着上面 ，两脚再向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他肥胖的身子向左微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显出努力的样子，这时我看见他的背影 ，我的泪很快地流下来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08720" y="1320840"/>
            <a:ext cx="21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黑布小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1844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大马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2000" y="184464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棉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48360" y="1844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蹒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42440" y="4076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67880" y="5013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8388360" y="6381720"/>
            <a:ext cx="504720" cy="28728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28" h="21600">
                <a:moveTo>
                  <a:pt x="0" y="0"/>
                </a:moveTo>
                <a:lnTo>
                  <a:pt x="37928" y="0"/>
                </a:lnTo>
                <a:lnTo>
                  <a:pt x="37928" y="21600"/>
                </a:lnTo>
                <a:lnTo>
                  <a:pt x="0" y="21600"/>
                </a:lnTo>
                <a:close/>
              </a:path>
              <a:path fill="lightenLess" w="37928" h="21600">
                <a:moveTo>
                  <a:pt x="0" y="0"/>
                </a:moveTo>
                <a:lnTo>
                  <a:pt x="37928" y="0"/>
                </a:lnTo>
                <a:lnTo>
                  <a:pt x="36528" y="1400"/>
                </a:lnTo>
                <a:lnTo>
                  <a:pt x="1400" y="1400"/>
                </a:lnTo>
                <a:close/>
              </a:path>
              <a:path fill="darken" w="37928" h="21600">
                <a:moveTo>
                  <a:pt x="37928" y="0"/>
                </a:moveTo>
                <a:lnTo>
                  <a:pt x="37928" y="21600"/>
                </a:lnTo>
                <a:lnTo>
                  <a:pt x="36528" y="20200"/>
                </a:lnTo>
                <a:lnTo>
                  <a:pt x="36528" y="1400"/>
                </a:lnTo>
                <a:close/>
              </a:path>
              <a:path fill="darkenLess" w="37928" h="21600">
                <a:moveTo>
                  <a:pt x="37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28" y="20200"/>
                </a:lnTo>
                <a:close/>
              </a:path>
              <a:path fill="lighten" w="37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28" h="21600">
                <a:moveTo>
                  <a:pt x="11958" y="3794"/>
                </a:moveTo>
                <a:lnTo>
                  <a:pt x="25971" y="10800"/>
                </a:lnTo>
                <a:lnTo>
                  <a:pt x="11958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24360" y="234936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93080" y="4508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804000" cy="479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"/>
          <p:cNvGraphicFramePr/>
          <p:nvPr/>
        </p:nvGraphicFramePr>
        <p:xfrm>
          <a:off x="3564000" y="3357720"/>
          <a:ext cx="5580000" cy="35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357720"/>
                    <a:ext cx="558000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79280" y="5013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望父买橘所见背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04000" y="260280"/>
            <a:ext cx="234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用两手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着上面 ，两脚再向上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他的肥胖身子向左微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显出努力的样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5950080"/>
            <a:ext cx="349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父之爱的缩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nextslide"/>
          </p:cNvPr>
          <p:cNvSpPr/>
          <p:nvPr/>
        </p:nvSpPr>
        <p:spPr>
          <a:xfrm>
            <a:off x="8532720" y="638172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7352"/>
                </a:moveTo>
                <a:lnTo>
                  <a:pt x="17806" y="14358"/>
                </a:lnTo>
                <a:lnTo>
                  <a:pt x="3794" y="21365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95280" y="333360"/>
            <a:ext cx="374328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思考讨论一</a:t>
            </a: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:</a:t>
            </a: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父疼子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2205000"/>
            <a:ext cx="309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父亲的穿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走路的姿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爬月台动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48000" y="220500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黑、深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56360" y="213372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穿着朴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心情沉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3809880"/>
            <a:ext cx="18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蹒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00720" y="364500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年纪较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腿脚不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64000" y="551664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攀缩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84720" y="522936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行动不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步履艰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8000" y="1052640"/>
            <a:ext cx="56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cc"/>
                </a:solidFill>
                <a:latin typeface="Arial"/>
              </a:rPr>
              <a:t>月台买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287280" cy="360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60360"/>
              <a:gd name="textAreaBottom" fmla="*/ 342000 h 360360"/>
            </a:gdLst>
            <a:ahLst/>
            <a:rect l="textAreaLeft" t="textAreaTop" r="textAreaRight" b="textAreaBottom"/>
            <a:pathLst>
              <a:path w="21600" h="27088">
                <a:moveTo>
                  <a:pt x="0" y="0"/>
                </a:moveTo>
                <a:lnTo>
                  <a:pt x="21600" y="0"/>
                </a:lnTo>
                <a:lnTo>
                  <a:pt x="21600" y="27088"/>
                </a:lnTo>
                <a:lnTo>
                  <a:pt x="0" y="27088"/>
                </a:lnTo>
                <a:close/>
              </a:path>
              <a:path fill="lightenLess" w="21600" h="27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88">
                <a:moveTo>
                  <a:pt x="21600" y="0"/>
                </a:moveTo>
                <a:lnTo>
                  <a:pt x="21600" y="27088"/>
                </a:lnTo>
                <a:lnTo>
                  <a:pt x="20200" y="25688"/>
                </a:lnTo>
                <a:lnTo>
                  <a:pt x="20200" y="1400"/>
                </a:lnTo>
                <a:close/>
              </a:path>
              <a:path fill="darkenLess" w="21600" h="27088">
                <a:moveTo>
                  <a:pt x="21600" y="27088"/>
                </a:moveTo>
                <a:lnTo>
                  <a:pt x="0" y="27088"/>
                </a:lnTo>
                <a:lnTo>
                  <a:pt x="1400" y="25688"/>
                </a:lnTo>
                <a:lnTo>
                  <a:pt x="20200" y="25688"/>
                </a:lnTo>
                <a:close/>
              </a:path>
              <a:path fill="lighten" w="21600" h="27088">
                <a:moveTo>
                  <a:pt x="0" y="27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88"/>
                </a:lnTo>
                <a:close/>
              </a:path>
              <a:path fill="darken" w="21600" h="27088">
                <a:moveTo>
                  <a:pt x="3794" y="6537"/>
                </a:moveTo>
                <a:lnTo>
                  <a:pt x="17806" y="13544"/>
                </a:lnTo>
                <a:lnTo>
                  <a:pt x="3794" y="2055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71600" y="11430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609480"/>
            <a:ext cx="12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ahoma"/>
              </a:rPr>
              <a:t>攀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48720" y="2819520"/>
            <a:ext cx="12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Tahoma"/>
                <a:ea typeface="华文中宋"/>
              </a:rPr>
              <a:t>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8720" y="495288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ahoma"/>
              </a:rPr>
              <a:t>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68360" y="260280"/>
            <a:ext cx="374328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思考讨论一</a:t>
            </a: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:</a:t>
            </a: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父疼子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066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、在送行过程中父亲为儿子做了哪些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35280" y="1844640"/>
            <a:ext cx="667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亲自送行        照看行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讲定价钱        送子上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拣定座位        叮嘱儿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嘱咐茶房        为子买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547640" y="5516640"/>
            <a:ext cx="532944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细心关照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,</a:t>
            </a: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隶书"/>
              </a:rPr>
              <a:t>周到入微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172360" y="6308640"/>
            <a:ext cx="360360" cy="549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49360"/>
              <a:gd name="textAreaBottom" fmla="*/ 526320 h 549360"/>
            </a:gdLst>
            <a:ahLst/>
            <a:rect l="textAreaLeft" t="textAreaTop" r="textAreaRight" b="textAreaBottom"/>
            <a:pathLst>
              <a:path w="21600" h="32917">
                <a:moveTo>
                  <a:pt x="0" y="0"/>
                </a:moveTo>
                <a:lnTo>
                  <a:pt x="21600" y="0"/>
                </a:lnTo>
                <a:lnTo>
                  <a:pt x="21600" y="32917"/>
                </a:lnTo>
                <a:lnTo>
                  <a:pt x="0" y="32917"/>
                </a:lnTo>
                <a:close/>
              </a:path>
              <a:path fill="lightenLess" w="21600" h="329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917">
                <a:moveTo>
                  <a:pt x="21600" y="0"/>
                </a:moveTo>
                <a:lnTo>
                  <a:pt x="21600" y="32917"/>
                </a:lnTo>
                <a:lnTo>
                  <a:pt x="20200" y="31517"/>
                </a:lnTo>
                <a:lnTo>
                  <a:pt x="20200" y="1400"/>
                </a:lnTo>
                <a:close/>
              </a:path>
              <a:path fill="darkenLess" w="21600" h="32917">
                <a:moveTo>
                  <a:pt x="21600" y="32917"/>
                </a:moveTo>
                <a:lnTo>
                  <a:pt x="0" y="32917"/>
                </a:lnTo>
                <a:lnTo>
                  <a:pt x="1400" y="31517"/>
                </a:lnTo>
                <a:lnTo>
                  <a:pt x="20200" y="31517"/>
                </a:lnTo>
                <a:close/>
              </a:path>
              <a:path fill="lighten" w="21600" h="32917">
                <a:moveTo>
                  <a:pt x="0" y="32917"/>
                </a:moveTo>
                <a:lnTo>
                  <a:pt x="0" y="0"/>
                </a:lnTo>
                <a:lnTo>
                  <a:pt x="1400" y="1400"/>
                </a:lnTo>
                <a:lnTo>
                  <a:pt x="1400" y="31517"/>
                </a:lnTo>
                <a:close/>
              </a:path>
              <a:path fill="darken" w="21600" h="32917">
                <a:moveTo>
                  <a:pt x="3794" y="9452"/>
                </a:moveTo>
                <a:lnTo>
                  <a:pt x="17806" y="16459"/>
                </a:lnTo>
                <a:lnTo>
                  <a:pt x="3794" y="23465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 flipH="1" rot="10800000">
            <a:off x="304920" y="114228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371600" y="47242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语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1523880"/>
            <a:ext cx="8458200" cy="2286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父亲对儿子的关怀，除进行了外貌和动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写以外，还用什么描写方式表达这种关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7620120" y="594360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066680" y="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导学达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0" y="0"/>
            <a:ext cx="9009000" cy="1052640"/>
            <a:chOff x="0" y="0"/>
            <a:chExt cx="9009000" cy="1052640"/>
          </a:xfrm>
        </p:grpSpPr>
        <p:grpSp>
          <p:nvGrpSpPr>
            <p:cNvPr id="249" name=""/>
            <p:cNvGrpSpPr/>
            <p:nvPr/>
          </p:nvGrpSpPr>
          <p:grpSpPr>
            <a:xfrm>
              <a:off x="290520" y="108000"/>
              <a:ext cx="711360" cy="474840"/>
              <a:chOff x="290520" y="108000"/>
              <a:chExt cx="711360" cy="474840"/>
            </a:xfrm>
          </p:grpSpPr>
          <p:sp>
            <p:nvSpPr>
              <p:cNvPr id="250" name=""/>
              <p:cNvSpPr/>
              <p:nvPr/>
            </p:nvSpPr>
            <p:spPr>
              <a:xfrm>
                <a:off x="290520" y="108000"/>
                <a:ext cx="437400" cy="474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73560" y="1080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14360" y="530280"/>
              <a:ext cx="737640" cy="474840"/>
              <a:chOff x="414360" y="530280"/>
              <a:chExt cx="737640" cy="474840"/>
            </a:xfrm>
          </p:grpSpPr>
          <p:sp>
            <p:nvSpPr>
              <p:cNvPr id="253" name=""/>
              <p:cNvSpPr/>
              <p:nvPr/>
            </p:nvSpPr>
            <p:spPr>
              <a:xfrm>
                <a:off x="414360" y="53028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83000" y="5302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0" y="4572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5040" y="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16080" y="8222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04920" y="1143000"/>
            <a:ext cx="8458200" cy="14479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请找出父亲送儿子上车的过程说的四句话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并体会它所含的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96080" y="5867280"/>
            <a:ext cx="1143000" cy="685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90720" y="26668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要紧，他们去不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3276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买几个橘子去，你就在此地，不要走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38862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走了，到那边来信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4572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去吧，里边没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457200" y="2819520"/>
            <a:ext cx="625320" cy="3348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457200" y="3505320"/>
            <a:ext cx="625320" cy="3348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457200" y="4191120"/>
            <a:ext cx="625320" cy="3348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8"/>
          <a:stretch/>
        </p:blipFill>
        <p:spPr>
          <a:xfrm>
            <a:off x="457200" y="4800600"/>
            <a:ext cx="625320" cy="3348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315200" y="2514600"/>
            <a:ext cx="1219320" cy="14479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8683" y="209"/>
                </a:moveTo>
                <a:arcTo wR="-10800" hR="-10800" stAng="-6078223" swAng="-11585606"/>
                <a:lnTo>
                  <a:pt x="6339" y="964"/>
                </a:lnTo>
                <a:arcTo wR="10800" hR="10800" stAng="-6863828" swAng="11585606"/>
                <a:lnTo>
                  <a:pt x="13446" y="24038"/>
                </a:lnTo>
                <a:lnTo>
                  <a:pt x="10269" y="21920"/>
                </a:lnTo>
                <a:lnTo>
                  <a:pt x="12388" y="18743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73040" y="5486400"/>
            <a:ext cx="505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ff"/>
                </a:solidFill>
                <a:latin typeface="Arial"/>
                <a:ea typeface="华文彩云"/>
              </a:rPr>
              <a:t>怜惜体贴，　依依不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95280" y="304920"/>
            <a:ext cx="7309080" cy="15238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爱国学者朱自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4343400" y="3581280"/>
            <a:ext cx="685800" cy="289584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2895840"/>
              <a:gd name="textAreaBottom" fmla="*/ 2862360 h 2895840"/>
            </a:gdLst>
            <a:ahLst/>
            <a:rect l="textAreaLeft" t="textAreaTop" r="textAreaRight" b="textAreaBottom"/>
            <a:pathLst>
              <a:path w="21600" h="91171">
                <a:moveTo>
                  <a:pt x="3600" y="0"/>
                </a:moveTo>
                <a:arcTo wR="3600" hR="3600" stAng="16200000" swAng="-5400000"/>
                <a:lnTo>
                  <a:pt x="0" y="87571"/>
                </a:lnTo>
                <a:arcTo wR="3600" hR="3600" stAng="10800000" swAng="-5400000"/>
                <a:lnTo>
                  <a:pt x="18000" y="911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3" action="ppaction://hlinksldjump"/>
          </p:cNvPr>
          <p:cNvSpPr/>
          <p:nvPr/>
        </p:nvSpPr>
        <p:spPr>
          <a:xfrm>
            <a:off x="2438280" y="3581280"/>
            <a:ext cx="1143000" cy="289584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895840"/>
              <a:gd name="textAreaBottom" fmla="*/ 2840040 h 2895840"/>
            </a:gdLst>
            <a:ahLst/>
            <a:rect l="textAreaLeft" t="textAreaTop" r="textAreaRight" b="textAreaBottom"/>
            <a:pathLst>
              <a:path w="21600" h="54714">
                <a:moveTo>
                  <a:pt x="3600" y="0"/>
                </a:moveTo>
                <a:arcTo wR="3600" hR="3600" stAng="16200000" swAng="-5400000"/>
                <a:lnTo>
                  <a:pt x="0" y="51114"/>
                </a:lnTo>
                <a:arcTo wR="3600" hR="3600" stAng="10800000" swAng="-5400000"/>
                <a:lnTo>
                  <a:pt x="18000" y="547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0880" y="3657600"/>
            <a:ext cx="2062440" cy="27147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5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029200" y="3581280"/>
            <a:ext cx="2230560" cy="29116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  <p:sp>
        <p:nvSpPr>
          <p:cNvPr id="60" name="">
            <a:hlinkClick r:id="rId8" action="ppaction://hlinksldjump"/>
          </p:cNvPr>
          <p:cNvSpPr/>
          <p:nvPr/>
        </p:nvSpPr>
        <p:spPr>
          <a:xfrm>
            <a:off x="228600" y="1981080"/>
            <a:ext cx="312408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领袖对背影的评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105520" y="1905120"/>
            <a:ext cx="2133360" cy="955440"/>
          </a:xfrm>
          <a:prstGeom prst="rect">
            <a:avLst/>
          </a:prstGeom>
          <a:ln w="0">
            <a:noFill/>
          </a:ln>
          <a:effectLst>
            <a:outerShdw dist="170334" dir="6997152" blurRad="0" rotWithShape="0">
              <a:srgbClr val="808080">
                <a:alpha val="50000"/>
              </a:srgbClr>
            </a:outerShdw>
          </a:effectLst>
        </p:spPr>
      </p:pic>
      <p:sp>
        <p:nvSpPr>
          <p:cNvPr id="62" name="">
            <a:hlinkClick r:id="rId11" action="ppaction://hlinksldjump"/>
          </p:cNvPr>
          <p:cNvSpPr/>
          <p:nvPr/>
        </p:nvSpPr>
        <p:spPr>
          <a:xfrm>
            <a:off x="7467480" y="1295280"/>
            <a:ext cx="1143000" cy="289584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895840"/>
              <a:gd name="textAreaBottom" fmla="*/ 2840040 h 2895840"/>
            </a:gdLst>
            <a:ahLst/>
            <a:rect l="textAreaLeft" t="textAreaTop" r="textAreaRight" b="textAreaBottom"/>
            <a:pathLst>
              <a:path w="21600" h="54714">
                <a:moveTo>
                  <a:pt x="3600" y="0"/>
                </a:moveTo>
                <a:arcTo wR="3600" hR="3600" stAng="16200000" swAng="-5400000"/>
                <a:lnTo>
                  <a:pt x="0" y="51114"/>
                </a:lnTo>
                <a:arcTo wR="3600" hR="3600" stAng="10800000" swAng="-5400000"/>
                <a:lnTo>
                  <a:pt x="18000" y="547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772400" y="586728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" action="ppaction://hlinkshowjump?jump=previousslide"/>
          </p:cNvPr>
          <p:cNvPicPr/>
          <p:nvPr/>
        </p:nvPicPr>
        <p:blipFill>
          <a:blip r:embed="rId14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研究探讨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你认为父亲为儿子做的这些事普通吗？为什么儿子会多次流泪？儿子理解了父亲的深情吗？为什么？谈谈你的看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59280" y="2492280"/>
            <a:ext cx="52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a: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祖母死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b: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父亲的差使也交卸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祸不单行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家境惨淡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852640"/>
            <a:ext cx="31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特定的环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50133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饱经风霜的父亲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71640" y="5805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一如既望爱护儿子，万般体贴关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288720" cy="40464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404640"/>
              <a:gd name="textAreaBottom" fmla="*/ 385920 h 404640"/>
            </a:gdLst>
            <a:ahLst/>
            <a:rect l="textAreaLeft" t="textAreaTop" r="textAreaRight" b="textAreaBottom"/>
            <a:pathLst>
              <a:path w="21600" h="30262">
                <a:moveTo>
                  <a:pt x="0" y="0"/>
                </a:moveTo>
                <a:lnTo>
                  <a:pt x="21600" y="0"/>
                </a:lnTo>
                <a:lnTo>
                  <a:pt x="21600" y="30262"/>
                </a:lnTo>
                <a:lnTo>
                  <a:pt x="0" y="30262"/>
                </a:lnTo>
                <a:close/>
              </a:path>
              <a:path fill="lightenLess" w="21600" h="302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62">
                <a:moveTo>
                  <a:pt x="21600" y="0"/>
                </a:moveTo>
                <a:lnTo>
                  <a:pt x="21600" y="30262"/>
                </a:lnTo>
                <a:lnTo>
                  <a:pt x="20200" y="28862"/>
                </a:lnTo>
                <a:lnTo>
                  <a:pt x="20200" y="1400"/>
                </a:lnTo>
                <a:close/>
              </a:path>
              <a:path fill="darkenLess" w="21600" h="30262">
                <a:moveTo>
                  <a:pt x="21600" y="30262"/>
                </a:moveTo>
                <a:lnTo>
                  <a:pt x="0" y="30262"/>
                </a:lnTo>
                <a:lnTo>
                  <a:pt x="1400" y="28862"/>
                </a:lnTo>
                <a:lnTo>
                  <a:pt x="20200" y="28862"/>
                </a:lnTo>
                <a:close/>
              </a:path>
              <a:path fill="lighten" w="21600" h="30262">
                <a:moveTo>
                  <a:pt x="0" y="302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62"/>
                </a:lnTo>
                <a:close/>
              </a:path>
              <a:path fill="darken" w="21600" h="30262">
                <a:moveTo>
                  <a:pt x="3794" y="8124"/>
                </a:moveTo>
                <a:lnTo>
                  <a:pt x="17806" y="15131"/>
                </a:lnTo>
                <a:lnTo>
                  <a:pt x="3794" y="22137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 flipH="1" rot="10800000">
            <a:off x="304920" y="114228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4920" y="160020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课文写了“我”几次流泪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26668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悲哀之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36576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感动之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54100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伤心之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266688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见父亲，睹家境，想祖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3733920"/>
            <a:ext cx="3276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望父买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52680" y="541008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现背影，泪光莹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20120" y="594360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762000" y="464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父子分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87560" y="46814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惜别之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导学达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292" name=""/>
            <p:cNvGrpSpPr/>
            <p:nvPr/>
          </p:nvGrpSpPr>
          <p:grpSpPr>
            <a:xfrm>
              <a:off x="290520" y="869760"/>
              <a:ext cx="711360" cy="474480"/>
              <a:chOff x="290520" y="869760"/>
              <a:chExt cx="711360" cy="474480"/>
            </a:xfrm>
          </p:grpSpPr>
          <p:sp>
            <p:nvSpPr>
              <p:cNvPr id="293" name=""/>
              <p:cNvSpPr/>
              <p:nvPr/>
            </p:nvSpPr>
            <p:spPr>
              <a:xfrm>
                <a:off x="290520" y="869760"/>
                <a:ext cx="437400" cy="47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73560" y="8697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414360" y="1292040"/>
              <a:ext cx="737640" cy="474480"/>
              <a:chOff x="414360" y="1292040"/>
              <a:chExt cx="737640" cy="474480"/>
            </a:xfrm>
          </p:grpSpPr>
          <p:sp>
            <p:nvSpPr>
              <p:cNvPr id="296" name=""/>
              <p:cNvSpPr/>
              <p:nvPr/>
            </p:nvSpPr>
            <p:spPr>
              <a:xfrm>
                <a:off x="414360" y="1292040"/>
                <a:ext cx="4215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83000" y="12920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316080" y="15832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80880" y="2133720"/>
            <a:ext cx="8458200" cy="7617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请简要概括课文的中心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31240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文通过对父亲背影的描写，于叙事中表现了父亲疼爱儿子，儿子怜爱父亲，父子情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362320" y="4267080"/>
            <a:ext cx="4443120" cy="206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父子情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0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96080" y="586728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209680" y="1676520"/>
            <a:ext cx="6019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祖母死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父亲失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1189"/>
                </a:solidFill>
                <a:latin typeface="Times New Roman"/>
                <a:ea typeface="黑体"/>
              </a:rPr>
              <a:t>悲哀之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见父亲 睹家境 想祖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1189"/>
                </a:solidFill>
                <a:latin typeface="Times New Roman"/>
                <a:ea typeface="黑体"/>
              </a:rPr>
              <a:t>感动之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望亲买橘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1189"/>
                </a:solidFill>
                <a:latin typeface="Times New Roman"/>
                <a:ea typeface="黑体"/>
              </a:rPr>
              <a:t>惜别之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父子分别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1189"/>
                </a:solidFill>
                <a:latin typeface="Times New Roman"/>
                <a:ea typeface="黑体"/>
              </a:rPr>
              <a:t>伤心之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再现背影 泪光莹莹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Times New Roman"/>
                <a:ea typeface="黑体"/>
              </a:rPr>
              <a:t>惦记背影</a:t>
            </a:r>
            <a:r>
              <a:rPr b="1" lang="zh-CN" sz="2800" spc="-1" strike="noStrike">
                <a:solidFill>
                  <a:srgbClr val="6666ff"/>
                </a:solidFill>
                <a:latin typeface="黑体"/>
                <a:ea typeface="黑体"/>
              </a:rPr>
              <a:t>（思念父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Times New Roman"/>
                <a:ea typeface="黑体"/>
              </a:rPr>
              <a:t>刻画背影</a:t>
            </a:r>
            <a:r>
              <a:rPr b="1" lang="zh-CN" sz="2800" spc="-1" strike="noStrike">
                <a:solidFill>
                  <a:srgbClr val="6666ff"/>
                </a:solidFill>
                <a:latin typeface="黑体"/>
                <a:ea typeface="黑体"/>
              </a:rPr>
              <a:t>（望父买橘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Times New Roman"/>
                <a:ea typeface="黑体"/>
              </a:rPr>
              <a:t>惜别背影</a:t>
            </a:r>
            <a:r>
              <a:rPr b="1" lang="zh-CN" sz="2800" spc="-1" strike="noStrike">
                <a:solidFill>
                  <a:srgbClr val="6666ff"/>
                </a:solidFill>
                <a:latin typeface="黑体"/>
                <a:ea typeface="黑体"/>
              </a:rPr>
              <a:t>（父子分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ff"/>
                </a:solidFill>
                <a:latin typeface="Times New Roman"/>
                <a:ea typeface="黑体"/>
              </a:rPr>
              <a:t>再现背影</a:t>
            </a:r>
            <a:r>
              <a:rPr b="1" lang="zh-CN" sz="2800" spc="-1" strike="noStrike">
                <a:solidFill>
                  <a:srgbClr val="6666ff"/>
                </a:solidFill>
                <a:latin typeface="黑体"/>
                <a:ea typeface="黑体"/>
              </a:rPr>
              <a:t>（别后怀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309" name=""/>
            <p:cNvGrpSpPr/>
            <p:nvPr/>
          </p:nvGrpSpPr>
          <p:grpSpPr>
            <a:xfrm>
              <a:off x="425520" y="565200"/>
              <a:ext cx="711360" cy="474840"/>
              <a:chOff x="425520" y="565200"/>
              <a:chExt cx="711360" cy="474840"/>
            </a:xfrm>
          </p:grpSpPr>
          <p:sp>
            <p:nvSpPr>
              <p:cNvPr id="310" name=""/>
              <p:cNvSpPr/>
              <p:nvPr/>
            </p:nvSpPr>
            <p:spPr>
              <a:xfrm>
                <a:off x="425520" y="565200"/>
                <a:ext cx="437400" cy="474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08560" y="5652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549360" y="987480"/>
              <a:ext cx="737640" cy="474840"/>
              <a:chOff x="549360" y="987480"/>
              <a:chExt cx="737640" cy="474840"/>
            </a:xfrm>
          </p:grpSpPr>
          <p:sp>
            <p:nvSpPr>
              <p:cNvPr id="313" name=""/>
              <p:cNvSpPr/>
              <p:nvPr/>
            </p:nvSpPr>
            <p:spPr>
              <a:xfrm>
                <a:off x="549360" y="98748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918000" y="9874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451080" y="12794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219320" y="457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归纳小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1905120"/>
            <a:ext cx="12952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b74e07"/>
                  </a:solidFill>
                  <a:miter/>
                </a:ln>
                <a:solidFill>
                  <a:srgbClr val="b74e07"/>
                </a:solidFill>
                <a:latin typeface="黑体"/>
              </a:rPr>
              <a:t>见面背景</a:t>
            </a:r>
            <a:endParaRPr b="0" lang="en-US" sz="2800" spc="1" strike="noStrike">
              <a:ln w="9360">
                <a:solidFill>
                  <a:srgbClr val="b74e07"/>
                </a:solidFill>
                <a:miter/>
              </a:ln>
              <a:solidFill>
                <a:srgbClr val="b74e07"/>
              </a:solidFill>
              <a:latin typeface="黑体"/>
              <a:ea typeface="黑体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3200400"/>
            <a:ext cx="12952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b74e07"/>
                  </a:solidFill>
                  <a:miter/>
                </a:ln>
                <a:solidFill>
                  <a:srgbClr val="b74e07"/>
                </a:solidFill>
                <a:latin typeface="黑体"/>
              </a:rPr>
              <a:t>四次流泪</a:t>
            </a:r>
            <a:endParaRPr b="0" lang="en-US" sz="2800" spc="1" strike="noStrike">
              <a:ln w="9360">
                <a:solidFill>
                  <a:srgbClr val="b74e07"/>
                </a:solidFill>
                <a:miter/>
              </a:ln>
              <a:solidFill>
                <a:srgbClr val="b74e07"/>
              </a:solidFill>
              <a:latin typeface="黑体"/>
              <a:ea typeface="黑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191120" y="1905120"/>
            <a:ext cx="2514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6666ff"/>
                    </a:gs>
                  </a:gsLst>
                  <a:lin ang="5400000"/>
                </a:gradFill>
                <a:latin typeface="黑体"/>
              </a:rPr>
              <a:t>(</a:t>
            </a:r>
            <a:r>
              <a:rPr b="0" lang="zh-CN" sz="20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6666ff"/>
                    </a:gs>
                  </a:gsLst>
                  <a:lin ang="5400000"/>
                </a:gradFill>
                <a:latin typeface="黑体"/>
              </a:rPr>
              <a:t>祸不单行</a:t>
            </a:r>
            <a:r>
              <a:rPr b="0" lang="en-US" sz="20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6666ff"/>
                    </a:gs>
                  </a:gsLst>
                  <a:lin ang="5400000"/>
                </a:gradFill>
                <a:latin typeface="黑体"/>
              </a:rPr>
              <a:t>,</a:t>
            </a:r>
            <a:r>
              <a:rPr b="0" lang="zh-CN" sz="20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6666ff"/>
                    </a:gs>
                  </a:gsLst>
                  <a:lin ang="5400000"/>
                </a:gradFill>
                <a:latin typeface="黑体"/>
              </a:rPr>
              <a:t>家境惨淡）</a:t>
            </a:r>
            <a:endParaRPr b="0" lang="en-US" sz="20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6666ff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62120" y="4952880"/>
            <a:ext cx="12952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b74e07"/>
                  </a:solidFill>
                  <a:miter/>
                </a:ln>
                <a:solidFill>
                  <a:srgbClr val="b74e07"/>
                </a:solidFill>
                <a:latin typeface="黑体"/>
              </a:rPr>
              <a:t>四个背影</a:t>
            </a:r>
            <a:endParaRPr b="0" lang="en-US" sz="2800" spc="1" strike="noStrike">
              <a:ln w="9360">
                <a:solidFill>
                  <a:srgbClr val="b74e07"/>
                </a:solidFill>
                <a:miter/>
              </a:ln>
              <a:solidFill>
                <a:srgbClr val="b74e07"/>
              </a:solidFill>
              <a:latin typeface="黑体"/>
              <a:ea typeface="黑体"/>
            </a:endParaRPr>
          </a:p>
        </p:txBody>
      </p:sp>
      <p:pic>
        <p:nvPicPr>
          <p:cNvPr id="3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62920" y="304920"/>
            <a:ext cx="1600200" cy="6570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324000" y="260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扩展迁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>
            <a:hlinkClick r:id="" action="ppaction://hlinkshowjump?jump=nextslide"/>
          </p:cNvPr>
          <p:cNvSpPr/>
          <p:nvPr/>
        </p:nvSpPr>
        <p:spPr>
          <a:xfrm>
            <a:off x="7164360" y="638172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56" h="21600">
                <a:moveTo>
                  <a:pt x="36122" y="3794"/>
                </a:moveTo>
                <a:lnTo>
                  <a:pt x="50135" y="10800"/>
                </a:lnTo>
                <a:lnTo>
                  <a:pt x="3612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看见他戴着黑布小帽，穿着黑布大马褂，深青布棉袍，蹒跚地走到铁道边，慢慢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身下去，尚不大难。②可是他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过铁道 ，要爬上那边月台 ，就不容易了 。③他用两手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着上面 ，两脚再向上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他肥胖的身子向左微倾 ，显出努力的样子，这时我看见他的背影 ，我的泪很快地流下来了。④我赶紧拭干了泪，怕他看见，⑤也怕别人看见。⑥我再向外看时，他已抱了朱红的橘子往回走了。⑦过铁道时，他先将橘子散放在地上，自己慢慢爬下，再抱起橘子走。⑧到这边时，我赶紧去搀他。⑨他和我走到车上，将橘子一股脑儿放在我的皮大衣上。⑩于是扑扑衣上的泥土，心里很轻松似的。⑾过了一会说：“我走了，到那边来信！”⑿我望着他走出去。⒀他走了几步，回过头看见我，说：“进去吧，里边没人。”⒁等他的背影混入来来往往的人里，再找不着了，我便进来坐下，我的眼泪又来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0" y="5410080"/>
            <a:ext cx="9144000" cy="1459080"/>
            <a:chOff x="0" y="5410080"/>
            <a:chExt cx="9144000" cy="1459080"/>
          </a:xfrm>
        </p:grpSpPr>
        <p:sp>
          <p:nvSpPr>
            <p:cNvPr id="333" name=""/>
            <p:cNvSpPr/>
            <p:nvPr/>
          </p:nvSpPr>
          <p:spPr>
            <a:xfrm>
              <a:off x="0" y="54100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i="1" lang="zh-CN" sz="2400" spc="-1" strike="noStrike">
                  <a:solidFill>
                    <a:srgbClr val="3333cc"/>
                  </a:solidFill>
                  <a:latin typeface="Times New Roman"/>
                </a:rPr>
                <a:t>、文中横线上的词，依次应填上                                         （         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3520" y="5853240"/>
              <a:ext cx="8153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探   穿   攀   缩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弯   横   扯   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侧   走   抓   爬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弓   钻   勾   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8839080" cy="2286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8001000" y="5334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看见他戴着黑布小帽，穿着黑布大马褂，深青布棉袍，蹒跚地走到铁道边，慢慢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身下去，尚不大难。②可是他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过铁道 ，要爬上那边月台 ，就不容易了 。③他用两手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着上面 ，两脚再向上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他肥胖的身子向左微倾 ，显出努力的样子，这时我看见他的背影 ，我的泪很快地流下来了。④我赶紧拭干了泪，怕他看见，⑤也怕别人看见。⑥我再向外看时，他已抱了朱红的橘子往回走了。⑦过铁道时，他先将橘子散放在地上，自己慢慢爬下，再抱起橘子走。⑧到这边时，我赶紧去搀他。⑨他和我走到车上，将橘子一股脑儿放在我的皮大衣上。⑩于是扑扑衣上的泥土，心里很轻松似的。⑾过了一会说：“我走了，到那边来信！”⑿我望着他走出去。⒀他走了几步，回过头看见我，说：“进去吧，里边没人。”⒁等他的背影混入来来往往的人里，再找不着了，我便进来坐下，我的眼泪又来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8839080" cy="2286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8229600" y="5334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0" y="5334120"/>
            <a:ext cx="9144000" cy="1473120"/>
            <a:chOff x="0" y="5334120"/>
            <a:chExt cx="9144000" cy="1473120"/>
          </a:xfrm>
        </p:grpSpPr>
        <p:sp>
          <p:nvSpPr>
            <p:cNvPr id="342" name=""/>
            <p:cNvSpPr/>
            <p:nvPr/>
          </p:nvSpPr>
          <p:spPr>
            <a:xfrm>
              <a:off x="0" y="533412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i="1" lang="zh-CN" sz="2400" spc="-1" strike="noStrike">
                  <a:solidFill>
                    <a:srgbClr val="3333cc"/>
                  </a:solidFill>
                  <a:latin typeface="Times New Roman"/>
                </a:rPr>
                <a:t>、文中写父亲背影的是哪三句话？请选出正确的一项     （          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7200" y="5791320"/>
              <a:ext cx="8153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①③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⑥⑦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①③⒁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①⑦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看见他戴着黑布小帽，穿着黑布大马褂，深青布棉袍，蹒跚地走到铁道边，慢慢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身下去，尚不大难。②可是他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过铁道 ，要爬上那边月台 ，就不容易了 。③他用两手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着上面 ，两脚再向上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他肥胖的身子向左微倾 ，显出努力的样子，这时我看见他的背影 ，我的泪很快地流下来了。④我赶紧拭干了泪，怕他看见，⑤也怕别人看见。⑥我再向外看时，他已抱了朱红的橘子往回走了。⑦过铁道时，他先将橘子散放在地上，自己慢慢爬下，再抱起橘子走。⑧到这边时，我赶紧去搀他。⑨他和我走到车上，将橘子一股脑儿放在我的皮大衣上。⑩于是扑扑衣上的泥土，心里很轻松似的。⑾过了一会说：“我走了，到那边来信！”⑿我望着他走出去。⒀他走了几步，回过头看见我，说：“进去吧，里边没人。”⒁等他的背影混入来来往往的人里，再找不着了，我便进来坐下，我的眼泪又来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0" y="5410080"/>
            <a:ext cx="9144000" cy="1382400"/>
            <a:chOff x="0" y="5410080"/>
            <a:chExt cx="9144000" cy="1382400"/>
          </a:xfrm>
        </p:grpSpPr>
        <p:sp>
          <p:nvSpPr>
            <p:cNvPr id="347" name=""/>
            <p:cNvSpPr/>
            <p:nvPr/>
          </p:nvSpPr>
          <p:spPr>
            <a:xfrm>
              <a:off x="0" y="54100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i="1" lang="zh-CN" sz="2400" spc="-1" strike="noStrike">
                  <a:solidFill>
                    <a:srgbClr val="3333cc"/>
                  </a:solidFill>
                  <a:latin typeface="Times New Roman"/>
                </a:rPr>
                <a:t>、选出能表明上文所写事情内容的小标题                         （            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600" y="5776560"/>
              <a:ext cx="8153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父子情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父亲的背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惜别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买橘送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8839080" cy="2286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8153280" y="5364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看见他戴着黑布小帽，穿着黑布大马褂，深青布棉袍，蹒跚地走到铁道边，慢慢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身下去，尚不大难。②可是他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过铁道 ，要爬上那边月台 ，就不容易了 。③他用两手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着上面 ，两脚再向上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他肥胖的身子向左微倾 ，显出努力的样子，这时我看见他的背影 ，我的泪很快地流下来了。④我赶紧拭干了泪，怕他看见，⑤也怕别人看见。⑥我再向外看时，他已抱了朱红的橘子往回走了。⑦过铁道时，他先将橘子散放在地上，自己慢慢爬下，再抱起橘子走。⑧到这边时，我赶紧去搀他。⑨他和我走到车上，将橘子一股脑儿放在我的皮大衣上。⑩于是扑扑衣上的泥土，心里很轻松似的。⑾过了一会说：“我走了，到那边来信！”⑿我望着他走出去。⒀他走了几步，回过头看见我，说：“进去吧，里边没人。”⒁等他的背影混入来来往往的人里，再找不着了，我便进来坐下，我的眼泪又来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0" y="5396040"/>
            <a:ext cx="9144000" cy="1396800"/>
            <a:chOff x="0" y="5396040"/>
            <a:chExt cx="9144000" cy="1396800"/>
          </a:xfrm>
        </p:grpSpPr>
        <p:sp>
          <p:nvSpPr>
            <p:cNvPr id="354" name=""/>
            <p:cNvSpPr/>
            <p:nvPr/>
          </p:nvSpPr>
          <p:spPr>
            <a:xfrm>
              <a:off x="0" y="539604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i="1" lang="zh-CN" sz="2400" spc="-1" strike="noStrike">
                  <a:solidFill>
                    <a:srgbClr val="3333cc"/>
                  </a:solidFill>
                  <a:latin typeface="Times New Roman"/>
                </a:rPr>
                <a:t>、①句从哪两方面描绘了父亲的背影的形象？                （            ）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3520" y="5776920"/>
              <a:ext cx="8153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外貌   心理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动作   语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外貌   动作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语言   心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8839080" cy="2286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8153280" y="5364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4100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2371680" y="0"/>
          <a:ext cx="448164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71680" y="0"/>
                    <a:ext cx="4481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看见他戴着黑布小帽，穿着黑布大马褂，深青布棉袍，蹒跚地走到铁道边，慢慢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身下去，尚不大难。②可是他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过铁道 ，要爬上那边月台 ，就不容易了 。③他用两手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着上面 ，两脚再向上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他肥胖的身子向左微倾 ，显出努力的样子，这时我看见他的背影 ，我的泪很快地流下来了。④我赶紧拭干了泪，怕他看见，⑤也怕别人看见。⑥我再向外看时，他已抱了朱红的橘子往回走了。⑦过铁道时，他先将橘子散放在地上，自己慢慢爬下，再抱起橘子走。⑧到这边时，我赶紧去搀他。⑨他和我走到车上，将橘子一股脑儿放在我的皮大衣上。⑩于是扑扑衣上的泥土，心里很轻松似的。⑾过了一会说：“我走了，到那边来信！”⑿我望着他走出去。⒀他走了几步，回过头看见我，说：“进去吧，里边没人。”⒁等他的背影混入来来往往的人里，再找不着了，我便进来坐下，我的眼泪又来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0" y="5396040"/>
            <a:ext cx="9144000" cy="1396800"/>
            <a:chOff x="0" y="5396040"/>
            <a:chExt cx="9144000" cy="1396800"/>
          </a:xfrm>
        </p:grpSpPr>
        <p:sp>
          <p:nvSpPr>
            <p:cNvPr id="361" name=""/>
            <p:cNvSpPr/>
            <p:nvPr/>
          </p:nvSpPr>
          <p:spPr>
            <a:xfrm>
              <a:off x="0" y="539604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1" i="1" lang="zh-CN" sz="2400" spc="-1" strike="noStrike">
                  <a:solidFill>
                    <a:srgbClr val="3333cc"/>
                  </a:solidFill>
                  <a:latin typeface="Times New Roman"/>
                </a:rPr>
                <a:t>、文章多次写到父亲的背影，其主要目的是                     （           ）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0" y="5776920"/>
              <a:ext cx="8915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表达对父亲非凡经历的赞叹。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表达对父亲的深挚的怀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表达对父亲自暴自弃的惋惜。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表达对父亲碌碌无为的感慨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8839080" cy="2286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8229600" y="5364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305920" y="380880"/>
            <a:ext cx="83808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68" dur="1" fill="hold"/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195640" y="5950080"/>
            <a:ext cx="27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620640"/>
            <a:ext cx="9144000" cy="577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5734080"/>
            <a:ext cx="914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-7920" y="6165720"/>
            <a:ext cx="9151920" cy="132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-36360" y="-674640"/>
            <a:ext cx="9180360" cy="132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" action="ppaction://hlinkshowjump?jump=firstslide"/>
          </p:cNvPr>
          <p:cNvSpPr/>
          <p:nvPr/>
        </p:nvSpPr>
        <p:spPr>
          <a:xfrm>
            <a:off x="8300880" y="6190920"/>
            <a:ext cx="830520" cy="457920"/>
          </a:xfrm>
          <a:custGeom>
            <a:avLst/>
            <a:gdLst>
              <a:gd name="textAreaLeft" fmla="*/ 29520 w 830520"/>
              <a:gd name="textAreaRight" fmla="*/ 801000 w 83052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62" h="21600">
                <a:moveTo>
                  <a:pt x="0" y="0"/>
                </a:moveTo>
                <a:lnTo>
                  <a:pt x="39162" y="0"/>
                </a:lnTo>
                <a:lnTo>
                  <a:pt x="39162" y="21600"/>
                </a:lnTo>
                <a:lnTo>
                  <a:pt x="0" y="21600"/>
                </a:lnTo>
                <a:close/>
              </a:path>
              <a:path fill="lightenLess" w="39162" h="21600">
                <a:moveTo>
                  <a:pt x="0" y="0"/>
                </a:moveTo>
                <a:lnTo>
                  <a:pt x="39162" y="0"/>
                </a:lnTo>
                <a:lnTo>
                  <a:pt x="37762" y="1400"/>
                </a:lnTo>
                <a:lnTo>
                  <a:pt x="1400" y="1400"/>
                </a:lnTo>
                <a:close/>
              </a:path>
              <a:path fill="darken" w="39162" h="21600">
                <a:moveTo>
                  <a:pt x="39162" y="0"/>
                </a:moveTo>
                <a:lnTo>
                  <a:pt x="39162" y="21600"/>
                </a:lnTo>
                <a:lnTo>
                  <a:pt x="37762" y="20200"/>
                </a:lnTo>
                <a:lnTo>
                  <a:pt x="37762" y="1400"/>
                </a:lnTo>
                <a:close/>
              </a:path>
              <a:path fill="darkenLess" w="39162" h="21600">
                <a:moveTo>
                  <a:pt x="39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62" y="20200"/>
                </a:lnTo>
                <a:close/>
              </a:path>
              <a:path fill="lighten" w="39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50920" y="838080"/>
            <a:ext cx="1008000" cy="15112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179280" y="270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隶书"/>
              </a:rPr>
              <a:t>三、课外拓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-88200" y="620640"/>
            <a:ext cx="1335960" cy="5545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268360" y="78264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朱自清的父亲读《背影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32000" y="1628640"/>
            <a:ext cx="76676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92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，我家已搬至扬州东关街仁丰里一所简陋的屋子。秋日的一天，我接到了开明书店寄赠的《背影》散文集，我手捧书本，不敢怠慢，一口气奔上二楼父亲卧室，让他老人家先睹为快。父亲已行动不便，挪到窗前，依靠在小椅上，戴上了老花眼镜，一字一句诵读着儿子的文章《背影》，只见他的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手不住地颤抖，昏黄的眼珠，好像猛然放射出光彩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0"/>
            <a:ext cx="6953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c03c"/>
                </a:solidFill>
                <a:latin typeface="Tahoma"/>
                <a:ea typeface="方正少儿简体"/>
              </a:rPr>
              <a:t>连接生活，畅谈心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感受如山的父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1981080"/>
            <a:ext cx="81532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58920" y="1628640"/>
            <a:ext cx="604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1628640"/>
            <a:ext cx="8675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2b2b2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在你的人生经历中，你的父亲肯定也给予了你许许多多的关爱，想一想，哪一个细节给你留下了难以磨灭的印象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419640" y="3284640"/>
            <a:ext cx="3173400" cy="35733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250920" y="3429000"/>
            <a:ext cx="3203640" cy="34290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7093080" y="0"/>
            <a:ext cx="2050920" cy="21337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6121440" y="3213000"/>
            <a:ext cx="3022560" cy="36450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6516720" y="0"/>
            <a:ext cx="449280" cy="476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669" dur="indefinite" restart="never" nodeType="tmRoot">
          <p:childTnLst>
            <p:seq>
              <p:cTn id="670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671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4" dur="321829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195640" y="5950080"/>
            <a:ext cx="27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620640"/>
            <a:ext cx="9144000" cy="577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5734080"/>
            <a:ext cx="914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-7920" y="6165720"/>
            <a:ext cx="9151920" cy="132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-36360" y="-674640"/>
            <a:ext cx="9180360" cy="132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>
            <a:hlinkClick r:id="" action="ppaction://hlinkshowjump?jump=firstslide"/>
          </p:cNvPr>
          <p:cNvSpPr/>
          <p:nvPr/>
        </p:nvSpPr>
        <p:spPr>
          <a:xfrm>
            <a:off x="8300880" y="6190920"/>
            <a:ext cx="830520" cy="457920"/>
          </a:xfrm>
          <a:custGeom>
            <a:avLst/>
            <a:gdLst>
              <a:gd name="textAreaLeft" fmla="*/ 29520 w 830520"/>
              <a:gd name="textAreaRight" fmla="*/ 801000 w 83052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39162" h="21600">
                <a:moveTo>
                  <a:pt x="0" y="0"/>
                </a:moveTo>
                <a:lnTo>
                  <a:pt x="39162" y="0"/>
                </a:lnTo>
                <a:lnTo>
                  <a:pt x="39162" y="21600"/>
                </a:lnTo>
                <a:lnTo>
                  <a:pt x="0" y="21600"/>
                </a:lnTo>
                <a:close/>
              </a:path>
              <a:path fill="lightenLess" w="39162" h="21600">
                <a:moveTo>
                  <a:pt x="0" y="0"/>
                </a:moveTo>
                <a:lnTo>
                  <a:pt x="39162" y="0"/>
                </a:lnTo>
                <a:lnTo>
                  <a:pt x="37762" y="1400"/>
                </a:lnTo>
                <a:lnTo>
                  <a:pt x="1400" y="1400"/>
                </a:lnTo>
                <a:close/>
              </a:path>
              <a:path fill="darken" w="39162" h="21600">
                <a:moveTo>
                  <a:pt x="39162" y="0"/>
                </a:moveTo>
                <a:lnTo>
                  <a:pt x="39162" y="21600"/>
                </a:lnTo>
                <a:lnTo>
                  <a:pt x="37762" y="20200"/>
                </a:lnTo>
                <a:lnTo>
                  <a:pt x="37762" y="1400"/>
                </a:lnTo>
                <a:close/>
              </a:path>
              <a:path fill="darkenLess" w="39162" h="21600">
                <a:moveTo>
                  <a:pt x="39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62" y="20200"/>
                </a:lnTo>
                <a:close/>
              </a:path>
              <a:path fill="lighten" w="39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250920" y="838080"/>
            <a:ext cx="1008000" cy="15112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250920" y="2565360"/>
            <a:ext cx="72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隶书"/>
              </a:rPr>
              <a:t>结束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-88200" y="620640"/>
            <a:ext cx="1335960" cy="5545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08000" y="78264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这句话，值得你铭记一生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92360" y="1557360"/>
            <a:ext cx="712764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一个不懂得享受爱的人，他的良知是苍白的；一个不懂得回报爱的人，他的情感是自私的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父母的爱很平常，很实在：也许只是一个眼神，也许只是一声叮咛，也许只是早餐时装在你书包里的一盒牛奶……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父母的爱很伟大，很无私，值得我们一辈子去感恩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不妨试着在父母疲倦时端上一杯热茶，在餐桌上给他们夹一次菜，在他们工作之余给他们捶捶背、揉揉肩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1479600" y="126792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学会感恩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滴水之恩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当涌泉相报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感恩父母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感恩老师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感恩所有曾经对你好的人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-7920" y="6165720"/>
            <a:ext cx="9151920" cy="132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-36360" y="-674640"/>
            <a:ext cx="9180360" cy="132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89550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课后反思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析课文时，抓住背影，也就抓住了理解本文的关键。所以，我通过反复朗读、圈划，欣赏歌曲，引导学生体会了父亲无微不至的爱。抓住细节描写能达到艺术视角的创新，可以给读者以自由想象的广阔天地，并且最能体现父亲对儿子的爱。随后，我发了一片课外阅读《父亲的巴掌》，此文与《背影》有异曲同工之妙。它是抓住“父亲巴掌”这一细节来体现父亲对我的爱。在课堂中，我紧紧抓住细节描写这一主线，贯串整个教学，教学思路非常清晰。课内学习、课外拓展，学习的容量增加了，所学的知识也及时得到了巩固。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333399"/>
                </a:solidFill>
                <a:latin typeface="黑体"/>
                <a:ea typeface="黑体"/>
              </a:rPr>
              <a:t>一、预习展示：</a:t>
            </a:r>
            <a:r>
              <a:rPr b="0" lang="zh-CN" sz="41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0" lang="zh-CN" sz="4100" spc="-1" strike="noStrike">
                <a:solidFill>
                  <a:srgbClr val="333399"/>
                </a:solidFill>
                <a:latin typeface="黑体"/>
                <a:ea typeface="黑体"/>
              </a:rPr>
              <a:t>、作 者 简 介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59151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朱自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现代散文家、诗人，学者，民主战士。字佩弦。江苏扬州人，原籍浙江绍兴，文学研究会成员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曾在清华大学、西南联合大学任教。抗日战争结束后，积极支持反对国民党反动统治的学生运动。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948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月因贫病在北平逝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著有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散文诗集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《踪迹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散文集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《背影》、《欧游杂记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。他的散文以</a:t>
            </a:r>
            <a:r>
              <a:rPr b="1" i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语言洗练、文笔秀丽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著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867280" y="1628640"/>
            <a:ext cx="3276720" cy="502632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971800" y="1981080"/>
            <a:ext cx="2895480" cy="2594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" y="1143000"/>
            <a:ext cx="3394080" cy="8380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背       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2514600"/>
            <a:ext cx="2743200" cy="8380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荷  塘  月  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733920"/>
            <a:ext cx="2743200" cy="8380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952880"/>
            <a:ext cx="3886200" cy="8384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浆声灯影里的秦淮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1143000"/>
            <a:ext cx="2743200" cy="8380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2666880"/>
            <a:ext cx="3581280" cy="8384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种人——上帝的骄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4724280"/>
            <a:ext cx="3048120" cy="8384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儿      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48720" y="6172200"/>
            <a:ext cx="1028520" cy="422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038480" y="762120"/>
            <a:ext cx="4800600" cy="4708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51760" y="0"/>
            <a:ext cx="210888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《背影》，一篇娓娓道来的文字，何以在文坛不朽？正在于它是一记情感的重锤，重重地敲击在人的心灵共鸣点上。父子亲情，罄竹难书。但在这里，背影的一瞬化作了永恒，一个背影力敌万语千言的倾诉。背影，恰似一道情感的闪电，照彻千千万万颗赤子之心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48720" y="6172200"/>
            <a:ext cx="1028520" cy="422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886400" y="601992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隶书"/>
              </a:rPr>
              <a:t>江泽民同志为纪念朱自清逝世四十周年题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267080" y="304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朱自清故居在今扬州城安乐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号，大门朝东。进门北向，有小院一区，内有客房两间，乃朱自清的住处。此宅二道门内，有上堂屋三间，下堂屋三间和两侧厢房，系朱自清的父母及姐妹们的住所。而今房屋保护良好，环境雅静，已列为扬州市级文物保护单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350352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19720" y="3657600"/>
            <a:ext cx="3200400" cy="1492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5181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今，朱自清故居内陈列着朱自清曾经使用过的部分家具、朱自清著作及一些实物照片，正屋内还有朱自清塑像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9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，朱自清故居正式对外开放，江泽民总书记亲笔提写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朱自清故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挂牌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39160" y="6359400"/>
            <a:ext cx="1028520" cy="422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3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写作背景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893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《背影》写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92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当时作者在清华大学任教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91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年冬，作者祖母去世，父亲朱鸿钧原任徐州烟酒公卖局局长，被解职。文中的“祸不单行”正是指这两件事。作者当时在北大哲学系读书，得知祖母去世，从北京赶到徐州与父亲一道回扬州奔丧。丧事完毕，父亲到南京找工作，作者回北京念书，父子在浦口车站惜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7T13:23:16Z</dcterms:created>
  <dc:creator>新课标第一网xkb1.com; pengbo</dc:creator>
  <dc:description>新课标第一网xkb1.com</dc:description>
  <cp:keywords>新课标第一网xkb1.com</cp:keywords>
  <dc:language>en-US</dc:language>
  <cp:lastModifiedBy>新课标第一网</cp:lastModifiedBy>
  <dcterms:modified xsi:type="dcterms:W3CDTF">2011-09-28T07:33:46Z</dcterms:modified>
  <cp:revision>64</cp:revision>
  <dc:subject>新课标第一网xkb1.com</dc:subject>
  <dc:title>新课标第一网xkb1.com</dc:title>
</cp:coreProperties>
</file>