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44B-49AD-4FF2-8528-CEC6B403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9B5-3C35-4D20-B947-EB80EE5D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E9E-D5DB-47CB-A540-E97175D4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052-9B1D-42FB-B389-78F81DD8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D39-8928-4D00-9868-D8526A0C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035-411E-4837-BCC8-DD59BF37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57E-045A-4989-B086-21173407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4CD-0C59-4B4F-9F77-A7440A8A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EFF-94B6-4389-8755-58EC5594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F2C-E7AE-4B5F-B196-284BF90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691-CA27-4FF6-8B81-EFC7341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A1C-425E-4157-B5EB-BA0D7F8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1FCA-2A56-40D0-919E-28518897B8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1828800"/>
            <a:ext cx="1904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超期服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124080"/>
            <a:ext cx="1904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田园荒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809880"/>
            <a:ext cx="198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非人待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14600"/>
            <a:ext cx="1904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死伤无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8520" y="274320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生男反是生女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78520" y="358128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白骨苍苍鬼哭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82480" y="198108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连年征兵急催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57200"/>
            <a:ext cx="7543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通过行人的回答申诉，点行频给百姓带来了哪些不幸和灾难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请思考：造成这一切的根源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830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边庭流血成海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武皇开边意未已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87080" y="4076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统治者的好大喜功、穷兵黩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2349360"/>
            <a:ext cx="71640" cy="914400"/>
          </a:xfrm>
          <a:custGeom>
            <a:avLst/>
            <a:gdLst>
              <a:gd name="textAreaLeft" fmla="*/ 0 w 71640"/>
              <a:gd name="textAreaRight" fmla="*/ 25920 w 71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7600" y="2406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主旨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1960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3880" y="260280"/>
            <a:ext cx="1332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Times New Roman"/>
                <a:ea typeface="华文细黑"/>
              </a:rPr>
              <a:t>一位忧国忧民的诗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477120" y="281952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以时事入诗，自杜少陵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再读杜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3671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115920"/>
          <a:ext cx="4545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5920"/>
                    <a:ext cx="4545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859280" y="0"/>
            <a:ext cx="396252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杜甫，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子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自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少陵野老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世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杜少陵、杜工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唐代现实主义诗人，其为人秉承了圣人之道，讲求“仁”，站在人民的立场上说话，因此又被称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诗圣”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诗作反映现实，立足社会，被称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诗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，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《杜工部诗集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685800"/>
            <a:ext cx="7620120" cy="29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作背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据《资治通鉴》卷二百一十六载：“天宝十载四月，剑南节度使鲜于仲通讨南诏蛮，大败于泸南。时仲通将兵八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军大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士卒死者六万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仲通仅以身免。杨国忠掩其败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仍叙其战功。制大募两京及河南北兵以击南诏。人闻云南多瘴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未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士卒死者什八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莫肯应募。杨国忠遣御史分道捕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枷送诣军所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行者愁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母妻子送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在哭声振野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3915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主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诗通过描绘壮丁与家人生离死别的悲惨情景，借役夫的话，诉说了人民的痛苦与愤恨，控诉了封建统治者穷兵黩武的罪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28960" y="685800"/>
            <a:ext cx="429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再听朗读，体会萦绕整诗的感情基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8480" y="12682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怨、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1295280"/>
            <a:ext cx="61722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兵 车 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杜 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4724640" cy="2398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7000" y="558324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广西东兰高中      叶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01880" y="2163600"/>
            <a:ext cx="456372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诗歌的一种文体。汉魏以下的乐府诗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名为“歌”和“行”的颇多，二者虽名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，其实并无严格的区别。后遂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行”一说。其音节、格律，一般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，形式采用五言、七言、杂言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体，富于变化。“行”是乐曲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07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16280" y="620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听、读诗歌，体会萦绕整诗的感情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描绘送别场面的是从哪句到哪句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622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第一段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7240" y="274788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这个场面有什么特点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3920" y="400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悲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赏析：牵衣顿足拦道哭，哭声直上干云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作细节描写：连续的四个动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牵、顿、拦、哭”把送行者那种眷恋、悲怆、愤恨、绝望的动作神态表现得细腻入微，写出了亲人之间不忍相离却又不得不相离的不舍和无奈。渲染了极其凄惨的气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夸张的修辞手法：哭声遍野，直冲云天，震耳欲聋！集中展现了上万家庭妻离子散的悲剧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这个送别场面为何如此悲惨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2133720"/>
            <a:ext cx="4191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点行频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3860640"/>
            <a:ext cx="7417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频繁地点名强行征调壮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1:12:30Z</dcterms:created>
  <dc:creator>zdj</dc:creator>
  <dc:description/>
  <dc:language>en-US</dc:language>
  <cp:lastModifiedBy>zmj</cp:lastModifiedBy>
  <dcterms:modified xsi:type="dcterms:W3CDTF">2011-06-02T14:48:51Z</dcterms:modified>
  <cp:revision>51</cp:revision>
  <dc:subject/>
  <dc:title>PowerPoint 演示文稿</dc:title>
</cp:coreProperties>
</file>