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chimes.wav" ContentType="audio/x-wav"/>
  <Override PartName="/ppt/media/image16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5.jpeg" ContentType="image/jpeg"/>
  <Override PartName="/ppt/media/image2.jpeg" ContentType="image/jpeg"/>
  <Override PartName="/ppt/media/image24.jpeg" ContentType="image/jpeg"/>
  <Override PartName="/ppt/media/image22.jpeg" ContentType="image/jpeg"/>
  <Override PartName="/ppt/media/type.wav" ContentType="audio/x-wav"/>
  <Override PartName="/ppt/media/image15.jpeg" ContentType="image/jpeg"/>
  <Override PartName="/ppt/media/image21.jpeg" ContentType="image/jpeg"/>
  <Override PartName="/ppt/media/image14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931-BDEE-4FC9-80F7-D59D6DB9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31F-12F1-4C86-BD2A-B1D3F299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EB6-348D-4F1D-8001-2A476534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10E-0309-4971-9F29-FEA594C4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A17-4AA1-4086-BD79-FA1AEEF6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663-B966-42E7-A5FB-079DE44A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A1C-A9A3-41FF-8F27-CBA81FED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091-914D-4602-B9F3-569E8B56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9EF-5838-48CF-8EFF-F91BB2DC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712-0668-4D41-AFE9-8CDC43EF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155-27D7-406A-9440-9DCC34D5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BA6-DD54-4A8D-A2DB-E515166B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8CA9-87DE-48C5-9D04-27602C89BF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297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语句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1295280"/>
            <a:ext cx="7162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牵衣顿足拦道哭，哭声直上干云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信知生男恶，反是生女好。”与“遂令天下父母心，不重生男重生女”有异曲同工之妙，请谈一谈你的理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67480" y="495288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95280" y="18288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连续的四个动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把送行者那种眷恋、悲怆、愤恨、绝望的动作神态表现的细腻入微，诗人笔下，灰尘弥漫，车马人流，令人目眩；哭声遍野，直冲云天，震耳欲聋！集中展现了上万家庭妻离子散的悲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800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这是作者发自肺腑的血泪控诉，是作者对战争的残酷以及 给人民带来的痛苦所发出的愤怒的反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838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熟读课文，从语言和修辞两方面鉴赏本诗的艺术手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133720"/>
            <a:ext cx="6172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夸张、反问、顶针手法的运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口语的运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43000" y="4572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巩固拓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424160"/>
            <a:ext cx="32004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从军行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王昌龄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青海长云暗雪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孤城遥望玉门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黄沙百战穿金甲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不破楼兰终不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1295280"/>
            <a:ext cx="3353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陇西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         </a:t>
            </a: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陈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誓扫匈奴不顾身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五千貂锦丧胡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可怜无定河边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犹是春闺梦里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43000" y="601560"/>
            <a:ext cx="60958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闻官军收河南河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杜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剑外忽传收蓟北，初闻涕泪满衣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却看妻子愁何在，满卷诗书喜欲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明日放歌须纵酒，青春作伴好还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即从巴峡穿巫狭，便下襄阳向洛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80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-228600" y="-125280"/>
            <a:ext cx="9144000" cy="7481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-304920" y="0"/>
            <a:ext cx="944892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1295280"/>
            <a:ext cx="61722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兵 车 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   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杜 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47246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3720" y="2057400"/>
            <a:ext cx="5410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学习目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鉴赏诗歌的思想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背诵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105520" y="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457200"/>
            <a:ext cx="3962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者简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杜甫，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子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曾居长安城南少陵以西，自称少陵野老，世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杜少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出生于巩县，唐代现实主义诗人。曾漫游各地，寓居长安十年，“安史之乱”被俘，逃出后任左拾遗，后弃官移家成都，筑草堂于浣花溪畔，世称浣花草堂。其作品显示了唐由盛转的历史过程，风格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沉郁顿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被称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诗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，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杜工部诗集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代表作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京赴奉先县咏五百字》、组诗“三吏”、“三别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685800"/>
            <a:ext cx="762012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写作背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据《资治通鉴》卷二百一十六载：“天宝十载四月，剑南节度使鲜于仲通讨南诏蛮，大败于泸南。时仲通将兵八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军大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士卒死者六万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仲通仅以身免。杨国忠掩其败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仍叙其战功。制大募两京及河南北兵以击南诏。人闻云南多瘴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未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士卒死者什八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莫肯应募。杨国忠遣御史分道捕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枷送诣军所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行者愁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母妻子送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在哭声振野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915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533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是古代诗歌中的一种文体。乐府诗中诗题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很多。这种诗体，音节、格律比较自由，形式多用五言、七言或杂言的古体，富于变化。古代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从军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乐府旧题，但杜甫却自拟乐府新题创作《兵车行》，继承并革新了乐府民歌体。为了表达感情的需要，杜甫不采用绝句、律诗那种格律严整的形式，而选用了灵活多变的句式，或三言，或五言，或七言，节奏疾徐顿挫，极富表现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146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00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1468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007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14680" y="5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0081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195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815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0"/>
                            </p:stCondLst>
                            <p:childTnLst>
                              <p:par>
                                <p:cTn id="30" nodeType="afterEffect" fill="hold" presetClass="entr" presetID="7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0"/>
                            </p:stCondLst>
                            <p:childTnLst>
                              <p:par>
                                <p:cTn id="35" nodeType="afterEffect" fill="hold" presetClass="entr" presetID="7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6000"/>
                            </p:stCondLst>
                            <p:childTnLst>
                              <p:par>
                                <p:cTn id="40" nodeType="afterEffect" fill="hold" presetClass="entr" presetID="7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1000"/>
                            </p:stCondLst>
                            <p:childTnLst>
                              <p:par>
                                <p:cTn id="45" nodeType="afterEffect" fill="hold" presetClass="entr" presetID="7" presetSubtype="8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6858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整体感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握文意，并概括每一段的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259092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送别场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征夫控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悲惨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28195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895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天怒人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35053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4572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行人但云点行频”、“武皇开边意未已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1:12:30Z</dcterms:created>
  <dc:creator>zdj</dc:creator>
  <dc:description/>
  <dc:language>en-US</dc:language>
  <cp:lastModifiedBy>zmj</cp:lastModifiedBy>
  <dcterms:modified xsi:type="dcterms:W3CDTF">2009-08-14T09:55:31Z</dcterms:modified>
  <cp:revision>14</cp:revision>
  <dc:subject/>
  <dc:title>PowerPoint 演示文稿</dc:title>
</cp:coreProperties>
</file>