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18F-7928-4648-841B-84128A13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A7B-E055-439B-8788-5C5FC659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BED-0702-4E2D-9DEA-A4AE46A4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666-3B5E-4F11-A75D-721DBF39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A33-21C1-4B1E-95BA-E7BBF389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DC5-C06A-4275-88CB-E55566E0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9DE-9D4A-4FC2-9EB5-BF63C3C3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A42-760C-4789-895D-608579F4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066-ADA6-4F4C-A420-78A3E394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255-DE67-453E-9529-57668E5F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1BD-8AF9-4CE2-BE8C-6FDBA7F6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FBD-3013-4B8C-88A2-F9E1C646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3991-3F2F-4C79-8B0A-7320C20DC3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324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533520"/>
            <a:ext cx="8277120" cy="228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句赏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“去时里正与裹头，归来头白还戍边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是对前两句“或从十五北防河，便至四十西营田”所作的形象说明，读罢使人心酸不已。古代孩子留长发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开始用头巾束发。如今，一个刚到柬发年龄还不怎么会束发的孩子就被征入伍，而且要到远离父母的北方去“防河”，这是何等可怜啊！所以，连里正也动了心，替他束发。人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头发渐白，又刚从前线回来，理当休息了，不料又被派到前线去。从这两件事可以看出统治者的残酷简直到了无以复加的地步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9856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04920"/>
            <a:ext cx="7813440" cy="27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有人说这首诗歌章法严密，请先从形式方面来说明这个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示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这首诗的结构方式古称“一头两脚体”。全诗共三段：第一段（即“头”）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（按乐句计算，下同），一韵到底；第二、三段（即“两脚”）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，并四次换韵。从整体看，节奏整齐而又略有变化；且各段皆自有起结，拆之则三，合则为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示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诗中多运用民歌中的顶真手法。如：“牵衣顿足拦道哭，哭声直上干云霄。”“道旁过者问行人，行人但云点行频。”“县官急索租，租税从何出？”这样写来，流转而下，气脉相联，累累如贯珠，朗读起来，铿锵和谐，优美动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457200"/>
            <a:ext cx="7218360" cy="222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示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诗中多处采用回应的手法，细针密线，天衣无缝。如“或从十五北防河，便至四十西营田”回应句“且如今年冬，未休关西卒”；“汉家山东二百州，千村万落生荆杞”回应句“县官急索租，租税从何出”；“况复秦兵耐苦战，被驱不异犬与鸡”回应句“信知生男恶，反是生女好”；“边庭流血成海水，武皇开边意未已”回应句“君不见青海头，古来白骨无人收”。这样回应，拓宽了诗的广度，增加了诗的厚度。从开元至天宝，从边塞到内地，从个体至群体，涉及政治、军事、经济、社会生活的方方面面，充分表现出杜诗的厚重质实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868680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唐玄宗天宝年间，朝廷对边疆少数民族发动频繁进攻。八载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哥舒翰奉命进攻吐蕃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石堡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在今青海省境内），久攻不下，后虽侥幸取胜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但所部六万三千人损失大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到这年冬天，所派驻龙驹岛（在青海湖中）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二千戍卒也全军覆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十载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5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四月，剑南节度使鲜于仲通又奉命进攻南诏（主要辖境在今云南省），结果大败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士卒死者六万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仲通仅以身免。由于这两次战争中丧师巨万，朝廷乃大举征兵。这件事，在《资治通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唐纪三十二》里有生动的记载：人闻云南多瘴疠，未战，士卒死者什八九，莫肯应募。杨国忠（时任宰相）遣御史分道捕人，连枷送诣军所……于是行者愁怨，父母妻子送之，所在哭声振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此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摧肝裂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图景在历史上也是罕见的！《兵车行》这首诗，很可能就是诗人见到这样图景的当时或其后不久写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-343080"/>
          <a:ext cx="9677520" cy="7258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43080"/>
                    <a:ext cx="9677520" cy="725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0"/>
            <a:ext cx="7696440" cy="1861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段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惨别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撼人心魄，诗人是如何描写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一开头，一个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写出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驱赶着上路，更写出了家人老小不忍亲人离去，而又不得不让亲人离去，又惟恐这一离去竟成永别的心情。多少人被征发，多少人追赶送别，诗人只写了一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尘埃不见咸阳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么具体而又形象。这个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人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众多，送行者之众多了。更妙的是，接下去诗人从视觉转而写到听觉，巧妙地运用了动词：牵（衣）、顿（足）、拦（道）、哭，勾勒了一幅撕心裂肺的画面。艺术地概括了不义战争给人民带来的痛苦，形成了一个强烈的悬念，抓住读者的心理，自然地引出下文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361800"/>
            <a:ext cx="8153280" cy="399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段解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头两句是诗意转换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段可分三层：前六句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一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先叙事后抒情。叙的是服役时间过长，占去人的大半生，有怨而不伤之意，至“归来头白还戍边”，怨情稍稍加重。下文“边庭”二句有怨有愤，为本段高潮点，应当读得掷地有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间四句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二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极言战争对农业生产造成的危害。用“君不闻”领起，是“行人”问“长者”，也是诗人诉诸读者，感情十分强烈，有指控之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后两句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三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是“行人”为自己也为同伴们申诉委屈，读时声调放低些，寓怨愤于嗟叹之中；读完可作稍长停顿，如乐曲中的半终止，为转换话题作铺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0"/>
            <a:ext cx="8458200" cy="3141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段解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前半段写秦兵家庭的困难。“长者”二句是承上启下话，当用比较柔和的调子读。“敢申恨”者，不是无恨，而是“申”亦无用，有奈何不得之意。“且如”四句当一气读出，但速度不宜快，要作低回之势，至“租税从何出”稍稍振起，因为“行人”的怨愤在这句话中表现得含蓄而又深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半段顺势说到“天下父母心”，“不重生男重生女”，简直令人悲痛欲绝，读至“生女”二句当再作低回之势，声调凄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最后四句为全诗高潮所在。“君不见”一句当突然振起，有指点之意。“古来”一句道尽战场的惨景，也集中地表达了“行人”和诗人的怨愤，要缓缓读出，“无人收”三字乃血泪铸成，尤应加以强调，使人能想见此中情景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699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99880"/>
            <a:ext cx="8413560" cy="2287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兵车行》一诗最大的艺术特点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兵车行》具有深刻的思想内容，在艺术表现上也很突出。首先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寓情于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中。这首叙事诗，无论是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描写叙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还是后一段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代人叙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诗人的激切、深沉的思想感情，都自然地融会在全诗之中。其次在叙述次序上参差错落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前后呼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开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井然有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的描写为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的倾诉作了渲染铺垫；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的长篇叙言又进一步地深化了前面场面描写的思想内容，前后相互补充，相互辉映。再次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叙事、抒情和议论紧紧结合，水乳交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如描述了“千村万落生荆杞”的荒凉景象后，就愤慨地责问“租税从何出”；在痛诉种种不幸之后，诗人又发出了生男不如生女的感叹，其中不知含有多少激愤之情。这样叙议结合，既使主题突出，又使感情回环往复，极具感染力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762120"/>
            <a:ext cx="7696440" cy="2043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首诗的意义还不止于此，更为重要的是，它表现了诗人反对“开边”战争的坚定立场。“边庭流血成海水，武皇开意未已”，说明他认识到这种不义的战争是一切苦难的根源；他敢于把战争的责任加在最高统治者身上，这样的勇气是当时众多的诗人所不具有的。诗人的这种立场是一贯的，在《前出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一》中他写道：“君己富士境，开边一何多。”这正是杜诗人民性之所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01:36:41Z</dcterms:created>
  <dc:creator>chenhaiying</dc:creator>
  <dc:description/>
  <dc:language>en-US</dc:language>
  <cp:lastModifiedBy>chenhaiying</cp:lastModifiedBy>
  <dcterms:modified xsi:type="dcterms:W3CDTF">2006-07-07T03:56:30Z</dcterms:modified>
  <cp:revision>13</cp:revision>
  <dc:subject/>
  <dc:title>PowerPoint 演示文稿</dc:title>
</cp:coreProperties>
</file>