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397-C5BA-4746-835F-F8CA91A5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C88-4EEF-4E1F-8006-2422E4BB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819-62F0-4B3E-BA23-7FDA58C2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9175-485E-40FA-B56A-61AF54F7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282B-4E4E-4EE4-826B-E94E487A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6C5A-3411-4147-ACED-FAC9B38F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A835-B0F4-4AC6-AD34-8FDC0DC8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2EDA-8EB6-4EBD-9DCC-F5646812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2AE7-4C60-4508-9AD6-9EA7DF49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FE93-6597-4F4B-9762-091590E6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F796-8DE3-4169-BC8E-C9BA2894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1C6-F377-4FCC-AB62-97E5B022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33DC-A391-46CE-8381-A3772C85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459C-B380-4F75-B69E-2E96AE29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F867-82FC-4E09-915E-A0336DC9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2DE6-E606-4945-AAF9-74BD3EDC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337D-25A3-4CF7-A69A-B5279511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C39-3089-4C33-95CB-26723455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BC0-770A-41CC-913A-EEFF6C80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37C-A093-4AAB-9CD9-F7007F39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9E8-353E-42F5-A13A-C9A7FD76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D39-FCC3-407F-BB85-ED5480C0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872-7AC3-4FF9-BBF8-6457E5BF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D79-779B-459C-9108-06324E2C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F5D2-3B72-4D3D-A941-D69EB05DC708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49C0-361D-433F-81EB-5291F6D894AE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79280" y="189000"/>
            <a:ext cx="5905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66ffff"/>
                </a:solidFill>
                <a:latin typeface="Tahoma"/>
                <a:ea typeface="方正舒体"/>
              </a:rPr>
              <a:t>边城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65080" y="22050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</a:rPr>
              <a:t>（节选）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4000" y="3645000"/>
            <a:ext cx="8569080" cy="64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ahoma"/>
                <a:ea typeface="仿宋_GB2312"/>
              </a:rPr>
              <a:t>　　熔生动丰富的社会风俗画和优美清新的风情风景画于一炉，展示民性的粗犷强悍，民俗的醇厚善良，充溢着浓厚的乡土气息和返璞归真的牧歌情调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E5D-A476-4322-9C63-2BBE098C3C16}" type="slidenum">
              <a:t>1</a:t>
            </a:fld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42920" y="7650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作者认为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仿宋_GB2312"/>
              </a:rPr>
              <a:t>不管是故事还是人生，一切都应当美一点，丑的东西虽不全都是罪恶，总不能使人愉快，也无从令人由痛苦见出生命的庄严，产生那个高尚情操。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谈谈文中写了那些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71640" y="3174840"/>
            <a:ext cx="446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湘西的青山绿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边民纯朴的风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祖孙相依为命的亲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翠翠纯真的初恋之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786-6C08-420E-A7C8-CA284941CF47}" type="slidenum">
              <a:t>10</a:t>
            </a:fld>
          </a:p>
        </p:txBody>
      </p:sp>
    </p:spTree>
  </p:cSld>
  <p:transition spd="slow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95280" y="334800"/>
            <a:ext cx="842472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仿宋_GB2312"/>
              </a:rPr>
              <a:t>爷儿俩外，再无他人，相依为命，互为关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爷爷身体硬朗，精神好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孙女长大成人，到了谈婚论嫁的年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仿宋_GB2312"/>
              </a:rPr>
              <a:t>为孙女的婚姻操心，本身就充满温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生活环境美；月夜景色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仿宋_GB2312"/>
              </a:rPr>
              <a:t>翠翠本人的玫瑰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翠翠母亲的朦胧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仿宋_GB2312"/>
              </a:rPr>
              <a:t>大老、二老的“君子风度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二老的不爱碾坊爱渡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028000" y="3505320"/>
            <a:ext cx="792000" cy="1312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13500000"/>
          </a:gradFill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ahoma"/>
                <a:ea typeface="幼圆"/>
              </a:rPr>
              <a:t>美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ahoma"/>
                <a:ea typeface="幼圆"/>
              </a:rPr>
              <a:t>何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A2E-47E1-472F-8C26-17A4A960338C}" type="slidenum">
              <a:t>11</a:t>
            </a:fld>
          </a:p>
        </p:txBody>
      </p:sp>
    </p:spTree>
  </p:cSld>
  <p:transition spd="slow"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44360" y="439560"/>
            <a:ext cx="882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黄昏照样的温柔、美丽和平静。但一个人若体念或追究到这个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仿宋_GB2312"/>
              </a:rPr>
              <a:t>当前一切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时，也就照样的在黄昏中会有点薄薄的凄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</a:rPr>
              <a:t>试列举“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当前一切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</a:rPr>
              <a:t>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8000" y="285264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　随着年龄增长，生命成熟，心里产生一种寂寞孤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　感觉到生活平凡，有一种新的需要。新的感情的追求而不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　黄昏了，爷爷摆渡还不回来，一个人守着空落落的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　父母早亡，家中一老一小，实在可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27F-803D-48BF-8785-87BDBD7BBAA7}" type="slidenum">
              <a:t>12</a:t>
            </a:fld>
          </a:p>
        </p:txBody>
      </p:sp>
    </p:spTree>
  </p:cSld>
  <p:transition spd="slow"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93840" y="738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</a:rPr>
              <a:t>中国古典小说喜欢用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仿宋_GB2312"/>
              </a:rPr>
              <a:t>草蛇灰线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</a:rPr>
              <a:t>的技法，前后情节往往有一定的照应，前文为后文埋下伏笔，如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5280" y="2565360"/>
            <a:ext cx="84978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翠翠梦见自己在山崖摘虎耳草—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　外公给翠翠讲父母的故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翠翠问外公“万一我跑了呢”—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　翠翠想坐船下桃源县过洞庭湖让外公寻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外公所唱的歌便是那晚上听来的—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　傩送唱了一夜的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11A-509E-4474-AD13-7A8DA5B47A18}" type="slidenum">
              <a:t>13</a:t>
            </a:fld>
          </a:p>
        </p:txBody>
      </p:sp>
    </p:spTree>
  </p:cSld>
  <p:transition spd="slow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95280" y="422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翠翠（一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翠翠天真善良，温柔清纯。她与外公相依为命，对外公关怀备至，因外公不理解他的心事，她就幻想逃出让外公去找他；想到外公找不到她时的无奈，又为外公担心起来。她情窦初开，爱上了傩送，感情纯洁真挚。之后傩送远去，她又矢志不渝的等待着傩送的归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385272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翠翠在成长的过程中，少了一点乖巧，多了一些沉思；少了一些欢笑，多了一份羞涩。对爱情的希望，是她此刻占据心灵的一件事。和祖父的亲情与对爱情的企盼，猜测，相互交织，折射出一种人性的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4C15-902C-4B3A-9E98-BDE18935EC6D}" type="slidenum">
              <a:t>14</a:t>
            </a:fld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95280" y="1011240"/>
            <a:ext cx="8569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翠翠（二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翠翠自幼父母双亡，内心无比孤独。虽有外公无微不至照顾自己，但外公并不能真正理解她一个青春少女的情怀。她为这无奈的生活而痛哭，外公不能明白她的哀痛，教育她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仿宋_GB2312"/>
              </a:rPr>
              <a:t>不许哭，做一个大人……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对一个花季少女说这样的一些话，太不实际了。天保和傩送为她如何，她不知道，好像与她无关，没有人告诉她那些事情的前因后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845-D215-4B01-95C8-B8BE868E2F71}" type="slidenum">
              <a:t>15</a:t>
            </a:fld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044720" y="574560"/>
            <a:ext cx="4679640" cy="204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《边城》的故事情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详见注解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沈从文简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详见《优化设计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9280" y="3048120"/>
            <a:ext cx="8893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汪曾祺《胡同文化》与“京派作家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《边城》既是现实主义的又是浪漫主义的，《边城》的生活是真实的又是理想化了的。为什么要浪漫主义？为什么要理想化？因为想留住一点美好的永恒的东西，让它常在，并且常新，以利于后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A06-0307-4B21-A5C1-61A7DA7A4A8A}" type="slidenum">
              <a:t>2</a:t>
            </a:fld>
          </a:p>
        </p:txBody>
      </p:sp>
    </p:spTree>
  </p:cSld>
  <p:transition spd="slow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95280" y="3048120"/>
            <a:ext cx="85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世上最美的东西莫过于凄婉缠绵的情思，玉溪生李商隐说“春心莫与花争发，一寸相思一寸灰”，鲍照也说“两相思，两不知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沈从文用湘西的青山绿水、古朴醇厚的世俗人情，表现他心中的缠绵质朴的爱和人性的美，我们一起来发现它，展示它，品味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5280" y="547560"/>
            <a:ext cx="8459640" cy="106884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仿宋_GB2312"/>
              </a:rPr>
              <a:t>　　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</a:rPr>
              <a:t>美字笔画并不多，可是似乎很不容易认识，爱字虽人人认识，可是真懂得它意义的人却很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仿宋_GB2312"/>
              </a:rPr>
              <a:t>　　　　　　　　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幼圆"/>
              </a:rPr>
              <a:t>沈从文《在昆明的时候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C51-4726-478A-829D-1ED7E30CA9C4}" type="slidenum">
              <a:t>3</a:t>
            </a:fld>
          </a:p>
        </p:txBody>
      </p:sp>
    </p:spTree>
  </p:cSld>
  <p:transition spd="slow"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867280" y="260280"/>
            <a:ext cx="2987640" cy="1079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66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12000" y="40464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方正姚体"/>
              </a:rPr>
              <a:t>情节与场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620640"/>
            <a:ext cx="84978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　　黄昏来时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翠翠坐在家中屋后白塔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1" lang="zh-CN" sz="3600" spc="-1" strike="noStrike">
                <a:solidFill>
                  <a:srgbClr val="66ff33"/>
                </a:solidFill>
                <a:latin typeface="Tahoma"/>
                <a:ea typeface="仿宋_GB2312"/>
              </a:rPr>
              <a:t>看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ahoma"/>
                <a:ea typeface="仿宋_GB2312"/>
              </a:rPr>
              <a:t>　　感到凄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ahoma"/>
                <a:ea typeface="仿宋_GB2312"/>
              </a:rPr>
              <a:t>　　胡思乱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ahoma"/>
                <a:ea typeface="仿宋_GB2312"/>
              </a:rPr>
              <a:t>　　喊爷爷回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ahoma"/>
                <a:ea typeface="仿宋_GB2312"/>
              </a:rPr>
              <a:t>　　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FE8-0A7B-445F-B414-63485FBF889C}" type="slidenum">
              <a:t>4</a:t>
            </a:fld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867280" y="260280"/>
            <a:ext cx="2987640" cy="1079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66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12000" y="40464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方正姚体"/>
              </a:rPr>
              <a:t>情节与场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19280" y="1722600"/>
            <a:ext cx="475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祖父把船拉回来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66ff33"/>
                </a:solidFill>
                <a:latin typeface="Tahoma"/>
                <a:ea typeface="仿宋_GB2312"/>
              </a:rPr>
              <a:t>回到屋中烧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ahoma"/>
                <a:ea typeface="仿宋_GB2312"/>
              </a:rPr>
              <a:t>　　二次喊叫祖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ahoma"/>
                <a:ea typeface="仿宋_GB2312"/>
              </a:rPr>
              <a:t>　　悲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ahoma"/>
                <a:ea typeface="仿宋_GB2312"/>
              </a:rPr>
              <a:t>　　祖父自言自语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132-552A-4082-BC5E-7F7644EBA13A}" type="slidenum">
              <a:t>5</a:t>
            </a:fld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867280" y="260280"/>
            <a:ext cx="2987640" cy="1079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66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2000" y="40464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方正姚体"/>
              </a:rPr>
              <a:t>情节与场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19280" y="1938240"/>
            <a:ext cx="6192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老船夫回到家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66ff33"/>
                </a:solidFill>
                <a:latin typeface="Tahoma"/>
                <a:ea typeface="仿宋_GB2312"/>
              </a:rPr>
              <a:t>今天家里的情形与往常不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ahoma"/>
                <a:ea typeface="仿宋_GB2312"/>
              </a:rPr>
              <a:t>　　讲不能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ahoma"/>
                <a:ea typeface="仿宋_GB2312"/>
              </a:rPr>
              <a:t>　　讲翠翠父母的故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ahoma"/>
                <a:ea typeface="仿宋_GB2312"/>
              </a:rPr>
              <a:t>　　美丽的夜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388-CC4B-476D-8592-05DADD825444}" type="slidenum">
              <a:t>6</a:t>
            </a:fld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867280" y="260280"/>
            <a:ext cx="2987640" cy="1079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66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12000" y="40464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方正姚体"/>
              </a:rPr>
              <a:t>情节与场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16000" y="1278000"/>
            <a:ext cx="6985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ahoma"/>
              </a:rPr>
              <a:t>晚上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翠翠做了个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　爷爷听人唱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　（不告诉翠翠有人唱歌的事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ahoma"/>
              </a:rPr>
              <a:t>第二天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翠翠告诉爷爷做了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　爷爷去城里见大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　　　（不告诉翠翠见大老的事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B77-3D00-4103-8569-B62B40832130}" type="slidenum">
              <a:t>7</a:t>
            </a:fld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867280" y="260280"/>
            <a:ext cx="2987640" cy="1079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66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12000" y="40464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方正姚体"/>
              </a:rPr>
              <a:t>情节与场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412920"/>
            <a:ext cx="7129800" cy="61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促翠翠注意夜晚的歌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66ff33"/>
                </a:solidFill>
                <a:latin typeface="Tahoma"/>
              </a:rPr>
              <a:t>你预备怎么样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（炒菜要人吃，唱歌要人听。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ahoma"/>
              </a:rPr>
              <a:t>　　愿意哪一个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（没有得到回答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美丽的夜色下没有人唱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66ff33"/>
                </a:solidFill>
                <a:latin typeface="Tahoma"/>
              </a:rPr>
              <a:t>无奈　遗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ahoma"/>
              </a:rPr>
              <a:t>　　吹芦管　走不走的谈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ahoma"/>
              </a:rPr>
              <a:t>　　祖父为翠翠唱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26E-4916-4953-95CC-B1784D4FD443}" type="slidenum">
              <a:t>8</a:t>
            </a:fld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71640" y="2227320"/>
            <a:ext cx="6445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仿宋_GB2312"/>
              </a:rPr>
              <a:t>骄宠、依顺。尽量照顾她的情绪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仿宋_GB2312"/>
              </a:rPr>
              <a:t>教育翠翠要坚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仿宋_GB2312"/>
              </a:rPr>
              <a:t>给翠翠将她父母的故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仿宋_GB2312"/>
              </a:rPr>
              <a:t>亲自过问翠翠的婚姻大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仿宋_GB2312"/>
              </a:rPr>
              <a:t>为翠翠吹笛唱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8000" y="92232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　　作者说这篇小说是为人类爱字作一度恰如其分的说明。请列举爷爷对孙女爱的具体表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C05-1839-4D10-BE76-2FF3FE6F2B41}" type="slidenum">
              <a:t>9</a:t>
            </a:fld>
          </a:p>
        </p:txBody>
      </p:sp>
    </p:spTree>
  </p:cSld>
  <p:transition spd="slow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7:12:59Z</dcterms:created>
  <dc:creator>车传鹤</dc:creator>
  <dc:description/>
  <dc:language>en-US</dc:language>
  <cp:lastModifiedBy>陈卫香</cp:lastModifiedBy>
  <dcterms:modified xsi:type="dcterms:W3CDTF">2006-02-13T12:11:34Z</dcterms:modified>
  <cp:revision>50</cp:revision>
  <dc:subject/>
  <dc:title>边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54392291</vt:r8>
  </property>
  <property fmtid="{D5CDD505-2E9C-101B-9397-08002B2CF9AE}" pid="3" name="_ReviewingToolsShownOnce">
    <vt:lpwstr/>
  </property>
</Properties>
</file>