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EDC3-3804-4E87-AFB1-90094F9E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FEFF-2A2B-4361-B86F-AE2012BB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3DFC-C69F-4E97-B2DB-95F7C0B2F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430B-331C-4A4F-9784-3B53723C0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8139-BCB4-4B22-8A53-2E81DE78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7FBB-7B1A-497D-9A7B-AE8E9F9A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11AA-5363-44FC-9B20-35766EB9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9F46-331F-4E13-AF28-BA4E004D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843E-B87B-455B-9FA4-5440FE88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EE4B-9F7F-4889-94BA-E2F3B533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ABA6-F546-4674-B5BD-5A087880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044A-5005-4759-8691-E5590384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68D3-FD01-4AE5-9338-3AE4C084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DD03-C028-48E7-BAF6-F10B251A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7D37-2F73-4C1D-827E-1F143463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E6FC-02F6-4825-8BEB-649BC43F4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4809-7C8B-4214-8AE5-C71AC54B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0C51-6EE0-4690-ADCB-AA4E5371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D824-3B3E-481F-BF2C-7632CC5B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7DEC-C3F6-4E28-8A27-021569A7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E8B9-7E52-477B-A7B7-7AB992EF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521E-B14D-4D64-9269-1AE7251F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7553-742E-45AE-86E7-D3AC6A1C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89AD-18F4-46A0-AB4C-0F46EE76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F331-398A-47DD-AC82-DB8FA63ACE7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B267-C67D-45B4-A95E-D6686C04182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Times New Roman"/>
              </a:rPr>
              <a:t>阿西莫夫科普短文两篇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阿西莫夫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ccecff"/>
                </a:solidFill>
                <a:latin typeface="Times New Roman"/>
              </a:rPr>
              <a:t>关于“大陆漂移假说”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ff00"/>
                </a:solidFill>
                <a:uFillTx/>
                <a:latin typeface="Times New Roman"/>
              </a:rPr>
              <a:t>“</a:t>
            </a:r>
            <a:r>
              <a:rPr b="1" i="1" lang="zh-CN" sz="3600" spc="-1" strike="noStrike" u="sng">
                <a:solidFill>
                  <a:srgbClr val="ffff00"/>
                </a:solidFill>
                <a:uFillTx/>
                <a:latin typeface="Times New Roman"/>
              </a:rPr>
              <a:t>大陆漂移假说”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是以大陆和海洋形成的几种理论为基础所形成的大陆学说之一。它是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91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由德国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L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韦格纳根据大西洋两岸的非洲和南美洲海岸线能互相衔接，两岸的地层、构造、岩相、古生物和古气候等极为相似并呈连续状的现象提出的。认为大西洋两岸和其他地区间的古生物有亲缘关系，不是由于“陆桥”的存在，而是由于非洲和南美洲等曾直接连接；古生代二叠纪肘，地球上只有一个联合大陆，当时大西洋和印度洋并不存在；中生代以后，联合大陆开始破裂并漂移，逐步形成现今海陆布局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3059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cc"/>
                </a:solidFill>
                <a:latin typeface="Times New Roman"/>
                <a:ea typeface="华文行楷"/>
              </a:rPr>
              <a:t>复述“泛大陆”如何分离成七大洲的过程。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ecff"/>
                </a:solidFill>
                <a:latin typeface="华文行楷"/>
                <a:ea typeface="华文行楷"/>
              </a:rPr>
              <a:t>阅读《被压扁的沙子》质疑讨论： 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什么是“撞击说”？什么是“火山说”？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你认为哪种说法更有道理？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请从课文中找出依据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Times New Roman"/>
              </a:rPr>
              <a:t>写作特色：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语言准确。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在一个科学领域作出的发现肯定会对其他领域产生影响”中的“肯定”一词，又如“这个问题最终也许会得到解决”中的“最终也许”和“毫无疑问，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650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万年前地球上曾有过一次‘大绝灭”’中的“毫无疑问”等都能体现语言的严密和准确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这两篇短文都采用了平实的说明形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这两篇文章都是通过列举大量的实例来证明“恐龙的灭绝是由大陆漂移”和“恐龙的灭绝是由撞击造成”这两种观点。例证是科学的求证方法，也是平实说明的一种形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dd1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dd1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fdd1"/>
                </a:solidFill>
                <a:latin typeface="Times New Roman"/>
              </a:rPr>
              <a:t>．加点字注音有误的是    </a:t>
            </a:r>
            <a:r>
              <a:rPr b="1" lang="zh-CN" sz="4400" spc="-1" strike="noStrike">
                <a:solidFill>
                  <a:srgbClr val="fffdd1"/>
                </a:solidFill>
                <a:latin typeface="Times New Roman"/>
              </a:rPr>
              <a:t>(     )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．循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xún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环    贮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zhù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藏    底蕴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yùn)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粗糙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cā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．吃荤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hūn)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细胞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bāo)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消耗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hào)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沟壑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hè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．腐蚀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shí)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龟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jūn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裂    山麓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lù)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糠麸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fū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．劫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jié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难    遗骸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hé)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追溯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shuò)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zhé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dd1"/>
                </a:solidFill>
                <a:latin typeface="Times New Roman"/>
              </a:rPr>
              <a:t>词语书写没有错误的一组是 </a:t>
            </a:r>
            <a:r>
              <a:rPr b="1" lang="zh-CN" sz="4400" spc="-1" strike="noStrike">
                <a:solidFill>
                  <a:srgbClr val="fffdd1"/>
                </a:solidFill>
                <a:latin typeface="Times New Roman"/>
              </a:rPr>
              <a:t>(     )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2134080" y="1142640"/>
            <a:ext cx="112777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赫赫有名    海枯石烂    日益增多    查无音讯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孜孜不倦    雨后春笋    悬而未诀    天衣无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变幻莫测    旦夕祸福    防不胜防    谈虎色变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喜出望外    漏洞百出    蛛丝马迹    忧心仲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6.</a:t>
            </a: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下列带点词语的拼音全部正确的一项是    </a:t>
            </a: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(    )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．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Zhě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皱  劫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jié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难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．遗骸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haí)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蟾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yú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两栖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qī)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深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yuān)     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．追溯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suó)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yǎn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7.</a:t>
            </a: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下列词浯有错误的一项是    </a:t>
            </a: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(    )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．流逝    时间流逝    流失    水土流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．熔化    岩石熔化    融化    冰雪融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．导致    导致失败    倒置    本末倒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．漂移    大陆漂移    飘逸    白云飘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9.</a:t>
            </a: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把下列句子压缩到最简形式。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①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何由火山携带而来的斯石英都被转化为普通的二氧化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答：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②“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板块构造”理论很快为地质界几乎所有的问题提供了答案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答：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cc"/>
                </a:solidFill>
                <a:latin typeface="华文行楷"/>
                <a:ea typeface="华文行楷"/>
              </a:rPr>
              <a:t>生字 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蟾蜍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(                         )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褶皱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(                         )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劫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(       )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难     遗骸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(        )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追搠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(       )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天衣无缝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(         )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俯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(       )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冲       尘埃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(       )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87600" y="1371600"/>
            <a:ext cx="334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chán    ch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22320" y="228600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zhě     zò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02640" y="3048120"/>
            <a:ext cx="90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jié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31520" y="297180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hái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02560" y="3886200"/>
            <a:ext cx="82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s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41320" y="3962520"/>
            <a:ext cx="14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fè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07680" y="4876920"/>
            <a:ext cx="79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fǔ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79280" y="487692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āi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</a:rPr>
              <a:t>词语解释：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【褶皱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【争论不休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【劫难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【致密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【追溯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【天衣无缝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838080"/>
            <a:ext cx="6858000" cy="6426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由于地壳运动，岩层受到挤压而形成的弯曲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33000" y="2133720"/>
            <a:ext cx="403200" cy="6426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争论不停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2895480"/>
            <a:ext cx="2936880" cy="6426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灾难：灾祸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42280" y="3581280"/>
            <a:ext cx="403200" cy="6426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细致精密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4343400"/>
            <a:ext cx="6858000" cy="6426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逆流而上，向江河发源处走，比喻探索事物的由来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5667480"/>
            <a:ext cx="5867640" cy="6426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比喻事物完美自然，混然天成，没有破绽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1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Times New Roman"/>
                <a:ea typeface="华文行楷"/>
              </a:rPr>
              <a:t>作者简介：</a:t>
            </a: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 u="sng">
                <a:solidFill>
                  <a:srgbClr val="ffff00"/>
                </a:solidFill>
                <a:uFillTx/>
                <a:latin typeface="Times New Roman"/>
              </a:rPr>
              <a:t>艾萨克</a:t>
            </a:r>
            <a:r>
              <a:rPr b="1" i="1" lang="zh-CN" sz="4800" spc="-1" strike="noStrike" u="sng">
                <a:solidFill>
                  <a:srgbClr val="ffff00"/>
                </a:solidFill>
                <a:uFillTx/>
                <a:latin typeface="Times New Roman"/>
              </a:rPr>
              <a:t>·</a:t>
            </a:r>
            <a:r>
              <a:rPr b="1" i="1" lang="zh-CN" sz="4800" spc="-1" strike="noStrike" u="sng">
                <a:solidFill>
                  <a:srgbClr val="ffff00"/>
                </a:solidFill>
                <a:uFillTx/>
                <a:latin typeface="Times New Roman"/>
              </a:rPr>
              <a:t>阿西莫夫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(1920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1992)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，美国著名科普作家和科学幻想小说家。他于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1920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年生于俄国，三岁时跟随全家迁居美国。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1949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年他获得了哥伦比亚大学的物理学博士学位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ccecff"/>
                </a:solidFill>
                <a:latin typeface="Times New Roman"/>
              </a:rPr>
              <a:t>恐龙：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05280" y="1218960"/>
            <a:ext cx="9448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zh-CN" sz="4000" spc="-1" strike="noStrike" u="sng">
                <a:solidFill>
                  <a:srgbClr val="ffff00"/>
                </a:solidFill>
                <a:uFillTx/>
                <a:latin typeface="Times New Roman"/>
              </a:rPr>
              <a:t>恐龙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是生物史上最引入注目的已绝灭的爬行动物。它们在晚三叠世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或中三叠世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由假鳄类进化而来，至晚白垩世绝灭，在地球上生活了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亿年。在中生代恐龙成为最繁盛的动物之一，故此，中生代被称为“恐龙时代”。中国是世界上少有的几个恐龙化石丰富的国家，到目前为止，世界上发现了约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50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个恐龙届，中国就有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80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个左右，约占总数的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％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</a:rPr>
              <a:t>阅读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Times New Roman"/>
              </a:rPr>
              <a:t>《恐龙无处不在》</a:t>
            </a:r>
            <a:r>
              <a:rPr b="1" lang="zh-CN" sz="4400" spc="-1" strike="noStrike">
                <a:solidFill>
                  <a:srgbClr val="ffffcc"/>
                </a:solidFill>
                <a:latin typeface="Times New Roman"/>
              </a:rPr>
              <a:t>质疑、讨论：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为什么说恐龙无处不在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在南极发现恐龙化石说明了么问题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什么是“板块构造”理论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12:10Z</dcterms:created>
  <dc:creator/>
  <dc:description/>
  <dc:language>en-US</dc:language>
  <cp:lastModifiedBy>周慧</cp:lastModifiedBy>
  <dcterms:modified xsi:type="dcterms:W3CDTF">2005-02-14T07:16:37Z</dcterms:modified>
  <cp:revision>14</cp:revision>
  <dc:subject/>
  <dc:title>阿西莫夫科普短文两篇</dc:title>
</cp:coreProperties>
</file>