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10.jpeg" ContentType="image/jpeg"/>
  <Override PartName="/ppt/media/image8.jpeg" ContentType="image/jpeg"/>
  <Override PartName="/ppt/media/image4.jpeg" ContentType="image/jpe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5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0.png" ContentType="image/png"/>
  <Override PartName="/ppt/media/image2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25.png" ContentType="image/png"/>
  <Override PartName="/ppt/media/image19.jpeg" ContentType="image/jpeg"/>
  <Override PartName="/ppt/media/image21.png" ContentType="image/png"/>
  <Override PartName="/ppt/media/image22.png" ContentType="image/png"/>
  <Override PartName="/ppt/media/image11.jpeg" ContentType="image/jpeg"/>
  <Override PartName="/ppt/media/image24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4E2-C6E2-493E-B295-7761EF17A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1503-3010-404B-94BA-65B6B4975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F1C6-A8FC-434F-B81E-D27B4029F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B645-9179-4E22-9D39-E6A3CFF50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3E6-1FCB-49D1-A019-24615AE2A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2515-7FDB-4302-A35F-602672F5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6F1-7511-42CA-9F1F-D76AC6CC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C96D-14AF-4FD6-8D50-D1FB2878B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68F0-710B-4ACD-9429-0D2CCF18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B95A-2EA8-46A6-B3C1-6084B9D2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766D-7A6F-4AC2-BA3D-A5F3B8B0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0B3B-8232-4717-8C85-EE37279CA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DDFE-085C-4670-B431-BFB46C6B17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ECORD18.WAV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people.com.cn/GB/guandian/183/4970/4981/20010410/438008.html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RECORD7.WAV" TargetMode="External"/><Relationship Id="rId3" Type="http://schemas.openxmlformats.org/officeDocument/2006/relationships/image" Target="../media/image10.jpeg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" Target="slide11.xml"/><Relationship Id="rId4" Type="http://schemas.openxmlformats.org/officeDocument/2006/relationships/image" Target="../media/image14.jpeg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../&#26032;&#24314;&#25991;&#20214;&#22841;/&#26032;&#24314;%20Microsoft%20Word%20&#25991;&#26723;.doc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8463;Q&#27491;&#20256;%201.htm" TargetMode="External"/><Relationship Id="rId3" Type="http://schemas.openxmlformats.org/officeDocument/2006/relationships/hyperlink" Target="file:///&#38463;Q&#27491;&#20256;%201.htm" TargetMode="External"/><Relationship Id="rId4" Type="http://schemas.openxmlformats.org/officeDocument/2006/relationships/hyperlink" Target="file:///&#38463;Q&#27491;&#20256;%201.htm" TargetMode="External"/><Relationship Id="rId5" Type="http://schemas.openxmlformats.org/officeDocument/2006/relationships/hyperlink" Target="file:///&#38463;Q&#27491;&#20256;%201.htm" TargetMode="External"/><Relationship Id="rId6" Type="http://schemas.openxmlformats.org/officeDocument/2006/relationships/hyperlink" Target="file:///&#38463;Q&#27491;&#20256;%202.htm" TargetMode="External"/><Relationship Id="rId7" Type="http://schemas.openxmlformats.org/officeDocument/2006/relationships/hyperlink" Target="file:///&#38463;Q&#27491;&#20256;%202.htm" TargetMode="External"/><Relationship Id="rId8" Type="http://schemas.openxmlformats.org/officeDocument/2006/relationships/hyperlink" Target="file:///&#38463;Q&#27491;&#20256;%202.htm" TargetMode="External"/><Relationship Id="rId9" Type="http://schemas.openxmlformats.org/officeDocument/2006/relationships/hyperlink" Target="file:///&#38463;Q&#27491;&#20256;%202.htm" TargetMode="External"/><Relationship Id="rId10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8463;Q&#27491;&#20256;%202.htm" TargetMode="External"/><Relationship Id="rId3" Type="http://schemas.openxmlformats.org/officeDocument/2006/relationships/hyperlink" Target="file:///&#38463;Q&#27491;&#20256;%202.htm" TargetMode="External"/><Relationship Id="rId4" Type="http://schemas.openxmlformats.org/officeDocument/2006/relationships/hyperlink" Target="file:///&#38463;Q&#27491;&#20256;%202.htm" TargetMode="External"/><Relationship Id="rId5" Type="http://schemas.openxmlformats.org/officeDocument/2006/relationships/hyperlink" Target="file:///&#38463;Q&#27491;&#20256;%202.htm" TargetMode="External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G:/RECORD7.WAV" TargetMode="External"/><Relationship Id="rId3" Type="http://schemas.openxmlformats.org/officeDocument/2006/relationships/hyperlink" Target="file:///&#38463;Q&#27491;&#20256;%203.htm" TargetMode="External"/><Relationship Id="rId4" Type="http://schemas.openxmlformats.org/officeDocument/2006/relationships/hyperlink" Target="file:///&#38463;Q&#27491;&#20256;%203.htm" TargetMode="External"/><Relationship Id="rId5" Type="http://schemas.openxmlformats.org/officeDocument/2006/relationships/hyperlink" Target="file:///&#38463;Q&#27491;&#20256;%203.htm" TargetMode="External"/><Relationship Id="rId6" Type="http://schemas.openxmlformats.org/officeDocument/2006/relationships/hyperlink" Target="file:///&#38463;Q&#27491;&#20256;%203.htm" TargetMode="External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&#38463;Q&#27491;&#20256;%203.htm" TargetMode="External"/><Relationship Id="rId3" Type="http://schemas.openxmlformats.org/officeDocument/2006/relationships/hyperlink" Target="file:///&#38463;Q&#27491;&#20256;%203.htm" TargetMode="External"/><Relationship Id="rId4" Type="http://schemas.openxmlformats.org/officeDocument/2006/relationships/hyperlink" Target="file:///&#38463;Q&#27491;&#20256;%203.htm" TargetMode="External"/><Relationship Id="rId5" Type="http://schemas.openxmlformats.org/officeDocument/2006/relationships/hyperlink" Target="file:///&#38463;Q&#27491;&#20256;%203.htm" TargetMode="External"/><Relationship Id="rId6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Nanyang%20Online.htm" TargetMode="External"/><Relationship Id="rId3" Type="http://schemas.openxmlformats.org/officeDocument/2006/relationships/hyperlink" Target="file:///Nanyang%20Online.htm" TargetMode="External"/><Relationship Id="rId4" Type="http://schemas.openxmlformats.org/officeDocument/2006/relationships/hyperlink" Target="file:///Nanyang%20Online.htm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66688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6386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阿</a:t>
            </a: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Q</a:t>
            </a: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正传  </a:t>
            </a: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鲁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84872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迅在他生命的最后时刻，还奉献出了一本小说集《故事新编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故事新编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是古代的神话传说中的英雄：女娲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补天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后羿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奔月》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或是历史中的圣贤人物：孔子、老子等等鲁迅的笔下却全都抹去了英雄的神光，还原于常人、凡人的本相。因此，《奔月》不写射日英雄后羿当年的赫赫战功，而竭力写他功成名就“以后”，成为普通人的遭遇：天下的鸟兽全被射死，再无用武之地，只能整日为吃食而奔波；被人们冷落、遗忘不说，学生也来暗算自己了，最后连老婆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嫦娥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也远走高飞：这“先驱者的命运”的思考与表现，发人深省。整部《故事新编》充满了鲁迅式的幽默，而骨子里仍然藏着固有的悲凉；此时的鲁迅正面临死亡的威胁，处于身心交瘁之中，却能写出如此从容、洒脱的文字，这正意味着他的思想与艺术都已经达到了一个新的境界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3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这位本世纪中国与世界的文学大师，放下了手中的笔；这位思想的巨人，停止了思想。成千上万的普通人自动地来为他送行，在他的灵柩上覆盖着一面旗帜，上面写着三个字：       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民族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BlockItem_7470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1352520" cy="36576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aqzz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312408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276360" y="914040"/>
            <a:ext cx="556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《阿Ｑ正传》于１９２１年１２月４日至１９２２年２月１２日在《晨报副刊》上连载，署名为巴人。后收入第一部小说集《呐喊》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3200400" y="-360"/>
            <a:ext cx="3581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传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简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76720" y="251460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在《呐喊》这部小说里还塑造了哪些形象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35053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明确：《呐喊》反映了从辛亥革命到五四运动前后的中国社会，特别是在帝国主义和封建主义压迫下的农村和小城镇中的人物形象。如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nextslide"/>
            <a:hlinkClick r:id="rId4"/>
          </p:cNvPr>
          <p:cNvSpPr/>
          <p:nvPr/>
        </p:nvSpPr>
        <p:spPr>
          <a:xfrm>
            <a:off x="5715000" y="4724280"/>
            <a:ext cx="762120" cy="38124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3159" h="21600">
                <a:moveTo>
                  <a:pt x="0" y="0"/>
                </a:moveTo>
                <a:lnTo>
                  <a:pt x="43159" y="0"/>
                </a:lnTo>
                <a:lnTo>
                  <a:pt x="43159" y="21600"/>
                </a:lnTo>
                <a:lnTo>
                  <a:pt x="0" y="21600"/>
                </a:lnTo>
                <a:close/>
              </a:path>
              <a:path fill="lightenLess" w="43159" h="21600">
                <a:moveTo>
                  <a:pt x="0" y="0"/>
                </a:moveTo>
                <a:lnTo>
                  <a:pt x="43159" y="0"/>
                </a:lnTo>
                <a:lnTo>
                  <a:pt x="41759" y="1400"/>
                </a:lnTo>
                <a:lnTo>
                  <a:pt x="1400" y="1400"/>
                </a:lnTo>
                <a:close/>
              </a:path>
              <a:path fill="darken" w="43159" h="21600">
                <a:moveTo>
                  <a:pt x="43159" y="0"/>
                </a:moveTo>
                <a:lnTo>
                  <a:pt x="43159" y="21600"/>
                </a:lnTo>
                <a:lnTo>
                  <a:pt x="41759" y="20200"/>
                </a:lnTo>
                <a:lnTo>
                  <a:pt x="41759" y="1400"/>
                </a:lnTo>
                <a:close/>
              </a:path>
              <a:path fill="darkenLess" w="43159" h="21600">
                <a:moveTo>
                  <a:pt x="431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9" y="20200"/>
                </a:lnTo>
                <a:close/>
              </a:path>
              <a:path fill="lighten" w="431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9" h="21600">
                <a:moveTo>
                  <a:pt x="14573" y="3794"/>
                </a:moveTo>
                <a:lnTo>
                  <a:pt x="28586" y="10800"/>
                </a:lnTo>
                <a:lnTo>
                  <a:pt x="14573" y="17806"/>
                </a:lnTo>
                <a:close/>
              </a:path>
            </a:pathLst>
          </a:custGeom>
          <a:solidFill>
            <a:srgbClr val="ffff00">
              <a:alpha val="50000"/>
            </a:srgbClr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4080" y="541008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取名《呐喊》是要以呐喊声“惊起较为清醒的几个人”，破毁“铁屋子”并“慰藉那在寂寞里奔驰的猛士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5" action="ppaction://hlinksldjump"/>
          </p:cNvPr>
          <p:cNvSpPr/>
          <p:nvPr/>
        </p:nvSpPr>
        <p:spPr>
          <a:xfrm>
            <a:off x="5715000" y="64771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176022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666880" y="0"/>
            <a:ext cx="64771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765720" y="3122280"/>
            <a:ext cx="667800" cy="5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没落知识分子《孔乙己》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47320" y="2813760"/>
            <a:ext cx="606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城镇贫民（《药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828800" y="380880"/>
            <a:ext cx="6629400" cy="6172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>
            <a:hlinkClick r:id="rId3" action="ppaction://hlinksldjump"/>
          </p:cNvPr>
          <p:cNvSpPr/>
          <p:nvPr/>
        </p:nvSpPr>
        <p:spPr>
          <a:xfrm>
            <a:off x="807732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10800"/>
                </a:moveTo>
                <a:lnTo>
                  <a:pt x="24995" y="3794"/>
                </a:lnTo>
                <a:lnTo>
                  <a:pt x="24995" y="17806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895480" y="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705720" y="0"/>
            <a:ext cx="2438280" cy="6858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人力车夫（《一件小事》）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66ff33"/>
                </a:solidFill>
                <a:latin typeface="Times New Roman"/>
              </a:rPr>
              <a:t>饱受凌辱的农民（《故乡）等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5" action="ppaction://hlinksldjump"/>
          </p:cNvPr>
          <p:cNvSpPr/>
          <p:nvPr/>
        </p:nvSpPr>
        <p:spPr>
          <a:xfrm>
            <a:off x="6781680" y="6348240"/>
            <a:ext cx="990720" cy="509760"/>
          </a:xfrm>
          <a:custGeom>
            <a:avLst/>
            <a:gdLst>
              <a:gd name="textAreaLeft" fmla="*/ 32760 w 990720"/>
              <a:gd name="textAreaRight" fmla="*/ 957960 w 990720"/>
              <a:gd name="textAreaTop" fmla="*/ 32760 h 509760"/>
              <a:gd name="textAreaBottom" fmla="*/ 477000 h 509760"/>
            </a:gdLst>
            <a:ahLst/>
            <a:rect l="textAreaLeft" t="textAreaTop" r="textAreaRight" b="textAreaBottom"/>
            <a:pathLst>
              <a:path w="41965" h="21600">
                <a:moveTo>
                  <a:pt x="0" y="0"/>
                </a:moveTo>
                <a:lnTo>
                  <a:pt x="41965" y="0"/>
                </a:lnTo>
                <a:lnTo>
                  <a:pt x="41965" y="21600"/>
                </a:lnTo>
                <a:lnTo>
                  <a:pt x="0" y="21600"/>
                </a:lnTo>
                <a:close/>
              </a:path>
              <a:path fill="lightenLess" w="41965" h="21600">
                <a:moveTo>
                  <a:pt x="0" y="0"/>
                </a:moveTo>
                <a:lnTo>
                  <a:pt x="41965" y="0"/>
                </a:lnTo>
                <a:lnTo>
                  <a:pt x="40565" y="1400"/>
                </a:lnTo>
                <a:lnTo>
                  <a:pt x="1400" y="1400"/>
                </a:lnTo>
                <a:close/>
              </a:path>
              <a:path fill="darken" w="41965" h="21600">
                <a:moveTo>
                  <a:pt x="41965" y="0"/>
                </a:moveTo>
                <a:lnTo>
                  <a:pt x="41965" y="21600"/>
                </a:lnTo>
                <a:lnTo>
                  <a:pt x="40565" y="20200"/>
                </a:lnTo>
                <a:lnTo>
                  <a:pt x="40565" y="1400"/>
                </a:lnTo>
                <a:close/>
              </a:path>
              <a:path fill="darkenLess" w="41965" h="21600">
                <a:moveTo>
                  <a:pt x="419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565" y="20200"/>
                </a:lnTo>
                <a:close/>
              </a:path>
              <a:path fill="lighten" w="419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965" h="21600">
                <a:moveTo>
                  <a:pt x="13976" y="10800"/>
                </a:moveTo>
                <a:lnTo>
                  <a:pt x="27989" y="3794"/>
                </a:lnTo>
                <a:lnTo>
                  <a:pt x="27989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时代背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传》写于中国共产党刚刚成立后不久。资产阶级领导的 义革命——辛亥革命，已经过去整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，在革命与反革命的较量中，无产阶级不断发展壮大。与此同时，新文化运动也在深入开展。“文学研究会”应运而生，挑起了“为人生的艺术”的大旗，这时的鲁迅，经过上下求索，已经摆脱了辛亥革命的失败给自己带来的苦闷和彷徨，决心甘听将令，为革命呐喊助威了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传》就是在这种政治氛围中产生的。鲁迅在《呐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序》中曾说：我“或者也还未能忘怀于当日自己的寂寞的悲哀罢，所以有时候仍不免呐喊几声”。未能忘怀于当日寂寞的悲哀，这恐怕是鲁迅创作《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传》的直接原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辛亥革命后，鲁迅亲眼看到，虽然革命党推翻了清朝政府，但并没摧垮反动封建势力，革命者流了血，却将袁世凯扶上了总统宝座，对敌人宽容姑息，毫不警惕，固而使一些狡诈善变的投机分子钻入革命阵营，成为新贵，惨酷屠杀革命派。这些沉痛事实，使得鲁迅对资产阶级领导的辛亥革命大失所望，他痛感资产阶级的软弱和妥协，使中国社会依然黑暗混乱，广大人民尤其农民，仍然痛苦不堪。中国的出路何在？鲁迅在 相当长的一段时间，冷静观察社会，从历史中寻求借鉴，探索中国的出路。直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9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以后，马克思主义传入中国，鲁迅看到了黎明的曙光，所以当他为新时代呐喊时，自然会以辛亥革命为背景，以当时的事情为题材进行创作，借以总结失败的历史教训，“慰藉那在寂寞里奔驰的猛士，使他不惮于前驱。”（见《呐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序》）这大概就是鲁迅创作《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传》的真实目的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传》出版后，深受中国和世界各国人民的喜爱。现已被译成几种文字，在世界上广泛流传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66688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563868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阿</a:t>
            </a: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Q</a:t>
            </a:r>
            <a:r>
              <a:rPr b="1" lang="zh-CN" sz="60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正传    </a:t>
            </a:r>
            <a:r>
              <a:rPr b="1" lang="zh-CN" sz="4800" spc="-1" strike="noStrike">
                <a:solidFill>
                  <a:srgbClr val="ffff66"/>
                </a:solidFill>
                <a:latin typeface="Times New Roman"/>
                <a:ea typeface="华文行楷"/>
              </a:rPr>
              <a:t>鲁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luxun10" descr=""/>
          <p:cNvPicPr/>
          <p:nvPr/>
        </p:nvPicPr>
        <p:blipFill>
          <a:blip r:embed="rId2"/>
          <a:stretch/>
        </p:blipFill>
        <p:spPr>
          <a:xfrm>
            <a:off x="0" y="0"/>
            <a:ext cx="358128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78600" y="380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阿Ｑ其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28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阿Ｑ一开始的现状如何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4038480" y="1142640"/>
            <a:ext cx="51055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未庄社会最底层： </a:t>
            </a:r>
            <a:br>
              <a:rPr sz="2400"/>
            </a:b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六无—— </a:t>
            </a:r>
            <a:br>
              <a:rPr sz="2400"/>
            </a:b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无姓无名无籍贯</a:t>
            </a:r>
            <a:br>
              <a:rPr sz="2400"/>
            </a:br>
            <a:r>
              <a:rPr b="1" lang="zh-CN" sz="2400" spc="-1" strike="noStrike">
                <a:solidFill>
                  <a:srgbClr val="993300"/>
                </a:solidFill>
                <a:latin typeface="Times New Roman"/>
                <a:ea typeface="黑体"/>
              </a:rPr>
              <a:t>无行状无家无固定职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360" y="367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3920" y="38098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、阿Ｑ安于现状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5280" y="54054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59560" y="44146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黑体"/>
              </a:rPr>
              <a:t>不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14364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7249680" cy="436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zh-CN" sz="217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zh-CN" sz="12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      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962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于现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74880" y="1316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990720"/>
            <a:ext cx="2133720" cy="71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姓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自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恋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造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报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活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6094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情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6520" y="1066680"/>
            <a:ext cx="243828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勤奋质朴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尊要强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憎恶权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能屈能伸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率真长乐—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其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981080" y="60948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表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95680" y="685800"/>
            <a:ext cx="80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实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75280" y="1143000"/>
            <a:ext cx="176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懦弱愚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狭隘保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妄自尊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敏感禁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赖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盲目趋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欺软怕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趋炎附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狡黠圆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轻自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易于满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麻木健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BlockItem_74704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85840" y="3200400"/>
            <a:ext cx="35053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鲁迅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其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95280" y="304920"/>
            <a:ext cx="6782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没有伟大人物出现的民族，是世界上最可怜的生物之群；有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伟大人物而不知拥护爱戴崇仰的国家是没有希望的奴隶之邦。”</a:t>
            </a:r>
            <a:br>
              <a:rPr sz="3600"/>
            </a:br>
            <a:r>
              <a:rPr b="1" lang="zh-CN" sz="3600" spc="-1" strike="noStrike">
                <a:solidFill>
                  <a:srgbClr val="993300"/>
                </a:solidFill>
                <a:latin typeface="Times New Roman"/>
                <a:ea typeface="隶书"/>
              </a:rPr>
              <a:t>                              ——      郁达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>
            <a:alphaModFix amt="50000"/>
          </a:blip>
          <a:stretch/>
        </p:blipFill>
        <p:spPr>
          <a:xfrm>
            <a:off x="0" y="3048120"/>
            <a:ext cx="3276720" cy="38098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70102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优胜纪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阿Ｑ是个什么样的形象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685440"/>
            <a:ext cx="8839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１、社会地位如何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946960" y="1219320"/>
            <a:ext cx="2468520" cy="14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一个无姓无名无籍贯无行状无家无固定职业的奴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是一个地位卑微的被践踏者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/>
              </a:rPr>
              <a:t>阿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/>
              </a:rPr>
              <a:t>Q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4"/>
              </a:rPr>
              <a:t>正传 1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5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43828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２、与现实的社会地位形成强烈反差的是他什么样的内心生活需求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3505320"/>
            <a:ext cx="89154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尊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自己看不起别人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未庄人：全不在他眼睛里 “我的儿子会阔得多啦”       没见城里的煎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对城里人：鄙薄他们可笑。“条凳”“葱丝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不准别人看不起自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讳人说自己的癞疮疤。 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阿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Q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正传 2.</a:t>
            </a:r>
            <a:r>
              <a:rPr b="0" lang="zh-CN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095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面对尖锐的冲突他生活的心态怎样？</a:t>
            </a:r>
            <a:br>
              <a:rPr sz="2400"/>
            </a:br>
            <a:br>
              <a:rPr sz="24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骂。――口讷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打。――气力小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吃亏的时候多――怒目而视。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办法――说“你还不配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被人揪打――想“我总算被儿子打了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说“我是虫豸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“状元不也是第一个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              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算是什么东西呢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钱被抢   ——打自己，如同打了别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心满意足的得胜走了，睡着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1447920"/>
            <a:ext cx="8229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是用了什么样的方式阿Ｑ保持了内心的平衡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？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/>
              </a:rPr>
              <a:t>阿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/>
              </a:rPr>
              <a:t>Q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4"/>
              </a:rPr>
              <a:t>正传 2.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5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是一种自欺自贱自残的方式，屡屡遭受失败的他却从未“失败”过。现实处境糟糕却要各种荒唐的理由轻视任何人。这种自尊就是虚妄的妄自尊大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4114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谓的优胜，只是内心的优胜，却是实际上的失败和屈辱。这种可怜而又可笑的化解尖锐冲突的方式鲁迅称之为“精神胜利法”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49200" y="204840"/>
            <a:ext cx="7495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55040" y="958680"/>
            <a:ext cx="546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这种方式有什么特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续优胜纪略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—阿Ｑ精神胜利法的进一步表现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/>
              </a:rPr>
              <a:t>RECORD7.WAV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１．阿Ｑ得意了许多年的原因是什么？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/>
              </a:rPr>
              <a:t>阿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4"/>
              </a:rPr>
              <a:t>Q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5"/>
              </a:rPr>
              <a:t>正传 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6"/>
              </a:rPr>
              <a:t>3.htm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581280"/>
            <a:ext cx="720900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自以为成了赵太爷的老子 大家仿佛格外尊敬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幻想中身为奴隶的他做着主子的迷梦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幻想着凌驾于他人之上压迫和欺辱他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609480" y="2590560"/>
            <a:ext cx="792504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看不起王胡，为虱子不多而失望不平，无理寻衅，欲欺侮王胡却被打：记忆中的第一件屈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所适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厌恶假洋鬼子  被假洋鬼子殴打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生平中的第二件屈辱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反而觉得轻松些早已有些高兴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欺辱尼姑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借以转嫁屈辱 兴高采烈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066680"/>
            <a:ext cx="6192720" cy="11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２．他又做出了哪些“光辉事迹”？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2"/>
              </a:rPr>
              <a:t>阿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3"/>
              </a:rPr>
              <a:t>Q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4"/>
              </a:rPr>
              <a:t>正传 3.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ea typeface="黑体"/>
                <a:hlinkClick r:id="rId5"/>
              </a:rPr>
              <a:t>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寻找这种精神胜利法的形成发展的历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2971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其实质就是屈服和逃避、麻木和健忘，就是愚昧和怯弱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无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狭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善于忘却、受人欺凌、却又欺凌弱小。 是羊而同时又是凶兽。可憎可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自己被人凌虐，但也可以凌虐别人；自己被人吃，但也可以吃别人”（《坟。灯下漫笔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920" y="914400"/>
            <a:ext cx="19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受践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914400"/>
            <a:ext cx="228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自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33280" y="914400"/>
            <a:ext cx="729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反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505320" y="914400"/>
            <a:ext cx="2182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怒目主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57760" y="838080"/>
            <a:ext cx="112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腹诽战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133720"/>
            <a:ext cx="274320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自轻自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77920" y="1523880"/>
            <a:ext cx="29545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在假想中克敌制胜以转移痛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367320" y="1523880"/>
            <a:ext cx="33012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欺凌弱小以转移痛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革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阿Ｑ过去对革命的看法是怎样的？是什么原因使阿Ｑ“神往”革命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438280"/>
            <a:ext cx="2209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恋爱的悲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084560" y="1752480"/>
            <a:ext cx="208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3581280"/>
            <a:ext cx="838080" cy="457200"/>
          </a:xfrm>
          <a:prstGeom prst="rightArrow">
            <a:avLst>
              <a:gd name="adj1" fmla="val 50000"/>
              <a:gd name="adj2" fmla="val 4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297180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657600"/>
            <a:ext cx="2133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生计问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34340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6240" y="4952880"/>
            <a:ext cx="1278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从中兴到末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36920" y="1752480"/>
            <a:ext cx="546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事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048120"/>
            <a:ext cx="76320" cy="4572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191120"/>
            <a:ext cx="75960" cy="457200"/>
          </a:xfrm>
          <a:prstGeom prst="downArrow">
            <a:avLst>
              <a:gd name="adj1" fmla="val 50000"/>
              <a:gd name="adj2" fmla="val 15047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86200" y="2490840"/>
            <a:ext cx="2514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五个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5320" y="3581280"/>
            <a:ext cx="4038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求食—行窃—进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96120" y="4876920"/>
            <a:ext cx="9122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穷途末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15" descr="15.gif (7969 字节)"/>
          <p:cNvPicPr/>
          <p:nvPr/>
        </p:nvPicPr>
        <p:blipFill>
          <a:blip r:embed="rId2"/>
          <a:stretch/>
        </p:blipFill>
        <p:spPr>
          <a:xfrm>
            <a:off x="0" y="0"/>
            <a:ext cx="2400480" cy="4000680"/>
          </a:xfrm>
          <a:prstGeom prst="rect">
            <a:avLst/>
          </a:prstGeom>
          <a:ln w="0">
            <a:noFill/>
          </a:ln>
        </p:spPr>
      </p:pic>
      <p:pic>
        <p:nvPicPr>
          <p:cNvPr id="154" name="18" descr="18.gif (5956 字节)"/>
          <p:cNvPicPr/>
          <p:nvPr/>
        </p:nvPicPr>
        <p:blipFill>
          <a:blip r:embed="rId3"/>
          <a:stretch/>
        </p:blipFill>
        <p:spPr>
          <a:xfrm>
            <a:off x="2895480" y="1447920"/>
            <a:ext cx="2400480" cy="4000320"/>
          </a:xfrm>
          <a:prstGeom prst="rect">
            <a:avLst/>
          </a:prstGeom>
          <a:ln w="0">
            <a:noFill/>
          </a:ln>
        </p:spPr>
      </p:pic>
      <p:pic>
        <p:nvPicPr>
          <p:cNvPr id="155" name="17" descr="17.gif (4812 字节)"/>
          <p:cNvPicPr/>
          <p:nvPr/>
        </p:nvPicPr>
        <p:blipFill>
          <a:blip r:embed="rId4"/>
          <a:stretch/>
        </p:blipFill>
        <p:spPr>
          <a:xfrm>
            <a:off x="6743880" y="2590920"/>
            <a:ext cx="2400120" cy="40003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200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恋爱的悲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“他是永远得意的：这或许也是中国精神文明冠于全球的一个证据”讽刺了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1828800"/>
            <a:ext cx="6782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思想源于封建那文化、思想的影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2895480"/>
            <a:ext cx="7238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在这一章中他所表现的具体封建思想有哪些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3962520"/>
            <a:ext cx="6705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要求恋爱正当吗？结果如何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6437160"/>
            <a:ext cx="6248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请你说说地保和吴妈形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28640" y="4572000"/>
            <a:ext cx="6073920" cy="16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年近三十的阿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想恋爱是合乎人性的，最终却被挨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连可怜的家产也被榨取干净，断绝了活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可见封建礼教的虚伪，统治阶级的残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057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生计问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32767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、写了几个生活片段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56920" y="5486400"/>
            <a:ext cx="1018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觉得古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81280" y="5486400"/>
            <a:ext cx="266724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小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D 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龙虎斗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248520" y="5410080"/>
            <a:ext cx="2673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静修庵偷萝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002240" y="6172200"/>
            <a:ext cx="3106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愚昧麻木不觉悟，畏强凌弱无赖霸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163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22" descr="22.gif (5578 字节)"/>
          <p:cNvPicPr/>
          <p:nvPr/>
        </p:nvPicPr>
        <p:blipFill>
          <a:blip r:embed="rId1"/>
          <a:stretch/>
        </p:blipFill>
        <p:spPr>
          <a:xfrm>
            <a:off x="0" y="0"/>
            <a:ext cx="3048120" cy="55627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153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24" descr="24.gif (7167 字节)"/>
          <p:cNvPicPr/>
          <p:nvPr/>
        </p:nvPicPr>
        <p:blipFill>
          <a:blip r:embed="rId2"/>
          <a:stretch/>
        </p:blipFill>
        <p:spPr>
          <a:xfrm>
            <a:off x="2895480" y="0"/>
            <a:ext cx="3429000" cy="55627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27" descr="27.gif (7999 字节)"/>
          <p:cNvPicPr/>
          <p:nvPr/>
        </p:nvPicPr>
        <p:blipFill>
          <a:blip r:embed="rId3"/>
          <a:stretch/>
        </p:blipFill>
        <p:spPr>
          <a:xfrm>
            <a:off x="6019920" y="533520"/>
            <a:ext cx="3124080" cy="556236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从中兴到末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未庄人对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态度的变化过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9920" y="3657600"/>
            <a:ext cx="546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惊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803960" y="3657600"/>
            <a:ext cx="546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敬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3657600"/>
            <a:ext cx="2286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敬而远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38098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2666880"/>
            <a:ext cx="152280" cy="2667240"/>
          </a:xfrm>
          <a:custGeom>
            <a:avLst/>
            <a:gdLst>
              <a:gd name="textAreaLeft" fmla="*/ 97200 w 152280"/>
              <a:gd name="textAreaRight" fmla="*/ 152640 w 152280"/>
              <a:gd name="textAreaTop" fmla="*/ 69480 h 2667240"/>
              <a:gd name="textAreaBottom" fmla="*/ 2597760 h 266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38098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2514600"/>
            <a:ext cx="19810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刮目相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3581280"/>
            <a:ext cx="1600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肃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118320" y="4876920"/>
            <a:ext cx="1018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再躲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72200" y="3809880"/>
            <a:ext cx="457200" cy="76320"/>
          </a:xfrm>
          <a:prstGeom prst="rightArrow">
            <a:avLst>
              <a:gd name="adj1" fmla="val 50000"/>
              <a:gd name="adj2" fmla="val 149764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3505320"/>
            <a:ext cx="24382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斯亦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足畏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717640" y="5715000"/>
            <a:ext cx="2236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世态炎凉 愚昧无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31" descr="31.gif (7275 字节)"/>
          <p:cNvPicPr/>
          <p:nvPr/>
        </p:nvPicPr>
        <p:blipFill>
          <a:blip r:embed="rId2"/>
          <a:stretch/>
        </p:blipFill>
        <p:spPr>
          <a:xfrm>
            <a:off x="0" y="-228600"/>
            <a:ext cx="2411280" cy="4011480"/>
          </a:xfrm>
          <a:prstGeom prst="rect">
            <a:avLst/>
          </a:prstGeom>
          <a:ln w="0">
            <a:noFill/>
          </a:ln>
        </p:spPr>
      </p:pic>
      <p:pic>
        <p:nvPicPr>
          <p:cNvPr id="196" name="33" descr="33.gif (7115 字节)"/>
          <p:cNvPicPr/>
          <p:nvPr/>
        </p:nvPicPr>
        <p:blipFill>
          <a:blip r:embed="rId3"/>
          <a:stretch/>
        </p:blipFill>
        <p:spPr>
          <a:xfrm>
            <a:off x="6732720" y="-228600"/>
            <a:ext cx="2411280" cy="4011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1371600" y="0"/>
            <a:ext cx="77724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1881-1936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原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周树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字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豫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我国现代文学家和思想家。鲁迅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88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出生在浙江绍兴一个破落的封建大家庭里。绍兴是一个有着深厚文化传统的地方，保留有众多的名胜，如古代治水英雄夏禹的陵墓，越王勾践卧薪尝胆留下的遗迹，近代反清女杰秋瑾从容就义的轩亭口，等等。民间还有各式各样的戏剧演出和传说故事。乡亲们最津津乐道的是两个“鬼”：一个是“带复仇性的，比别的一切鬼魂更美，更强的鬼魂”——女吊；另一个是腰束草绳，脚穿草鞋，手捏芭蕉扇，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富有同情心的“无常”。乡土传统与民间文化，深深地影响着鲁迅的一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luxun5" descr=""/>
          <p:cNvPicPr/>
          <p:nvPr/>
        </p:nvPicPr>
        <p:blipFill>
          <a:blip r:embed="rId2"/>
          <a:stretch/>
        </p:blipFill>
        <p:spPr>
          <a:xfrm>
            <a:off x="0" y="0"/>
            <a:ext cx="1143000" cy="1447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276720"/>
            <a:ext cx="8001000" cy="3581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革命不准革命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七、八两章在全书中占有十分重要的地位：从内容上看，主要记述了阿Ｑ在辛亥革命中的表现和遭遇，从一个侧面反映了辛亥革命的过程，较集中地表现了全书的主题思想；从结构上讲，是全书情节的高潮。学好课文是理解整部小说的关键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未庄对革命的了解是从一艘乌篷船开始的。城里举人老爷的船停在赵府的河埠头，给未庄带来大不安，一时传言四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  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有哪些传闻？传闻的来源、船的使命、结果各是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422520"/>
            <a:ext cx="815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传闻来源                   船的使命                最后结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380988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2120" y="32767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32767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57800" y="3276720"/>
            <a:ext cx="0" cy="358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4038480"/>
            <a:ext cx="81532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  茶房酒肆       运箱子、举人老爷               不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乡下逃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5105520"/>
            <a:ext cx="792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、   邹七嫂运         运几口破衣箱                     回复转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6161040"/>
            <a:ext cx="86104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详                   运箱子、书信              塞在太太床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487692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5867280"/>
            <a:ext cx="8001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从这些内容里你推断出阿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生活的环境应该是怎样的？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社会环境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62120" y="2133720"/>
            <a:ext cx="6400800" cy="44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未庄——偏僻的乡村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封建势力统治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农民——政治压迫、经济剥削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思想毒害、人格侮辱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安于命运、麻木顺从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互相欺侮、争斗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革命浪潮波及未庄时，未庄人表现各不相同，根据课文，请举例说明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" y="1828800"/>
            <a:ext cx="692928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阿Ｑ宣布革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、①阿Ｑ对革命的态度 ②阿Ｑ对革命的认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a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革命纲领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b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革命对象       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c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革命目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114800"/>
            <a:ext cx="72388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混沌状态          报私仇              金钱、权利、女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5486400"/>
            <a:ext cx="1995948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勤劳质朴、生活艰辛。有自发的革命的要求，但受封建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想的毒害，自私、狭隘、封建、保守。落后性集中表现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精神胜利法”上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7162920" y="3505320"/>
            <a:ext cx="838080" cy="30456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9394" h="21600">
                <a:moveTo>
                  <a:pt x="0" y="0"/>
                </a:moveTo>
                <a:lnTo>
                  <a:pt x="59394" y="0"/>
                </a:lnTo>
                <a:lnTo>
                  <a:pt x="59394" y="21600"/>
                </a:lnTo>
                <a:lnTo>
                  <a:pt x="0" y="21600"/>
                </a:lnTo>
                <a:close/>
              </a:path>
              <a:path fill="lightenLess" w="59394" h="21600">
                <a:moveTo>
                  <a:pt x="0" y="0"/>
                </a:moveTo>
                <a:lnTo>
                  <a:pt x="59394" y="0"/>
                </a:lnTo>
                <a:lnTo>
                  <a:pt x="57994" y="1400"/>
                </a:lnTo>
                <a:lnTo>
                  <a:pt x="1400" y="1400"/>
                </a:lnTo>
                <a:close/>
              </a:path>
              <a:path fill="darken" w="59394" h="21600">
                <a:moveTo>
                  <a:pt x="59394" y="0"/>
                </a:moveTo>
                <a:lnTo>
                  <a:pt x="59394" y="21600"/>
                </a:lnTo>
                <a:lnTo>
                  <a:pt x="57994" y="20200"/>
                </a:lnTo>
                <a:lnTo>
                  <a:pt x="57994" y="1400"/>
                </a:lnTo>
                <a:close/>
              </a:path>
              <a:path fill="darkenLess" w="59394" h="21600">
                <a:moveTo>
                  <a:pt x="59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94" y="20200"/>
                </a:lnTo>
                <a:close/>
              </a:path>
              <a:path fill="lighten" w="59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94" h="21600">
                <a:moveTo>
                  <a:pt x="22690" y="3794"/>
                </a:moveTo>
                <a:lnTo>
                  <a:pt x="36703" y="10800"/>
                </a:lnTo>
                <a:lnTo>
                  <a:pt x="22690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2" action="ppaction://hlinksldjump"/>
          </p:cNvPr>
          <p:cNvSpPr/>
          <p:nvPr/>
        </p:nvSpPr>
        <p:spPr>
          <a:xfrm>
            <a:off x="7238880" y="655308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49" h="21600">
                <a:moveTo>
                  <a:pt x="22668" y="3794"/>
                </a:moveTo>
                <a:lnTo>
                  <a:pt x="36681" y="10800"/>
                </a:lnTo>
                <a:lnTo>
                  <a:pt x="22668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本文通过人物的梦境、幻想等形式来揭示人物所追求的“形象”，从而能够比较准确地把握人物的思想感情，人物的性格。“日有所思，夜有所梦”，梦境与幻想，往往是人们对某种事物“过分”追求时的反映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阿Ｑ在那土谷祠中绝妙的幻想（虽非梦境，却也近于梦境），就是他所追求“对象”的生动图解。这段畅想曲共四部分：第一部分，写他的革命方式，来一群白盔白甲的革命党，拿着钢叉招呼阿Ｑ一同去。第二部分是对未庄里欺负过他的人的处置态度，一概杀掉，“王胡本来还可以留，但也不要了……”第三部分，对于财物金钱的态度，大把大把地拿进：元宝。洋纱衫、洋钱，秀才娘子的一张宁式床、钱家的桌椅。第四部分对女人的选择，他充分考虑，认真推敲，有的太丑，有的作风不正，有的“眼胞上有疤”，“吴妈长久不见了，不知道在哪里，——可惜脚太大”。他的得意之态，他的贪婪之心，他的敌我不分，他的“精神胜利”，跃然纸上。这一人物形象的归结，都离不开对主人公的追求“对象”的分析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previousslide"/>
          </p:cNvPr>
          <p:cNvSpPr/>
          <p:nvPr/>
        </p:nvSpPr>
        <p:spPr>
          <a:xfrm>
            <a:off x="8381880" y="6553080"/>
            <a:ext cx="762120" cy="30492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49" h="21600">
                <a:moveTo>
                  <a:pt x="19968" y="10800"/>
                </a:moveTo>
                <a:lnTo>
                  <a:pt x="33981" y="3794"/>
                </a:lnTo>
                <a:lnTo>
                  <a:pt x="33981" y="17806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阿Ｑ在革命中的表现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假如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未庄的革命成功，他会变成什么样的人？未庄将变成怎样的社会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革命的未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样样都照旧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封建势力投机革命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反动势力迅速联合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修庵的假革命丑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38" descr="38.gif (5155 字节)"/>
          <p:cNvPicPr/>
          <p:nvPr/>
        </p:nvPicPr>
        <p:blipFill>
          <a:blip r:embed="rId2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准革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113120" y="679320"/>
            <a:ext cx="1905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１）未庄没有革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33640" y="1447920"/>
            <a:ext cx="4603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城里人        ②未庄人                   ③投机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57960" y="3429000"/>
            <a:ext cx="2271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２）假洋鬼子不准革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29560" y="4343400"/>
            <a:ext cx="288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赵家父子投机革命 ②阿Ｑ投革命党被赶出 ③阿Ｑ革命幻想破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11000" y="4952880"/>
            <a:ext cx="282024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３）阿Ｑ痛恨造反，起心告状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39440" y="6019920"/>
            <a:ext cx="1331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这是一场变态的革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295280" y="2209680"/>
            <a:ext cx="723924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剪不剪辫子        盘不盘 辫子            拆不拆辫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304920" y="2133720"/>
            <a:ext cx="2286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革不革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-305280"/>
            <a:ext cx="9144000" cy="716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分析阿Ｑ这一形象时应突出两点：一是应抓住他革命的全程，二是应把他的主要特征——精神胜利法突出来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封建统治阶级的道德观念，使阿Ｑ误解革命；屈辱的地位和悲惨的处境不能不使阿Ｑ本能地倾向革命，当阿Ｑ发现革命使举人老爷恐惧万分，未庄一群鸟男女惊慌失措时，便深感“快意”，于是“神往”革命，判定“革命也好罢，革这伙妈妈的命，太可恶！太可恨！……便是我，也要投降革命党了。”这里边道出了阿Ｑ“神往”革命的原因有两条：一是举人老爷害怕，二是未庄的一群鸟男女慌张。从而可见阿Ｑ对革命是如何的不理解，这也恰是辛亥革命脱离群众的后果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阿Ｑ要革命是好的，但他心目中的革命便是“我要什么便是什么，我喜欢谁便是谁”，这表明阿Ｑ并未真正觉悟。辛亥革命之风吹醒的阿Ｑ朦胧的革命意识，很快被假洋鬼子打了回去，直至使他成为了无辜的牺牲品。遗憾的是，阿Ｑ也有不准小Ｄ革命的想法，由此可见，阿Ｑ是旧民主主义革命时期的一个落后而不觉悟的农民典型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作者描绘阿Ｑ的悲惨处境，显然是为了提醒：中国的任何革命必须注意解决亿万贫苦农民的问题；鲁迅写阿Ｑ倾向革命的本能，是提醒革命者：广大农民是有革命要求的，决不应视而不见这支力量。上述两点，无疑表现了鲁迅对辛亥革命的看法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团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告发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压迫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准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革命的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审判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处决的是谁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00600" y="4876920"/>
            <a:ext cx="353052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变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什么没变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50" descr="50.gif (7498 字节)"/>
          <p:cNvPicPr/>
          <p:nvPr/>
        </p:nvPicPr>
        <p:blipFill>
          <a:blip r:embed="rId2"/>
          <a:stretch/>
        </p:blipFill>
        <p:spPr>
          <a:xfrm>
            <a:off x="6324480" y="0"/>
            <a:ext cx="2819520" cy="4011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52" descr="52.gif (8515 字节)"/>
          <p:cNvPicPr/>
          <p:nvPr/>
        </p:nvPicPr>
        <p:blipFill>
          <a:blip r:embed="rId3"/>
          <a:stretch/>
        </p:blipFill>
        <p:spPr>
          <a:xfrm>
            <a:off x="0" y="3505320"/>
            <a:ext cx="388620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5943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精神胜利法是怎样的心理状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2720" y="222408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退回内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36640" y="17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1080" y="914400"/>
            <a:ext cx="4654800" cy="46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质朴愚昧                 狡黠圆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率真任性                 狭隘保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尊要强                 自轻自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狭隘保守      又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盲目趋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憎恶权势                 趋炎附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无赖霸道                 懦弱愚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敏感禁忌                  麻木健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满现状                  安于现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89840" y="2059200"/>
            <a:ext cx="5461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泯灭意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762120" y="838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120" y="762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315200" y="838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38080" y="373392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518148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7315200" y="3657240"/>
            <a:ext cx="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403360" y="5257800"/>
            <a:ext cx="475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种化解尖锐冲突的方式即“精神胜利法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所谓的优胜，只是内心的优胜，却是实际上的失败和屈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——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这是一个变态的灵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756960" y="457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双重人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请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根据课本内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依次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分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下人物形象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赵太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赵秀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假洋鬼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给“精神胜利法”下个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完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定义，并举两到三个现实生活中的实例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Nanyang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 </a:t>
            </a:r>
            <a:r>
              <a:rPr b="0" lang="zh-CN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Online.h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时鲁迅告别了百草园，到“三味书屋”，一直读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。在这里，他熟读了儒家的经典，又在课余广泛阅读了儒家之外的各种杂书：小说，野史，笔记……为鲁迅以后思想与文学的发展，奠定了宽广深厚的知识基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鲁迅的童年也有阴影：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岁那年，祖父因故入狱，不得不随着全家到亲戚家避难；以后父亲病重，家庭生活也从小康陷入困顿。作为长子的鲁迅，不得不经常出入于当铺与药店，在周围人的歧视与侮辱中，感受社会的冷酷与势利。父亲最后因庸医的延误而过早离世，更给少年鲁迅以很深的刺激，他由此开始了对中国社会、文化、人世与人心的思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123720" y="0"/>
            <a:ext cx="579132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9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岁的鲁迅，到异地去寻求新的出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开始接触物理、数学、化学等现代自然科学知识，并阅读外国文学与科学著作。特别是严复翻译的英国人赫胥黎的《天演论》，接受了一种自强、自立、自主的人生哲学，同时强烈地感受到在激烈竞争的世界里，处于落后地位的中华民族的危机。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0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鲁迅东渡日本，两年后怀着“科学救国”的梦想，进入仙台医学专门学校，遇到了藤野严九郎先生那样关心自己的老师，但也不时受到歧视；特别是有一次课堂里放映记录日俄战争的幻灯画片，看到一个替俄军当侦探的中国人被日本军队捉住杀头，旁边竟站着一群中国人在围观。鲁迅受到极大刺激，由此觉悟到医治精神上的麻木比医治身体上的病弱更为重要，改变中国第一要著是改变中国人的精神，而善于改变精神的当推文艺。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luxun" descr=""/>
          <p:cNvPicPr/>
          <p:nvPr/>
        </p:nvPicPr>
        <p:blipFill>
          <a:blip r:embed="rId2"/>
          <a:stretch/>
        </p:blipFill>
        <p:spPr>
          <a:xfrm>
            <a:off x="0" y="0"/>
            <a:ext cx="334332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luxun1" descr=""/>
          <p:cNvPicPr/>
          <p:nvPr/>
        </p:nvPicPr>
        <p:blipFill>
          <a:blip r:embed="rId2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于是鲁迅决定弃医从文。他和朋友们热烈地讨论着：怎样才是理想的人性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中国国民性中最缺乏的是什么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的病根何在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并于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0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、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0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、</a:t>
            </a:r>
            <a:r>
              <a:rPr b="1" lang="zh-CN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0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年公开发表了第一批论文，提出了“立国”必先“立人”的思想，呼唤“精神界之战士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BlockItem_7472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533520"/>
            <a:ext cx="82296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鲁迅于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90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回国后，一直在痛苦地思索，沉默了将近十年。直到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918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五四运动前夕，才在朋友的鼓动下，提笔写了《狂人日记》，发表在《新青年》杂志上。这是中国第一篇现代白话小说。揭露中国封建社会的历史是一部“吃人”的历史，发出了“救救孩子”的呼声。小说发表后，引起了社会的极大震动，鲁迅一发不可收，连续写了多篇小说，后来编为《呐喊》《彷徨》两本小说集，分别于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92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和</a:t>
            </a:r>
            <a:r>
              <a:rPr b="1" lang="zh-CN" sz="32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192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出版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写作《呐喊》《彷徨》的同时，鲁迅还创作了散文集《朝花夕拾》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于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出版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和散文诗《野草》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作于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，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19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出版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。《朝花夕拾》是对生命的童年时代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朝花”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回忆与重提：民间传说中的“无常”，父亲的病，百草园和三味书屋，藤野先生，幼时的保姆“长妈妈”，一生坎坷的老友范爱农，等等。鲁迅是怀着温馨的爱去回忆的，从中显露出鲁迅心灵世界最为柔和的一面，又内含着一种深沉的悲哀。《野草》是另一类散文，是“梦”的产物：全书三分之一的篇章都以“我梦见”为开头。展现在读者面前的是一个奇诡的世界：夜半时分的幻觉中听见“吃吃”的声音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秋夜》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“人睡到不知道时候的时候”，“影”来“告别”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影的告别》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青白的冰谷中看见“死火”，“有炎炎的形，但毫不摇动，全体冰结，像珊瑚枝”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死火》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；“狗”追着“人”，大声质问，“人”拼命“逃跑”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《狗的驳诘》</a:t>
            </a: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迅把他在儿时敷演童话的想象力发挥到了极致，借以表达自己微妙的难以言传的感觉、情绪与心理，对人的生命进行更深层次的哲理思考。鲁迅对别人说“我的哲学都在《野草》里”，读者也因此有机会借《野草》去窥见鲁迅灵魂的深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BlockItem_74707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292104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971800" y="0"/>
            <a:ext cx="5791320" cy="21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鲁迅在进行小说、散文创作的同时，又在《新青年》等报刊杂志上发表杂文。五四前后，他在北京期间所写的杂文，             编有《热风》《坟》《华盖集》《华盖集续编》等集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2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至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27  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杂文主要收在《而已集》里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底，鲁迅定居上海，开始了他“最后十年”的生命历程，并以主要精力进行杂文创作。先后出版有              《三闲集》《二心集》《南腔北调集》《伪自由书》《准风月谈》《花边文学》《且介亭杂文》《且介亭杂文二集》《且介亭杂文末编》《集外集》等。 鲁迅曾充满自信地说：“‘中国大众的灵魂’，现在是反映在我的杂文里了。”在这个意义上，鲁迅的杂文就是一部活的现代中国人的“人史”。如果要真正了解中国的社会与历史，特别是要了解中国人，那就读读鲁迅的杂文吧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2T10:37:47Z</dcterms:created>
  <dc:creator>a</dc:creator>
  <dc:description/>
  <dc:language>en-US</dc:language>
  <cp:lastModifiedBy>xsw</cp:lastModifiedBy>
  <dcterms:modified xsi:type="dcterms:W3CDTF">2006-05-26T07:03:32Z</dcterms:modified>
  <cp:revision>63</cp:revision>
  <dc:subject/>
  <dc:title>PowerPoint 演示文稿</dc:title>
</cp:coreProperties>
</file>