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0BC-8973-4F96-9529-CFCE5839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BD4-7F13-4D6B-9D8D-E1DD19A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DE8-6A21-4A34-8D3E-A2261450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ED5-6EC6-4CB3-98C9-EB0FA276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E750-2EC5-4AC9-A0F8-250EA40C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3F1-E57D-4FE7-B65A-C153DA07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F177-8D2A-4816-B262-50EF796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F49-EA87-4729-BA26-8B2228F2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A9C-C1FE-484A-85AD-8AD831C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3ADB-4825-4DC3-B5B4-B6B6FD6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EAB0-847F-4643-BF9E-EE66365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A77-4D0C-4E0B-B68C-A1A00D8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0EE0-6944-44D0-88B0-01735AF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0A0-1C06-4F76-B8DD-FC24F5B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EEF4-9D57-4400-AA4D-74D2FD8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9891-E20B-4133-8BFB-6918E3BC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28D2-F7D9-471C-98CA-16325162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E1D5-23E2-4EEE-9E27-4C820DF2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3F30-16F5-43CB-A60C-8D85D50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884F-41FC-4C96-870D-5F6726EF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3D72-9D55-44D9-BBA4-8A9107BD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6A59-1179-4230-8F5D-4D980BBF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103-3B54-4B75-9307-0AE34806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3B24-6F5F-4C5E-9460-16C4C3F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EC7D-FA7D-4401-AD7E-3E964E7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716F-F457-4587-8F31-1E7B076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EAFC-4A0A-4F39-B4D4-23C38C8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F12F-C359-4765-99F9-EB741E35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2046-2E09-468C-83B7-4E214D9A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988F-045C-4DD5-9D25-087EB513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B72D-C6AC-4CCB-BA26-55B56A2F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D9A9-6176-4DA6-83C2-A850203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07A1-C5A1-4579-B008-CB86E5E6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1A1-B820-45D7-8AA6-2000DE30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5668-916C-4EAF-AA94-DF89ED2F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68A8-74EA-45F3-BED7-3146C1BB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58A0-6BB3-4213-ADAE-D0D54F2A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8F03-DCAC-4074-AE0B-A21128F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1F67-39B2-44DC-9DF2-69597E3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661F-D5D6-4DE8-BAC9-9904BAF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391C-CDA0-4437-8394-2007FD85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4AF6-388D-4CDE-90A4-18642B3B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48CE-EB69-44F8-83EF-331A1BCE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2981-E2BC-464A-B7BD-95C08DF6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00B-FC2A-4630-B379-F97846C3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C8C2-AA0D-4CC8-895C-8B77055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E8B4-102E-46AE-B0C6-8D5DABC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8C87-473F-4642-B0F2-3CD3DE1A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6D63-0926-4CCA-9CAC-50A77C51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322D-0237-4CE5-BDB9-AD6E2FF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B700-DA68-4972-8CE2-686CDFC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A6B71-BE17-4DAE-B7A6-EBFC0CCD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C71B-BB0D-44E9-9280-434778C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22FB-D046-49CB-8B70-FDF4502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B92A-B7A6-4CF9-BAE1-61014F4B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E4A-0BF2-463C-ADC7-95BAF6C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B0EF-9447-41E9-94FA-26AA4CD7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E9E-0485-4530-8EAC-5AA211E4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AE9-8E75-4971-9F1D-28304D6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F4D-26C3-4B7B-B94D-4F2B5EC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2940-7390-48EC-B18B-6F5142C70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BA96-2976-4C43-A5EF-5EB6B466CF7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641-B5C3-4A1F-9A35-983A4E973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9BFD-31FD-48B9-AB50-4E334EDA4D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4745-ABD6-499D-83A2-B523F8F29A5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35280" y="69228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6600"/>
                </a:solidFill>
                <a:latin typeface="Times New Roman"/>
              </a:rPr>
              <a:t>三、扩展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234936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类消灭战争的途径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14400" y="15238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676520"/>
            <a:ext cx="75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代了有关日记的说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28195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写了犹太人被送往集中营和毒气室的情况，以及人们在纳粹占领下的恐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41972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外面混乱的局面，人们妻离子散，生活在恐惧之中，每个小时都有成百成千的人送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0"/>
            <a:ext cx="7956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一、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自读课文，并概括每一则日记的主要内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1066680"/>
            <a:ext cx="7467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在飞机空袭时的情况，由于自己是犹太人，不能暴露，跑向防空洞和躲在密室一样危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3200400"/>
            <a:ext cx="601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躲在密室里的苦闷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724280"/>
            <a:ext cx="510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八个人躲在密室里的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1600" y="4572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作者听说战后要征集与战争有关的日记和书信，又想到外人无法想象躲藏起来的犹太人的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3623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5909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了作者对战争内涵的思考，以及对未来的憧憬和对幸福人生的向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449568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  星期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了作者在残酷现实中所表现出的对理想的执着，以及对未来的乐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91440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安妮遭受了难以想象的痛苦，却没有想过仇恨和报复，只希望人类永远不再有战争。她为什么会这样想？她的日记传达了怎样的情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安妮在第八则日记中说：“我不相信战争只是资本家和政客搞出来的，芸芸众生的罪过和他们一样大。”你如何理解这句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安妮在第八则日记中提到“芸芸众生的罪过和他们（政客和资本家）一样大”，但接着又说“我感觉到大自然的美和周遭人的善良”，在第九则日记中也写到“世界虽然这样，我还是相信人在内心里其实是善良的”，这是否矛盾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80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6600"/>
                </a:solidFill>
                <a:latin typeface="Times New Roman"/>
              </a:rPr>
              <a:t>二、问题探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9320" y="533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6600"/>
                </a:solidFill>
                <a:latin typeface="Times New Roman"/>
              </a:rPr>
              <a:t>四、写作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1447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安妮有安息之地，你将怎样为她写墓志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5280" y="0"/>
            <a:ext cx="6858000" cy="57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00"/>
                </a:solidFill>
                <a:latin typeface="宋体"/>
              </a:rPr>
              <a:t>　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普希金：“这儿安葬着普希金和他年轻的缪斯，爱情和懒惰，共同消磨了愉快的一生；他没有做过什么善事，可在心灵上，却实实在在是个好人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法国作家司汤达的墓志铭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米兰人亨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贝尔安眠于此。他曾经生存、写作、恋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800"/>
            </a:br>
            <a:br>
              <a:rPr sz="28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大文豪萧伯纳的墓志铭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我早就知道无论我活多久，这种事情还是一定会发生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600200" y="533520"/>
            <a:ext cx="5867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6600"/>
                </a:solidFill>
                <a:latin typeface="Times New Roman"/>
              </a:rPr>
              <a:t>五、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了安妮的日记，你一定会有很多感触，请给前文安妮的照片配一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左右的解说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228600"/>
            <a:ext cx="6782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40080" y="333360"/>
            <a:ext cx="5256000" cy="619128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nne02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5867640" cy="57866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7489800" cy="56894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5238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997360"/>
            <a:ext cx="795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星期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主要写了犹太人被送往集中营和毒气室的情况，以及人们在纳粹占领下的恐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87280" y="0"/>
            <a:ext cx="7956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一、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自读课文，并概括每一则日记的主要内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补充资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德国和日本法西斯当政的时候，这些国家的工人和农民是支持政府的。１９３３年，德国１５０万纳粹党人中，工人和农民党员共５０多万，占到三分之一以上。在有组织的疯狂屠杀犹太人的行动中，很多是来自德国社会底层的普通工人、农民和商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仅仅把战争罪恶归咎于统治阶级，就无法实现民族的反省，人民没有反思，也就不可能有效地制止战争的再次发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德国著名作家艾米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路德维希在他的《德国人：一个双重历史的国家》中谈及二战时说：“但是所有这些陈述，都没有涉及德国人民应当负什么罪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但是在国内深入一步追究这场世界大战的罪责，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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就会直接指向德国人民。德国人民多年来以默许的态度对待这场罪恶，现在要想说成是无所事事的旁观者，或无辜者，这是徒劳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样，在日本侵华期间的所有的烧杀奸掠，也都是普通日本人干的，日本人对那场战争不仅默许，而且积极地拥护并参与了侵略和屠杀。日本人民不是无辜的，他们也是施害者，对这场战争，他们也是有责任的。日本人民只看到自己民族经历了战争苦难，而没有深刻认识他们给中国和亚洲人民制造的苦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2:53:22Z</dcterms:created>
  <dc:creator>xuefeng</dc:creator>
  <dc:description/>
  <dc:language>en-US</dc:language>
  <cp:lastModifiedBy>l</cp:lastModifiedBy>
  <dcterms:modified xsi:type="dcterms:W3CDTF">2005-11-16T12:57:26Z</dcterms:modified>
  <cp:revision>60</cp:revision>
  <dc:subject/>
  <dc:title>PowerPoint 演示文稿</dc:title>
</cp:coreProperties>
</file>