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D2F8-0843-49D6-BC1C-1E2CA883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ACDEC-4EC4-410E-B6FE-328D1BAA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C8ACF-334D-4322-ACDC-23536F11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D84FE-D561-40E5-9BFD-A1E94DBC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1BB8-821A-47DB-9449-F50F1674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F877C-162B-497A-8FB2-E6495869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8E262-49EC-4629-BE59-71E1DE53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FC545-75C6-458B-A785-7AA01F6C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115B6-6DED-4385-BD62-929173C6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2F782-E577-47D1-BC4E-37974353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26233-37B4-4056-82E9-21025386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B91E4-D36B-40AB-9404-55D93AE6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97D72-83AC-4AEC-8B66-A349FDF6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EEAF0-E5B0-4F2F-8CD6-B8D0175E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8D550-FB9B-483B-9D68-53E43FE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25806-DC68-4B53-A325-4A4F022A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C5F5D-CF69-491C-BE94-D5E1AF2C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AC666-7283-4432-A1BC-E977A0C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31F85-BEC9-4BAF-A55F-54CE64CF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A191B-6EA5-41B8-8A68-6AAD64AB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7697E-735E-41AF-B091-109F017E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16870-1B68-4F18-AC3F-42D3AE87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934A0-4602-4FF8-9777-669E25C8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F0F41-84A7-4B62-B25A-0A4285C6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19A54-EBE3-4CA6-A487-63F73245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0252A-DADD-4929-9592-5E0D45E9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20CD6-E633-4A30-9C01-36E9247B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28690-DCD6-422B-8246-2F60B491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3718D-9B57-42FB-88AB-F69038C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27FFF-0DB0-4304-BE11-8488B1CE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7FF-13FD-4CC0-A17C-2E0D367C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0FC57-2DAE-4606-838E-35B6C1CD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C5724-C6DF-42C2-922E-4F26ADF8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A86AD-3910-4337-83AD-CEA379E9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29B3C-9C0F-479B-A00A-2B448920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9941D-4DBA-4C95-A3D5-B15A4753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0E582-87FB-4DD8-8259-B683BB25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D103B-3C41-43CF-B4DB-BDC41841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4107D-1813-4689-BEAD-27482C3C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1F8F1-2876-4AC8-93D0-6771E4C2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AE5FD-9E11-4AF2-9B58-14BCEA25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773-245D-47A9-92A2-3236D712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3AA89-94DC-4C3C-9A7F-DFA3A533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81721-1B8A-4B75-B412-30878CBC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DA935-037E-4ADC-97DE-E4679AAD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C0AAB-31D3-4567-91EB-FA7DAEE5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2A2F4-EB33-417B-8AE1-F0796B85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AD940-EE23-404B-95BC-CEEF69AB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E8871-C69B-4497-8864-5E49E31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16F11-FEA8-4EBB-878B-27E59DA0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D52D8-5BDD-4E73-9600-6A628B1D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F42EE-5F31-455C-8C59-1411AFEA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9D1-7EED-4AE1-B5B4-CB340191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B8A57-2D00-4A84-B9AD-20FA1C1E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7A2EA-BB9C-460D-8A1C-A73EF33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EB99F-DFE0-495C-926C-8082A917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5E906-7FD4-4420-95EE-DA1D3CF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25962-54F5-4FB5-859C-9C7A752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17C38-2619-4D98-89A1-228901D0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06AE3-0A34-4E77-A2C8-434DED21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DE3-8A06-4F9B-B3D2-07402E9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832-9ACC-44FB-BC2F-73FD15AD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A93-F16A-4731-BFED-41CF3393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6E2-21DC-4D1D-B750-41B1036F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BBA-1E92-407C-AD8A-7A4B4A34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5BA-BCA1-4C9F-AB3D-8EC9F18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2BD-9D84-465A-88FF-3BC8523E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E70-5364-4E48-98A5-D6D7E7DD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0DA-8148-401C-8491-8BDC0600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9999-D885-4366-BDF1-2CB529F6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EBC8-1C93-4E5C-891E-EF293E03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B8C3-993B-4861-9738-CF8781CA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8118-3005-4CA0-BE66-8259FD92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E6A6-F21E-4567-9485-739BC1B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B63E-1BAE-41A1-B3A1-9FAA8473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5AED-3DD7-4637-8A90-FAC9826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1DB-B562-45E5-85C5-1D071A65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ACCE-792A-495C-8C0A-C3CFF34B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8DBD-5E24-4381-A95D-5CF6155A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DB6D-FDCD-42EF-B64D-DB3AC017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BE96-ED2B-419F-8E16-B94E49AD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E871-200D-4896-AC4B-C505D804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B40F-CEBC-4B9D-86BF-C88817E3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EFB0-4E68-48DE-8967-94926DF8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0876-8AB4-43C9-BF51-28D00E1C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0417-8CBE-4F60-A43D-CD552E40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88E0-FC7E-4F80-8C09-8E1E005B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FDC6-D865-40E1-9138-BA89F935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44CC-F014-4084-8E7F-0851EF73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5258-1C94-4606-B3A3-36ECD26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74545-169E-4503-AC55-128901EE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C5D2-2643-4B4A-BD23-EEECA536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6B6F-D25D-423F-83FE-26B15230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3428-0B33-40BE-91F7-C8191387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101F-ED87-45E8-A58D-821198B4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5676-FC42-433E-BC88-C66C05C9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C7C0-60AD-47C7-A07D-750F330D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5D26-DA65-4897-B912-36CDD5A4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C96D-E882-4955-91E1-C3997B4E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F3B3-BC3B-4BFE-857E-AE48D82E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D8C2-DB39-4E8A-B6A2-F51F7F0C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3EBA1-47FE-4628-9BFD-E83AC816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01E7-C473-4B0F-96E0-A57EC43B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3135-DE67-4D39-A8FC-E517C1FC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19C4-2D44-46F4-807A-4CADB714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BF36-2108-4622-98A1-E53C267A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097DE-E633-4395-A5D3-62DB5069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59C9-E6C7-42B8-98BC-17926D4B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6B720-A1B5-41E9-9BAD-850D8EC2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6BD44-5E1E-4304-87B8-C191B3D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C6068-7351-4524-8F61-000DCFB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7C4BD-C46F-43C1-B233-839C75C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6FAFA-DBC9-40D3-98BA-E9BF7830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77378-F3C4-4392-B94A-2DEAFF9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CA9AF-9526-4306-BD1B-04882AE1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C4B5-5FF2-4406-A839-23A868E4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92A6-6580-42C5-8C1A-1EB92C24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E8D1D-4015-475C-A201-B491C270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438FB-4BAE-4B76-946E-D626ED1E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AF749-D32D-44BD-ADFE-338E6CE9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9D2F7-C64A-4794-8A24-01C76C8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F7770-2316-4AAD-AE04-AEDD4A43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ED49E-235D-46C1-A07E-25DE354A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1AB3-97B9-469C-B66D-78E8C9FD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FD838-2449-4B4F-ABE5-199DC222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EA6AF-C3E2-4D7C-9F63-0B93FDF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310E-F986-4AD7-BCEB-4D4CBCAF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87B42-2D49-4561-9804-23D5360A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E652-5345-40CE-944F-3CE41854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DD620-194D-4D57-98CB-4D0A2D36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BCEA-ADEF-4321-971C-F2881DA1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EC06F-D1CA-4D58-B728-AB19EC28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5" descr="小房"/>
          <p:cNvPicPr/>
          <p:nvPr/>
        </p:nvPicPr>
        <p:blipFill>
          <a:blip r:embed="rId3"/>
          <a:stretch/>
        </p:blipFill>
        <p:spPr>
          <a:xfrm>
            <a:off x="457200" y="22860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2" descr="90弧形蒙版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C80E-B2CD-4BAD-8D9D-47DE41458D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88BD-E40A-43C3-B3AE-C47338977F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C709-BE3C-40A0-A1AB-B95BFAF080A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1D4C-ECC2-4ABB-AD94-82B29550FDB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5A52-E11E-4E81-BAA6-D233266EFCC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5338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5338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5338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62E9-8A78-4FCD-8082-8DA94F0B3E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47E3-1F40-4053-89C7-8A170AAA4FB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A31-D6B3-4F30-B1DD-CC9753E05C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A9B5-83AB-49B1-BD9B-24C55FBDE95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F8B8-7059-40E0-BEF4-71CC10D816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9216-BA95-43BB-BBF0-382E082DDC1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矩形 2"/>
          <p:cNvSpPr/>
          <p:nvPr/>
        </p:nvSpPr>
        <p:spPr>
          <a:xfrm>
            <a:off x="1553400" y="2639880"/>
            <a:ext cx="356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易网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yi.com</a:t>
            </a:r>
            <a:endParaRPr b="1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28" name="矩形 4" descr=""/>
          <p:cNvPicPr/>
          <p:nvPr/>
        </p:nvPicPr>
        <p:blipFill>
          <a:blip r:embed="rId1"/>
          <a:stretch/>
        </p:blipFill>
        <p:spPr>
          <a:xfrm>
            <a:off x="0" y="1670040"/>
            <a:ext cx="56624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1599840" y="2217600"/>
            <a:ext cx="6297840" cy="3878280"/>
            <a:chOff x="1599840" y="2217600"/>
            <a:chExt cx="6297840" cy="3878280"/>
          </a:xfrm>
        </p:grpSpPr>
        <p:sp>
          <p:nvSpPr>
            <p:cNvPr id="530" name="Line 3"/>
            <p:cNvSpPr/>
            <p:nvPr/>
          </p:nvSpPr>
          <p:spPr>
            <a:xfrm flipH="1">
              <a:off x="1599840" y="6091200"/>
              <a:ext cx="1660680" cy="144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 flipH="1">
              <a:off x="1599840" y="5310000"/>
              <a:ext cx="2143080" cy="180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 flipH="1">
              <a:off x="1599840" y="4500360"/>
              <a:ext cx="2516040" cy="180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 flipH="1">
              <a:off x="1600200" y="3703680"/>
              <a:ext cx="2944800" cy="144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 flipH="1">
              <a:off x="1599840" y="2901960"/>
              <a:ext cx="3373560" cy="144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5" name="Line 8"/>
            <p:cNvSpPr/>
            <p:nvPr/>
          </p:nvSpPr>
          <p:spPr>
            <a:xfrm flipH="1">
              <a:off x="1599840" y="2217600"/>
              <a:ext cx="3747960" cy="144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>
              <a:off x="1812960" y="2217600"/>
              <a:ext cx="1440" cy="68436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1812960" y="2901960"/>
              <a:ext cx="1440" cy="80964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1812960" y="3711600"/>
              <a:ext cx="1440" cy="80964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9" name="Line 12"/>
            <p:cNvSpPr/>
            <p:nvPr/>
          </p:nvSpPr>
          <p:spPr>
            <a:xfrm>
              <a:off x="1812960" y="4521240"/>
              <a:ext cx="1440" cy="80928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0" name="Line 13"/>
            <p:cNvSpPr/>
            <p:nvPr/>
          </p:nvSpPr>
          <p:spPr>
            <a:xfrm>
              <a:off x="1812960" y="5330520"/>
              <a:ext cx="1440" cy="74628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1866240" y="2408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1866240" y="3200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3" name="Text Box 16"/>
            <p:cNvSpPr/>
            <p:nvPr/>
          </p:nvSpPr>
          <p:spPr>
            <a:xfrm>
              <a:off x="1866240" y="3989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4" name="Text Box 17"/>
            <p:cNvSpPr/>
            <p:nvPr/>
          </p:nvSpPr>
          <p:spPr>
            <a:xfrm>
              <a:off x="1866240" y="4781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1866240" y="5572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7094520" y="4905360"/>
              <a:ext cx="803160" cy="1189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7" name="Freeform 20"/>
            <p:cNvSpPr/>
            <p:nvPr/>
          </p:nvSpPr>
          <p:spPr>
            <a:xfrm>
              <a:off x="3711600" y="4905360"/>
              <a:ext cx="3738600" cy="506160"/>
            </a:xfrm>
            <a:custGeom>
              <a:avLst/>
              <a:gdLst>
                <a:gd name="textAreaLeft" fmla="*/ 0 w 3738600"/>
                <a:gd name="textAreaRight" fmla="*/ 3738960 w 37386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8" name="Freeform 21"/>
            <p:cNvSpPr/>
            <p:nvPr/>
          </p:nvSpPr>
          <p:spPr>
            <a:xfrm>
              <a:off x="3348000" y="5410080"/>
              <a:ext cx="4127400" cy="685800"/>
            </a:xfrm>
            <a:custGeom>
              <a:avLst/>
              <a:gdLst>
                <a:gd name="textAreaLeft" fmla="*/ 0 w 4127400"/>
                <a:gd name="textAreaRight" fmla="*/ 4127760 w 41274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9" name="Freeform 22"/>
            <p:cNvSpPr/>
            <p:nvPr/>
          </p:nvSpPr>
          <p:spPr>
            <a:xfrm>
              <a:off x="6676920" y="4232160"/>
              <a:ext cx="708120" cy="107640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0" name="Freeform 23"/>
            <p:cNvSpPr/>
            <p:nvPr/>
          </p:nvSpPr>
          <p:spPr>
            <a:xfrm>
              <a:off x="4137120" y="4232160"/>
              <a:ext cx="2808360" cy="37944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1" name="Freeform 24"/>
            <p:cNvSpPr/>
            <p:nvPr/>
          </p:nvSpPr>
          <p:spPr>
            <a:xfrm>
              <a:off x="3781440" y="4609800"/>
              <a:ext cx="3260880" cy="698760"/>
            </a:xfrm>
            <a:custGeom>
              <a:avLst/>
              <a:gdLst>
                <a:gd name="textAreaLeft" fmla="*/ 0 w 3260880"/>
                <a:gd name="textAreaRight" fmla="*/ 3261240 w 3260880"/>
                <a:gd name="textAreaTop" fmla="*/ 0 h 698760"/>
                <a:gd name="textAreaBottom" fmla="*/ 699120 h 698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2" name="Freeform 25"/>
            <p:cNvSpPr/>
            <p:nvPr/>
          </p:nvSpPr>
          <p:spPr>
            <a:xfrm>
              <a:off x="6257880" y="3566880"/>
              <a:ext cx="620640" cy="9352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3" name="Freeform 26"/>
            <p:cNvSpPr/>
            <p:nvPr/>
          </p:nvSpPr>
          <p:spPr>
            <a:xfrm>
              <a:off x="4559400" y="3566880"/>
              <a:ext cx="1874880" cy="252360"/>
            </a:xfrm>
            <a:custGeom>
              <a:avLst/>
              <a:gdLst>
                <a:gd name="textAreaLeft" fmla="*/ 0 w 1874880"/>
                <a:gd name="textAreaRight" fmla="*/ 1875240 w 187488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4" name="Freeform 27"/>
            <p:cNvSpPr/>
            <p:nvPr/>
          </p:nvSpPr>
          <p:spPr>
            <a:xfrm>
              <a:off x="4197240" y="3817800"/>
              <a:ext cx="2427480" cy="684360"/>
            </a:xfrm>
            <a:custGeom>
              <a:avLst/>
              <a:gdLst>
                <a:gd name="textAreaLeft" fmla="*/ 0 w 2427480"/>
                <a:gd name="textAreaRight" fmla="*/ 2427840 w 24274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5" name="Freeform 28"/>
            <p:cNvSpPr/>
            <p:nvPr/>
          </p:nvSpPr>
          <p:spPr>
            <a:xfrm>
              <a:off x="5834160" y="2892240"/>
              <a:ext cx="533160" cy="812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6" name="Freeform 29"/>
            <p:cNvSpPr/>
            <p:nvPr/>
          </p:nvSpPr>
          <p:spPr>
            <a:xfrm>
              <a:off x="4987800" y="2892240"/>
              <a:ext cx="936720" cy="12240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7" name="Freeform 30"/>
            <p:cNvSpPr/>
            <p:nvPr/>
          </p:nvSpPr>
          <p:spPr>
            <a:xfrm>
              <a:off x="4619520" y="3012840"/>
              <a:ext cx="1581120" cy="69228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692280"/>
                <a:gd name="textAreaBottom" fmla="*/ 692280 h 69228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8" name="Freeform 31"/>
            <p:cNvSpPr/>
            <p:nvPr/>
          </p:nvSpPr>
          <p:spPr>
            <a:xfrm>
              <a:off x="5407200" y="2217600"/>
              <a:ext cx="450720" cy="68904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9" name="Freeform 32"/>
            <p:cNvSpPr/>
            <p:nvPr/>
          </p:nvSpPr>
          <p:spPr>
            <a:xfrm>
              <a:off x="5040360" y="2217600"/>
              <a:ext cx="733320" cy="68904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0" name="Text Box 33"/>
            <p:cNvSpPr/>
            <p:nvPr/>
          </p:nvSpPr>
          <p:spPr>
            <a:xfrm>
              <a:off x="5146920" y="25844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1" name="Text Box 34"/>
            <p:cNvSpPr/>
            <p:nvPr/>
          </p:nvSpPr>
          <p:spPr>
            <a:xfrm>
              <a:off x="5146920" y="3309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2" name="Text Box 35"/>
            <p:cNvSpPr/>
            <p:nvPr/>
          </p:nvSpPr>
          <p:spPr>
            <a:xfrm>
              <a:off x="5146920" y="4100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3" name="Text Box 36"/>
            <p:cNvSpPr/>
            <p:nvPr/>
          </p:nvSpPr>
          <p:spPr>
            <a:xfrm>
              <a:off x="5146920" y="4890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4" name="Text Box 37"/>
            <p:cNvSpPr/>
            <p:nvPr/>
          </p:nvSpPr>
          <p:spPr>
            <a:xfrm>
              <a:off x="5146920" y="5681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565" name="Text Box 38"/>
          <p:cNvSpPr/>
          <p:nvPr/>
        </p:nvSpPr>
        <p:spPr>
          <a:xfrm>
            <a:off x="1143000" y="2286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在此处输入标题内容</a:t>
            </a:r>
            <a:endParaRPr b="1" lang="en-US" sz="2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WordArt 3"/>
          <p:cNvSpPr txBox="1"/>
          <p:nvPr/>
        </p:nvSpPr>
        <p:spPr>
          <a:xfrm>
            <a:off x="533520" y="2133720"/>
            <a:ext cx="3733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33"/>
                </a:solidFill>
                <a:latin typeface="华文行楷"/>
              </a:rPr>
              <a:t>谢谢观赏！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33"/>
              </a:solidFill>
              <a:latin typeface="华文行楷"/>
              <a:ea typeface="华文行楷"/>
            </a:endParaRPr>
          </a:p>
        </p:txBody>
      </p:sp>
      <p:sp>
        <p:nvSpPr>
          <p:cNvPr id="567" name="矩形 3"/>
          <p:cNvSpPr/>
          <p:nvPr/>
        </p:nvSpPr>
        <p:spPr>
          <a:xfrm>
            <a:off x="3936960" y="5486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6:30:40Z</dcterms:created>
  <dc:creator>Sung Ha, Park</dc:creator>
  <dc:description/>
  <cp:keywords/>
  <dc:language>en-US</dc:language>
  <cp:lastModifiedBy>wuhan</cp:lastModifiedBy>
  <dcterms:modified xsi:type="dcterms:W3CDTF">2019-02-18T09:10:34Z</dcterms:modified>
  <cp:revision>18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