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7.gif" ContentType="image/gif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9.gif" ContentType="image/gif"/>
  <Override PartName="/ppt/media/image16.jpeg" ContentType="image/jpeg"/>
  <Override PartName="/ppt/media/image63.jpeg" ContentType="image/jpeg"/>
  <Override PartName="/ppt/media/image6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22.png" ContentType="image/png"/>
  <Override PartName="/ppt/media/image65.png" ContentType="image/png"/>
  <Override PartName="/ppt/media/image21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18.jpeg" ContentType="image/jpeg"/>
  <Override PartName="/ppt/media/image19.png" ContentType="image/png"/>
  <Override PartName="/ppt/media/image62.jpeg" ContentType="image/jpeg"/>
  <Override PartName="/ppt/media/image5.jpeg" ContentType="image/jpeg"/>
  <Override PartName="/ppt/media/image64.jpeg" ContentType="image/jpeg"/>
  <Override PartName="/ppt/media/image28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6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9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2.gif" ContentType="image/gif"/>
  <Override PartName="/ppt/media/image43.gif" ContentType="image/gif"/>
  <Override PartName="/ppt/media/image46.png" ContentType="image/png"/>
  <Override PartName="/ppt/media/image47.jpeg" ContentType="image/jpeg"/>
  <Override PartName="/ppt/media/image48.jpeg" ContentType="image/jpeg"/>
  <Override PartName="/ppt/media/image8.gif" ContentType="image/gif"/>
  <Override PartName="/ppt/media/image49.jpeg" ContentType="image/jpeg"/>
  <Override PartName="/ppt/media/image5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8EE-3569-4FBC-9A28-BAA06808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8D9-EB53-4E1A-B29C-3A978BEC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3F204-F29A-4EBF-AEE0-65E39470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81D3D-79B4-451E-B155-B565FFA5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B4147-CFE1-4C87-ADF8-02E793E3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1915C-0E25-4E81-ACE8-D6C802A2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A9031-B9E6-42AA-A4CA-E9BCC7D3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0366F-0888-46E1-9D22-7B2F2545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2ADEB-D02B-4052-9243-9EF973A8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1AC28-DF6F-4CCF-BC12-15373393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24750-FA2C-4BBD-BA87-78CD99AF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85C89-9A53-4A36-BC4C-6AE76DBC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4C34-2D3D-41F8-BC7F-3CBE2290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119E7-B9F7-440B-8DA8-E487A0F9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EDE63-38BD-4F89-98C1-75757E5B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6C371-F784-4E9E-A3A7-E0B85951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56CE5-9E3A-411B-925B-68B6E22C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4FEC1-B950-488F-ADC2-95E4A0D9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505CA-4EDC-461C-9CA5-39F8AB3A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8CFF2-39B2-4AC8-8630-F3837991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8F950-FA8A-401D-BDCE-0BA3DBAE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EA6EB-D0B0-4CA0-AD2B-04D10D9B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848D6-F8DB-4490-A62A-2B381A79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AAA-855A-4548-A6CB-7608DB90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DA3FB-DFD6-4989-8025-998EABDB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3151B-2A77-4DDE-9C88-9B2F8B28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C9274-7F15-4079-9B09-7D8467F8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25F89-8E82-4C1C-9E54-37E8BA19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9C077-B8FD-4497-B2F5-A46F7917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3CA65-9BF8-4F2C-9A40-DBDF3DD2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43866-DADE-4046-91E2-B311F6C4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30F81-A7A2-4115-9206-EB71E091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871EF-6A7D-46FA-A5F1-BF2C5ABE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4721A-0D7E-473B-9502-2425DEEC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03BA-AC1F-4BAB-AC5E-5B2B5B0F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5AA76-F983-4A9B-B070-C6345C45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BB8B9-6418-46BF-8635-C0110EA3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3CD56-12CF-4483-BCC3-A9FE2BE3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4A031-2306-47EA-9239-A8ECF1C5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BBF77-C2B8-4F6C-8F11-458CBB6B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E6851-A979-427E-AE34-04FC60C4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68BDD-8156-46F1-9065-17E1A63F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20F3D-8C47-4318-A83B-108904CC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80FBA-811D-456B-9AEF-57BD72A5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5F0CE-A493-4C24-8680-55265B1C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C116-680E-421D-9C50-C3AD959E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E7CF0-3D3A-4DC2-8BF9-A6C49C0C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8EB72-25DE-4884-A86E-EAA1C330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42AB8-E9B8-4599-AD27-479F18BC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8A386-7E4F-46D4-9617-9120984B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E3486-FB80-4BB3-AE1F-F787EC54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C88D-340C-42BD-BDBF-AB94A293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671E-FEB5-445C-826E-F0A3B467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C220-8C09-48EA-AD91-6BA548E9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D983-029D-4673-9956-E7E9B37F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8F47-BF06-41A9-91CB-09152F0F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369-1209-45B7-A3E8-7F366C84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6056-4850-4A09-BA48-BE38643F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6C9D-D1CE-4B09-A8D5-6F69AB89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99A9-6ACF-4735-BFB4-7570AAB8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A068-0131-4896-ADED-B016582B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CE48-751C-47B1-A996-324062B5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AF79-C97F-4DB7-82B0-7F70FF68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BB2F-849E-4E75-852D-181C3F49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B2CEE-96D5-4064-8DCA-2EF1BA03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08B93-11E6-4BD2-803C-E1A93AD3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F5740-8628-4E11-A090-E6B0446B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ABE-331F-4D90-852E-10E2ACC0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1BE5-3496-4356-B281-3D965E24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586FF-DC8D-452B-B78C-F807DF7B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95A75-683A-44AE-9A7B-CE0A58F4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9518-C37A-4FD7-811D-7825C636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9CDCF-A89B-4770-B65D-AA3BF516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F3CE9-5D0E-47F4-9411-C16776CE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B1F3D-05FB-425C-9590-309D4C3C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3FA3-7DE8-4917-BF9F-3473A352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26FC-5B2B-44CE-8E12-37F5D619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C99D3-B61E-40F2-B78B-235BFC7F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665-9383-418B-9E91-0F3069C6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94FE3-8DDB-4716-9B03-39D6E151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A3FB1-7E3A-4D3B-9E2A-B0CE9095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4A3A1-4EF5-4C70-B7E8-CDCC38AB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20C3A-3C89-4E70-85AD-B2ABC123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B0654-DC56-4D7A-9799-CBC954D8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F51CB-A80D-4CDC-82D5-1C116586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003F0-1589-4103-96A9-C9437F91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EE85-16F6-4046-89F9-E00D595F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8576C-9FCD-4AF9-9060-12FE637D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1E58C-B271-4128-9421-3B310C36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CDC-6B81-47B3-AC62-7A0C6405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9493D-5AE3-412F-8438-2DB26ADD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6BDF6-3473-45F5-A14A-3D76CF61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D9E71-4E33-4998-9E41-EBB5C6A2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8FDE3-EEA6-46B3-89EE-EB5DAB6C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8DAF8-668E-43E2-9C4A-A07B6A31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94371-8259-42FC-8D00-E1F11A9D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59315-F19F-47AE-B05C-36EF44ED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DCF05-F8B8-4BA7-AEDF-6E8870C5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5AE64-55F9-469C-8188-FA934F0F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41426-444B-4A91-9816-7022EA34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B3B-C7F8-4CDE-9E72-3693E129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A1B2A-67C1-474C-820A-A310F1DE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CF3EB-9D3C-4F58-B1BA-89DEDD29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21BF0-F6F4-4370-8643-52941269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7A5F9-5058-4720-A04F-3525B058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3B36B-A200-4C99-894F-13181FAA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51687-B01E-4B2A-A773-D53E24D3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B94F7-82FE-476A-A7EA-A6B1866A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A5936-3FD3-4C3E-8A9D-FF66FF3E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69BDC-FBAD-42C9-A8B9-116AF255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098BD-AE05-4DFB-8294-2D429B30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F82-E111-40C6-8522-0F2D0722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03CF7-2401-47BE-8867-1DF46D56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B76C6-8E49-47DA-810E-E35209C4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15A57-C9A1-48C8-B27E-9F92C901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9153D-1A62-4EDC-90AC-9EA6F18B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72E33-86DA-40A3-9659-BF31E7A8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AAF3D-8ED1-4BE2-8868-598B6CE8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A2474-2E1D-4B0C-92A7-341FEB6B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83662-6760-4FD0-A707-CA68A9DF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D9F50-EB7A-4394-B614-0800CFFB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D1459-13E0-4C26-B904-99DCD022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B86-D9B3-4619-B07E-CEDEE9A9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0FA19-FC1C-4902-A4E5-F7CD4330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747F3-744E-4798-ACF4-CBC5B31B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4EDF8-8BE6-4E25-B714-F78AD9D6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C0FDC-1427-4411-9267-3B47B542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313B5-E3AD-43B4-A7C6-3DEA564D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05098-26CE-466A-97B5-92745926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8A3A1-518A-4A52-891B-920D35F3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F7813-110B-449D-8D17-C93212C8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8EE56-18DA-436C-879E-980D1A1D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31FC2-72B7-4BBE-A6C9-1844BBCB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5AA-CC5B-4484-9A94-42448CD3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ADEBA-C97B-40DA-ABD7-DB3A19A3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5E6AA-3B77-4489-AE67-58AFB3BB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AD4C7-8A75-4C75-9C62-3E0EB06D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B409E-BFB1-42A9-9655-90C5CFA8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EB0F8-74A4-41F1-A29B-524289BE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0F568-DEAA-45E4-996C-CA2B35BC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5D838-C0B8-45A6-A0B2-37B8663A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F1ED4-9127-4A39-B71C-C0A29B65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3CAEF-298B-4D61-8281-40FA35EB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67F99-ED53-4411-AC83-0DD10877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4F47-551F-4A67-8C1D-E2D4600C9C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2CC4-96E5-471F-990A-E17CA240ED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E657-B915-4248-9608-67D7E75AD8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CD25-4219-4AF4-90C0-D078480548D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84B7-DC0A-48AA-AE4F-2A1F83B4D1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E70A-0EEB-413E-B3B3-33746C8456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6C1B-3FA9-4352-814F-8E64AC3D27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4F42-7967-4975-809A-6DF00CC98E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0474-CC51-4F39-AC3C-50D99E3E3C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A987-4F77-44C3-B244-3DB1E02866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CB8E-38D0-4C0F-907D-282422B02A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520F-5512-4E1A-A969-DB754E3027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hoto.mofile.com/picture/W4PWJMEVEK_201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u123.cn/html/WebScore/ZhiWu/20070417192540(56).htm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B0%D7%C1%AB&amp;in=12138&amp;cl=2&amp;cm=1&amp;sc=0&amp;lm=-1&amp;pn=8&amp;rn=1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image.baidu.com/i?ct=503316480&amp;z=0&amp;tn=baiduimagedetail&amp;word=%B0%D7%C1%AB&amp;in=2851&amp;cl=2&amp;cm=1&amp;sc=0&amp;lm=-1&amp;pn=79&amp;rn=1" TargetMode="External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9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baike.baidu.com/view/7622.htm" TargetMode="External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hyperlink" Target="http://www.kankantu.com/print_8178.html" TargetMode="External"/><Relationship Id="rId5" Type="http://schemas.openxmlformats.org/officeDocument/2006/relationships/image" Target="../media/image49.jpeg"/><Relationship Id="rId6" Type="http://schemas.openxmlformats.org/officeDocument/2006/relationships/hyperlink" Target="http://www.tupianz.com/zhiwu/hua/juhua/" TargetMode="External"/><Relationship Id="rId7" Type="http://schemas.openxmlformats.org/officeDocument/2006/relationships/image" Target="../media/image50.jpeg"/><Relationship Id="rId8" Type="http://schemas.openxmlformats.org/officeDocument/2006/relationships/hyperlink" Target="http://www.chinanongmao.com/yuanyi/news/2007329/200732911828.html" TargetMode="External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4.jpe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aike.baidu.com/view/134148.htm" TargetMode="External"/><Relationship Id="rId2" Type="http://schemas.openxmlformats.org/officeDocument/2006/relationships/hyperlink" Target="http://baike.baidu.com/view/4144.htm" TargetMode="External"/><Relationship Id="rId3" Type="http://schemas.openxmlformats.org/officeDocument/2006/relationships/hyperlink" Target="http://www.postharvest.com.cn/qwj/article.asp?id=2554" TargetMode="External"/><Relationship Id="rId4" Type="http://schemas.openxmlformats.org/officeDocument/2006/relationships/image" Target="../media/image52.png"/><Relationship Id="rId5" Type="http://schemas.openxmlformats.org/officeDocument/2006/relationships/hyperlink" Target="http://www.farmer.com.cn/hy/st/yy/200704090779.htm" TargetMode="External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A&#635;%A8&amp;in=32325&amp;cl=2&amp;cm=1&amp;sc=0&amp;lm=-1&amp;pn=79&amp;rn=1" TargetMode="External"/><Relationship Id="rId2" Type="http://schemas.openxmlformats.org/officeDocument/2006/relationships/image" Target="../media/image54.jpeg"/><Relationship Id="rId3" Type="http://schemas.openxmlformats.org/officeDocument/2006/relationships/hyperlink" Target="http://www.62368.com/picture_19817.html" TargetMode="External"/><Relationship Id="rId4" Type="http://schemas.openxmlformats.org/officeDocument/2006/relationships/image" Target="../media/image55.jpeg"/><Relationship Id="rId5" Type="http://schemas.openxmlformats.org/officeDocument/2006/relationships/hyperlink" Target="http://image.baidu.com/i?ct=503316480&amp;z=0&amp;tn=baiduimagedetail&amp;word=%BA&#635;%A8&amp;in=11134&amp;cl=2&amp;cm=1&amp;sc=0&amp;lm=-1&amp;pn=192&amp;rn=1" TargetMode="External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19.png"/><Relationship Id="rId3" Type="http://schemas.openxmlformats.org/officeDocument/2006/relationships/hyperlink" Target="http://image.baidu.com/i?ct=503316480&amp;z=0&amp;tn=baiduimagedetail&amp;word=%BA&#635;%A8&#892;&#428;&amp;in=17006&amp;cl=2&amp;cm=1&amp;sc=0&amp;lm=-1&amp;pn=10&amp;rn=1" TargetMode="External"/><Relationship Id="rId4" Type="http://schemas.openxmlformats.org/officeDocument/2006/relationships/image" Target="../media/image59.jpe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19.png"/><Relationship Id="rId3" Type="http://schemas.openxmlformats.org/officeDocument/2006/relationships/hyperlink" Target="http://image.baidu.com/i?ct=503316480&amp;z=0&amp;tn=baiduimagedetail&amp;word=%BA&#635;%A8&#892;&#428;&amp;in=14391&amp;cl=2&amp;cm=1&amp;sc=0&amp;lm=-1&amp;pn=19&amp;rn=1" TargetMode="External"/><Relationship Id="rId4" Type="http://schemas.openxmlformats.org/officeDocument/2006/relationships/image" Target="../media/image61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19.png"/><Relationship Id="rId3" Type="http://schemas.openxmlformats.org/officeDocument/2006/relationships/hyperlink" Target="http://image.baidu.com/i?ct=503316480&amp;z=0&amp;tn=baiduimagedetail&amp;word=%BA&#635;%A8&#892;&#428;&amp;in=15204&amp;cl=2&amp;cm=1&amp;sc=0&amp;lm=-1&amp;pn=18&amp;rn=1" TargetMode="External"/><Relationship Id="rId4" Type="http://schemas.openxmlformats.org/officeDocument/2006/relationships/image" Target="../media/image63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image" Target="../media/image65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hoto.store.qq.com/http_imgload.cgi?/rurl2=65866cd347f10417fef123ad2799086a97d54e02ec14f253f1e31e39d172aff802aaca49631d02df25bebb1094e606f6801e2d8cdc5c3ffe63e652d80cc1db4214818cdbb6481cb1e18493f8ae6fea4491d8011e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.baidu.com/i?ct=503316480&amp;z=0&amp;tn=baiduimagedetail&amp;word=%BA&#635;%A8&amp;in=29567&amp;cl=2&amp;cm=1&amp;sc=0&amp;lm=-1&amp;pn=58&amp;rn=1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e.baidu.com/i?ct=503316480&amp;z=0&amp;tn=baiduimagedetail&amp;word=&#309;%B5%A4&amp;in=846&amp;cl=2&amp;cm=1&amp;sc=0&amp;lm=-1&amp;pn=22&amp;rn=1" TargetMode="External"/><Relationship Id="rId3" Type="http://schemas.openxmlformats.org/officeDocument/2006/relationships/image" Target="../media/image23.jpeg"/><Relationship Id="rId4" Type="http://schemas.openxmlformats.org/officeDocument/2006/relationships/hyperlink" Target="http://image.baidu.com/i?ct=503316480&amp;z=0&amp;tn=baiduimagedetail&amp;word=%D0&#1275;%A8&amp;in=11142&amp;cl=2&amp;cm=1&amp;sc=0&amp;lm=-1&amp;pn=34&amp;rn=1" TargetMode="External"/><Relationship Id="rId5" Type="http://schemas.openxmlformats.org/officeDocument/2006/relationships/image" Target="../media/image24.jpeg"/><Relationship Id="rId6" Type="http://schemas.openxmlformats.org/officeDocument/2006/relationships/hyperlink" Target="http://image.baidu.com/i?ct=503316480&amp;z=0&amp;tn=baiduimagedetail&amp;word=&#247;%BB%A8&amp;in=28593&amp;cl=2&amp;cm=1&amp;sc=0&amp;lm=-1&amp;pn=12&amp;rn=1&amp;di=1313339296&amp;ln=2000" TargetMode="External"/><Relationship Id="rId7" Type="http://schemas.openxmlformats.org/officeDocument/2006/relationships/image" Target="../media/image25.jpeg"/><Relationship Id="rId8" Type="http://schemas.openxmlformats.org/officeDocument/2006/relationships/hyperlink" Target="http://image.baidu.com/i?ct=503316480&amp;z=0&amp;tn=baiduimagedetail&amp;word=%BE&#1403;%A8&amp;in=897&amp;cl=2&amp;cm=1&amp;sc=0&amp;lm=-1&amp;pn=9&amp;rn=1&amp;di=1737539256&amp;ln=2000" TargetMode="External"/><Relationship Id="rId9" Type="http://schemas.openxmlformats.org/officeDocument/2006/relationships/image" Target="../media/image26.jpeg"/><Relationship Id="rId10" Type="http://schemas.openxmlformats.org/officeDocument/2006/relationships/hyperlink" Target="http://image.baidu.com/i?ct=503316480&amp;z=0&amp;tn=baiduimagedetail&amp;word=%CC&#1211;%A8&amp;in=29381&amp;cl=2&amp;cm=1&amp;sc=0&amp;lm=-1&amp;pn=11&amp;rn=1&amp;di=1511220412&amp;ln=2000" TargetMode="External"/><Relationship Id="rId11" Type="http://schemas.openxmlformats.org/officeDocument/2006/relationships/image" Target="../media/image27.jpe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baike.baidu.com/pic/2/11456047285415786.jpg" TargetMode="External"/><Relationship Id="rId3" Type="http://schemas.openxmlformats.org/officeDocument/2006/relationships/hyperlink" Target="http://baike.baidu.com/pic/2/11456047285415786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baike.baidu.com/view/8581.htm" TargetMode="External"/><Relationship Id="rId6" Type="http://schemas.openxmlformats.org/officeDocument/2006/relationships/hyperlink" Target="http://baike.baidu.com/view/391324.ht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hyperlink" Target="http://image.baidu.com/i?ct=503316480&amp;z=0&amp;tn=baiduimagedetail&amp;word=%BA&#635;%A8&#892;&#428;&amp;in=3847&amp;cl=2&amp;cm=1&amp;sc=0&amp;lm=-1&amp;pn=22&amp;rn=1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image.baidu.com/i?ct=503316480&amp;z=0&amp;tn=baiduimagedetail&amp;word=%BA&#635;%A8&#892;&#428;&amp;in=4705&amp;cl=2&amp;cm=1&amp;sc=0&amp;lm=-1&amp;pn=11&amp;rn=1" TargetMode="External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87china.cn/PICK/hufu46/h1u3fu35/200702/64084.html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标题 4300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-4932360" y="5805360"/>
            <a:ext cx="381636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8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4" name="矩形 43011"/>
          <p:cNvSpPr txBox="1"/>
          <p:nvPr/>
        </p:nvSpPr>
        <p:spPr>
          <a:xfrm>
            <a:off x="2484360" y="2349360"/>
            <a:ext cx="365760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爱莲说</a:t>
            </a:r>
            <a:endParaRPr b="1" lang="en-US" sz="9600" spc="1" strike="noStrike">
              <a:ln w="9360">
                <a:solidFill>
                  <a:srgbClr val="ff00ff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95" name="矩形 43012"/>
          <p:cNvSpPr txBox="1"/>
          <p:nvPr/>
        </p:nvSpPr>
        <p:spPr>
          <a:xfrm>
            <a:off x="3492360" y="3213000"/>
            <a:ext cx="15145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周敦颐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常用文言实词释意及运用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820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１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甚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( 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很 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)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蕃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( 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多 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)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盛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(  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盛行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)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染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(  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被沾染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妖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( 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妩媚 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)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蔓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(  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长枝蔓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)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　枝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( 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长枝节  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益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( 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更加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)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　植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(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 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)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噫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( 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鲜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(  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)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　宜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(  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)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　　众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( </a:t>
            </a:r>
            <a:r>
              <a:rPr b="1" lang="zh-CN" sz="3200" spc="-1" strike="noStrike">
                <a:solidFill>
                  <a:srgbClr val="00ff00"/>
                </a:solidFill>
                <a:latin typeface="Arial Black"/>
              </a:rPr>
              <a:t>　  </a:t>
            </a:r>
            <a:r>
              <a:rPr b="1" lang="en-US" sz="3200" spc="-1" strike="noStrike">
                <a:solidFill>
                  <a:srgbClr val="00ff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矩形 66563"/>
          <p:cNvSpPr/>
          <p:nvPr/>
        </p:nvSpPr>
        <p:spPr>
          <a:xfrm>
            <a:off x="468360" y="5445000"/>
            <a:ext cx="867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２再根据课下注解翻译句子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学生问答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你读出句子寻求解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8423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课文内容分析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87202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作者把莲花比作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哪些语句具体描写了莲花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表现了莲花哪些品格？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文写了莲，还写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哪几种花？分别比作什么？文章题为爱莲说，为什么还要写其他花呢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找出课文中的原句，体会作者对三种花各持什么态度？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第二段的句子有什么特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你能学到一点怎样的写作方法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图片 26629" descr="W4PWJMEVEK_201_500_3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0"/>
            <a:ext cx="3492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-587880"/>
            <a:ext cx="1317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8" name="矩形 51203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矩形 51204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文本占位符 51206" descr=""/>
          <p:cNvPicPr/>
          <p:nvPr/>
        </p:nvPicPr>
        <p:blipFill>
          <a:blip r:embed="rId1"/>
          <a:stretch/>
        </p:blipFill>
        <p:spPr>
          <a:xfrm>
            <a:off x="0" y="0"/>
            <a:ext cx="884232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矩形 51207"/>
          <p:cNvSpPr/>
          <p:nvPr/>
        </p:nvSpPr>
        <p:spPr>
          <a:xfrm>
            <a:off x="-252360" y="119160"/>
            <a:ext cx="8928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板书设计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爱 莲 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出淤泥而不染</a:t>
            </a:r>
            <a:r>
              <a:rPr b="0" i="1" lang="zh-CN" sz="2800" spc="-1" strike="noStrike" u="sng">
                <a:solidFill>
                  <a:srgbClr val="ffff00"/>
                </a:solidFill>
                <a:uFillTx/>
                <a:latin typeface="Arial"/>
              </a:rPr>
              <a:t>身处污浊却不同流合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高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濯清涟而不妖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庄重不炫耀不哗众取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质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中通外直 ，不蔓不枝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正直不苟豁达大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正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香远益清亭亭净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植资质美好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,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美名远扬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芳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可远观而不可亵玩焉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仪态庄重孤傲令人敬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清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托物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（莲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言志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（不慕名利  洁身自好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总结归纳              花之君子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本文运用以花喻人托物言志的手法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表明了作者不幕富贵洁身自好不与世俗同流合污的生活态度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并借此讽刺了当时追名逐利攀附富贵的世风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图片 27652" descr="pic0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716280"/>
            <a:ext cx="9144000" cy="447372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27654" descr="u=2694704062,3653563828&amp;gp=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0"/>
            <a:ext cx="1944720" cy="170028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27658" descr="u=2222892126,1624263554&amp;gp=-2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40543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讨论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907920"/>
            <a:ext cx="85406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在高速发展的经济社会时代，作者的思想过时吗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（这个教学环节用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分钟，从课程的设计来看，能体现语文“工具性”与“人文性”的结合；在课堂环境来看，能体现“学生为主体，教师为主导”：在学习方式上，注重学生的“自主，合作、探究”为主，辅以教师的点拨；从教法上看，能将传统的诵读法与现代的多媒体技术相结合；从问题的设计上，体现知识梯度性。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短文赞扬莲花“出淤泥而不染”的高贵品质，实是作者思想情怀的抒发，可现实生活中，有人却认为“近朱者赤，近墨者黑”对这两种观点，你是怎样看待的？简述理由。（提示：针对某一观点或将两者结合起来谈均可，必须扣住“人与环境”的关系）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你喜欢哪种花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请简要说明喜欢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的原因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内容占位符 57345" descr="xcjcs%5b1%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矩形 57346"/>
          <p:cNvSpPr txBox="1"/>
          <p:nvPr/>
        </p:nvSpPr>
        <p:spPr>
          <a:xfrm>
            <a:off x="0" y="189000"/>
            <a:ext cx="210492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咏荷名句</a:t>
            </a: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1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图片 59393" descr="cl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矩形 59394"/>
          <p:cNvSpPr txBox="1"/>
          <p:nvPr/>
        </p:nvSpPr>
        <p:spPr>
          <a:xfrm>
            <a:off x="0" y="189000"/>
            <a:ext cx="227664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咏荷名句</a:t>
            </a:r>
            <a:r>
              <a:rPr b="0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2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55297" descr="2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757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矩形 55308"/>
          <p:cNvSpPr/>
          <p:nvPr/>
        </p:nvSpPr>
        <p:spPr>
          <a:xfrm>
            <a:off x="-757080" y="2276640"/>
            <a:ext cx="89294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你学了本文后有什么启发和感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同学从下列实物中选择一项或几项从托物言志的角度进行讨论，说说它们的寓意。还可自己提供材料资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白纸，蜡烛，春蚕，火炬，粉笔，梅花，石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背诵这篇课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将刚才的造句练习扩充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左右的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短文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文本框 55309"/>
          <p:cNvSpPr/>
          <p:nvPr/>
        </p:nvSpPr>
        <p:spPr>
          <a:xfrm>
            <a:off x="347184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文本框 55310"/>
          <p:cNvSpPr/>
          <p:nvPr/>
        </p:nvSpPr>
        <p:spPr>
          <a:xfrm>
            <a:off x="407880" y="260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能力训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7003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再次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欣赏</a:t>
            </a:r>
            <a:br>
              <a:rPr sz="3600"/>
            </a:b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2340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图片 34824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659640" cy="4365720"/>
          </a:xfrm>
          <a:prstGeom prst="rect">
            <a:avLst/>
          </a:prstGeom>
          <a:ln w="0">
            <a:noFill/>
          </a:ln>
        </p:spPr>
      </p:pic>
      <p:sp>
        <p:nvSpPr>
          <p:cNvPr id="580" name="矩形 34825"/>
          <p:cNvSpPr/>
          <p:nvPr/>
        </p:nvSpPr>
        <p:spPr>
          <a:xfrm>
            <a:off x="8317080" y="549360"/>
            <a:ext cx="1150920" cy="59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莲花.wma" descr=""/>
          <p:cNvPicPr/>
          <p:nvPr/>
        </p:nvPicPr>
        <p:blipFill>
          <a:blip r:embed="rId2"/>
          <a:stretch/>
        </p:blipFill>
        <p:spPr>
          <a:xfrm>
            <a:off x="7885080" y="198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34827" descr=""/>
          <p:cNvPicPr/>
          <p:nvPr/>
        </p:nvPicPr>
        <p:blipFill>
          <a:blip r:embed="rId3"/>
          <a:stretch/>
        </p:blipFill>
        <p:spPr>
          <a:xfrm>
            <a:off x="2484360" y="0"/>
            <a:ext cx="6659640" cy="249228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34828"/>
          <p:cNvSpPr/>
          <p:nvPr/>
        </p:nvSpPr>
        <p:spPr>
          <a:xfrm>
            <a:off x="1692360" y="907920"/>
            <a:ext cx="458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文本框 34830"/>
          <p:cNvSpPr/>
          <p:nvPr/>
        </p:nvSpPr>
        <p:spPr>
          <a:xfrm>
            <a:off x="254520" y="765000"/>
            <a:ext cx="1094760" cy="10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水陆草木之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文本框 34833"/>
          <p:cNvSpPr/>
          <p:nvPr/>
        </p:nvSpPr>
        <p:spPr>
          <a:xfrm>
            <a:off x="1463760" y="360000"/>
            <a:ext cx="118584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可爱者甚蕃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97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晋</a:t>
            </a:r>
            <a:br>
              <a:rPr sz="6000"/>
            </a:br>
            <a:r>
              <a:rPr b="0" lang="zh-CN" sz="6000" spc="-1" strike="noStrike" u="sng">
                <a:solidFill>
                  <a:srgbClr val="66ffff"/>
                </a:solidFill>
                <a:uFillTx/>
                <a:latin typeface="Arial"/>
                <a:hlinkClick r:id="rId1"/>
              </a:rPr>
              <a:t>陶_x000b_渊_x000b_明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独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爱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菊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87" name="图片 35844" descr="菊花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177336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35846" descr="菊花"/>
          <p:cNvPicPr/>
          <p:nvPr/>
        </p:nvPicPr>
        <p:blipFill>
          <a:blip r:embed="rId3"/>
          <a:stretch/>
        </p:blipFill>
        <p:spPr>
          <a:xfrm>
            <a:off x="2050920" y="0"/>
            <a:ext cx="2305080" cy="177336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35848" descr="1124035762_mid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0920" y="1773360"/>
            <a:ext cx="7093080" cy="324000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35850" descr="013am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80000" y="0"/>
            <a:ext cx="2879640" cy="177336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35852" descr="20073291182666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050920" y="4941720"/>
            <a:ext cx="7093080" cy="191628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531280" y="1988640"/>
            <a:ext cx="122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内容占位符 69633" descr="01"/>
          <p:cNvPicPr/>
          <p:nvPr/>
        </p:nvPicPr>
        <p:blipFill>
          <a:blip r:embed="rId1"/>
          <a:stretch/>
        </p:blipFill>
        <p:spPr>
          <a:xfrm>
            <a:off x="-4680" y="-3240"/>
            <a:ext cx="9148680" cy="6861240"/>
          </a:xfrm>
          <a:prstGeom prst="rect">
            <a:avLst/>
          </a:prstGeom>
          <a:ln w="0">
            <a:noFill/>
          </a:ln>
        </p:spPr>
      </p:pic>
      <p:pic>
        <p:nvPicPr>
          <p:cNvPr id="497" name="内容占位符 69634" descr="02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98" name="内容占位符 69635" descr="05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99" name="内容占位符 69636" descr="85540"/>
          <p:cNvPicPr/>
          <p:nvPr/>
        </p:nvPicPr>
        <p:blipFill>
          <a:blip r:embed="rId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69637" descr="156181"/>
          <p:cNvPicPr/>
          <p:nvPr/>
        </p:nvPicPr>
        <p:blipFill>
          <a:blip r:embed="rId5"/>
          <a:stretch/>
        </p:blipFill>
        <p:spPr>
          <a:xfrm>
            <a:off x="0" y="0"/>
            <a:ext cx="9178920" cy="685944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69638" descr="207066"/>
          <p:cNvPicPr/>
          <p:nvPr/>
        </p:nvPicPr>
        <p:blipFill>
          <a:blip r:embed="rId6"/>
          <a:stretch/>
        </p:blipFill>
        <p:spPr>
          <a:xfrm>
            <a:off x="0" y="0"/>
            <a:ext cx="9178920" cy="685944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69639" descr="46918"/>
          <p:cNvPicPr/>
          <p:nvPr/>
        </p:nvPicPr>
        <p:blipFill>
          <a:blip r:embed="rId7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69640" descr="211299"/>
          <p:cNvPicPr/>
          <p:nvPr/>
        </p:nvPicPr>
        <p:blipFill>
          <a:blip r:embed="rId8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69641" descr="1093957169737"/>
          <p:cNvPicPr/>
          <p:nvPr/>
        </p:nvPicPr>
        <p:blipFill>
          <a:blip r:embed="rId9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69642" descr="1093957403849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6" name="图片 69643" descr="1093957256708"/>
          <p:cNvPicPr/>
          <p:nvPr/>
        </p:nvPicPr>
        <p:blipFill>
          <a:blip r:embed="rId11"/>
          <a:stretch/>
        </p:blipFill>
        <p:spPr>
          <a:xfrm>
            <a:off x="0" y="-1440"/>
            <a:ext cx="9396360" cy="6859440"/>
          </a:xfrm>
          <a:prstGeom prst="rect">
            <a:avLst/>
          </a:prstGeom>
          <a:ln w="0">
            <a:noFill/>
          </a:ln>
        </p:spPr>
      </p:pic>
      <p:pic>
        <p:nvPicPr>
          <p:cNvPr id="507" name="图片 69644" descr="2004213143814840"/>
          <p:cNvPicPr/>
          <p:nvPr/>
        </p:nvPicPr>
        <p:blipFill>
          <a:blip r:embed="rId12"/>
          <a:stretch/>
        </p:blipFill>
        <p:spPr>
          <a:xfrm>
            <a:off x="0" y="0"/>
            <a:ext cx="9396360" cy="685944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69645" descr="u=1508009559,2993324276&amp;gp=2"/>
          <p:cNvPicPr/>
          <p:nvPr/>
        </p:nvPicPr>
        <p:blipFill>
          <a:blip r:embed="rId13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69646" descr="白无暇"/>
          <p:cNvPicPr/>
          <p:nvPr/>
        </p:nvPicPr>
        <p:blipFill>
          <a:blip r:embed="rId14"/>
          <a:stretch/>
        </p:blipFill>
        <p:spPr>
          <a:xfrm>
            <a:off x="-863640" y="-963720"/>
            <a:ext cx="11196720" cy="914400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69647" descr="图片4"/>
          <p:cNvPicPr/>
          <p:nvPr/>
        </p:nvPicPr>
        <p:blipFill>
          <a:blip r:embed="rId15"/>
          <a:stretch/>
        </p:blipFill>
        <p:spPr>
          <a:xfrm>
            <a:off x="-108000" y="-100080"/>
            <a:ext cx="9648720" cy="734544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69648" descr="01"/>
          <p:cNvPicPr/>
          <p:nvPr/>
        </p:nvPicPr>
        <p:blipFill>
          <a:blip r:embed="rId16"/>
          <a:stretch/>
        </p:blipFill>
        <p:spPr>
          <a:xfrm>
            <a:off x="-190440" y="-114480"/>
            <a:ext cx="9793080" cy="7612200"/>
          </a:xfrm>
          <a:prstGeom prst="rect">
            <a:avLst/>
          </a:prstGeom>
          <a:ln w="0">
            <a:noFill/>
          </a:ln>
        </p:spPr>
      </p:pic>
      <p:pic>
        <p:nvPicPr>
          <p:cNvPr id="512" name="chushuilian.mp3" descr=""/>
          <p:cNvPicPr/>
          <p:nvPr/>
        </p:nvPicPr>
        <p:blipFill>
          <a:blip r:embed="rId17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3" name="CD24FFAE-B92A-45D7-BD7E-3D2D70B25E1D.mp3" descr=""/>
          <p:cNvPicPr/>
          <p:nvPr/>
        </p:nvPicPr>
        <p:blipFill>
          <a:blip r:embed="rId18"/>
          <a:stretch/>
        </p:blipFill>
        <p:spPr>
          <a:xfrm>
            <a:off x="883908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"/>
                            </p:stCondLst>
                            <p:childTnLst>
                              <p:par>
                                <p:cTn id="2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8">
                                  <p:stCondLst>
                                    <p:cond delay="22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8">
                                  <p:stCondLst>
                                    <p:cond delay="37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8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8">
                                  <p:stCondLst>
                                    <p:cond delay="52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8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8">
                                  <p:stCondLst>
                                    <p:cond delay="67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8">
                                  <p:stCondLst>
                                    <p:cond delay="7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8">
                                  <p:stCondLst>
                                    <p:cond delay="82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8">
                                  <p:stCondLst>
                                    <p:cond delay="90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42">
                                  <p:stCondLst>
                                    <p:cond delay="97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34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34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4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29436" fill="hold"/>
                                        <p:tgtEl>
                                          <p:spTgt spid="5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169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自</a:t>
            </a:r>
            <a:br>
              <a:rPr sz="4400"/>
            </a:b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hlinkClick r:id="rId1"/>
              </a:rPr>
              <a:t>李_x000b_唐</a:t>
            </a:r>
            <a:br>
              <a:rPr sz="4400"/>
            </a:b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来</a:t>
            </a:r>
            <a:br>
              <a:rPr sz="4400"/>
            </a:b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世</a:t>
            </a:r>
            <a:br>
              <a:rPr sz="4400"/>
            </a:b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人</a:t>
            </a:r>
            <a:br>
              <a:rPr sz="4400"/>
            </a:b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盛</a:t>
            </a:r>
            <a:br>
              <a:rPr sz="4400"/>
            </a:b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爱</a:t>
            </a:r>
            <a:br>
              <a:rPr sz="4400"/>
            </a:b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hlinkClick r:id="rId2"/>
              </a:rPr>
              <a:t>牡_x000b_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467640" y="115920"/>
            <a:ext cx="176364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图片 37892" descr="200735538204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84360" y="3789360"/>
            <a:ext cx="6659640" cy="30686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37894" descr="200704090779_3893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19280" y="0"/>
            <a:ext cx="66247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予</a:t>
            </a: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独爱</a:t>
            </a:r>
            <a:br>
              <a:rPr sz="4800"/>
            </a:b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莲</a:t>
            </a: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之出淤泥而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不染</a:t>
            </a: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，</a:t>
            </a:r>
            <a:br>
              <a:rPr sz="4800"/>
            </a:b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     濯清涟而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不妖</a:t>
            </a: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，</a:t>
            </a:r>
            <a:br>
              <a:rPr sz="4800"/>
            </a:b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             中通外直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不蔓不枝</a:t>
            </a: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，</a:t>
            </a:r>
            <a:br>
              <a:rPr sz="4800"/>
            </a:b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               香远益清，亭亭净植，</a:t>
            </a:r>
            <a:br>
              <a:rPr sz="4800"/>
            </a:b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            可远观而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不可亵玩焉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-360" y="0"/>
            <a:ext cx="169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图片 38916" descr="u=1519828700,1933592810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46200" cy="32846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38918" descr="1153_579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84640"/>
            <a:ext cx="2411280" cy="357336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38920" descr="u=1987996199,2153690969&amp;gp=3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340000" y="4437000"/>
            <a:ext cx="6804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0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予</a:t>
            </a: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谓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菊</a:t>
            </a: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，花之隐逸者也；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牡丹</a:t>
            </a: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，花之富贵者也；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莲</a:t>
            </a: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，花之君子者也。噫！菊之爱，陶后鲜有闻。莲之爱，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同予者何人？牡丹之爱，宜乎众矣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603" name="文本占位符 48130" descr=""/>
          <p:cNvPicPr/>
          <p:nvPr/>
        </p:nvPicPr>
        <p:blipFill>
          <a:blip r:embed="rId1"/>
          <a:stretch/>
        </p:blipFill>
        <p:spPr>
          <a:xfrm>
            <a:off x="0" y="3789360"/>
            <a:ext cx="914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-324360" y="333360"/>
            <a:ext cx="2033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我</a:t>
            </a:r>
            <a:br>
              <a:rPr sz="4400"/>
            </a:b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是</a:t>
            </a:r>
            <a:br>
              <a:rPr sz="4400"/>
            </a:b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西</a:t>
            </a:r>
            <a:br>
              <a:rPr sz="4400"/>
            </a:b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湖</a:t>
            </a:r>
            <a:br>
              <a:rPr sz="4400"/>
            </a:b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千</a:t>
            </a:r>
            <a:br>
              <a:rPr sz="4400"/>
            </a:b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年</a:t>
            </a:r>
            <a:br>
              <a:rPr sz="4400"/>
            </a:b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莲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834920" y="-360"/>
            <a:ext cx="6049800" cy="75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我是西湖千年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等你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一等就是几千年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西湖的水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满了干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干了满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水中的月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圆了缺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缺了圆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   莲的泪化作西湖的水源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莲的心随水追风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一梦 即过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转瞬又是几千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图片 30724" descr="?file=0712656A9B8F7FC123C2D054ABC1E1A262D5C58B8319E25F5316FD273DDA15D0"/>
          <p:cNvPicPr/>
          <p:nvPr/>
        </p:nvPicPr>
        <p:blipFill>
          <a:blip r:embed="rId1"/>
          <a:stretch/>
        </p:blipFill>
        <p:spPr>
          <a:xfrm>
            <a:off x="1042920" y="2421000"/>
            <a:ext cx="2303640" cy="4437000"/>
          </a:xfrm>
          <a:prstGeom prst="rect">
            <a:avLst/>
          </a:prstGeom>
          <a:ln w="0">
            <a:noFill/>
          </a:ln>
        </p:spPr>
      </p:pic>
      <p:pic>
        <p:nvPicPr>
          <p:cNvPr id="607" name="20069291126157739.wma" descr=""/>
          <p:cNvPicPr/>
          <p:nvPr/>
        </p:nvPicPr>
        <p:blipFill>
          <a:blip r:embed="rId2"/>
          <a:stretch/>
        </p:blipFill>
        <p:spPr>
          <a:xfrm>
            <a:off x="8101080" y="2565360"/>
            <a:ext cx="304560" cy="15228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30727" descr="u=3989877337,2872876600&amp;gp=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1916280"/>
            <a:ext cx="1333440" cy="2449440"/>
          </a:xfrm>
          <a:prstGeom prst="rect">
            <a:avLst/>
          </a:prstGeom>
          <a:ln w="0">
            <a:noFill/>
          </a:ln>
        </p:spPr>
      </p:pic>
      <p:pic>
        <p:nvPicPr>
          <p:cNvPr id="609" name="20069291126157739.wma" descr=""/>
          <p:cNvPicPr/>
          <p:nvPr/>
        </p:nvPicPr>
        <p:blipFill>
          <a:blip r:embed="rId5"/>
          <a:stretch/>
        </p:blipFill>
        <p:spPr>
          <a:xfrm>
            <a:off x="8459640" y="2637000"/>
            <a:ext cx="81000" cy="304560"/>
          </a:xfrm>
          <a:prstGeom prst="rect">
            <a:avLst/>
          </a:prstGeom>
          <a:ln w="0">
            <a:noFill/>
          </a:ln>
        </p:spPr>
      </p:pic>
      <p:pic>
        <p:nvPicPr>
          <p:cNvPr id="610" name="20069291126157739.wma" descr=""/>
          <p:cNvPicPr/>
          <p:nvPr/>
        </p:nvPicPr>
        <p:blipFill>
          <a:blip r:embed="rId6"/>
          <a:stretch/>
        </p:blipFill>
        <p:spPr>
          <a:xfrm>
            <a:off x="8172360" y="227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11" name="文本框 30732"/>
          <p:cNvSpPr/>
          <p:nvPr/>
        </p:nvSpPr>
        <p:spPr>
          <a:xfrm>
            <a:off x="0" y="4046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课外拓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322500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103032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我是西湖千年莲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340000" y="-360"/>
            <a:ext cx="6804000" cy="76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你是那西湖上采莲的俏少年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守侯望你几千年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梦你把我采进船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小舟轻楫千年轮回转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一舱舱一船船采了多少莲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一错再错错采了几千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雷峰落塔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断桥残雪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苏堤杨柳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荷叶雨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千年千年的期盼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风起微澜轻舟划过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桨儿激起浪花一串串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眼见少年变白发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白发再童颜 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图片 32772" descr="?file=C41020BCCA264E528516FCBF5FB84AF1345A497B1C50C943816B286A78DC6170"/>
          <p:cNvPicPr/>
          <p:nvPr/>
        </p:nvPicPr>
        <p:blipFill>
          <a:blip r:embed="rId1"/>
          <a:stretch/>
        </p:blipFill>
        <p:spPr>
          <a:xfrm>
            <a:off x="1187280" y="1628640"/>
            <a:ext cx="2448000" cy="6840720"/>
          </a:xfrm>
          <a:prstGeom prst="rect">
            <a:avLst/>
          </a:prstGeom>
          <a:ln w="0">
            <a:noFill/>
          </a:ln>
        </p:spPr>
      </p:pic>
      <p:pic>
        <p:nvPicPr>
          <p:cNvPr id="615" name="20069291126157739.wma" descr=""/>
          <p:cNvPicPr/>
          <p:nvPr/>
        </p:nvPicPr>
        <p:blipFill>
          <a:blip r:embed="rId2"/>
          <a:stretch/>
        </p:blipFill>
        <p:spPr>
          <a:xfrm>
            <a:off x="8244000" y="357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32775" descr="u=961215337,1186775432&amp;gp=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0560" y="2852640"/>
            <a:ext cx="1333440" cy="2232000"/>
          </a:xfrm>
          <a:prstGeom prst="rect">
            <a:avLst/>
          </a:prstGeom>
          <a:ln w="0">
            <a:noFill/>
          </a:ln>
        </p:spPr>
      </p:pic>
      <p:pic>
        <p:nvPicPr>
          <p:cNvPr id="617" name="20069291126157739.wma" descr=""/>
          <p:cNvPicPr/>
          <p:nvPr/>
        </p:nvPicPr>
        <p:blipFill>
          <a:blip r:embed="rId5"/>
          <a:stretch/>
        </p:blipFill>
        <p:spPr>
          <a:xfrm>
            <a:off x="8317080" y="299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322500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-684720" y="0"/>
            <a:ext cx="32403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我</a:t>
            </a:r>
            <a:br>
              <a:rPr sz="4400"/>
            </a:b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是</a:t>
            </a:r>
            <a:br>
              <a:rPr sz="4400"/>
            </a:b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西</a:t>
            </a:r>
            <a:br>
              <a:rPr sz="4400"/>
            </a:b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湖</a:t>
            </a:r>
            <a:br>
              <a:rPr sz="4400"/>
            </a:b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千</a:t>
            </a:r>
            <a:br>
              <a:rPr sz="4400"/>
            </a:b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年</a:t>
            </a:r>
            <a:br>
              <a:rPr sz="4400"/>
            </a:b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莲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476000" y="0"/>
            <a:ext cx="67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千年莲的花瓣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落满了雷峰踏端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翻改了断桥神话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遮掩了苏堤风景线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点缀着荷叶雨伞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千年的思恋没有哀怨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如果今生不遇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打算再等你一千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图片 33796" descr="?file=32CF732FCC40E1616A1725C018EB40AEB465B69D13A76E57536B9CF552FFC8CF"/>
          <p:cNvPicPr/>
          <p:nvPr/>
        </p:nvPicPr>
        <p:blipFill>
          <a:blip r:embed="rId1"/>
          <a:stretch/>
        </p:blipFill>
        <p:spPr>
          <a:xfrm>
            <a:off x="1403280" y="4437000"/>
            <a:ext cx="7740720" cy="2421000"/>
          </a:xfrm>
          <a:prstGeom prst="rect">
            <a:avLst/>
          </a:prstGeom>
          <a:ln w="0">
            <a:noFill/>
          </a:ln>
        </p:spPr>
      </p:pic>
      <p:pic>
        <p:nvPicPr>
          <p:cNvPr id="621" name="20069291126157739.wma" descr=""/>
          <p:cNvPicPr/>
          <p:nvPr/>
        </p:nvPicPr>
        <p:blipFill>
          <a:blip r:embed="rId2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33799" descr="u=1940704739,709201297&amp;gp=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0560" y="0"/>
            <a:ext cx="1333440" cy="2421000"/>
          </a:xfrm>
          <a:prstGeom prst="rect">
            <a:avLst/>
          </a:prstGeom>
          <a:ln w="0">
            <a:noFill/>
          </a:ln>
        </p:spPr>
      </p:pic>
      <p:pic>
        <p:nvPicPr>
          <p:cNvPr id="623" name="20069291126157739.wma" descr=""/>
          <p:cNvPicPr/>
          <p:nvPr/>
        </p:nvPicPr>
        <p:blipFill>
          <a:blip r:embed="rId5"/>
          <a:stretch/>
        </p:blipFill>
        <p:spPr>
          <a:xfrm>
            <a:off x="8604360" y="1916280"/>
            <a:ext cx="82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322500" fill="hold"/>
                                        <p:tgtEl>
                                          <p:spTgt spid="6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10168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6" name="图片 41987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627" name="文本框 41988"/>
          <p:cNvSpPr/>
          <p:nvPr/>
        </p:nvSpPr>
        <p:spPr>
          <a:xfrm>
            <a:off x="3478320" y="380880"/>
            <a:ext cx="505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Times New Roman"/>
                <a:ea typeface="隶书"/>
              </a:rPr>
              <a:t>临光谢谢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文本框 41989"/>
          <p:cNvSpPr/>
          <p:nvPr/>
        </p:nvSpPr>
        <p:spPr>
          <a:xfrm>
            <a:off x="5257800" y="5334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矩形 41991"/>
          <p:cNvSpPr txBox="1"/>
          <p:nvPr/>
        </p:nvSpPr>
        <p:spPr>
          <a:xfrm>
            <a:off x="6012000" y="2852640"/>
            <a:ext cx="20574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8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30" name="大宋.mp3" descr=""/>
          <p:cNvPicPr/>
          <p:nvPr/>
        </p:nvPicPr>
        <p:blipFill>
          <a:blip r:embed="rId4"/>
          <a:stretch/>
        </p:blipFill>
        <p:spPr>
          <a:xfrm>
            <a:off x="8532720" y="306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87970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图片 15364" descr="rurl2=65866cd347f10417fef123ad2799086a97d54e02ec14f253f1e31e39d172aff802aaca49631d02df25bebb1094e606f6801e2d8cdc5c3ffe63e652d80cc1db4214818cdbb6481cb1e18493f8ae6fea4491d8011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044720" y="620640"/>
            <a:ext cx="1065708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矩形 15365"/>
          <p:cNvSpPr/>
          <p:nvPr/>
        </p:nvSpPr>
        <p:spPr>
          <a:xfrm>
            <a:off x="324000" y="862200"/>
            <a:ext cx="88200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教学目标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知识目标：理解课文内容，并在此基础上背诵课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能力目标：了解托物言志的写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情感目标：认识作品的现实意义，提高生活情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教学重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理解作品内容及作者的思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教学难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如何通过“莲花”来表现作者的理想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图片 15367" descr="u=864174280,1661452457&amp;gp=3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044720" y="0"/>
            <a:ext cx="1065708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95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导入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20" name="文本占位符 24578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24586" descr="u=2459223744,1041040354&amp;gp=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0"/>
            <a:ext cx="1800360" cy="15573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24592" descr="u=9847622,2757358261&amp;gp=2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0"/>
            <a:ext cx="1441440" cy="155736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4598" descr="u=1192645441,325366430&amp;gp=4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76360" y="0"/>
            <a:ext cx="1295280" cy="155736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24602" descr="u=3929261426,2909254205&amp;gp=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0"/>
            <a:ext cx="1584360" cy="155736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24604" descr="u=688311191,1865280868&amp;gp=1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96360" y="0"/>
            <a:ext cx="1547640" cy="1557360"/>
          </a:xfrm>
          <a:prstGeom prst="rect">
            <a:avLst/>
          </a:prstGeom>
          <a:ln w="0">
            <a:noFill/>
          </a:ln>
        </p:spPr>
      </p:pic>
      <p:sp>
        <p:nvSpPr>
          <p:cNvPr id="526" name="矩形 24606"/>
          <p:cNvSpPr/>
          <p:nvPr/>
        </p:nvSpPr>
        <p:spPr>
          <a:xfrm>
            <a:off x="0" y="26625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我们大家都知道花是美丽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可以陶冶人的情 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爱花的不同也就代表着不同的生活态度和生活情趣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纷繁的世界因有了万紫千红的花才显得温馨美好，勃勃的地球因有了花的点缀才变得多彩动人。所以人们都非常爱花，并写出了许多脍炙人口的诗句篇章比如“墙角数枝梅，凌寒独自开”“天下无双艳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人间第一香”“ 待到秋来九月八，我花开后百花杀’’。“冲天香阵透长安满城尽带黄金甲”“满园春色关不住，一枝红杏出墙来”“人间四月芳霏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山寺桃花始盛开”还有许多咏荷的诗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其中有一位古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非常博学，而且人品很高，胸怀磊落，为官清正深得民心为百姓所爱戴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在万紫千红的繁花中，独独喜爱莲花，并为它写下了一篇传世佳作。这就是我们今天要学习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爱莲说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182011.mp3" descr=""/>
          <p:cNvPicPr/>
          <p:nvPr/>
        </p:nvPicPr>
        <p:blipFill>
          <a:blip r:embed="rId12"/>
          <a:stretch/>
        </p:blipFill>
        <p:spPr>
          <a:xfrm>
            <a:off x="883908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1178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文本占位符 17410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8110440"/>
          </a:xfrm>
          <a:prstGeom prst="rect">
            <a:avLst/>
          </a:prstGeom>
          <a:ln w="0">
            <a:noFill/>
          </a:ln>
        </p:spPr>
      </p:pic>
      <p:sp>
        <p:nvSpPr>
          <p:cNvPr id="529" name="矩形 17412"/>
          <p:cNvSpPr/>
          <p:nvPr/>
        </p:nvSpPr>
        <p:spPr>
          <a:xfrm>
            <a:off x="57168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矩形 17413">
            <a:hlinkClick r:id="rId2"/>
          </p:cNvPr>
          <p:cNvSpPr/>
          <p:nvPr/>
        </p:nvSpPr>
        <p:spPr>
          <a:xfrm>
            <a:off x="57168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图片 17411" descr="11456047285415786_sm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260280"/>
            <a:ext cx="3203640" cy="77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2" name=""/>
          <p:cNvGraphicFramePr/>
          <p:nvPr/>
        </p:nvGraphicFramePr>
        <p:xfrm>
          <a:off x="-181080" y="836640"/>
          <a:ext cx="6913440" cy="7170840"/>
        </p:xfrm>
        <a:graphic>
          <a:graphicData uri="http://schemas.openxmlformats.org/drawingml/2006/table">
            <a:tbl>
              <a:tblPr/>
              <a:tblGrid>
                <a:gridCol w="6913440"/>
              </a:tblGrid>
              <a:tr h="717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周敦颐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: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1017-1073&gt;</a:t>
                      </a: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宋代思想家理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学家</a:t>
                      </a: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,</a:t>
                      </a: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原名敦实</a:t>
                      </a: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,</a:t>
                      </a: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字茂叔 </a:t>
                      </a: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.</a:t>
                      </a: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号濂溪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道州营县今</a:t>
                      </a:r>
                      <a:r>
                        <a:rPr b="0" lang="zh-CN" sz="3600" spc="-1" strike="noStrike" u="sng">
                          <a:solidFill>
                            <a:srgbClr val="66ffff"/>
                          </a:solidFill>
                          <a:uFillTx/>
                          <a:latin typeface="Arial"/>
                          <a:hlinkClick r:id="rId5"/>
                        </a:rPr>
                        <a:t>湖南</a:t>
                      </a:r>
                      <a:r>
                        <a:rPr b="0" lang="zh-CN" sz="3600" spc="-1" strike="noStrike" u="sng">
                          <a:solidFill>
                            <a:srgbClr val="66ffff"/>
                          </a:solidFill>
                          <a:uFillTx/>
                          <a:latin typeface="Arial"/>
                          <a:hlinkClick r:id="rId6"/>
                        </a:rPr>
                        <a:t>道县</a:t>
                      </a: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他为官清政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廉洁所到之处，都很有实绩</a:t>
                      </a: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.</a:t>
                      </a: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他在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南康郡任职期间曾在庐山莲花 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下筑室，定居于此前有溪命名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溪晚年在此设濂溪书院讲学</a:t>
                      </a: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,</a:t>
                      </a: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世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濂溪先生</a:t>
                      </a: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.</a:t>
                      </a: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谥号为“元”，又被称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元公”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文本框 17466"/>
          <p:cNvSpPr/>
          <p:nvPr/>
        </p:nvSpPr>
        <p:spPr>
          <a:xfrm>
            <a:off x="905184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文本框 17475"/>
          <p:cNvSpPr/>
          <p:nvPr/>
        </p:nvSpPr>
        <p:spPr>
          <a:xfrm>
            <a:off x="905184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914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背           景        资           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36" name="文本占位符 604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60420"/>
          <p:cNvSpPr/>
          <p:nvPr/>
        </p:nvSpPr>
        <p:spPr>
          <a:xfrm>
            <a:off x="0" y="1628640"/>
            <a:ext cx="19932480" cy="55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性情朴实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平生不慕钱财，爱谈名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虽在各地作官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但俸禄甚微，一生澹泊名利不求闻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见他人品高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酷爱莲花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曾带领属下在官署东侧挖池种莲，名为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莲池，旁造六角亭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叫赏莲亭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每当夏天，莲花盛开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披霞含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亭亭玉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微风吹过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田田荷叶轻轻摇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朵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鲜花颔首笑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阵阵馨香扑面爽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此时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凭栏放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触景生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深感 当时官场的黑暗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世风的浑浊，深爱莲的高洁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写下了著名的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&lt;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爱莲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还经常在池边吟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见作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爱莲爱的确实与众不同啊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作者的高洁人品也蕴涵在这篇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0"/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24000" y="-572040"/>
            <a:ext cx="854064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关于   ‘说’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说”，古代文体之一，可以说明事物，也可以论述道理。它往往借描绘事物以抒情言志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爱莲说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正是这种托物言志文体传世佳作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图片 18441" descr="1192089726840"/>
          <p:cNvPicPr/>
          <p:nvPr/>
        </p:nvPicPr>
        <p:blipFill>
          <a:blip r:embed="rId1"/>
          <a:stretch/>
        </p:blipFill>
        <p:spPr>
          <a:xfrm>
            <a:off x="0" y="2997360"/>
            <a:ext cx="9144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62465" descr="未标题-3"/>
          <p:cNvPicPr/>
          <p:nvPr/>
        </p:nvPicPr>
        <p:blipFill>
          <a:blip r:embed="rId1"/>
          <a:stretch/>
        </p:blipFill>
        <p:spPr>
          <a:xfrm>
            <a:off x="0" y="1125360"/>
            <a:ext cx="4572000" cy="5732640"/>
          </a:xfrm>
          <a:prstGeom prst="rect">
            <a:avLst/>
          </a:prstGeom>
          <a:ln w="0">
            <a:noFill/>
          </a:ln>
        </p:spPr>
      </p:pic>
      <p:sp>
        <p:nvSpPr>
          <p:cNvPr id="542" name="文本框 62466"/>
          <p:cNvSpPr/>
          <p:nvPr/>
        </p:nvSpPr>
        <p:spPr>
          <a:xfrm>
            <a:off x="7430400" y="981000"/>
            <a:ext cx="11023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水陆草木之花，可爱者甚蕃。晋陶渊明独爱菊。自李唐来，世人盛爱牡丹。予独爱莲之出淤泥而不染，濯清涟而不妖，中通外直，不蔓不枝，香远益清，亭亭净植，可远观而不可亵玩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予谓菊，花之隐者也；牡丹，花之富贵者也；莲，花之君子者也。噫！菊之爱，陶后鲜有闻。莲之爱，同予者何人？牡丹之爱，宜乎众矣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文本框 62467"/>
          <p:cNvSpPr/>
          <p:nvPr/>
        </p:nvSpPr>
        <p:spPr>
          <a:xfrm>
            <a:off x="7988760" y="1413000"/>
            <a:ext cx="11552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爱莲说（周敦颐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chushuilian.mp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矩形 62469"/>
          <p:cNvSpPr/>
          <p:nvPr/>
        </p:nvSpPr>
        <p:spPr>
          <a:xfrm>
            <a:off x="2627280" y="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&lt;&lt;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爱莲说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&gt;&gt;   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配乐朗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图片 62470" descr="u=3166901884,1769918830&amp;gp=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521080" cy="112536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62471" descr="u=3653974268,3539950419&amp;gp=3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77080" y="0"/>
            <a:ext cx="226692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5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-324000" y="5300280"/>
            <a:ext cx="10908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标题 25610" descr="200722524753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  <p:sp>
        <p:nvSpPr>
          <p:cNvPr id="550" name="矩形 25611"/>
          <p:cNvSpPr/>
          <p:nvPr/>
        </p:nvSpPr>
        <p:spPr>
          <a:xfrm>
            <a:off x="0" y="189000"/>
            <a:ext cx="9144000" cy="49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基础知识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读准字音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蕃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án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　  淤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ū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　 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　 濯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zhu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涟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án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　蔓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àn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噫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ī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　　  鲜 ｘｉ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ǎ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0:47:04Z</dcterms:created>
  <dc:creator>gaolianhua</dc:creator>
  <dc:description/>
  <cp:keywords>爱莲说</cp:keywords>
  <dc:language>en-US</dc:language>
  <cp:lastModifiedBy>admin</cp:lastModifiedBy>
  <dcterms:modified xsi:type="dcterms:W3CDTF">2019-03-29T06:12:39Z</dcterms:modified>
  <cp:revision>155</cp:revision>
  <dc:subject>课件</dc:subject>
  <dc:title>爱莲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