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chimes.wav" ContentType="audio/x-wav"/>
  <Override PartName="/ppt/media/image6.gif" ContentType="image/gif"/>
  <Override PartName="/ppt/media/image20.jpeg" ContentType="image/jpeg"/>
  <Override PartName="/ppt/media/image7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type.wav" ContentType="audio/x-wav"/>
  <Override PartName="/ppt/media/image17.png" ContentType="image/png"/>
  <Override PartName="/ppt/media/glass.wav" ContentType="audio/x-wav"/>
  <Override PartName="/ppt/media/image27.jpeg" ContentType="image/jpeg"/>
  <Override PartName="/ppt/media/image26.jpeg" ContentType="image/jpeg"/>
  <Override PartName="/ppt/media/image5.jpeg" ContentType="image/jpeg"/>
  <Override PartName="/ppt/media/carbrake.wav" ContentType="audio/x-wav"/>
  <Override PartName="/ppt/media/image14.jpeg" ContentType="image/jpeg"/>
  <Override PartName="/ppt/media/image4.jpeg" ContentType="image/jpeg"/>
  <Override PartName="/ppt/media/laser.wav" ContentType="audio/x-wav"/>
  <Override PartName="/ppt/media/image16.jpeg" ContentType="image/jpeg"/>
  <Override PartName="/ppt/media/projctor.wav" ContentType="audio/x-wav"/>
  <Override PartName="/ppt/media/image24.wmf" ContentType="image/x-wmf"/>
  <Override PartName="/ppt/media/image2.jpeg" ContentType="image/jpeg"/>
  <Override PartName="/ppt/media/image23.jpeg" ContentType="image/jpeg"/>
  <Override PartName="/ppt/media/image3.jpeg" ContentType="image/jpeg"/>
  <Override PartName="/ppt/media/image1.png" ContentType="image/png"/>
  <Override PartName="/ppt/media/image12.jpeg" ContentType="image/jpeg"/>
  <Override PartName="/ppt/media/image13.jpeg" ContentType="image/jpeg"/>
  <Override PartName="/ppt/media/image25.wmf" ContentType="image/x-wmf"/>
  <Override PartName="/ppt/media/image15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自定义放映1" id="0">
      <p:sldLst>
        <p:sld r:id="rId12"/>
      </p:sldLst>
    </p:custShow>
    <p:custShow name="自定义放映 1" id="1">
      <p:sldLst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5FB-2348-4D27-9E5F-B25959D9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877-EA8F-44BB-B168-90A9AA44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36F-E9BB-490F-98B8-E5083D7C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47C-DC0F-4654-B92B-03678F92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7F1B-FB64-4E9C-93FB-F5BC31C8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FE4E-CCB4-4CED-AFC3-18DB7559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9D6C-D62C-436E-9652-E8018643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44E4-C251-47B1-B8D2-FEABAB56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0D3A-4F15-4656-BE81-45C3F547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5991-AD7A-4D44-833C-E0DEEA32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2D90-7B9A-481F-8DB7-FC38F117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064-6D9D-45B8-983A-40BADB70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F2FB-F898-444B-846E-5ECC7455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80F8-48AE-456C-AC64-77F28CE1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8446-9BF9-4769-9284-A183CF75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7B34-3C80-4488-9AA0-5D53D404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B870-B919-4BC5-89DB-C408049B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D88-DA9A-41D6-BB23-17FB3058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992-F323-4B2C-89A8-17B0760C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AA0-AC71-40B0-8680-7D4FE425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A96-852F-4CAC-996E-F83AEFEA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351-15F8-4C0B-930D-81EFE691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F2B-4894-43D2-B30D-23432717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C69-5099-47AB-BD2E-8603FA5B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CF59-0C3B-44C1-A478-A9DA414A0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F810-34C9-4C01-8C0D-C26BBC0F6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type.wav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85,6,&#24187;&#28783;&#29255; 6" TargetMode="External"/><Relationship Id="rId2" Type="http://schemas.openxmlformats.org/officeDocument/2006/relationships/hyperlink" Target="288,7,&#24187;&#28783;&#29255; 7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1258920" y="1268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fefde3"/>
                </a:solidFill>
                <a:latin typeface="Times New Roman"/>
                <a:ea typeface="华文行楷"/>
              </a:rPr>
              <a:t>阿里山纪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132000" y="310824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fde3"/>
                </a:solidFill>
                <a:latin typeface="Times New Roman"/>
              </a:rPr>
              <a:t>吴功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" dur="1" fill="hold"/>
                                  <p:tgtEl>
                                    <p:spTgt spid="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阿里山云海"/>
          <p:cNvPicPr/>
          <p:nvPr/>
        </p:nvPicPr>
        <p:blipFill>
          <a:blip r:embed="rId1"/>
          <a:stretch/>
        </p:blipFill>
        <p:spPr>
          <a:xfrm>
            <a:off x="0" y="0"/>
            <a:ext cx="8610480" cy="3048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枯木云海"/>
          <p:cNvPicPr/>
          <p:nvPr/>
        </p:nvPicPr>
        <p:blipFill>
          <a:blip r:embed="rId2"/>
          <a:stretch/>
        </p:blipFill>
        <p:spPr>
          <a:xfrm>
            <a:off x="0" y="3048120"/>
            <a:ext cx="8610480" cy="3809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8534520" y="2286000"/>
            <a:ext cx="609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云雾浓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" descr="姐妹湖"/>
          <p:cNvPicPr/>
          <p:nvPr/>
        </p:nvPicPr>
        <p:blipFill>
          <a:blip r:embed="rId1"/>
          <a:stretch/>
        </p:blipFill>
        <p:spPr>
          <a:xfrm>
            <a:off x="5562720" y="3657600"/>
            <a:ext cx="358128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6095880" y="1676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潭水清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3" descr="阿里山风景1"/>
          <p:cNvPicPr/>
          <p:nvPr/>
        </p:nvPicPr>
        <p:blipFill>
          <a:blip r:embed="rId2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-466560" y="9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jsk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228600" y="3808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林海无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200362611311475710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52280" y="33480"/>
            <a:ext cx="9601200" cy="68245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-466560" y="9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52280" y="990720"/>
            <a:ext cx="1219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黑体"/>
              </a:rPr>
              <a:t>林区宁静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u=588659037,3704325158&amp;gp=1"/>
          <p:cNvPicPr/>
          <p:nvPr/>
        </p:nvPicPr>
        <p:blipFill>
          <a:blip r:embed="rId1"/>
          <a:stretch/>
        </p:blipFill>
        <p:spPr>
          <a:xfrm>
            <a:off x="609480" y="228600"/>
            <a:ext cx="4038840" cy="556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u=863887571,3230979765&amp;gp=1"/>
          <p:cNvPicPr/>
          <p:nvPr/>
        </p:nvPicPr>
        <p:blipFill>
          <a:blip r:embed="rId2"/>
          <a:stretch/>
        </p:blipFill>
        <p:spPr>
          <a:xfrm>
            <a:off x="4648320" y="990720"/>
            <a:ext cx="4325760" cy="5638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990720" y="579132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曲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5105520" y="15228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幽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u=728523940,1304775350&amp;gp=0"/>
          <p:cNvPicPr/>
          <p:nvPr/>
        </p:nvPicPr>
        <p:blipFill>
          <a:blip r:embed="rId1"/>
          <a:stretch/>
        </p:blipFill>
        <p:spPr>
          <a:xfrm>
            <a:off x="0" y="0"/>
            <a:ext cx="453384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5800" y="304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入云深处亦沾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6" descr="u=2306527149,3863008912&amp;gp=0"/>
          <p:cNvPicPr/>
          <p:nvPr/>
        </p:nvPicPr>
        <p:blipFill>
          <a:blip r:embed="rId2"/>
          <a:stretch/>
        </p:blipFill>
        <p:spPr>
          <a:xfrm>
            <a:off x="4575240" y="0"/>
            <a:ext cx="430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alishanshenmu"/>
          <p:cNvPicPr/>
          <p:nvPr/>
        </p:nvPicPr>
        <p:blipFill>
          <a:blip r:embed="rId1"/>
          <a:stretch/>
        </p:blipFill>
        <p:spPr>
          <a:xfrm>
            <a:off x="-914400" y="0"/>
            <a:ext cx="10058400" cy="73915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70102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Symbol"/>
                <a:ea typeface="Symbol"/>
              </a:rPr>
              <a:t>神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als1"/>
          <p:cNvPicPr/>
          <p:nvPr/>
        </p:nvPicPr>
        <p:blipFill>
          <a:blip r:embed="rId1"/>
          <a:stretch/>
        </p:blipFill>
        <p:spPr>
          <a:xfrm>
            <a:off x="695160" y="0"/>
            <a:ext cx="40053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4"/>
          <p:cNvSpPr/>
          <p:nvPr/>
        </p:nvSpPr>
        <p:spPr>
          <a:xfrm>
            <a:off x="7119720" y="304920"/>
            <a:ext cx="202428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阿里山神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矗立在阿里山的天然森林区，是一株树龄达三千年的老红桧。红桧属柏科常绿乔木，质地幼坚，宜作桥梁、家具等，是珍贵木材之一。桧树一般生长缓慢，非百年不能成材，所散发的馥郁气息，历久不衰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阿里山神木的寿命和体积都很罕见。树身高五十三公尺，树围粗约二十公尺，是阿里山之宝。神木历尽沧桑兴替，而能不毁于雷火斧金，所以又被尊为树神。神木四周围有木拦，旁有木亭一座，内置有 “神木颂诗碑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600200" y="205740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209680" y="16002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</a:rPr>
              <a:t>你最喜欢阿里山的哪一处景色？请自选一处品读。谈谈你的感受，说说你喜欢的理由。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（可从语言、修辞、句式、感情等方面加以品析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SO01380_"/>
          <p:cNvPicPr/>
          <p:nvPr/>
        </p:nvPicPr>
        <p:blipFill>
          <a:blip r:embed="rId1"/>
          <a:stretch/>
        </p:blipFill>
        <p:spPr>
          <a:xfrm>
            <a:off x="6553080" y="4495680"/>
            <a:ext cx="2237040" cy="21081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838080" y="533520"/>
            <a:ext cx="798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品一品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523880" y="-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黑体"/>
              </a:rPr>
              <a:t>说一说：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914400"/>
            <a:ext cx="8069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假如你是一名导游，现在正准备带领大家动身游览风光如画的阿里山，请你先介绍一下我们今天的行程。</a:t>
            </a:r>
            <a:r>
              <a:rPr b="1" i="1" lang="zh-CN" sz="3600" spc="-1" strike="noStrike">
                <a:solidFill>
                  <a:srgbClr val="221304"/>
                </a:solidFill>
                <a:latin typeface="Times New Roman"/>
              </a:rPr>
              <a:t>温馨提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先小组讨论，找出作者的行踪，然后抓住不同地点的不同景物，注意安排好说话的顺序就行了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还有啊，千万别忘了你是导游，要注意语态和礼貌哦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幼圆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NA01441_"/>
          <p:cNvPicPr/>
          <p:nvPr/>
        </p:nvPicPr>
        <p:blipFill>
          <a:blip r:embed="rId1"/>
          <a:stretch/>
        </p:blipFill>
        <p:spPr>
          <a:xfrm>
            <a:off x="2819520" y="4952880"/>
            <a:ext cx="3124080" cy="152424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6">
            <a:hlinkClick r:id="" action="ppaction://hlinkshowjump?jump=lastslide"/>
          </p:cNvPr>
          <p:cNvSpPr/>
          <p:nvPr/>
        </p:nvSpPr>
        <p:spPr>
          <a:xfrm>
            <a:off x="1371600" y="56386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阿里山"/>
          <p:cNvPicPr/>
          <p:nvPr/>
        </p:nvPicPr>
        <p:blipFill>
          <a:blip r:embed="rId1"/>
          <a:stretch/>
        </p:blipFill>
        <p:spPr>
          <a:xfrm>
            <a:off x="990720" y="380880"/>
            <a:ext cx="4190760" cy="26672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4952880" y="914400"/>
            <a:ext cx="373392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21304"/>
                </a:solidFill>
                <a:latin typeface="Times New Roman"/>
                <a:ea typeface="方正舒体"/>
              </a:rPr>
              <a:t> </a:t>
            </a:r>
            <a:r>
              <a:rPr b="1" lang="zh-CN" sz="8000" spc="-1" strike="noStrike">
                <a:solidFill>
                  <a:srgbClr val="221304"/>
                </a:solidFill>
                <a:latin typeface="Times New Roman"/>
                <a:ea typeface="方正舒体"/>
              </a:rPr>
              <a:t>阿里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ff00"/>
                </a:solidFill>
                <a:uFillTx/>
                <a:latin typeface="Times New Roman"/>
                <a:ea typeface="幼圆"/>
              </a:rPr>
              <a:t> 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905120" y="2971800"/>
            <a:ext cx="678168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  <a:ea typeface="幼圆"/>
              </a:rPr>
              <a:t> 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黑体"/>
              </a:rPr>
              <a:t>   </a:t>
            </a:r>
            <a:r>
              <a:rPr b="1" lang="zh-CN" sz="3200" spc="-1" strike="noStrike">
                <a:solidFill>
                  <a:srgbClr val="221304"/>
                </a:solidFill>
                <a:latin typeface="Times New Roman"/>
                <a:ea typeface="黑体"/>
              </a:rPr>
              <a:t>阿里山  位于</a:t>
            </a:r>
            <a:r>
              <a:rPr b="1" lang="zh-CN" sz="3200" spc="-1" strike="noStrike">
                <a:solidFill>
                  <a:srgbClr val="24021c"/>
                </a:solidFill>
                <a:latin typeface="Times New Roman"/>
                <a:ea typeface="黑体"/>
              </a:rPr>
              <a:t>台湾</a:t>
            </a:r>
            <a:r>
              <a:rPr b="1" lang="zh-CN" sz="3200" spc="-1" strike="noStrike">
                <a:solidFill>
                  <a:srgbClr val="221304"/>
                </a:solidFill>
                <a:latin typeface="Times New Roman"/>
                <a:ea typeface="黑体"/>
              </a:rPr>
              <a:t>嘉义县东北，是大武峦山、尖山、祝山、塔山等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黑体"/>
              </a:rPr>
              <a:t>18</a:t>
            </a:r>
            <a:r>
              <a:rPr b="1" lang="zh-CN" sz="3200" spc="-1" strike="noStrike">
                <a:solidFill>
                  <a:srgbClr val="221304"/>
                </a:solidFill>
                <a:latin typeface="Times New Roman"/>
                <a:ea typeface="黑体"/>
              </a:rPr>
              <a:t>座山峦的总称。 最高峰为大塔山，海拔为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黑体"/>
              </a:rPr>
              <a:t>2663</a:t>
            </a:r>
            <a:r>
              <a:rPr b="1" lang="zh-CN" sz="3200" spc="-1" strike="noStrike">
                <a:solidFill>
                  <a:srgbClr val="221304"/>
                </a:solidFill>
                <a:latin typeface="Times New Roman"/>
                <a:ea typeface="黑体"/>
              </a:rPr>
              <a:t>米，东距台湾最高峰玉山（高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黑体"/>
              </a:rPr>
              <a:t>3997</a:t>
            </a:r>
            <a:r>
              <a:rPr b="1" lang="zh-CN" sz="3200" spc="-1" strike="noStrike">
                <a:solidFill>
                  <a:srgbClr val="221304"/>
                </a:solidFill>
                <a:latin typeface="Times New Roman"/>
                <a:ea typeface="黑体"/>
              </a:rPr>
              <a:t>米）甚近。阿 里山风景区面积约有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黑体"/>
              </a:rPr>
              <a:t>175</a:t>
            </a:r>
            <a:r>
              <a:rPr b="1" lang="zh-CN" sz="3200" spc="-1" strike="noStrike">
                <a:solidFill>
                  <a:srgbClr val="221304"/>
                </a:solidFill>
                <a:latin typeface="Times New Roman"/>
                <a:ea typeface="黑体"/>
              </a:rPr>
              <a:t>公顷，是</a:t>
            </a:r>
            <a:r>
              <a:rPr b="1" lang="zh-CN" sz="3200" spc="-1" strike="noStrike">
                <a:solidFill>
                  <a:srgbClr val="372cc4"/>
                </a:solidFill>
                <a:latin typeface="Times New Roman"/>
                <a:ea typeface="黑体"/>
              </a:rPr>
              <a:t>台湾著名的天然森林公园和旅游胜地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143000" y="182880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1304"/>
                </a:solidFill>
                <a:latin typeface="Times New Roman"/>
                <a:ea typeface="黑体"/>
              </a:rPr>
              <a:t>本文的语言典雅、凝练、和谐，具有音乐美和情韵美，请从文中找出几例，谈谈你的感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295280" y="99072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1304"/>
                </a:solidFill>
                <a:latin typeface="Times New Roman"/>
                <a:ea typeface="黑体"/>
              </a:rPr>
              <a:t>谈一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5" descr="云海中的阿里山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2182680" y="13824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1304"/>
                </a:solidFill>
                <a:latin typeface="Times New Roman"/>
                <a:ea typeface="黑体"/>
              </a:rPr>
              <a:t>本文的语言典雅、凝练、和谐，具有音乐美和情韵美，请从文中找出几例，谈谈你的感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94880" y="228600"/>
            <a:ext cx="729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谈一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9" descr="jsk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0" y="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、节奏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句的长短、整散，语势的疾徐、直曲，字音的响沉、抑扬，错杂相间，使文章声势呈现有规律的变化，和谐流畅，构成声音的节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、拟声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语言来摹拟各种各样的声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、音节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两个字或四个字组成的词，要比一个字更合乎节拍，读来顺口，听来入耳；有时单音节词与双音节词交替使用，同样能产生美感；有时妙用助词，也可使句子完整，音节整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、修辞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恰当的修辞也能调节音节，增强语言的音乐美，而且能使文章语言生动活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0" y="1219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潭无鱼鳖，林无鸟兽，偶或有如蝉、如蚊的声音，侧耳谛听、分辨、捕捉，却又没有了。那是静谧的世界、净洁的世界，甚至可以说是禅的世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867280" y="2362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咣当咣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0" y="4038480"/>
            <a:ext cx="937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拔地参天，八面威风，雄踞山间，无可匹敌。孙武之军阵，秦皇之兵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0" y="567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森林恰似一片汪洋，无边无际。其盘曲之势，如幢顶，如伞盖，如古寺宝塔，真不知树躯有多少围、树身有多么高。它们排列整肃，如孙武之军阵、秦皇之兵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FR4035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2209680" y="1905120"/>
            <a:ext cx="43434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摘录自己最喜欢的语句摘录在笔记本上，并体会这些语句对表达两岸人民融会的感情的作用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438280" y="13716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抄一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5" descr="神木1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905120" y="1600200"/>
            <a:ext cx="6705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风靡     山岚     堪称  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镶嵌     鱼鳖     静谧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谛听     参天     一泓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读准下列字音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838080" y="30492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051"/>
          <p:cNvSpPr/>
          <p:nvPr/>
        </p:nvSpPr>
        <p:spPr>
          <a:xfrm>
            <a:off x="914400" y="177840"/>
            <a:ext cx="8229600" cy="10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风靡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mǐ  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镶嵌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xiāng 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谛听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dì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山岚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lán  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鱼鳖 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biē    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参天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cā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堪称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kān  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静谧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mì    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一泓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hó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                  </a:t>
            </a:r>
            <a:br>
              <a:rPr sz="4800"/>
            </a:b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                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052"/>
          <p:cNvSpPr/>
          <p:nvPr/>
        </p:nvSpPr>
        <p:spPr>
          <a:xfrm>
            <a:off x="990720" y="15228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838080" y="31240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阅读课文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297180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066680" y="4191120"/>
            <a:ext cx="746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一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：说说作者游览阿里山的行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066680" y="4876920"/>
            <a:ext cx="746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二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：文中描写了阿里山的哪些景物，请你找出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295280" y="228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9" descr="云海中的阿里山松"/>
          <p:cNvPicPr/>
          <p:nvPr/>
        </p:nvPicPr>
        <p:blipFill>
          <a:blip r:embed="rId3"/>
          <a:stretch/>
        </p:blipFill>
        <p:spPr>
          <a:xfrm>
            <a:off x="3809880" y="228600"/>
            <a:ext cx="5029200" cy="3886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1219320" y="6019920"/>
            <a:ext cx="146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143000" y="5943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6699"/>
                </a:solidFill>
                <a:uFillTx/>
                <a:latin typeface="Times New Roman"/>
              </a:rPr>
              <a:t>三、概括阿里山风光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914400" y="30492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453803"/>
                </a:solidFill>
                <a:latin typeface="Times New Roman"/>
                <a:ea typeface="隶书"/>
              </a:rPr>
              <a:t>作者行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838080" y="2057400"/>
            <a:ext cx="83059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华文行楷"/>
              </a:rPr>
              <a:t>从台北松山机场 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  <a:ea typeface="华文行楷"/>
              </a:rPr>
              <a:t>————  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华文行楷"/>
              </a:rPr>
              <a:t>台湾的中部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华文行楷"/>
              </a:rPr>
              <a:t>市嘉义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  <a:ea typeface="华文行楷"/>
              </a:rPr>
              <a:t>——————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华文行楷"/>
              </a:rPr>
              <a:t>阿里山站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华文行楷"/>
              </a:rPr>
              <a:t>林区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  <a:ea typeface="华文行楷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华文行楷"/>
              </a:rPr>
              <a:t>神木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华文行楷"/>
              </a:rPr>
              <a:t>下山的路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267080" y="1752480"/>
            <a:ext cx="25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ahoma"/>
                <a:ea typeface="华文行楷"/>
              </a:rPr>
              <a:t>（搭机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1676520" y="3200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ahoma"/>
                <a:ea typeface="华文行楷"/>
              </a:rPr>
              <a:t>（森林小火车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6">
            <a:hlinkClick r:id="" action="ppaction://hlinkshowjump?jump=previous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171360" y="2819520"/>
            <a:ext cx="152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风光美如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1692360" y="3860640"/>
            <a:ext cx="1008000" cy="486000"/>
          </a:xfrm>
          <a:prstGeom prst="rightArrow">
            <a:avLst>
              <a:gd name="adj1" fmla="val 50000"/>
              <a:gd name="adj2" fmla="val 5184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2743200" y="21337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9000 h 3809880"/>
              <a:gd name="textAreaBottom" fmla="*/ 37108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379680" y="32004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宁静的林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379680" y="2438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清澈的潭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819520" y="45720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无边的森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379680" y="3809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厚密的青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3456000" y="54100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神奇的神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5715000" y="3809880"/>
            <a:ext cx="990720" cy="486000"/>
          </a:xfrm>
          <a:prstGeom prst="rightArrow">
            <a:avLst>
              <a:gd name="adj1" fmla="val 50000"/>
              <a:gd name="adj2" fmla="val 5095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629400" y="32767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7113600" y="2743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爱我河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7113600" y="4267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爱我中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1800000" y="3048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ahoma"/>
              </a:rPr>
              <a:t>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5828400" y="29718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2790720" y="762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写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4370400" y="68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融情于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2819520" y="175248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宋体"/>
              </a:rPr>
              <a:t>古式的火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" descr="z"/>
          <p:cNvPicPr/>
          <p:nvPr/>
        </p:nvPicPr>
        <p:blipFill>
          <a:blip r:embed="rId1"/>
          <a:stretch/>
        </p:blipFill>
        <p:spPr>
          <a:xfrm>
            <a:off x="7467480" y="533412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28600" y="228600"/>
            <a:ext cx="549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阿里山晨光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2438280" y="53352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cc33"/>
                </a:solidFill>
                <a:latin typeface="Times New Roman"/>
                <a:ea typeface="华文新魏"/>
              </a:rPr>
              <a:t>移步换景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057400" y="19810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a0c3c"/>
                </a:solidFill>
                <a:latin typeface="Times New Roman"/>
                <a:ea typeface="宋体"/>
              </a:rPr>
              <a:t>不固定立足点和观察点，一边走一边看，把看到的不同景物依次描写下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8">
            <a:hlinkClick r:id="" action="ppaction://hlinkshowjump?jump=previous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320" y="304920"/>
            <a:ext cx="91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红色小火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9" descr="阿里山铁路3"/>
          <p:cNvPicPr/>
          <p:nvPr/>
        </p:nvPicPr>
        <p:blipFill>
          <a:blip r:embed="rId1"/>
          <a:stretch/>
        </p:blipFill>
        <p:spPr>
          <a:xfrm>
            <a:off x="685800" y="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alishanhuoche"/>
          <p:cNvPicPr/>
          <p:nvPr/>
        </p:nvPicPr>
        <p:blipFill>
          <a:blip r:embed="rId2"/>
          <a:stretch/>
        </p:blipFill>
        <p:spPr>
          <a:xfrm>
            <a:off x="685800" y="36576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4"/>
          <p:cNvSpPr/>
          <p:nvPr/>
        </p:nvSpPr>
        <p:spPr>
          <a:xfrm>
            <a:off x="0" y="223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" descr="阿里山森林之旅"/>
          <p:cNvPicPr/>
          <p:nvPr/>
        </p:nvPicPr>
        <p:blipFill>
          <a:blip r:embed="rId3"/>
          <a:stretch/>
        </p:blipFill>
        <p:spPr>
          <a:xfrm>
            <a:off x="5257800" y="3865680"/>
            <a:ext cx="3886200" cy="29923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5"/>
          <p:cNvSpPr/>
          <p:nvPr/>
        </p:nvSpPr>
        <p:spPr>
          <a:xfrm>
            <a:off x="0" y="220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9" descr="阿里山森林之旅"/>
          <p:cNvPicPr/>
          <p:nvPr/>
        </p:nvPicPr>
        <p:blipFill>
          <a:blip r:embed="rId4"/>
          <a:stretch/>
        </p:blipFill>
        <p:spPr>
          <a:xfrm>
            <a:off x="5257800" y="0"/>
            <a:ext cx="38862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2:42:48Z</dcterms:created>
  <dc:creator/>
  <dc:description>第一PPT模板网-WWW.1PPT.COM
</dc:description>
  <dc:language>en-US</dc:language>
  <cp:lastModifiedBy>Administrator</cp:lastModifiedBy>
  <dcterms:modified xsi:type="dcterms:W3CDTF">2017-08-01T01:22:20Z</dcterms:modified>
  <cp:revision>54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