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projctor.wav" ContentType="audio/x-wav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23.gif" ContentType="image/gif"/>
  <Override PartName="/ppt/media/image17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2.jpeg" ContentType="image/jpeg"/>
  <Override PartName="/ppt/media/image19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28.gif" ContentType="image/gif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08C-D37D-461D-B439-44E8499B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B00-AAAB-49C7-9CF5-E3567E8C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3B8-D046-43CA-AB9E-50DC28C5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9B2-EFDB-4B0F-AB4F-10EF378C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5DB5-32B7-4519-8139-4A9CA965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368B-AAF3-48B5-B17F-6E4860E7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20C2-3B0F-418F-B0B8-55FEDC56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847D-4263-462E-BA01-8CF53132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4CA6-2E1E-48F7-BC63-935773CF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F2B1-CB83-4B10-BB23-F0BBBEE6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5216-4599-4887-B89B-705CFF39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26A-2A56-4B9F-A87E-4465DD7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367D-9211-4878-A1FB-BB52062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06BF-55DC-4C2D-9597-9C72BCA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BA2-39BC-4ABF-9E77-C44449D9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6634-2854-4672-8CEA-920EAAEC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DBFF-915D-4CB5-9870-B0AEA2E9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AE2-6FE1-4706-8D6B-E11222B4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65E-66B0-4282-9C57-6A470585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D07-D1C0-4FE7-8E5D-7C19F0EB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562-1D25-4C2B-9B0D-B6EF3044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DAA-25A3-4955-B281-DF5FEDDC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D93-B638-4FCA-BF79-2271D184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F16-B2F6-417E-9076-766B2265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4246-2F04-400A-A3E6-BC0F37911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8D3E-6341-4DE3-A66C-5D37B94E7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阿里山晨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268360" y="112536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阿里山纪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511240" y="3429000"/>
            <a:ext cx="19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吴功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alishan_027"/>
          <p:cNvPicPr/>
          <p:nvPr/>
        </p:nvPicPr>
        <p:blipFill>
          <a:blip r:embed="rId1"/>
          <a:stretch/>
        </p:blipFill>
        <p:spPr>
          <a:xfrm>
            <a:off x="0" y="0"/>
            <a:ext cx="4643280" cy="486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阿里山神木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869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539640" y="5229360"/>
            <a:ext cx="79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对阿里山和阿里山神木的认识和感受</a:t>
            </a:r>
            <a:endParaRPr b="0" i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380880" y="304920"/>
            <a:ext cx="4324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教学目标</a:t>
            </a:r>
            <a:endParaRPr b="1" lang="en-US" sz="66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64120" y="1752480"/>
            <a:ext cx="5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57200" y="304812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066680" y="142236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体会江山的美丽多娇，感知多彩多姿的大千世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87800" y="4343400"/>
            <a:ext cx="5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448000" y="30481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品味富有音乐美和情韵美的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066680" y="4013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学习本文融情于景、移步换景的写作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006640" y="76212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ahoma"/>
                <a:ea typeface="方正舒体"/>
              </a:rPr>
              <a:t>你能读准下列字音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003"/>
          <p:cNvPicPr/>
          <p:nvPr/>
        </p:nvPicPr>
        <p:blipFill>
          <a:blip r:embed="rId2"/>
          <a:stretch/>
        </p:blipFill>
        <p:spPr>
          <a:xfrm>
            <a:off x="7086600" y="464832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520280" y="21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风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806280" y="21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山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940000" y="21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堪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0280" y="3809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谛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806280" y="3809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红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932840" y="22860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218840" y="22096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5819040" y="22096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323000" y="39625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218840" y="38862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039200" y="312408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g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4343400" y="2286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1892880" y="1523880"/>
            <a:ext cx="77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039200" y="15238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l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5654880" y="1523880"/>
            <a:ext cx="9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kā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372680" y="32004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d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622960" y="274320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除了以上生字外，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还积累到哪些词语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838080" y="914400"/>
            <a:ext cx="6145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词语积累与运用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6" name="Picture 7" descr="tuzi"/>
          <p:cNvPicPr/>
          <p:nvPr/>
        </p:nvPicPr>
        <p:blipFill>
          <a:blip r:embed="rId2"/>
          <a:stretch/>
        </p:blipFill>
        <p:spPr>
          <a:xfrm>
            <a:off x="7162920" y="453384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026"/>
          <p:cNvSpPr/>
          <p:nvPr/>
        </p:nvSpPr>
        <p:spPr>
          <a:xfrm>
            <a:off x="2246400" y="1828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接风洗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7"/>
          <p:cNvSpPr/>
          <p:nvPr/>
        </p:nvSpPr>
        <p:spPr>
          <a:xfrm>
            <a:off x="5573880" y="1752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风靡一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28"/>
          <p:cNvSpPr/>
          <p:nvPr/>
        </p:nvSpPr>
        <p:spPr>
          <a:xfrm>
            <a:off x="2322720" y="2895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恍如隔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29"/>
          <p:cNvSpPr/>
          <p:nvPr/>
        </p:nvSpPr>
        <p:spPr>
          <a:xfrm>
            <a:off x="5218200" y="2895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人迹罕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30"/>
          <p:cNvSpPr/>
          <p:nvPr/>
        </p:nvSpPr>
        <p:spPr>
          <a:xfrm>
            <a:off x="2246400" y="388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庞然大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云海中的阿里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80880" y="13716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听音乐，然后请你先说说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762120" y="312408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阿里山给人的最初印象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666880" y="45720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3" descr="云海中的阿里山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"/>
          <p:cNvSpPr/>
          <p:nvPr/>
        </p:nvSpPr>
        <p:spPr>
          <a:xfrm>
            <a:off x="0" y="0"/>
            <a:ext cx="2666880" cy="12193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0" y="2286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注意歌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2448000" y="1752480"/>
            <a:ext cx="383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高山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涧水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阿里山的姑娘美如水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阿里山的少年壮如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姑娘和那少年永不分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碧水常围着青山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云海中的阿里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990720" y="175248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阿里山给人的最初印象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6880" y="45720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957400" y="4484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901240" y="4038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ahoma"/>
                <a:ea typeface="华文行楷"/>
              </a:rPr>
              <a:t>风光美如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Tahoma"/>
                <a:ea typeface="楷体_GB2312"/>
              </a:rPr>
              <a:t>请你说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阿里山5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76720" y="205740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阿里山如画的风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表现在哪里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495800" y="220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ahoma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268080" y="1066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林海云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268080" y="190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潭水清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268080" y="274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森林无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268080" y="358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曲径幽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268080" y="4495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神木神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84480" y="1380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风光美如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1371600" y="304812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562720" y="297180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2514600" y="14479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9000 h 3809880"/>
              <a:gd name="textAreaBottom" fmla="*/ 37108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29120" y="2209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6629400" y="2362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7335720" y="2209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爱我河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7335720" y="342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爱我中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3" descr="z"/>
          <p:cNvPicPr/>
          <p:nvPr/>
        </p:nvPicPr>
        <p:blipFill>
          <a:blip r:embed="rId2"/>
          <a:stretch/>
        </p:blipFill>
        <p:spPr>
          <a:xfrm>
            <a:off x="7448400" y="4952880"/>
            <a:ext cx="1695600" cy="1905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4"/>
          <p:cNvSpPr/>
          <p:nvPr/>
        </p:nvSpPr>
        <p:spPr>
          <a:xfrm>
            <a:off x="3024000" y="5538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写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4684680" y="5460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融情于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979560" y="76500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学习要点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1027"/>
          <p:cNvSpPr/>
          <p:nvPr/>
        </p:nvSpPr>
        <p:spPr>
          <a:xfrm>
            <a:off x="620640" y="1916280"/>
            <a:ext cx="8496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感受“阿里山的风光美如画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学习移步换景的写作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富于音乐美和情韵美的语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0415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7200" y="12193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假如你是一名导游，现在正准备带领大家动身游览风光如画的阿里山，请你先介绍一下我们今天的行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04760" y="3657600"/>
            <a:ext cx="5118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温馨提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先小组讨论，找出作者的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踪，然后抓住不同地点的不同景物，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安排好说话的顺序就行了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还有啊，千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别忘了你是导游，要注意语态和礼貌哦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0" y="228600"/>
            <a:ext cx="297180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语文活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62760" y="914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作者行踪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160000" y="2133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台北松山机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800600" y="2362320"/>
            <a:ext cx="976320" cy="304560"/>
          </a:xfrm>
          <a:prstGeom prst="rightArrow">
            <a:avLst>
              <a:gd name="adj1" fmla="val 50000"/>
              <a:gd name="adj2" fmla="val 8012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207480" y="21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嘉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447920" y="3429000"/>
            <a:ext cx="976320" cy="304920"/>
          </a:xfrm>
          <a:prstGeom prst="rightArrow">
            <a:avLst>
              <a:gd name="adj1" fmla="val 50000"/>
              <a:gd name="adj2" fmla="val 8003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88828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阿里山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952880" y="3429000"/>
            <a:ext cx="976320" cy="304920"/>
          </a:xfrm>
          <a:prstGeom prst="rightArrow">
            <a:avLst>
              <a:gd name="adj1" fmla="val 50000"/>
              <a:gd name="adj2" fmla="val 8003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2838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266280" y="4267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写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849200" y="4267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移步换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阿里山风景2"/>
          <p:cNvPicPr/>
          <p:nvPr/>
        </p:nvPicPr>
        <p:blipFill>
          <a:blip r:embed="rId2"/>
          <a:stretch/>
        </p:blipFill>
        <p:spPr>
          <a:xfrm>
            <a:off x="304920" y="762120"/>
            <a:ext cx="3276360" cy="56293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4580280" y="10666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领略阿里山美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阿里山"/>
          <p:cNvPicPr/>
          <p:nvPr/>
        </p:nvPicPr>
        <p:blipFill>
          <a:blip r:embed="rId3"/>
          <a:stretch/>
        </p:blipFill>
        <p:spPr>
          <a:xfrm>
            <a:off x="3886200" y="3276720"/>
            <a:ext cx="4681440" cy="289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阿里山风景1"/>
          <p:cNvPicPr/>
          <p:nvPr/>
        </p:nvPicPr>
        <p:blipFill>
          <a:blip r:embed="rId4"/>
          <a:stretch/>
        </p:blipFill>
        <p:spPr>
          <a:xfrm>
            <a:off x="276120" y="609480"/>
            <a:ext cx="334332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alishan8"/>
          <p:cNvPicPr/>
          <p:nvPr/>
        </p:nvPicPr>
        <p:blipFill>
          <a:blip r:embed="rId5"/>
          <a:stretch/>
        </p:blipFill>
        <p:spPr>
          <a:xfrm>
            <a:off x="3886200" y="2895480"/>
            <a:ext cx="4724280" cy="3414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阿里山4"/>
          <p:cNvPicPr/>
          <p:nvPr/>
        </p:nvPicPr>
        <p:blipFill>
          <a:blip r:embed="rId6"/>
          <a:stretch/>
        </p:blipFill>
        <p:spPr>
          <a:xfrm>
            <a:off x="219240" y="457200"/>
            <a:ext cx="3348000" cy="5943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阿里山3"/>
          <p:cNvPicPr/>
          <p:nvPr/>
        </p:nvPicPr>
        <p:blipFill>
          <a:blip r:embed="rId7"/>
          <a:stretch/>
        </p:blipFill>
        <p:spPr>
          <a:xfrm>
            <a:off x="3657600" y="2286000"/>
            <a:ext cx="5029200" cy="4011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阿里山3神木"/>
          <p:cNvPicPr/>
          <p:nvPr/>
        </p:nvPicPr>
        <p:blipFill>
          <a:blip r:embed="rId8"/>
          <a:stretch/>
        </p:blipFill>
        <p:spPr>
          <a:xfrm>
            <a:off x="187200" y="457200"/>
            <a:ext cx="3459240" cy="5943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神木1"/>
          <p:cNvPicPr/>
          <p:nvPr/>
        </p:nvPicPr>
        <p:blipFill>
          <a:blip r:embed="rId9"/>
          <a:stretch/>
        </p:blipFill>
        <p:spPr>
          <a:xfrm>
            <a:off x="0" y="380880"/>
            <a:ext cx="3581280" cy="6019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阿里山火车2"/>
          <p:cNvPicPr/>
          <p:nvPr/>
        </p:nvPicPr>
        <p:blipFill>
          <a:blip r:embed="rId10"/>
          <a:stretch/>
        </p:blipFill>
        <p:spPr>
          <a:xfrm>
            <a:off x="3581280" y="2286000"/>
            <a:ext cx="5189760" cy="411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樱花2"/>
          <p:cNvPicPr/>
          <p:nvPr/>
        </p:nvPicPr>
        <p:blipFill>
          <a:blip r:embed="rId11"/>
          <a:stretch/>
        </p:blipFill>
        <p:spPr>
          <a:xfrm>
            <a:off x="3581280" y="2362320"/>
            <a:ext cx="5562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4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9" descr="5"/>
          <p:cNvPicPr/>
          <p:nvPr/>
        </p:nvPicPr>
        <p:blipFill>
          <a:blip r:embed="rId2"/>
          <a:stretch/>
        </p:blipFill>
        <p:spPr>
          <a:xfrm>
            <a:off x="6705720" y="4495680"/>
            <a:ext cx="1703160" cy="1986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2255400" y="1219320"/>
            <a:ext cx="4569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本文的语言写得非常优美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你认为文中哪些语言值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补充到读书笔记本中去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累？和本小组的同学交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下，然后用横线划出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课后摘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8" descr="5"/>
          <p:cNvPicPr/>
          <p:nvPr/>
        </p:nvPicPr>
        <p:blipFill>
          <a:blip r:embed="rId3"/>
          <a:stretch/>
        </p:blipFill>
        <p:spPr>
          <a:xfrm>
            <a:off x="7821720" y="5334120"/>
            <a:ext cx="1322280" cy="11858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3"/>
          <p:cNvSpPr/>
          <p:nvPr/>
        </p:nvSpPr>
        <p:spPr>
          <a:xfrm>
            <a:off x="380880" y="6095880"/>
            <a:ext cx="609840" cy="433440"/>
          </a:xfrm>
          <a:custGeom>
            <a:avLst/>
            <a:gdLst>
              <a:gd name="textAreaLeft" fmla="*/ 28080 w 609840"/>
              <a:gd name="textAreaRight" fmla="*/ 581760 w 6098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0383" h="21600">
                <a:moveTo>
                  <a:pt x="0" y="0"/>
                </a:moveTo>
                <a:lnTo>
                  <a:pt x="30383" y="0"/>
                </a:lnTo>
                <a:lnTo>
                  <a:pt x="30383" y="21600"/>
                </a:lnTo>
                <a:lnTo>
                  <a:pt x="0" y="21600"/>
                </a:lnTo>
                <a:close/>
              </a:path>
              <a:path fill="lightenLess" w="30383" h="21600">
                <a:moveTo>
                  <a:pt x="0" y="0"/>
                </a:moveTo>
                <a:lnTo>
                  <a:pt x="30383" y="0"/>
                </a:lnTo>
                <a:lnTo>
                  <a:pt x="28983" y="1400"/>
                </a:lnTo>
                <a:lnTo>
                  <a:pt x="1400" y="1400"/>
                </a:lnTo>
                <a:close/>
              </a:path>
              <a:path fill="darken" w="30383" h="21600">
                <a:moveTo>
                  <a:pt x="30383" y="0"/>
                </a:moveTo>
                <a:lnTo>
                  <a:pt x="30383" y="21600"/>
                </a:lnTo>
                <a:lnTo>
                  <a:pt x="28983" y="20200"/>
                </a:lnTo>
                <a:lnTo>
                  <a:pt x="28983" y="1400"/>
                </a:lnTo>
                <a:close/>
              </a:path>
              <a:path fill="darkenLess" w="30383" h="21600">
                <a:moveTo>
                  <a:pt x="30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83" y="20200"/>
                </a:lnTo>
                <a:close/>
              </a:path>
              <a:path fill="lighten" w="30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83" h="21600">
                <a:moveTo>
                  <a:pt x="8185" y="8406"/>
                </a:moveTo>
                <a:lnTo>
                  <a:pt x="12615" y="8406"/>
                </a:lnTo>
                <a:lnTo>
                  <a:pt x="17037" y="3794"/>
                </a:lnTo>
                <a:lnTo>
                  <a:pt x="17037" y="17806"/>
                </a:lnTo>
                <a:lnTo>
                  <a:pt x="12615" y="13194"/>
                </a:lnTo>
                <a:lnTo>
                  <a:pt x="8185" y="13194"/>
                </a:lnTo>
                <a:close/>
              </a:path>
              <a:path fill="darken" w="30383" h="21600">
                <a:moveTo>
                  <a:pt x="18691" y="10800"/>
                </a:moveTo>
                <a:lnTo>
                  <a:pt x="22198" y="10800"/>
                </a:lnTo>
              </a:path>
              <a:path fill="darken" w="30383" h="21600">
                <a:moveTo>
                  <a:pt x="18691" y="8406"/>
                </a:moveTo>
                <a:lnTo>
                  <a:pt x="22198" y="5639"/>
                </a:lnTo>
              </a:path>
              <a:path fill="darken" w="30383" h="21600">
                <a:moveTo>
                  <a:pt x="18691" y="13194"/>
                </a:moveTo>
                <a:lnTo>
                  <a:pt x="22198" y="15961"/>
                </a:lnTo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04920" y="304920"/>
            <a:ext cx="2743200" cy="825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感受语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781000" y="175248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请你学习本文融情于景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写作方法，在春夏秋冬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季中任选一季，通过写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来表达你的体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拓展训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阿里山晨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9"/>
          <p:cNvSpPr/>
          <p:nvPr/>
        </p:nvSpPr>
        <p:spPr>
          <a:xfrm>
            <a:off x="0" y="0"/>
            <a:ext cx="304812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反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685800" y="2057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学完本文后，你有哪些收获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990720" y="20066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219320" y="1143000"/>
            <a:ext cx="693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、把刚才积累到的句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摘抄到读书笔记本上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并任选两句进行仿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764800" y="3733920"/>
            <a:ext cx="32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、完成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导学导练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916360" y="1052640"/>
            <a:ext cx="31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听读、思考：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55640" y="2060640"/>
            <a:ext cx="8569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文章的段落结构如何划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划出标明了作者行踪的语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二、三段中设问句的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阿里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阿里山铁路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阿里山铁路2"/>
          <p:cNvPicPr/>
          <p:nvPr/>
        </p:nvPicPr>
        <p:blipFill>
          <a:blip r:embed="rId4"/>
          <a:stretch/>
        </p:blipFill>
        <p:spPr>
          <a:xfrm>
            <a:off x="1692360" y="0"/>
            <a:ext cx="67672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阿里山云海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神木4"/>
          <p:cNvPicPr/>
          <p:nvPr/>
        </p:nvPicPr>
        <p:blipFill>
          <a:blip r:embed="rId6"/>
          <a:stretch/>
        </p:blipFill>
        <p:spPr>
          <a:xfrm>
            <a:off x="1979640" y="0"/>
            <a:ext cx="52293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阿里山晨光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4" presetSubtype="16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6000"/>
                            </p:stCondLst>
                            <p:childTnLst>
                              <p:par>
                                <p:cTn id="31" dur="indefinite" nodeType="afterEffect" fill="hold" presetClass="entr" presetID="21" presetSubtype="4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650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100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700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97500"/>
                            </p:stCondLst>
                            <p:childTnLst>
                              <p:par>
                                <p:cTn id="42" dur="indefinite" nodeType="afterEffect" fill="hold" presetClass="entr" presetID="8" presetSubtype="32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26028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标明了作者行踪的语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79280" y="1125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ff"/>
                </a:solidFill>
                <a:latin typeface="Arial"/>
              </a:rPr>
              <a:t>台北松山机场、台湾的中部城市嘉义、改乘森林小火车、阿里山站、从火车站到神木、迂曲穿过一片林区</a:t>
            </a:r>
            <a:r>
              <a:rPr b="1" i="1" lang="en-US" sz="3600" spc="-1" strike="noStrike">
                <a:solidFill>
                  <a:srgbClr val="6600ff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6630840" y="2276640"/>
            <a:ext cx="21891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移步换景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357336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、二、三段中设问句的作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2360" y="458136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ff"/>
                </a:solidFill>
                <a:latin typeface="Arial"/>
              </a:rPr>
              <a:t>引出阿里山、神木，引起下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ff"/>
                </a:solidFill>
                <a:latin typeface="Arial"/>
              </a:rPr>
              <a:t>三段作用：过渡段、承上启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潭水清澈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"/>
          <p:cNvSpPr txBox="1"/>
          <p:nvPr/>
        </p:nvSpPr>
        <p:spPr>
          <a:xfrm>
            <a:off x="3238560" y="98100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深山水潭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山间青苔路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 rot="5400000">
            <a:off x="5761080" y="216864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青苔幽径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无边的森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3348000" y="262080"/>
            <a:ext cx="24480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原始林海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阿里山神木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3"/>
          <p:cNvSpPr txBox="1"/>
          <p:nvPr/>
        </p:nvSpPr>
        <p:spPr>
          <a:xfrm rot="5400000">
            <a:off x="5447880" y="2120760"/>
            <a:ext cx="2952720" cy="1104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千年神木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6:59:17Z</dcterms:created>
  <dc:creator/>
  <dc:description>第一PPT模板网-WWW.1PPT.COM
</dc:description>
  <dc:language>en-US</dc:language>
  <cp:lastModifiedBy>Administrator</cp:lastModifiedBy>
  <dcterms:modified xsi:type="dcterms:W3CDTF">2017-08-01T01:27:48Z</dcterms:modified>
  <cp:revision>103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