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camera.wav" ContentType="audio/x-wav"/>
  <Override PartName="/ppt/media/image17.gif" ContentType="image/gif"/>
  <Override PartName="/ppt/media/image21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11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projctor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4E4-B271-41DC-93D9-7495A3F9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BFC-1F63-415C-9A23-544F5189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A54-9C7C-46C8-8241-B8A0E04D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4D5-116C-4112-AF57-6F48C2A1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B35D-B867-4303-A98D-6AAFCD2F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CC31-D9CC-4EB0-834D-0D60B7C6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8B9B-49C0-451B-A457-FA0AA7B1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8E1A-E57D-4876-AD37-A7A65447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C789-4DD0-4F13-9F32-797DAFC7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76AD-3D7A-4D15-8CC3-CE445047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2DE3-7ABC-401E-93A6-35AEA6C9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F93-4A52-4887-BFB7-DC558F28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1A69-E4D0-4C58-918B-C6D82596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53E6-6B65-487A-BE2B-589826F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1C12-536E-4D9F-8D0C-C58B5B56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899D-7943-4EB0-8F06-CBEBC6BE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07AF-25F6-466C-B039-2A82DBB4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89F-4C67-486C-AF97-8B7F3075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F51-526D-4743-84B7-F39CE2E6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E31-9437-41B4-9592-EFD9A7E8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FC0-D110-4EA3-B9F0-666C3AC3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B8F-2CAE-4975-920E-5EBBF4E4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6CF-411A-49B7-B2C0-4215A9B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6A8-BD1A-4B7B-BC59-68622269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6FD4-ABEC-4586-880D-73556F1ED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A980-9A36-4218-96BD-0A748D081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ravel.czonline.net/cztravel/mainhtm/zrfg/jskyssl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26" descr="F:\八年级上\4.4\十八、阿里山记行\图片\阿里山云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27"/>
          <p:cNvSpPr/>
          <p:nvPr/>
        </p:nvSpPr>
        <p:spPr>
          <a:xfrm>
            <a:off x="1386000" y="981000"/>
            <a:ext cx="6549840" cy="155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Times New Roman"/>
                <a:ea typeface="隶书"/>
              </a:rPr>
              <a:t>阿里山纪行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5435640" y="3141720"/>
            <a:ext cx="2590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吴功正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E:\初一档案\肖梦华\素材\图片\阿里山图片\云海中的阿里山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"/>
          <p:cNvSpPr/>
          <p:nvPr/>
        </p:nvSpPr>
        <p:spPr>
          <a:xfrm>
            <a:off x="0" y="0"/>
            <a:ext cx="2666880" cy="121932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2286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66ff"/>
                </a:solidFill>
                <a:latin typeface="Tahoma"/>
                <a:ea typeface="楷体_GB2312"/>
              </a:rPr>
              <a:t>注意歌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448000" y="1752480"/>
            <a:ext cx="3838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高山青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涧水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阿里山的姑娘美如水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阿里山的少年壮如山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姑娘和那少年永不分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华文行楷"/>
              </a:rPr>
              <a:t>碧水常围着青山转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高山青.mp3" descr=""/>
          <p:cNvPicPr/>
          <p:nvPr/>
        </p:nvPicPr>
        <p:blipFill>
          <a:blip r:embed="rId2"/>
          <a:stretch/>
        </p:blipFill>
        <p:spPr>
          <a:xfrm>
            <a:off x="30481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初一档案\肖梦华\素材\图片\阿里山图片\云海中的阿里山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990720" y="175248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幼圆"/>
              </a:rPr>
              <a:t>阿里山给人的最初印象是什么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666880" y="457200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957400" y="4484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901240" y="4038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ahoma"/>
                <a:ea typeface="华文行楷"/>
              </a:rPr>
              <a:t>风光美如画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Tahoma"/>
                <a:ea typeface="楷体_GB2312"/>
              </a:rPr>
              <a:t>说一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My Documents\My Pictures\阿里山图片\阿里山5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小组讨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376720" y="205740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阿里山如画的风光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表现在哪里？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26" descr="枯木云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27"/>
          <p:cNvSpPr/>
          <p:nvPr/>
        </p:nvSpPr>
        <p:spPr>
          <a:xfrm>
            <a:off x="6172200" y="5905440"/>
            <a:ext cx="2971800" cy="916920"/>
          </a:xfrm>
          <a:prstGeom prst="rect">
            <a:avLst/>
          </a:prstGeom>
          <a:solidFill>
            <a:srgbClr val="0000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林海云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27" descr="姐妹湖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28"/>
          <p:cNvSpPr/>
          <p:nvPr/>
        </p:nvSpPr>
        <p:spPr>
          <a:xfrm>
            <a:off x="6019920" y="5905440"/>
            <a:ext cx="3124080" cy="916920"/>
          </a:xfrm>
          <a:prstGeom prst="rect">
            <a:avLst/>
          </a:prstGeom>
          <a:solidFill>
            <a:srgbClr val="0000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水潭清澈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D:\台湾图片\图片2\销路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6095880" y="5905440"/>
            <a:ext cx="3048120" cy="916920"/>
          </a:xfrm>
          <a:prstGeom prst="rect">
            <a:avLst/>
          </a:prstGeom>
          <a:solidFill>
            <a:srgbClr val="0000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曲径幽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6629400" y="6858000"/>
            <a:ext cx="2666880" cy="70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095880" y="5886360"/>
            <a:ext cx="3048120" cy="916920"/>
          </a:xfrm>
          <a:prstGeom prst="rect">
            <a:avLst/>
          </a:prstGeom>
          <a:solidFill>
            <a:srgbClr val="0000cc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林海无边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1" descr="jsk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2"/>
          <p:cNvSpPr/>
          <p:nvPr/>
        </p:nvSpPr>
        <p:spPr>
          <a:xfrm>
            <a:off x="6095880" y="5886360"/>
            <a:ext cx="3048120" cy="916920"/>
          </a:xfrm>
          <a:prstGeom prst="rect">
            <a:avLst/>
          </a:prstGeom>
          <a:solidFill>
            <a:srgbClr val="0000cc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林海无边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F:\八年级上\4.4\十八、阿里山记行\图片\神木1.jpg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920960" y="609480"/>
            <a:ext cx="853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380880"/>
            <a:ext cx="3048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神木：台湾著名的红桧，木有香气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高达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8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米，胸径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.5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米，树龄大约有三千年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95800" y="2209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ahoma"/>
              </a:rPr>
              <a:t>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68080" y="10666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林海云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68080" y="1905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潭水清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68080" y="2743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森林无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268080" y="3657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曲径幽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819520" y="44956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神木神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84480" y="138024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风光美如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1371600" y="304812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5562720" y="297180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2514600" y="14479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9000 h 3809880"/>
              <a:gd name="textAreaBottom" fmla="*/ 37108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829120" y="2209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6629400" y="2362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132680" y="2209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热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7132680" y="342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赞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6" descr="z"/>
          <p:cNvPicPr/>
          <p:nvPr/>
        </p:nvPicPr>
        <p:blipFill>
          <a:blip r:embed="rId2"/>
          <a:stretch/>
        </p:blipFill>
        <p:spPr>
          <a:xfrm>
            <a:off x="7448400" y="4952880"/>
            <a:ext cx="1695600" cy="1905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7"/>
          <p:cNvSpPr/>
          <p:nvPr/>
        </p:nvSpPr>
        <p:spPr>
          <a:xfrm>
            <a:off x="3024000" y="5538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写法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4684680" y="5460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融情于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0415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57200" y="12193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假如你是一名导游，现在正准备带领大家动身游览风光如画的阿里山，请你先介绍一下我们今天的行程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904760" y="3657600"/>
            <a:ext cx="5118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cc66"/>
                </a:solidFill>
                <a:latin typeface="Times New Roman"/>
              </a:rPr>
              <a:t>温馨提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先小组讨论，找出作者的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踪，然后抓住不同地点的不同景物，注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安排好说话的顺序就行了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还有啊，千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别忘了你是导游，要注意语态和礼貌哦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228600"/>
            <a:ext cx="297180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语文活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26" descr="D:\台湾图片\图片2\台湾街景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27"/>
          <p:cNvSpPr/>
          <p:nvPr/>
        </p:nvSpPr>
        <p:spPr>
          <a:xfrm>
            <a:off x="5791320" y="5715000"/>
            <a:ext cx="2971800" cy="9169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台湾街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029"/>
          <p:cNvSpPr/>
          <p:nvPr/>
        </p:nvSpPr>
        <p:spPr>
          <a:xfrm>
            <a:off x="1478880" y="533520"/>
            <a:ext cx="185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66"/>
                </a:solidFill>
                <a:latin typeface="Times New Roman"/>
              </a:rPr>
              <a:t>作者行踪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31"/>
          <p:cNvSpPr/>
          <p:nvPr/>
        </p:nvSpPr>
        <p:spPr>
          <a:xfrm>
            <a:off x="5257800" y="1905120"/>
            <a:ext cx="121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032"/>
          <p:cNvSpPr/>
          <p:nvPr/>
        </p:nvSpPr>
        <p:spPr>
          <a:xfrm>
            <a:off x="4419720" y="2438280"/>
            <a:ext cx="976320" cy="304920"/>
          </a:xfrm>
          <a:prstGeom prst="rightArrow">
            <a:avLst>
              <a:gd name="adj1" fmla="val 50000"/>
              <a:gd name="adj2" fmla="val 8003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33"/>
          <p:cNvSpPr/>
          <p:nvPr/>
        </p:nvSpPr>
        <p:spPr>
          <a:xfrm>
            <a:off x="1219320" y="2209680"/>
            <a:ext cx="3504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台北松山机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34"/>
          <p:cNvSpPr/>
          <p:nvPr/>
        </p:nvSpPr>
        <p:spPr>
          <a:xfrm>
            <a:off x="5748840" y="228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嘉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035"/>
          <p:cNvSpPr/>
          <p:nvPr/>
        </p:nvSpPr>
        <p:spPr>
          <a:xfrm>
            <a:off x="1447920" y="3429000"/>
            <a:ext cx="976320" cy="304920"/>
          </a:xfrm>
          <a:prstGeom prst="rightArrow">
            <a:avLst>
              <a:gd name="adj1" fmla="val 50000"/>
              <a:gd name="adj2" fmla="val 8003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36"/>
          <p:cNvSpPr/>
          <p:nvPr/>
        </p:nvSpPr>
        <p:spPr>
          <a:xfrm>
            <a:off x="2885040" y="3200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阿里山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037"/>
          <p:cNvSpPr/>
          <p:nvPr/>
        </p:nvSpPr>
        <p:spPr>
          <a:xfrm>
            <a:off x="4572000" y="3352680"/>
            <a:ext cx="976320" cy="304920"/>
          </a:xfrm>
          <a:prstGeom prst="rightArrow">
            <a:avLst>
              <a:gd name="adj1" fmla="val 50000"/>
              <a:gd name="adj2" fmla="val 8003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8"/>
          <p:cNvSpPr/>
          <p:nvPr/>
        </p:nvSpPr>
        <p:spPr>
          <a:xfrm>
            <a:off x="5824800" y="3200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神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40"/>
          <p:cNvSpPr/>
          <p:nvPr/>
        </p:nvSpPr>
        <p:spPr>
          <a:xfrm>
            <a:off x="2211480" y="4419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写法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41"/>
          <p:cNvSpPr/>
          <p:nvPr/>
        </p:nvSpPr>
        <p:spPr>
          <a:xfrm>
            <a:off x="4182480" y="4419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移步换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026"/>
          <p:cNvSpPr/>
          <p:nvPr/>
        </p:nvSpPr>
        <p:spPr>
          <a:xfrm>
            <a:off x="762120" y="1828800"/>
            <a:ext cx="8169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这种不固定立足点和观察点，一边走一边看，把看到的不同景物依次描写下来的写作方法叫做“移步换景”法。一般游记都采用这种方法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27"/>
          <p:cNvSpPr/>
          <p:nvPr/>
        </p:nvSpPr>
        <p:spPr>
          <a:xfrm>
            <a:off x="1087560" y="533520"/>
            <a:ext cx="1095120" cy="100836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cap="sq"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小结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F:\八年级上\4.4\十八、阿里山记行\图片\阿里山铁路3.jpg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6537240" y="5483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562720" y="5562720"/>
            <a:ext cx="3809880" cy="916920"/>
          </a:xfrm>
          <a:prstGeom prst="rect">
            <a:avLst/>
          </a:prstGeom>
          <a:solidFill>
            <a:srgbClr val="0000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阿里山铁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:\八年级上\4.4\十八、阿里山记行\图片\行驶中的阿里山登山小火车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5318280" y="4950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09480" y="380880"/>
            <a:ext cx="7162920" cy="916920"/>
          </a:xfrm>
          <a:prstGeom prst="rect">
            <a:avLst/>
          </a:prstGeom>
          <a:solidFill>
            <a:srgbClr val="0000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行驶中的阿里山小火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品一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04920" y="419112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节奏美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文句的长短、整散，语势的疾徐、直曲，字音的响沉、抑扬，错杂相间，使文章声势呈现有规律的变化，和谐流畅，构成声音的节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380880" y="1828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潭无鱼鳖，林无鸟兽，偶或有如蝉、如蚊的声音，侧耳谛听、分辨、捕捉，却又没有了。那是静谧的世界、净洁的世界，甚至可以说是禅的世界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447920" y="838080"/>
            <a:ext cx="1904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80880" y="7621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华文行楷"/>
              </a:rPr>
              <a:t>本文的语言写得非常优美，你喜欢文中哪些语句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拔地参天，八面威风，雄踞山间，无可匹敌孙武之军阵，秦皇之兵马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28600" y="1371600"/>
            <a:ext cx="83818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音节美：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使用两个字或四个字组成的词，要比一个字更合乎节拍，读来顺口，听来入耳；有时单音节词与双音节词交替使用，同样能产生美感；有时妙用助词，也可使句子完整，音节整齐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33520" y="380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森林恰似一片汪洋，无边无际。其盘曲之势，如幢顶，如伞盖，如古寺宝塔，真不知树躯有多少围、树身有多么高。它们排列整肃，如孙武之军阵、秦皇之兵马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342900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修辞美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恰当的修辞也能调节音节，增强语言的音乐美，而且能使文章语言生动活泼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拓展训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14400" y="13716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学习并运用本文移步换景、融情于景的写作方法，介绍小琅环公园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219320" y="3581280"/>
            <a:ext cx="5715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143000" y="37339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方正舒体"/>
                <a:ea typeface="方正舒体"/>
              </a:rPr>
              <a:t>小琅环主要景点：大门、健身广场、仙女石、三个凉亭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台湾图片\图片2\日月潭2_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248520" y="5638680"/>
            <a:ext cx="2286000" cy="916920"/>
          </a:xfrm>
          <a:prstGeom prst="rect">
            <a:avLst/>
          </a:prstGeom>
          <a:solidFill>
            <a:srgbClr val="0000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日月潭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D:\台湾图片\图片2\高雄风光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5791320" y="5562720"/>
            <a:ext cx="3047760" cy="916920"/>
          </a:xfrm>
          <a:prstGeom prst="rect">
            <a:avLst/>
          </a:prstGeom>
          <a:solidFill>
            <a:srgbClr val="0000cc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高雄风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027"/>
          <p:cNvSpPr/>
          <p:nvPr/>
        </p:nvSpPr>
        <p:spPr>
          <a:xfrm>
            <a:off x="-172080" y="457200"/>
            <a:ext cx="1826280" cy="4419720"/>
          </a:xfrm>
          <a:prstGeom prst="rect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阿里山姑娘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1028" descr="D:\台湾图片\图片2\九族寨姑娘1.jpg"/>
          <p:cNvPicPr/>
          <p:nvPr/>
        </p:nvPicPr>
        <p:blipFill>
          <a:blip r:embed="rId1"/>
          <a:stretch/>
        </p:blipFill>
        <p:spPr>
          <a:xfrm>
            <a:off x="1981080" y="0"/>
            <a:ext cx="716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8"/>
          <p:cNvSpPr/>
          <p:nvPr/>
        </p:nvSpPr>
        <p:spPr>
          <a:xfrm>
            <a:off x="1087560" y="457200"/>
            <a:ext cx="2009520" cy="100836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cap="sq"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教学目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215240" y="1765440"/>
            <a:ext cx="94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隶书"/>
              </a:rPr>
              <a:t>欣赏阿里山的如画美景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557960" y="2832120"/>
            <a:ext cx="94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学习本文移步换景的写法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119680" y="3929040"/>
            <a:ext cx="513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品味本文富于音乐美和情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韵美的语言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533520" y="1222200"/>
            <a:ext cx="8534160" cy="4421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隶书"/>
                <a:ea typeface="隶书"/>
              </a:rPr>
              <a:t>1</a:t>
            </a:r>
            <a:r>
              <a:rPr b="0" lang="zh-CN" sz="5400" spc="-1" strike="noStrike" u="sng">
                <a:solidFill>
                  <a:srgbClr val="ffff00"/>
                </a:solidFill>
                <a:uFillTx/>
                <a:latin typeface="隶书"/>
                <a:ea typeface="隶书"/>
              </a:rPr>
              <a:t>、给下列生字词注音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风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靡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（   ）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堪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称（   ）山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岚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（   ）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谛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听（   ）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幢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顶（     ）红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桧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（   ）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745720" y="2362320"/>
            <a:ext cx="82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163640" y="2362320"/>
            <a:ext cx="106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kā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744640" y="320040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á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7241040" y="3200400"/>
            <a:ext cx="80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 ì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590920" y="4038480"/>
            <a:ext cx="194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huá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7241040" y="396252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uì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851040" y="457200"/>
            <a:ext cx="5529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隶书"/>
                <a:ea typeface="隶书"/>
              </a:rPr>
              <a:t>2</a:t>
            </a:r>
            <a:r>
              <a:rPr b="0" lang="zh-CN" sz="5400" spc="-1" strike="noStrike" u="sng">
                <a:solidFill>
                  <a:srgbClr val="ffff00"/>
                </a:solidFill>
                <a:uFillTx/>
                <a:latin typeface="隶书"/>
                <a:ea typeface="隶书"/>
              </a:rPr>
              <a:t>、解释下列词语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接风洗尘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风靡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幽情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：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谛听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：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771800" y="1295280"/>
            <a:ext cx="30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设宴欢迎刚从远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道而来的人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750840" y="297180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形容事物很风行，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风吹倒草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406040" y="45720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深远的感情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720240" y="54100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仔细听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:\初一档案\肖梦华\素材\图片\阿里山图片\云海中的阿里山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80880" y="13716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听音乐，然后请你先说说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312408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幼圆"/>
              </a:rPr>
              <a:t>阿里山给人的最初印象是什么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66880" y="457200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听一听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3:52:43Z</dcterms:created>
  <dc:creator/>
  <dc:description>第一PPT模板网-WWW.1PPT.COM
</dc:description>
  <dc:language>en-US</dc:language>
  <cp:lastModifiedBy>Administrator</cp:lastModifiedBy>
  <dcterms:modified xsi:type="dcterms:W3CDTF">2017-08-01T01:23:52Z</dcterms:modified>
  <cp:revision>81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