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<Relationship Id="rId3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1-09-27T13:56:25.203000000" idx="1">
    <p:pos x="5170" y="103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636-A43F-49D9-A6A8-920A38CA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468-C585-4F9D-9FA4-76493F51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9B7-4D77-4D31-BB4B-04BB0E8E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FBC-5D53-4CCE-AE84-C3906DE2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5C9C-4D24-4EF0-85B9-824914E5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4930-9A3C-4848-BA4D-65C3E4CE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5F12-08FB-4BED-BCA7-6CF13994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989B-53E7-41C4-91B3-61A3E26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4F64-8574-4932-BE2C-2C675205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4CD8-0D7F-485D-BD13-D404942D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B7F7-458D-4AE3-B8D2-48A0A6F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AA6-B4DE-4EA3-B217-6BFFF5EC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2813-D71C-4EEB-9FE5-D18D1188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5FD8-0836-4950-96CC-ACAAAC5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048B-E2D6-457F-B3A8-6D63ED1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EB61-55E6-45A1-91CF-F7D963DE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C934-A104-4F58-AA1C-425CEE83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E5D8-87FC-41E4-B2E3-09779822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01D8-2FBD-4909-9122-C673943D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159C-B794-4CBC-B6E2-3695F0B6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2F5C-EDBE-483C-9D10-A85DD14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C092-7525-4977-9FD6-4EC7DA47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14E-92F2-4397-8FAE-3C5CA17D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AE94-4EE0-4016-8F4F-5E52B771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C559-BF00-41D6-B039-80AF403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F773-4661-4E55-BC6D-56FCDF4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085C-A8B2-4CB2-BD64-F3675BB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23FA-6A75-4A95-946D-838ACBF0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743F-C914-46B0-B241-2EBB299B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8710-58BB-4CDF-9840-099B348E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2CAA-DF28-4627-B739-B32187C6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71E03-85C1-4E79-B8AC-8220097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E6AB0-3F06-4C5E-9A60-E83858D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C5A-2690-4A2F-86C0-DF142271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F232-B684-4833-8587-500C387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816AD-F4EE-467F-83E0-228FD392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A978-FE36-4766-AC85-49A1CF0C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F504-B69F-4DAE-9465-0EC4063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9946-66AF-4F8A-8683-79A495F3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94ED2-82AC-400C-9310-A8F105AB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ECBE-EAB1-411A-8A3E-202B496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34B9-5E40-46CF-89BA-A967333D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143A-214F-4831-B6A5-631E07E2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EC5-1261-4583-9753-004555F7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FF4-93A4-4761-A46D-60C08624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D6F-B93A-4046-A0C2-B4DBDB61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AA0-69AF-4861-814B-0B1E70F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491-6D36-48F1-B4DC-A7D762C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BDC0-E942-4098-A379-AB070FEFC5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5F1F-780D-4DB0-B967-92473EE2B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C96-F037-4EB4-B9DF-1918A8939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B044-81E7-42D7-83CB-35982130F9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4a77b2af17258adf7dd92a2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971800" y="6858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3808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狗狗，你是我最好的朋友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、她身上穿着样式老掉牙的旧衣服，可是很干净；一条手染的蓝裙，还带着乡下染缸中的那股土味儿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这是一段衣着外貌描写，写出了安恩老人是个朴素的老人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、我说这一句：“然而她却站在那里晒着太阳，打着她的毛袜。哦，真是旁若无人，安闲得很”，这是动作描写，写出了安恩的沉静安详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、还有“周围一片嘈杂喧闹：马市上马儿嘶鸣，海滩上渔船卸货的在吆喝，马戏班鼓声咚咚，小丑们招摇地高声喊叫”，这是环境描写，用这种“闹”，反衬安恩的“静”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6868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她身上穿着样式老掉牙的旧衣服，可是很干净；一条手染的蓝裙，还带着乡下染缸中的那股土味儿。一块棕褐色的绒线方披肩交叉地盖在她那干瘪瘪的胸上。她戴的那条头巾颜色褪得泛白，七皱八褶，好像是撂在抽屉里有了年头。脚上的木屐连后跟都磨平了，皮面上却抹了油，擦得锃亮。”这几句是关于老妇人的</a:t>
            </a:r>
            <a:r>
              <a:rPr b="0" lang="zh-CN" sz="2800" spc="-1" strike="noStrike">
                <a:solidFill>
                  <a:srgbClr val="ffff00"/>
                </a:solidFill>
                <a:latin typeface="Arial Rounded MT Bold"/>
              </a:rPr>
              <a:t>外貌描写，通过外貌描写我们能够得到如下信息：衣服旧但是干净，说明她勤快；蓝裙带着土味说明她与土地接触密切，劳作不停；戴褪色的头巾，说明她是节俭的；“木屐连后跟都磨平了，皮面上却抹了油，擦得锃亮”可以看出她是爱美的人，虽然生活贫困，但是她却能让贫乏的生活充满光辉。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3360" y="1066320"/>
            <a:ext cx="8083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再识安恩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 Rounded MT Bold"/>
              </a:rPr>
              <a:t>、进一步读课文，划出课文中描绘四个买牛人和安恩的神态、动作、语言，来分析买牛人和安恩的心理活动，谈谈你对安恩这个人物有哪些新的认识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示例：从“老太婆安恩爱怜地瞅了瞅自己的奶牛，不屑地斜视了一下那根藤杖，然后转过脸去往远处张望，仿佛发现了什么使她感到兴趣的东西。”这句中动作细节可以看出安恩是个十分怜爱奶牛的</a:t>
            </a:r>
            <a:r>
              <a:rPr b="1" lang="zh-CN" sz="3200" spc="-1" strike="noStrike">
                <a:solidFill>
                  <a:srgbClr val="ffffff"/>
                </a:solidFill>
                <a:latin typeface="Arial Rounded MT Bold"/>
              </a:rPr>
              <a:t>善良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的人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04920" y="2438280"/>
          <a:ext cx="8421480" cy="3905280"/>
        </p:xfrm>
        <a:graphic>
          <a:graphicData uri="http://schemas.openxmlformats.org/drawingml/2006/table">
            <a:tbl>
              <a:tblPr/>
              <a:tblGrid>
                <a:gridCol w="936360"/>
                <a:gridCol w="936360"/>
                <a:gridCol w="935280"/>
                <a:gridCol w="936720"/>
                <a:gridCol w="938160"/>
                <a:gridCol w="936360"/>
                <a:gridCol w="933480"/>
                <a:gridCol w="897120"/>
                <a:gridCol w="97164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第三次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第四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买牛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安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屠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安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买牛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安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买牛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安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语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神态动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Rounded MT Bold"/>
                          <a:ea typeface="黑体"/>
                        </a:rPr>
                        <a:t>心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根据表格在课文中划出相应的语句，并结合这些语句进一步分析、理解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第一次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Arial Rounded MT Bold"/>
              </a:rPr>
              <a:t>这头母牛卖多少钱，老婆婆？”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那人问道。他把</a:t>
            </a:r>
            <a:r>
              <a:rPr b="0" lang="zh-CN" sz="2800" spc="-1" strike="noStrike">
                <a:solidFill>
                  <a:srgbClr val="ffff00"/>
                </a:solidFill>
                <a:latin typeface="Arial Rounded MT Bold"/>
              </a:rPr>
              <a:t>挑剔的眼光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从奶牛身上转到安恩身上，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锱铢必较地望着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她。安恩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自顾自</a:t>
            </a:r>
            <a:r>
              <a:rPr b="0" lang="zh-CN" sz="2800" spc="-1" strike="noStrike">
                <a:solidFill>
                  <a:srgbClr val="ffff00"/>
                </a:solidFill>
                <a:latin typeface="Arial Rounded MT Bold"/>
              </a:rPr>
              <a:t>继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续打着毛线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Arial Rounded MT Bold"/>
              </a:rPr>
              <a:t>它是不卖的。”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她回答说。然后，像是为了表示谦恭，她一只手把毛衣针撂下，使劲地把鼻孔擦个不停。那个男人</a:t>
            </a: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惶惑起来，踌躇不决地站了半晌；后来终于不得不走了，但他临走时眼光却仍然依恋不舍地盯着这头奶牛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第二次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Rounded MT Bold"/>
              </a:rPr>
              <a:t>过了不大一会儿工夫，一个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精明利落、脸刮得光溜溜的屠夫用他的藤杖敲了敲牛角，又用肥硕的手匆匆摸了摸母牛身上光滑的皮毛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Arial Rounded MT Bold"/>
              </a:rPr>
              <a:t>喂，这头母牛多少钱？”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Rounded MT Bold"/>
              </a:rPr>
              <a:t>老太婆安恩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爱怜地瞅了瞅</a:t>
            </a:r>
            <a:r>
              <a:rPr b="1" lang="zh-CN" sz="2800" spc="-1" strike="noStrike">
                <a:solidFill>
                  <a:srgbClr val="ffffff"/>
                </a:solidFill>
                <a:latin typeface="Arial Rounded MT Bold"/>
              </a:rPr>
              <a:t>自己的奶牛，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不屑地斜视了一下那根藤杖，然后转过脸去往远处张望</a:t>
            </a:r>
            <a:r>
              <a:rPr b="1" lang="zh-CN" sz="2800" spc="-1" strike="noStrike">
                <a:solidFill>
                  <a:srgbClr val="ffffff"/>
                </a:solidFill>
                <a:latin typeface="Arial Rounded MT Bold"/>
              </a:rPr>
              <a:t>，仿佛发现了什么使她感到兴趣的东西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Arial Rounded MT Bold"/>
              </a:rPr>
              <a:t>它不卖的！”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Rounded MT Bold"/>
              </a:rPr>
              <a:t>听了这话，这个身穿血迹斑驳的罩衫的屠夫扬长而去了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第三次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Rounded MT Bold"/>
              </a:rPr>
              <a:t>紧跟着又来了一个人，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死乞白赖地</a:t>
            </a:r>
            <a:r>
              <a:rPr b="1" lang="zh-CN" sz="3200" spc="-1" strike="noStrike">
                <a:solidFill>
                  <a:srgbClr val="ffffff"/>
                </a:solidFill>
                <a:latin typeface="Arial Rounded MT Bold"/>
              </a:rPr>
              <a:t>纠缠着要做成这笔买卖，可是老太婆安恩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摇摇头</a:t>
            </a:r>
            <a:r>
              <a:rPr b="1" lang="zh-CN" sz="3200" spc="-1" strike="noStrike">
                <a:solidFill>
                  <a:srgbClr val="ffffff"/>
                </a:solidFill>
                <a:latin typeface="Arial Rounded MT Bold"/>
              </a:rPr>
              <a:t>说：</a:t>
            </a:r>
            <a:r>
              <a:rPr b="1" lang="zh-CN" sz="3200" spc="-1" strike="noStrike">
                <a:solidFill>
                  <a:srgbClr val="ffff00"/>
                </a:solidFill>
                <a:latin typeface="Arial Rounded MT Bold"/>
              </a:rPr>
              <a:t>“这头奶牛是不卖的。”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第四次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Rounded MT Bold"/>
              </a:rPr>
              <a:t>安恩老太太还是用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非常坚定的口气</a:t>
            </a:r>
            <a:r>
              <a:rPr b="1" lang="zh-CN" sz="2400" spc="-1" strike="noStrike">
                <a:solidFill>
                  <a:srgbClr val="ffffff"/>
                </a:solidFill>
                <a:latin typeface="Arial Rounded MT Bold"/>
              </a:rPr>
              <a:t>回答说：</a:t>
            </a: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“不！”</a:t>
            </a:r>
            <a:r>
              <a:rPr b="1" lang="zh-CN" sz="2400" spc="-1" strike="noStrike">
                <a:solidFill>
                  <a:srgbClr val="ffffff"/>
                </a:solidFill>
                <a:latin typeface="Arial Rounded MT Bold"/>
              </a:rPr>
              <a:t>但是她似乎有些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窘迫不安</a:t>
            </a:r>
            <a:r>
              <a:rPr b="1" lang="zh-CN" sz="2400" spc="-1" strike="noStrike">
                <a:solidFill>
                  <a:srgbClr val="ffffff"/>
                </a:solidFill>
                <a:latin typeface="Arial Rounded MT Bold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那么，它是已经卖出了不成？”</a:t>
            </a:r>
            <a:r>
              <a:rPr b="1" lang="zh-CN" sz="2400" spc="-1" strike="noStrike">
                <a:solidFill>
                  <a:srgbClr val="ffffff"/>
                </a:solidFill>
                <a:latin typeface="Arial Rounded MT Bold"/>
              </a:rPr>
              <a:t>那人问道。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没有，这头牲口是不卖的。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是吗？那么干吗老站在这里？难道光是让这头奶牛出出风头吗？”</a:t>
            </a:r>
            <a:r>
              <a:rPr b="1" lang="zh-CN" sz="2400" spc="-1" strike="noStrike">
                <a:solidFill>
                  <a:srgbClr val="ffffff"/>
                </a:solidFill>
                <a:latin typeface="Arial Rounded MT Bold"/>
              </a:rPr>
              <a:t>这个男人刨根究底地追问着，</a:t>
            </a: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“是你自己的奶牛吗？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是呀，当然是的喽。”</a:t>
            </a:r>
            <a:r>
              <a:rPr b="1" lang="zh-CN" sz="2400" spc="-1" strike="noStrike">
                <a:solidFill>
                  <a:srgbClr val="ffffff"/>
                </a:solidFill>
                <a:latin typeface="Arial Rounded MT Bold"/>
              </a:rPr>
              <a:t>在这头奶牛还是条小牛犊的时候，就是她的了，那是一点都不假的。安恩想，要是同他多说上几句话能够消消他的气的话，那就不妨多同他闲聊一会儿。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Rounded MT Bold"/>
              </a:rPr>
              <a:t>可是他打断了她：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Arial Rounded MT Bold"/>
              </a:rPr>
              <a:t>难道你站在这里就为了拿大伙儿开心吗？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、先后有几拨人要买奶牛？哪几拨？这几拨人的出场顺序能倒一倒吗？为什么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有四拨。分别是，锱铢必较的人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身穿血迹斑驳的罩衫的（精明利落）屠夫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死乞白赖的人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来过一次又出大价钱的人（刨根究底的人）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能颠倒，这四拨人一拨比一拨难对付。是根据情节发展的深入而设定的顺序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52480" y="1523880"/>
            <a:ext cx="4876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安恩和奶牛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 Rounded MT Bold"/>
                <a:ea typeface="楷体_GB2312"/>
              </a:rPr>
              <a:t>评价安恩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9051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把奶牛当做自己平等的同类、老朋友、亲人一样理解、尊重、关怀奶牛的精神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拓展延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在我们的生活中有很多人都喜欢养小宠物，给小宠物梳小辫子，穿各式各样的衣服，带宠物出去散步，你觉得这些人和安恩区别吗？为什么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捷克作家米兰昆德拉在他的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生命中不能承受之轻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中说：“对于人性，道德上的真正考验，根本性的考验，在于如何对待那些需要他怜悯的动物。”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安恩她把奶牛当做自己平等的同类、老朋友、亲人一样理解、尊重，关怀奶牛的精神世界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 Rounded MT Bold"/>
              </a:rPr>
              <a:t>下面请以安恩告诉我为开头，把你得到的启迪写下来：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物以类聚，人以群分。孤独是痛苦的。能够读懂孤独，理解孤独，解除孤独，这样的主人是伟大的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难道只有我们人会感到孤单寂寞吗？奶牛也会的。能够把动物当作人来看待，也算是爱心无限了。我们对待动物不能只看到它的物质性的一面，同时也应该看到它的精神性的一面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只有这样才能达到人和动物的和谐。人和动物都和谐了，那人与人之间呢？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总结主旨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 Rounded MT Bold"/>
              </a:rPr>
              <a:t>物以类聚，人以群分。孤独是痛苦的。能够读懂孤独，理解孤独，解除孤独，这样的主人是伟大的。能够把动物当作人来看待，也算是爱心无限了。我们对待动物不能只看到它的物质性的一面，同时也应该看到它的精神性的一面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作业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Rounded MT Bold"/>
              </a:rPr>
              <a:t>小说最后安恩对自己不卖牛作出解释后，集市上的人有怎样的反应？请续写一个结尾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295280" y="9144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随着我们对人物的亲近和深入，心中的不解和惊奇被温暖和感动代替。安恩，这一平凡而特殊的形象清晰地走近我们的心灵，被她感动的同时，我们也在思考自己的生活，这就是文学的力量：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启迪人生，升华灵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通过阅读作品，了解主人公关怀动物，重视它们生命情感需求的善良感情。多角度体会小说主题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   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2. 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复述故事，体会小说构思的精巧，了解悬念手法的作用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   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. 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学习小说的描写方法，了解人物外貌描写与小说情节和主题的关系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10666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翰尼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延森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73-19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丹麦小说家、诗人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“由于他借着丰富有力的诗意想象，将胸襟广博的求知心和大胆的、清闲的创造性风格结合起来”，获得诺贝尔文学奖。本文选自作者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默兰的故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部故事集的出现一扫当时流行的无病呻吟、追求华丽词藻的时尚，为丹麦文坛输入一股清新的阳刚之气， 其中最出色的短篇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恩和奶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914400"/>
            <a:ext cx="3264120" cy="4648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8600" y="3808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3360" y="8380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Rounded MT Bold"/>
              </a:rPr>
              <a:t>谁能准确读出下列词语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干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瘪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              七皱八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褶 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撂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下             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木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屐  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锃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亮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翕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动    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找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茬    </a:t>
            </a: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瑕疵       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            小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犊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锱铢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必较        </a:t>
            </a:r>
            <a:r>
              <a:rPr b="1" lang="zh-CN" sz="3600" spc="-1" strike="noStrike">
                <a:solidFill>
                  <a:srgbClr val="ffff00"/>
                </a:solidFill>
                <a:latin typeface="Arial Rounded MT Bold"/>
              </a:rPr>
              <a:t>踌躇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不决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79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00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</a:rPr>
              <a:t>简要概括故事内容。（注意说清时间、地点、人物、故事的起因、经过和结果。）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8380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故事梗概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 Rounded MT Bold"/>
              </a:rPr>
              <a:t>一天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老妇人</a:t>
            </a:r>
            <a:r>
              <a:rPr b="0" lang="zh-CN" sz="3200" spc="-1" strike="noStrike">
                <a:solidFill>
                  <a:srgbClr val="ffff00"/>
                </a:solidFill>
                <a:latin typeface="Arial Rounded MT Bold"/>
              </a:rPr>
              <a:t>安恩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牵着一头奶牛到</a:t>
            </a:r>
            <a:r>
              <a:rPr b="0" lang="zh-CN" sz="3200" spc="-1" strike="noStrike">
                <a:solidFill>
                  <a:srgbClr val="ffff00"/>
                </a:solidFill>
                <a:latin typeface="Arial Rounded MT Bold"/>
              </a:rPr>
              <a:t>集市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上去，因为这头奶牛实在太好，问津者不少，最后连屠夫也对它有兴趣，但是老妇人却拒不出售。最后，人们气愤起来，老妇人这才吐露真情：她不是来卖牛的，而是因为那头奶牛太孤独，她把它带到集市上来，让它跟同类相聚散心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给文章分段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第一部分（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1-2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）写集市上安恩老太太的外貌和她的奶牛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第二部分（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-19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）写集市上贩子和屠夫们对安恩产生误会，安恩说出了事情的真相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 Rounded MT Bold"/>
                <a:ea typeface="楷体_GB2312"/>
              </a:rPr>
              <a:t>初识安恩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Rounded MT Bold"/>
              </a:rPr>
              <a:t>根据课文第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 Rounded MT Bold"/>
              </a:rPr>
              <a:t>小节谈谈安恩给你的最初印象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示例：从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</a:t>
            </a:r>
            <a:r>
              <a:rPr b="1" i="1" lang="zh-CN" sz="3200" spc="-1" strike="noStrike">
                <a:solidFill>
                  <a:srgbClr val="ffff00"/>
                </a:solidFill>
                <a:latin typeface="Arial Rounded MT Bold"/>
              </a:rPr>
              <a:t>然而她却站在那里晒着太阳，打着她的毛袜</a:t>
            </a:r>
            <a:r>
              <a:rPr b="1" lang="zh-CN" sz="3200" spc="-1" strike="noStrike">
                <a:solidFill>
                  <a:srgbClr val="ffff00"/>
                </a:solidFill>
                <a:latin typeface="Arial Rounded MT Bold"/>
              </a:rPr>
              <a:t>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句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神态动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描写可以知道她是一个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安静从容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人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新课标第一网</cp:lastModifiedBy>
  <dcterms:modified xsi:type="dcterms:W3CDTF">2011-09-27T05:56:27Z</dcterms:modified>
  <cp:revision>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  <property fmtid="{D5CDD505-2E9C-101B-9397-08002B2CF9AE}" pid="3" name="Version">
    <vt:r8>1</vt:r8>
  </property>
</Properties>
</file>