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gif" ContentType="image/gif"/>
  <Override PartName="/ppt/media/image13.gif" ContentType="image/gif"/>
  <Override PartName="/ppt/media/image16.jpeg" ContentType="image/jpeg"/>
  <Override PartName="/ppt/media/image8.gif" ContentType="image/gif"/>
  <Override PartName="/ppt/media/image7.gif" ContentType="image/gif"/>
  <Override PartName="/ppt/media/image6.png" ContentType="image/png"/>
  <Override PartName="/ppt/media/image10.gif" ContentType="image/gif"/>
  <Override PartName="/ppt/media/image9.png" ContentType="image/png"/>
  <Override PartName="/ppt/media/image5.gif" ContentType="image/gif"/>
  <Override PartName="/ppt/media/image4.png" ContentType="image/png"/>
  <Override PartName="/ppt/media/image24.png" ContentType="image/png"/>
  <Override PartName="/ppt/media/image21.png" ContentType="image/png"/>
  <Override PartName="/ppt/media/image20.gif" ContentType="image/gif"/>
  <Override PartName="/ppt/media/image23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17.gif" ContentType="image/gif"/>
  <Override PartName="/ppt/media/image3.png" ContentType="image/png"/>
  <Override PartName="/ppt/media/image14.gif" ContentType="image/gif"/>
  <Override PartName="/ppt/media/image18.png" ContentType="image/png"/>
  <Override PartName="/ppt/media/image15.gif" ContentType="image/gif"/>
  <Override PartName="/ppt/media/image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4DC7-146A-47B0-900F-BAE577D4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EF9C-F08F-4F13-A565-51E19C08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63BC7-7172-4A42-883B-29CA6611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2BB57-C258-4075-97BE-7F3C94C2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723AB-676C-4DE4-8770-119CCEF2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D2521-3D5B-4049-89E4-3D853BEE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96DBE-1992-4357-BE61-891B5EAF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0E4560-0C23-42FB-88A3-F5B7851C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934F1A-E687-4AAA-92B7-C98E1C7F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16C8A-7898-4B87-B3AF-F1135ECFA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2A843-A423-4FED-9B71-73037CA4A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03E5E-75C1-4704-A506-4A0F6E27A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4F2A-5C32-405E-93F6-B5E6349CD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7ED26-F746-4EA2-B700-3BFD0FFF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EC22E4-58BB-461C-BD5A-14E2ED94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8C0A58-D554-4759-B7C9-3BA147E6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06BF5-48A5-4215-8EFD-805B9DA6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F00CA-EE6C-402D-8EAD-B5B3176E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DE8DA6-1A47-4232-8DEB-6E93C852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6C153-EDEA-4249-8824-D659FD04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A57FC9-1068-4D0E-AC55-06C44189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A818E-B95A-4BAC-954F-586EACF9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820842-6FC9-43C2-ABCF-AB4238898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0AB4-D890-4AC6-824C-7954EE280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6CE7F3-7CD5-49CF-8A18-3D258D063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59BA0-14F0-4F60-81D1-45ACED0C5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F3669-3455-4416-A7D3-DF4DE5D6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0B822-9776-4746-B6AD-4FBC8D43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70F69-A65B-48DA-ACFA-B10B49D0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3931A-CDD4-46A8-A886-BDD8BCC7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B8B39-25B8-4674-9E77-9DCB68F4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3B6BD-25BD-4E30-94C2-8F0394B9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0E7D1-E15C-472E-85C4-939DB203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8A85A-98F5-4422-B747-830196F3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FF06-8E2B-4E93-9DF2-FCB875451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DD67B-1764-4E5F-B71F-98086887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0E80B-EFDC-451C-9F43-A184AA7F3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4A8AA-12C7-4339-94A3-6D9270EB7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38D7-7648-4990-A51E-DEAB7678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3932-BB91-4069-B966-1822F3EF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DEB8-1577-45A4-B1D1-FF9A2D5A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B62B-E8C4-4436-BE4B-4177CD90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5701-8B22-44FD-9F11-787BE050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5FFB-554F-4F8A-9F33-16D97004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DF5C-E72A-4910-83F7-F70942A2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9D88-89DD-4FC9-8078-6794073F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600C-CB1E-4794-94E3-0466AC89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91DF-2FCC-4A77-A651-B70639D2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E75E-CEB0-4833-B0E3-F94EF72F1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9FE3-DE2D-4174-A0E9-F45E725F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6ADE7-6803-4AD2-BD6B-EC3439E71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32074-4FE0-4F42-892B-D11BD117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11879-6BF2-40CA-97A0-4157889A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DFC50-9480-4D2D-8EAA-0DC5A77A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DE7FC-2167-4A78-BB64-7B445246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B79F-5FCD-44F5-A475-57182BD4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98ED2-2C67-48FC-87FF-F04E5AE7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5F690-DBE7-447D-966B-CA7D099E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F59C0-AB26-4216-BFB8-B5ECAB61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82093-10D3-471E-B001-7364C910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0AC13-223F-4B83-B583-6E5BC675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E58DB-2813-4877-8179-CEC92EC73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A9CF1-A110-4A11-BBF0-0C6826144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FAA08-D190-4E51-8A12-7137A8589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691CA-0BDC-488F-8C47-6B04B92A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B31C9-DB2F-4D39-AFA9-3E8D6649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4AD9-EA94-4102-960E-82DC90C7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567C6-28ED-4B8B-A1CB-7E4481B7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F8F55-D5FB-4908-A2B1-2D190A12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2B049-D908-49A9-867F-AE03AF9C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B2855-0DCD-492E-B6F5-953F4F4A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74F22-E4AF-437F-AD52-89539597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D176F-8FE4-46CB-AFEE-92F7A0FC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12C74-D4D0-4E10-BCBE-14CDFD0D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F10DF-DBC9-4004-8B11-2D2DA4C43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377AF-E8A3-498A-A1C4-0D5E2C389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D68F1-9C49-4053-9E70-C0D1038A8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A300-789A-4EB3-83FC-FBCE849E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96F62-48FF-472B-BE2E-5D04BBA7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76176-9ECC-4137-A2AD-8A92C52C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EA5C7-4A5D-4F71-BBA7-648B70C6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ED05A-6B77-4306-8C1B-9567C612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A9BDE-5955-4B83-9432-BD5EDC11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E2620-E274-4B3E-A341-6D7DCAA7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64E1D-2147-4377-B0F9-9CED7DBD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81799-9D80-4BEE-9BB9-32B7874C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DD781-3621-430E-B6BC-470CB8BB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32DCD-40F3-45B3-A5A1-DB0BEA159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B6D0-864E-4E87-AD11-38146F39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AEAF4-CA0B-4CB3-9787-671DF014C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AFA42-6335-4DDD-B275-FB2FBA0CE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77A00-D2C3-4931-93B5-0DF731CE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01980-01C3-4B8A-B4B3-D9EA8A0E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DE6F7-2886-4812-8BB5-F67AF493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0D958-77FD-482D-B0D6-EA9BA450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C667A-6BCC-4AA8-A3FB-30F3C413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E9819-2B02-4884-8A46-440E37A6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AE769-FE4F-44CC-AB75-B67340D4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B0240-F970-49E1-96C2-25E9D551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72E2-776C-4E6A-ABA4-3B326D83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60703-5926-4683-A168-7F945771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2D8C5-F2D3-4A26-9B70-237D73C6B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01679-282C-4B11-ACC2-F2A35E1D1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77EF0-6469-4E95-933C-68A06A37B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E871A-DF81-4B4C-8CDC-44066F3C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FFD60-18D5-49B8-8613-AE731B01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EE9A8-7F9E-4D8D-8AE2-B5E622CD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65F60-000E-47AF-AC54-A051751A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2F177-3C69-4025-B037-419A642E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6B63C-6D48-4E85-B55E-344F96BB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DB74-5380-4F33-969B-C4E48AAE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D757A-A374-49EE-90FC-133EF951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39758-50D4-4897-B228-1A7F0BA9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7F7E2-431B-48FC-95EF-55E73A36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12342-87D4-4FE6-9096-DCEDB2477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868D7-354A-4C4B-941A-9E62BEC43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3CE9E-1974-4B1E-919C-CB887A574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2EAC7-6951-43CB-9E23-5D6331C5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67485-E91F-47B5-B129-2ED38931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AAAB4-B897-4428-9C55-F90E1571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DA291-5F31-4AAF-A23D-B734799E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D02A-D7C6-4353-8B4F-EAEB1A4A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2FC73-0802-4451-A168-C576CAE5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6140D-87D2-4CF7-9D74-8F3DA432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37528-B8D6-4E1D-8FA5-874FF444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DAA18-3BE1-4428-A052-5DB4875C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2FB8C-345F-4236-B1B7-709B8284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15E5F-9BF4-4605-BA63-830D0B1DB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67926-ACA8-4B98-B92E-0ADCEC373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0FF51-9F3E-48AB-A499-AFD48A7C3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35F71-8CD3-4D98-A13C-2B5246D3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7BF8A-D0F7-4DAB-8589-C8BB0BC4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23553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矩形 23554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矩形 23555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矩形 2355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图片 23560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矩形 23561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FD52-7C91-4AC3-BB21-0930B8D6DF8D}" type="slidenum">
              <a:rPr b="0" lang="zh-CN" sz="9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矩形 23553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1" name="矩形 23554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2" name="矩形 23555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3" name="矩形 2355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24" name="图片 23560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425" name="矩形 23561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28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9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0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6E85-FADF-408D-85CA-1C4DA823B9A3}" type="slidenum">
              <a:rPr b="0" lang="zh-CN" sz="9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矩形 23553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8" name="矩形 23554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9" name="矩形 23555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0" name="矩形 2355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71" name="图片 23560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472" name="矩形 23561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50FA-AB6E-455B-A2AE-4CCBAB716E7A}" type="slidenum">
              <a:rPr b="0" lang="zh-CN" sz="9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24577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图片 24578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矩形 2457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D542-FED3-4951-B5D6-941DC5D0E5AB}" type="slidenum">
              <a:rPr b="0" lang="zh-CN" sz="14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23553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矩形 23554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矩形 23555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矩形 2355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图片 23560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96" name="矩形 23561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803E-D016-41B0-B8B7-00D59F04479D}" type="slidenum">
              <a:rPr b="0" lang="zh-CN" sz="9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23553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矩形 23554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矩形 23555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矩形 2355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2" name="图片 23560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143" name="矩形 23561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CEA5-CF4A-4962-B536-729427B0BFAD}" type="slidenum">
              <a:rPr b="0" lang="zh-CN" sz="9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矩形 23553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" name="矩形 23554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7" name="矩形 23555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8" name="矩形 2355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9" name="图片 23560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190" name="矩形 23561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5775-B712-463C-87BC-55BA89FD5D64}" type="slidenum">
              <a:rPr b="0" lang="zh-CN" sz="9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矩形 23553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" name="矩形 23554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4" name="矩形 23555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" name="矩形 2355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36" name="图片 23560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237" name="矩形 23561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0CE1-4310-440D-95CE-CB812918BEDF}" type="slidenum">
              <a:rPr b="0" lang="zh-CN" sz="9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矩形 23553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0" name="矩形 23554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1" name="矩形 23555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2" name="矩形 2355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83" name="图片 23560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284" name="矩形 23561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9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0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028D-942A-4C73-BEAB-DA662AE47A2E}" type="slidenum">
              <a:rPr b="0" lang="zh-CN" sz="9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23553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7" name="矩形 23554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8" name="矩形 23555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9" name="矩形 2355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30" name="图片 23560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331" name="矩形 23561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2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3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4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676D-209D-49E8-AAFD-BF06F06D725F}" type="slidenum">
              <a:rPr b="0" lang="zh-CN" sz="9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矩形 23553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4" name="矩形 23554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5" name="矩形 23555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6" name="矩形 2355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77" name="图片 23560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378" name="矩形 23561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5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6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7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5001-F646-457C-B35E-2018F7F8E2B8}" type="slidenum">
              <a:rPr b="0" lang="zh-CN" sz="9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-1,-1,NEXT" TargetMode="External"/><Relationship Id="rId2" Type="http://schemas.openxmlformats.org/officeDocument/2006/relationships/hyperlink" Target="260,4,&#24187;&#28783;&#29255; 4" TargetMode="External"/><Relationship Id="rId3" Type="http://schemas.openxmlformats.org/officeDocument/2006/relationships/hyperlink" Target="258,5,&#24187;&#28783;&#29255; 5" TargetMode="External"/><Relationship Id="rId4" Type="http://schemas.openxmlformats.org/officeDocument/2006/relationships/hyperlink" Target="261,6,&#24187;&#28783;&#29255; 6" TargetMode="External"/><Relationship Id="rId5" Type="http://schemas.openxmlformats.org/officeDocument/2006/relationships/hyperlink" Target="262,7,&#24187;&#28783;&#29255; 7" TargetMode="External"/><Relationship Id="rId6" Type="http://schemas.openxmlformats.org/officeDocument/2006/relationships/hyperlink" Target="265,9,&#24187;&#28783;&#29255; 9" TargetMode="External"/><Relationship Id="rId7" Type="http://schemas.openxmlformats.org/officeDocument/2006/relationships/hyperlink" Target="265,9,&#24187;&#28783;&#29255; 9" TargetMode="External"/><Relationship Id="rId8" Type="http://schemas.openxmlformats.org/officeDocument/2006/relationships/hyperlink" Target="265,9,&#24187;&#28783;&#29255; 9" TargetMode="External"/><Relationship Id="rId9" Type="http://schemas.openxmlformats.org/officeDocument/2006/relationships/hyperlink" Target="265,9,&#24187;&#28783;&#29255; 9" TargetMode="External"/><Relationship Id="rId10" Type="http://schemas.openxmlformats.org/officeDocument/2006/relationships/hyperlink" Target="265,9,&#24187;&#28783;&#29255; 9" TargetMode="External"/><Relationship Id="rId11" Type="http://schemas.openxmlformats.org/officeDocument/2006/relationships/hyperlink" Target="264,13,&#24187;&#28783;&#29255; 13" TargetMode="External"/><Relationship Id="rId12" Type="http://schemas.openxmlformats.org/officeDocument/2006/relationships/hyperlink" Target="273,17,&#24187;&#28783;&#29255; 17" TargetMode="External"/><Relationship Id="rId13" Type="http://schemas.openxmlformats.org/officeDocument/2006/relationships/image" Target="../media/image7.gif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-1,-1,PREV" TargetMode="Externa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hyperlink" Target="-1,-1,NEXT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08af4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矩形 2053"/>
          <p:cNvSpPr txBox="1"/>
          <p:nvPr/>
        </p:nvSpPr>
        <p:spPr>
          <a:xfrm>
            <a:off x="1905120" y="990720"/>
            <a:ext cx="693396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irclePour">
              <a:avLst>
                <a:gd name="adj1" fmla="val 1086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阿长与《山海经》</a:t>
            </a:r>
            <a:endParaRPr b="1" lang="en-US" sz="9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15" name="文本框 2056"/>
          <p:cNvSpPr/>
          <p:nvPr/>
        </p:nvSpPr>
        <p:spPr>
          <a:xfrm>
            <a:off x="762120" y="9144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第六课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516" name="图片 2058" descr="C:\WINDOWS\Desktop\动画\01-01-001-04.gif"/>
          <p:cNvPicPr/>
          <p:nvPr/>
        </p:nvPicPr>
        <p:blipFill>
          <a:blip r:embed="rId3"/>
          <a:stretch/>
        </p:blipFill>
        <p:spPr>
          <a:xfrm>
            <a:off x="533520" y="6248520"/>
            <a:ext cx="6324480" cy="457200"/>
          </a:xfrm>
          <a:prstGeom prst="rect">
            <a:avLst/>
          </a:prstGeom>
          <a:ln w="0">
            <a:noFill/>
          </a:ln>
        </p:spPr>
      </p:pic>
      <p:grpSp>
        <p:nvGrpSpPr>
          <p:cNvPr id="517" name="组合 2061"/>
          <p:cNvGrpSpPr/>
          <p:nvPr/>
        </p:nvGrpSpPr>
        <p:grpSpPr>
          <a:xfrm>
            <a:off x="4343400" y="2666880"/>
            <a:ext cx="1981080" cy="2133720"/>
            <a:chOff x="4343400" y="2666880"/>
            <a:chExt cx="1981080" cy="2133720"/>
          </a:xfrm>
        </p:grpSpPr>
        <p:grpSp>
          <p:nvGrpSpPr>
            <p:cNvPr id="518" name="组合 2059"/>
            <p:cNvGrpSpPr/>
            <p:nvPr/>
          </p:nvGrpSpPr>
          <p:grpSpPr>
            <a:xfrm>
              <a:off x="4495680" y="4343400"/>
              <a:ext cx="1614600" cy="457200"/>
              <a:chOff x="4495680" y="4343400"/>
              <a:chExt cx="1614600" cy="457200"/>
            </a:xfrm>
          </p:grpSpPr>
          <p:sp>
            <p:nvSpPr>
              <p:cNvPr id="519" name="矩形 2054"/>
              <p:cNvSpPr txBox="1"/>
              <p:nvPr/>
            </p:nvSpPr>
            <p:spPr>
              <a:xfrm>
                <a:off x="4952880" y="4343400"/>
                <a:ext cx="115740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00" spc="-1" strike="noStrike">
                    <a:ln w="0">
                      <a:noFill/>
                    </a:ln>
                    <a:solidFill>
                      <a:srgbClr val="333399"/>
                    </a:solid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隶书"/>
                  </a:rPr>
                  <a:t>鲁迅</a:t>
                </a:r>
                <a:endParaRPr b="1" lang="en-US" sz="900" spc="-1" strike="noStrike">
                  <a:ln w="0">
                    <a:noFill/>
                  </a:ln>
                  <a:solidFill>
                    <a:srgbClr val="333399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隶书"/>
                  <a:ea typeface="隶书"/>
                </a:endParaRPr>
              </a:p>
            </p:txBody>
          </p:sp>
          <p:sp>
            <p:nvSpPr>
              <p:cNvPr id="520" name="矩形 2055"/>
              <p:cNvSpPr/>
              <p:nvPr/>
            </p:nvSpPr>
            <p:spPr>
              <a:xfrm>
                <a:off x="4495680" y="4419360"/>
                <a:ext cx="304920" cy="304920"/>
              </a:xfrm>
              <a:prstGeom prst="rect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pic>
          <p:nvPicPr>
            <p:cNvPr id="521" name="图片 2060" descr=""/>
            <p:cNvPicPr/>
            <p:nvPr/>
          </p:nvPicPr>
          <p:blipFill>
            <a:blip r:embed="rId4"/>
            <a:srcRect l="0" t="0" r="0" b="37760"/>
            <a:stretch/>
          </p:blipFill>
          <p:spPr>
            <a:xfrm>
              <a:off x="4343400" y="2666880"/>
              <a:ext cx="1981080" cy="1524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文本框 34817"/>
          <p:cNvSpPr/>
          <p:nvPr/>
        </p:nvSpPr>
        <p:spPr>
          <a:xfrm>
            <a:off x="2057400" y="1523880"/>
            <a:ext cx="678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隶书"/>
              </a:rPr>
              <a:t>当阿长说“哥儿，有画儿的‘三哼经’，我给你买来了”，“我”有什么反应？表现出什么样的心情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7" name="文本框 34818"/>
          <p:cNvSpPr/>
          <p:nvPr/>
        </p:nvSpPr>
        <p:spPr>
          <a:xfrm>
            <a:off x="1828800" y="44956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我”的反应：“我似乎遇着了一个霹雳，全体都震悚起来。”表现出意外、震惊、感动的心情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598" name="图片 34819" descr="C:\WINDOWS\Desktop\动画\email5.gif"/>
          <p:cNvPicPr/>
          <p:nvPr/>
        </p:nvPicPr>
        <p:blipFill>
          <a:blip r:embed="rId2"/>
          <a:stretch/>
        </p:blipFill>
        <p:spPr>
          <a:xfrm>
            <a:off x="6858000" y="3124080"/>
            <a:ext cx="188604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文本框 35841"/>
          <p:cNvSpPr/>
          <p:nvPr/>
        </p:nvSpPr>
        <p:spPr>
          <a:xfrm>
            <a:off x="1523880" y="12952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  <a:ea typeface="宋体"/>
              </a:rPr>
              <a:t>“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宋体"/>
              </a:rPr>
              <a:t>这又使我发生新的敬意了，别人不肯做，或不能做的事，她却能够做成功。她确实有伟大的神力，”为什么说“她确实有伟大的神力”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0" name="文本框 35842"/>
          <p:cNvSpPr/>
          <p:nvPr/>
        </p:nvSpPr>
        <p:spPr>
          <a:xfrm>
            <a:off x="1676520" y="3841920"/>
            <a:ext cx="7467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隶书"/>
              </a:rPr>
              <a:t>因为“我”对她能帮“我”着件事没抱过希望，但她却记住了“我”的渴求，并在告假回家时用自己微薄的工资帮“我”买来了“我”渴慕却无法得到的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  <a:ea typeface="隶书"/>
              </a:rPr>
              <a:t>《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隶书"/>
              </a:rPr>
              <a:t>山海经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  <a:ea typeface="隶书"/>
              </a:rPr>
              <a:t>》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隶书"/>
              </a:rPr>
              <a:t>，这在“我”幼小的心灵中无异于“伟大的神力”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601" name="图片 35843" descr="C:\WINDOWS\Desktop\动画\line1.gif"/>
          <p:cNvPicPr/>
          <p:nvPr/>
        </p:nvPicPr>
        <p:blipFill>
          <a:blip r:embed="rId1"/>
          <a:stretch/>
        </p:blipFill>
        <p:spPr>
          <a:xfrm>
            <a:off x="1554120" y="3429000"/>
            <a:ext cx="758988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文本框 36865"/>
          <p:cNvSpPr/>
          <p:nvPr/>
        </p:nvSpPr>
        <p:spPr>
          <a:xfrm>
            <a:off x="1752480" y="12193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这四本书，乃是我最初得到，最为心爱的宝书。”为什么这么说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3" name="文本框 36866"/>
          <p:cNvSpPr/>
          <p:nvPr/>
        </p:nvSpPr>
        <p:spPr>
          <a:xfrm>
            <a:off x="1752480" y="3581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方正舒体"/>
              </a:rPr>
              <a:t>因为这书不仅是“我”渴慕的、过于念念不忘的，而且还代表一种热爱和关心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604" name="组合 36872"/>
          <p:cNvGrpSpPr/>
          <p:nvPr/>
        </p:nvGrpSpPr>
        <p:grpSpPr>
          <a:xfrm>
            <a:off x="6019920" y="4343400"/>
            <a:ext cx="2324160" cy="2171880"/>
            <a:chOff x="6019920" y="4343400"/>
            <a:chExt cx="2324160" cy="2171880"/>
          </a:xfrm>
        </p:grpSpPr>
        <p:pic>
          <p:nvPicPr>
            <p:cNvPr id="605" name="图片 36868" descr="C:\WINDOWS\Desktop\动画\email2.gif"/>
            <p:cNvPicPr/>
            <p:nvPr/>
          </p:nvPicPr>
          <p:blipFill>
            <a:blip r:embed="rId2"/>
            <a:stretch/>
          </p:blipFill>
          <p:spPr>
            <a:xfrm>
              <a:off x="6019920" y="4343400"/>
              <a:ext cx="2324160" cy="21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图片 36870" descr="C:\WINDOWS\Desktop\动画\rose01.gif"/>
            <p:cNvPicPr/>
            <p:nvPr/>
          </p:nvPicPr>
          <p:blipFill>
            <a:blip r:embed="rId3"/>
            <a:stretch/>
          </p:blipFill>
          <p:spPr>
            <a:xfrm>
              <a:off x="7010280" y="5638680"/>
              <a:ext cx="68580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文本框 39937"/>
          <p:cNvSpPr/>
          <p:nvPr/>
        </p:nvSpPr>
        <p:spPr>
          <a:xfrm>
            <a:off x="1676520" y="137160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本文围绕阿长写了哪些事？重点是什么？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608" name="组合 39941"/>
          <p:cNvGrpSpPr/>
          <p:nvPr/>
        </p:nvGrpSpPr>
        <p:grpSpPr>
          <a:xfrm>
            <a:off x="457200" y="4038480"/>
            <a:ext cx="8686800" cy="1752840"/>
            <a:chOff x="457200" y="4038480"/>
            <a:chExt cx="8686800" cy="1752840"/>
          </a:xfrm>
        </p:grpSpPr>
        <p:sp>
          <p:nvSpPr>
            <p:cNvPr id="609" name="矩形 39939"/>
            <p:cNvSpPr txBox="1"/>
            <p:nvPr/>
          </p:nvSpPr>
          <p:spPr>
            <a:xfrm>
              <a:off x="1447920" y="4038480"/>
              <a:ext cx="7696080" cy="1752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871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隶书"/>
                </a:rPr>
                <a:t>你们太聪明了，我就不多说了</a:t>
              </a:r>
              <a:endPara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  <a:ea typeface="隶书"/>
              </a:endParaRPr>
            </a:p>
          </p:txBody>
        </p:sp>
        <p:pic>
          <p:nvPicPr>
            <p:cNvPr id="610" name="图片 39940" descr="C:\WINDOWS\Desktop\动画\01-09-021-02.gif"/>
            <p:cNvPicPr/>
            <p:nvPr/>
          </p:nvPicPr>
          <p:blipFill>
            <a:blip r:embed="rId2"/>
            <a:stretch/>
          </p:blipFill>
          <p:spPr>
            <a:xfrm>
              <a:off x="457200" y="4114800"/>
              <a:ext cx="106668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7bb65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文本框 32769"/>
          <p:cNvSpPr/>
          <p:nvPr/>
        </p:nvSpPr>
        <p:spPr>
          <a:xfrm>
            <a:off x="1523880" y="1295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Arial"/>
                <a:ea typeface="黑体"/>
              </a:rPr>
              <a:t>作者先写他“憎恶”、“讨厌”阿长，但在结尾处却说“仁厚黑暗的地母啊，愿在你怀里永安她的魂灵”，抒发出一种深沉的怀念之情。你是怎样理解作者的感情的？在作者眼中，阿长是怎样的一个人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2" name="文本框 32770"/>
          <p:cNvSpPr/>
          <p:nvPr/>
        </p:nvSpPr>
        <p:spPr>
          <a:xfrm>
            <a:off x="1600200" y="36576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  <a:ea typeface="华文行楷"/>
              </a:rPr>
              <a:t>文章运用了先抑后扬的写法，是为了突出作者对长妈妈的敬佩和怀念之请。先写了她名字的来由，讨厌她的絮叨、对“我”的管束严格、繁多的礼节，其实这一切都是为了反衬后文“我”对她的敬佩和怀念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69b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文本框 37889"/>
          <p:cNvSpPr/>
          <p:nvPr/>
        </p:nvSpPr>
        <p:spPr>
          <a:xfrm>
            <a:off x="1676520" y="3809880"/>
            <a:ext cx="7467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方正舒体"/>
              </a:rPr>
              <a:t>在作者眼里，阿长是怎样的一个人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方正舒体"/>
              </a:rPr>
              <a:t>在你眼里，阿长有是怎样的一个人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4" name="矩形 37890"/>
          <p:cNvSpPr txBox="1"/>
          <p:nvPr/>
        </p:nvSpPr>
        <p:spPr>
          <a:xfrm>
            <a:off x="1752480" y="1447920"/>
            <a:ext cx="381024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9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说一说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dc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矩形 38914"/>
          <p:cNvSpPr txBox="1"/>
          <p:nvPr/>
        </p:nvSpPr>
        <p:spPr>
          <a:xfrm>
            <a:off x="3657600" y="990720"/>
            <a:ext cx="38098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86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隶书"/>
              </a:rPr>
              <a:t>练笔</a:t>
            </a:r>
            <a:endParaRPr b="1" lang="en-US" sz="5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16" name="文本框 38915"/>
          <p:cNvSpPr/>
          <p:nvPr/>
        </p:nvSpPr>
        <p:spPr>
          <a:xfrm>
            <a:off x="1523880" y="3962520"/>
            <a:ext cx="746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ac164"/>
                </a:solidFill>
                <a:latin typeface="华文行楷"/>
                <a:ea typeface="华文行楷"/>
              </a:rPr>
              <a:t>选一个你熟悉的人，写一两件事，尽可能写得真实、生动、传神，</a:t>
            </a:r>
            <a:r>
              <a:rPr b="1" lang="en-US" sz="4000" spc="-1" strike="noStrike">
                <a:solidFill>
                  <a:srgbClr val="fac164"/>
                </a:solidFill>
                <a:latin typeface="华文行楷"/>
                <a:ea typeface="华文行楷"/>
              </a:rPr>
              <a:t>OK?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617" name="图片 38916" descr="C:\WINDOWS\Desktop\动画\rose01.gif"/>
          <p:cNvPicPr/>
          <p:nvPr/>
        </p:nvPicPr>
        <p:blipFill>
          <a:blip r:embed="rId3"/>
          <a:stretch/>
        </p:blipFill>
        <p:spPr>
          <a:xfrm>
            <a:off x="457200" y="83664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7d2e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文本框 41986"/>
          <p:cNvSpPr/>
          <p:nvPr/>
        </p:nvSpPr>
        <p:spPr>
          <a:xfrm>
            <a:off x="1523880" y="914400"/>
            <a:ext cx="76201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作品一开头就用“长妈妈”起笔，可以说饱含了鲁迅的怀念和尊重之情。接下来的两个自然段，完全是围绕阿长的名字展开的，从名字切入，表现了阿长真实的社会地位和她在周家大院重要地位。阿长在周家，只是一个带孩子的保姆，乡下人称“老妈子”，她的地位是“卑贱”的。她连名字也没有，她曾经说自己叫什么姑娘来着，但大家并没有在意，也没有记住。她沿用的只是在她之前的一个女工的名字。可见这“阿长”只是一个代号而已，一个佣人的代号。作者又从“阿长”这个名字，巧妙地转到她的长相描写上，说她“黄胖而矮”。地位卑贱，长相又丑，阿长的命运可真够惨了。可就是这样一个阿长，却在周家有着不一般的，无可替代的重要地位。为什么呢？作者也没有正面去写，只是从周家众人的称呼中含蓄地表现了出来。母亲和别的人都客气、尊敬地称阿长为“长妈妈”，祖母则直呼其名，称为“阿长”，在随意中表现出一种亲切。而童年的“我”呢，则把阿长当作母亲，唤为“长阿妈”和“阿妈”，几代人不同的称呼，充分地表现了阿长在周家地特殊地位。阿长何以在周家有如此重要的地位呢？作者没有说，但这正是让读者充分发挥想象的地方。也许是阿长在周家年代很长，劳苦功高？也许是阿长淳朴、勤劳、热心，深得周家上下得喜欢？作者得两段“名字的由来”，使我们联想到了很多。由小见大，迂回深入，这是鲁迅散文创作中的习惯手法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9" name="矩形 41987"/>
          <p:cNvSpPr txBox="1"/>
          <p:nvPr/>
        </p:nvSpPr>
        <p:spPr>
          <a:xfrm rot="5400000">
            <a:off x="-1219320" y="2895480"/>
            <a:ext cx="457200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gradFill rotWithShape="0">
                  <a:gsLst>
                    <a:gs pos="0">
                      <a:srgbClr val="89cbfd"/>
                    </a:gs>
                    <a:gs pos="50000">
                      <a:srgbClr val="af87ff"/>
                    </a:gs>
                    <a:gs pos="100000">
                      <a:srgbClr val="89cbfd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隶书"/>
              </a:rPr>
              <a:t>总结</a:t>
            </a:r>
            <a:endParaRPr b="1" lang="en-US" sz="5400" spc="-1" strike="noStrike">
              <a:ln w="0">
                <a:noFill/>
              </a:ln>
              <a:gradFill rotWithShape="0">
                <a:gsLst>
                  <a:gs pos="0">
                    <a:srgbClr val="89cbfd"/>
                  </a:gs>
                  <a:gs pos="50000">
                    <a:srgbClr val="af87ff"/>
                  </a:gs>
                  <a:gs pos="100000">
                    <a:srgbClr val="89cbfd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fdd5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文本框 43009"/>
          <p:cNvSpPr/>
          <p:nvPr/>
        </p:nvSpPr>
        <p:spPr>
          <a:xfrm>
            <a:off x="1447920" y="11430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但鲁迅并没有拔高、美化阿长，而是真实地刻画了阿长作为一个乡下妇女的局限和缺点。这些缺点也正是儿时的鲁迅不佩服她的地方。阿长的缺点有这样几个方面。首先是阿长喜欢“切切察察”，表现了她的热心、爱管闲事，以及在周家的地位，但也反映了她的曲意逢迎和有心计。鲁迅自小就是一个正直、坦率的人，他当然“最讨厌”阿长的这种性格。其次是阿长对鲁迅的管束太多、太严，这自然是阿长认真负责、小心谨慎的一面，但也反映了她的无知，不懂得给孩子以必要的自由，更好地发展他的天性。还有她睡觉时的丑相以及对小主人的挤兑，这自然是乡下佣人的一种粗俗了。而最让鲁迅不耐烦的是阿长知道很多规矩，还要让小主人去遵守。譬如过年时的说吉言、吃福桶，譬如吃饭时必须把落在地上的饭粒拣起来，譬如不可钻过晒裤子的竹竿底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鲁迅从小就喜欢自由、蔑视清规戒律，却恰恰遇到了这样一个思想守旧、循规蹈矩的老妈子，他对阿长的“不耐烦”也就是必然的了。鲁迅感激阿长的养育之恩，从她的身上看到了下层民众的可贵品格，但他同时也洞察到了她身上那种根深蒂固的局限和缺点，把它真实地揭示出来，塑造了一个活生生地底层妇女的形象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91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文本框 44033"/>
          <p:cNvSpPr/>
          <p:nvPr/>
        </p:nvSpPr>
        <p:spPr>
          <a:xfrm>
            <a:off x="1600200" y="1600200"/>
            <a:ext cx="754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ngLiU"/>
                <a:ea typeface="MingLiU"/>
              </a:rPr>
              <a:t>从“然而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ngLiU"/>
              </a:rPr>
              <a:t>……</a:t>
            </a:r>
            <a:r>
              <a:rPr b="0" lang="zh-CN" sz="2000" spc="-1" strike="noStrike">
                <a:solidFill>
                  <a:srgbClr val="000000"/>
                </a:solidFill>
                <a:latin typeface="MingLiU"/>
                <a:ea typeface="MingLiU"/>
              </a:rPr>
              <a:t>空前的敬意”开始，鲁迅写了阿长正面的性格品格，这是全文的重心所在。鲁迅最初对阿长的敬意源于童年鲁迅对 她“神力”的敬仰。（就是 关于“长毛”的故事）阿长给鲁迅讲的太平天国以及女人的故事，纯系没有是非观念、荒唐可笑的传说，但却把天真的鲁迅给吸引了、震慑了，让小小的鲁迅感到“意外”“惊异”，觉得阿长是那样“神奇”，有一种“伟大的神力”，不能不产生“特别的敬意”。这是一段充满了幽默感的描写。而真正使鲁迅对阿长产生感激和敬意的，是阿长给他买到了</a:t>
            </a:r>
            <a:r>
              <a:rPr b="0" lang="en-US" sz="2000" spc="-1" strike="noStrike">
                <a:solidFill>
                  <a:srgbClr val="000000"/>
                </a:solidFill>
                <a:latin typeface="MingLiU"/>
                <a:ea typeface="MingLiU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MingLiU"/>
                <a:ea typeface="MingLiU"/>
              </a:rPr>
              <a:t>山海经</a:t>
            </a:r>
            <a:r>
              <a:rPr b="0" lang="en-US" sz="2000" spc="-1" strike="noStrike">
                <a:solidFill>
                  <a:srgbClr val="000000"/>
                </a:solidFill>
                <a:latin typeface="MingLiU"/>
                <a:ea typeface="MingLiU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MingLiU"/>
                <a:ea typeface="MingLiU"/>
              </a:rPr>
              <a:t>。这是一部鲁迅渴望已久的神话传说图画书，但一直难以得到，大字不识的阿长却及小主人所急，想小主人所想，设法买回了</a:t>
            </a:r>
            <a:r>
              <a:rPr b="0" lang="en-US" sz="2000" spc="-1" strike="noStrike">
                <a:solidFill>
                  <a:srgbClr val="000000"/>
                </a:solidFill>
                <a:latin typeface="MingLiU"/>
                <a:ea typeface="MingLiU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MingLiU"/>
                <a:ea typeface="MingLiU"/>
              </a:rPr>
              <a:t>山海经</a:t>
            </a:r>
            <a:r>
              <a:rPr b="0" lang="en-US" sz="2000" spc="-1" strike="noStrike">
                <a:solidFill>
                  <a:srgbClr val="000000"/>
                </a:solidFill>
                <a:latin typeface="MingLiU"/>
                <a:ea typeface="MingLiU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MingLiU"/>
                <a:ea typeface="MingLiU"/>
              </a:rPr>
              <a:t>，这不能不让鲁迅感到意外、惊喜！而正是这个偶然的事件，不仅满足了鲁迅的愿望，同时激发了鲁迅大量买书的热情，特别是作为少年鲁迅的一部文艺启蒙书，对他以后的创作产生过深刻的影响。这正是鲁迅几次在作品中写到她，对她充满了感激、怀念、敬意的原因所在。至此，一个有点粗俗、迷信、守旧，但却善良、热心、忠厚、真诚的阿长的形象就完成了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0a3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文本框 27650"/>
          <p:cNvSpPr/>
          <p:nvPr/>
        </p:nvSpPr>
        <p:spPr>
          <a:xfrm>
            <a:off x="1676520" y="3505320"/>
            <a:ext cx="746748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b0ae6a"/>
                </a:solidFill>
                <a:uFillTx/>
                <a:latin typeface="Times New Roman"/>
                <a:ea typeface="宋体"/>
                <a:hlinkClick r:id="rId1"/>
              </a:rPr>
              <a:t>题解</a:t>
            </a:r>
            <a:r>
              <a:rPr b="0" lang="zh-CN" sz="2400" spc="-1" strike="noStrike">
                <a:solidFill>
                  <a:srgbClr val="ff2f2f"/>
                </a:solidFill>
                <a:latin typeface="Times New Roman"/>
                <a:ea typeface="宋体"/>
              </a:rPr>
              <a:t>         </a:t>
            </a:r>
            <a:r>
              <a:rPr b="0" lang="zh-CN" sz="2400" spc="-1" strike="noStrike" u="sng">
                <a:solidFill>
                  <a:srgbClr val="b0ae6a"/>
                </a:solidFill>
                <a:uFillTx/>
                <a:latin typeface="Times New Roman"/>
                <a:ea typeface="宋体"/>
                <a:hlinkClick r:id="rId2"/>
              </a:rPr>
              <a:t>作者简介          </a:t>
            </a:r>
            <a:r>
              <a:rPr b="0" lang="zh-CN" sz="2400" spc="-1" strike="noStrike" u="sng">
                <a:solidFill>
                  <a:srgbClr val="b0ae6a"/>
                </a:solidFill>
                <a:uFillTx/>
                <a:latin typeface="Times New Roman"/>
                <a:ea typeface="宋体"/>
                <a:hlinkClick r:id="rId3"/>
              </a:rPr>
              <a:t>字词        </a:t>
            </a:r>
            <a:r>
              <a:rPr b="0" lang="zh-CN" sz="2400" spc="-1" strike="noStrike" u="sng">
                <a:solidFill>
                  <a:srgbClr val="b0ae6a"/>
                </a:solidFill>
                <a:uFillTx/>
                <a:latin typeface="Times New Roman"/>
                <a:ea typeface="宋体"/>
                <a:hlinkClick r:id="rId4"/>
              </a:rPr>
              <a:t>导读          </a:t>
            </a:r>
            <a:r>
              <a:rPr b="0" lang="zh-CN" sz="2400" spc="-1" strike="noStrike" u="sng">
                <a:solidFill>
                  <a:srgbClr val="b0ae6a"/>
                </a:solidFill>
                <a:uFillTx/>
                <a:latin typeface="Times New Roman"/>
                <a:ea typeface="宋体"/>
                <a:hlinkClick r:id="rId5"/>
              </a:rPr>
              <a:t>结构分析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2f2f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 u="sng">
                <a:solidFill>
                  <a:srgbClr val="b0ae6a"/>
                </a:solidFill>
                <a:uFillTx/>
                <a:latin typeface="Times New Roman"/>
                <a:ea typeface="宋体"/>
                <a:hlinkClick r:id="rId6"/>
              </a:rPr>
              <a:t>关于</a:t>
            </a:r>
            <a:r>
              <a:rPr b="0" lang="en-US" sz="2400" spc="-1" strike="noStrike" u="sng">
                <a:solidFill>
                  <a:srgbClr val="b0ae6a"/>
                </a:solidFill>
                <a:uFillTx/>
                <a:latin typeface="Times New Roman"/>
                <a:ea typeface="宋体"/>
                <a:hlinkClick r:id="rId7"/>
              </a:rPr>
              <a:t>《</a:t>
            </a:r>
            <a:r>
              <a:rPr b="0" lang="zh-CN" sz="2400" spc="-1" strike="noStrike" u="sng">
                <a:solidFill>
                  <a:srgbClr val="b0ae6a"/>
                </a:solidFill>
                <a:uFillTx/>
                <a:latin typeface="Times New Roman"/>
                <a:ea typeface="宋体"/>
                <a:hlinkClick r:id="rId8"/>
              </a:rPr>
              <a:t>山海经</a:t>
            </a:r>
            <a:r>
              <a:rPr b="0" lang="en-US" sz="2400" spc="-1" strike="noStrike" u="sng">
                <a:solidFill>
                  <a:srgbClr val="b0ae6a"/>
                </a:solidFill>
                <a:uFillTx/>
                <a:latin typeface="Times New Roman"/>
                <a:ea typeface="宋体"/>
                <a:hlinkClick r:id="rId9"/>
              </a:rPr>
              <a:t>》</a:t>
            </a:r>
            <a:r>
              <a:rPr b="0" lang="zh-CN" sz="2400" spc="-1" strike="noStrike" u="sng">
                <a:solidFill>
                  <a:srgbClr val="b0ae6a"/>
                </a:solidFill>
                <a:uFillTx/>
                <a:latin typeface="Times New Roman"/>
                <a:ea typeface="宋体"/>
                <a:hlinkClick r:id="rId10"/>
              </a:rPr>
              <a:t>部分的问题</a:t>
            </a:r>
            <a:r>
              <a:rPr b="0" lang="zh-CN" sz="2400" spc="-1" strike="noStrike">
                <a:solidFill>
                  <a:srgbClr val="ff2f2f"/>
                </a:solidFill>
                <a:latin typeface="Times New Roman"/>
                <a:ea typeface="宋体"/>
              </a:rPr>
              <a:t>          </a:t>
            </a:r>
            <a:r>
              <a:rPr b="0" lang="zh-CN" sz="2400" spc="-1" strike="noStrike" u="sng">
                <a:solidFill>
                  <a:srgbClr val="b0ae6a"/>
                </a:solidFill>
                <a:uFillTx/>
                <a:latin typeface="Times New Roman"/>
                <a:ea typeface="宋体"/>
                <a:hlinkClick r:id="rId11"/>
              </a:rPr>
              <a:t>练习</a:t>
            </a:r>
            <a:r>
              <a:rPr b="0" lang="zh-CN" sz="2400" spc="-1" strike="noStrike">
                <a:solidFill>
                  <a:srgbClr val="ff2f2f"/>
                </a:solidFill>
                <a:latin typeface="Times New Roman"/>
                <a:ea typeface="宋体"/>
              </a:rPr>
              <a:t>          </a:t>
            </a:r>
            <a:r>
              <a:rPr b="0" lang="zh-CN" sz="2400" spc="-1" strike="noStrike" u="sng">
                <a:solidFill>
                  <a:srgbClr val="b0ae6a"/>
                </a:solidFill>
                <a:uFillTx/>
                <a:latin typeface="Times New Roman"/>
                <a:ea typeface="宋体"/>
                <a:hlinkClick r:id="rId12"/>
              </a:rPr>
              <a:t>总结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3" name="矩形 27652"/>
          <p:cNvSpPr txBox="1"/>
          <p:nvPr/>
        </p:nvSpPr>
        <p:spPr>
          <a:xfrm rot="5400000">
            <a:off x="-1991160" y="3267000"/>
            <a:ext cx="603900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欢迎进入本课的学习</a:t>
            </a:r>
            <a:endParaRPr b="1" i="1" lang="en-US" sz="5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24" name="图片 27653" descr="C:\WINDOWS\Desktop\动画\welcome1.gif"/>
          <p:cNvPicPr/>
          <p:nvPr/>
        </p:nvPicPr>
        <p:blipFill>
          <a:blip r:embed="rId13"/>
          <a:stretch/>
        </p:blipFill>
        <p:spPr>
          <a:xfrm>
            <a:off x="1676520" y="1295280"/>
            <a:ext cx="74674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文本框 45057"/>
          <p:cNvSpPr/>
          <p:nvPr/>
        </p:nvSpPr>
        <p:spPr>
          <a:xfrm>
            <a:off x="1523880" y="2514600"/>
            <a:ext cx="7620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作品的最后两段，表现了鲁迅对长妈妈的怀念、内疚、祝愿之情。在鲁迅的人生历程中，长妈妈曾起过那样重要的作用，但他竟不知道她的姓名和经历，这是多么叫人内疚的事情，他所能做的，只有祈祷仁厚的地母，安息阿妈的灵魂。鲁迅对阿长的深沉感情在这里表现得深切感人。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文本框 1025"/>
          <p:cNvSpPr/>
          <p:nvPr/>
        </p:nvSpPr>
        <p:spPr>
          <a:xfrm>
            <a:off x="2133720" y="1523880"/>
            <a:ext cx="67816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  <a:ea typeface="宋体"/>
              </a:rPr>
              <a:t> </a:t>
            </a:r>
            <a:r>
              <a:rPr b="0" lang="zh-CN" sz="2800" spc="-1" strike="noStrike" u="sng">
                <a:solidFill>
                  <a:srgbClr val="b0ae6a"/>
                </a:solidFill>
                <a:uFillTx/>
                <a:latin typeface="Times New Roman"/>
                <a:ea typeface="宋体"/>
                <a:hlinkClick r:id="rId1"/>
              </a:rPr>
              <a:t>题解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宋体"/>
              </a:rPr>
              <a:t>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宋体"/>
              </a:rPr>
              <a:t> “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宋体"/>
              </a:rPr>
              <a:t>阿长”，人名‘鲁迅家的一个女工；“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宋体"/>
              </a:rPr>
              <a:t>《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宋体"/>
              </a:rPr>
              <a:t>山海经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宋体"/>
              </a:rPr>
              <a:t>》”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宋体"/>
              </a:rPr>
              <a:t>，书名。题目为一并列词组，文章即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通过写阿长和</a:t>
            </a:r>
            <a:r>
              <a:rPr b="0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《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山海经</a:t>
            </a:r>
            <a:r>
              <a:rPr b="0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》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的关系来体现阿长的性格特点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宋体"/>
              </a:rPr>
              <a:t>《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宋体"/>
              </a:rPr>
              <a:t>山海经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宋体"/>
              </a:rPr>
              <a:t>》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宋体"/>
              </a:rPr>
              <a:t>，作者不详，共有十八篇，内容主要为民间传说中的地理知识，保存了不少远古的神话传说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宋体"/>
              </a:rPr>
              <a:t>本文选自</a:t>
            </a:r>
            <a:r>
              <a:rPr b="0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《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朝花夕拾</a:t>
            </a:r>
            <a:r>
              <a:rPr b="0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》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宋体"/>
              </a:rPr>
              <a:t>。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宋体"/>
              </a:rPr>
              <a:t>《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宋体"/>
              </a:rPr>
              <a:t>朝花夕拾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宋体"/>
              </a:rPr>
              <a:t>》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宋体"/>
              </a:rPr>
              <a:t>，散文集，收录鲁迅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宋体"/>
              </a:rPr>
              <a:t>1926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宋体"/>
              </a:rPr>
              <a:t>年所作回忆性散文十篇。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526" name="图片 1026" descr="C:\WINDOWS\Desktop\动画\01-09-018-04.gif"/>
          <p:cNvPicPr/>
          <p:nvPr/>
        </p:nvPicPr>
        <p:blipFill>
          <a:blip r:embed="rId2"/>
          <a:stretch/>
        </p:blipFill>
        <p:spPr>
          <a:xfrm>
            <a:off x="609480" y="5029200"/>
            <a:ext cx="19051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文本框 28674"/>
          <p:cNvSpPr/>
          <p:nvPr/>
        </p:nvSpPr>
        <p:spPr>
          <a:xfrm>
            <a:off x="1752480" y="1371600"/>
            <a:ext cx="7391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你还记得鲁迅先生吗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记得？那就请你向大家介绍一下吧！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8" name="文本框 28675"/>
          <p:cNvSpPr/>
          <p:nvPr/>
        </p:nvSpPr>
        <p:spPr>
          <a:xfrm>
            <a:off x="762120" y="9907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529" name="组合 28677"/>
          <p:cNvGrpSpPr/>
          <p:nvPr/>
        </p:nvGrpSpPr>
        <p:grpSpPr>
          <a:xfrm>
            <a:off x="457200" y="3505320"/>
            <a:ext cx="8458200" cy="2384280"/>
            <a:chOff x="457200" y="3505320"/>
            <a:chExt cx="8458200" cy="2384280"/>
          </a:xfrm>
        </p:grpSpPr>
        <p:sp>
          <p:nvSpPr>
            <p:cNvPr id="530" name="文本框 28673"/>
            <p:cNvSpPr/>
            <p:nvPr/>
          </p:nvSpPr>
          <p:spPr>
            <a:xfrm>
              <a:off x="2666880" y="3505320"/>
              <a:ext cx="624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5b5249"/>
                  </a:solidFill>
                  <a:latin typeface="楷体_GB2312"/>
                  <a:ea typeface="楷体_GB2312"/>
                </a:rPr>
                <a:t>鲁迅（</a:t>
              </a:r>
              <a:r>
                <a:rPr b="1" lang="en-US" sz="3200" spc="-1" strike="noStrike">
                  <a:solidFill>
                    <a:srgbClr val="5b5249"/>
                  </a:solidFill>
                  <a:latin typeface="楷体_GB2312"/>
                  <a:ea typeface="楷体_GB2312"/>
                </a:rPr>
                <a:t>1881</a:t>
              </a:r>
              <a:r>
                <a:rPr b="1" lang="en-US" sz="3200" spc="-1" strike="noStrike">
                  <a:solidFill>
                    <a:srgbClr val="5b5249"/>
                  </a:solidFill>
                  <a:latin typeface="Times New Roman"/>
                  <a:ea typeface="楷体_GB2312"/>
                </a:rPr>
                <a:t>—</a:t>
              </a:r>
              <a:r>
                <a:rPr b="1" lang="en-US" sz="3200" spc="-1" strike="noStrike">
                  <a:solidFill>
                    <a:srgbClr val="5b5249"/>
                  </a:solidFill>
                  <a:latin typeface="楷体_GB2312"/>
                  <a:ea typeface="楷体_GB2312"/>
                </a:rPr>
                <a:t>1936</a:t>
              </a:r>
              <a:r>
                <a:rPr b="1" lang="zh-CN" sz="3200" spc="-1" strike="noStrike">
                  <a:solidFill>
                    <a:srgbClr val="5b5249"/>
                  </a:solidFill>
                  <a:latin typeface="楷体_GB2312"/>
                  <a:ea typeface="楷体_GB2312"/>
                </a:rPr>
                <a:t>），原名周树人，浙江省绍兴市人，伟大的文学家、思想家、革命家。著作有杂文、小说、散文、诗歌等，收在</a:t>
              </a:r>
              <a:r>
                <a:rPr b="1" lang="en-US" sz="3200" spc="-1" strike="noStrike">
                  <a:solidFill>
                    <a:srgbClr val="5b5249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3200" spc="-1" strike="noStrike">
                  <a:solidFill>
                    <a:srgbClr val="5b5249"/>
                  </a:solidFill>
                  <a:latin typeface="楷体_GB2312"/>
                  <a:ea typeface="楷体_GB2312"/>
                </a:rPr>
                <a:t>鲁迅全集</a:t>
              </a:r>
              <a:r>
                <a:rPr b="1" lang="en-US" sz="3200" spc="-1" strike="noStrike">
                  <a:solidFill>
                    <a:srgbClr val="5b5249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3200" spc="-1" strike="noStrike">
                  <a:solidFill>
                    <a:srgbClr val="5b5249"/>
                  </a:solidFill>
                  <a:latin typeface="楷体_GB2312"/>
                  <a:ea typeface="楷体_GB2312"/>
                </a:rPr>
                <a:t>里。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531" name="图片 28676" descr=""/>
            <p:cNvPicPr/>
            <p:nvPr/>
          </p:nvPicPr>
          <p:blipFill>
            <a:blip r:embed="rId1"/>
            <a:srcRect l="1884" t="15397" r="84910" b="7683"/>
            <a:stretch/>
          </p:blipFill>
          <p:spPr>
            <a:xfrm>
              <a:off x="457200" y="3581280"/>
              <a:ext cx="2133720" cy="230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2" name="图片 28678" descr="C:\WINDOWS\Desktop\动画\01-09-018-01.gif"/>
          <p:cNvPicPr/>
          <p:nvPr/>
        </p:nvPicPr>
        <p:blipFill>
          <a:blip r:embed="rId2"/>
          <a:stretch/>
        </p:blipFill>
        <p:spPr>
          <a:xfrm>
            <a:off x="7315200" y="1219320"/>
            <a:ext cx="182880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b954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组合 25663"/>
          <p:cNvGrpSpPr/>
          <p:nvPr/>
        </p:nvGrpSpPr>
        <p:grpSpPr>
          <a:xfrm>
            <a:off x="1676520" y="1828800"/>
            <a:ext cx="7010280" cy="2745720"/>
            <a:chOff x="1676520" y="1828800"/>
            <a:chExt cx="7010280" cy="2745720"/>
          </a:xfrm>
        </p:grpSpPr>
        <p:sp>
          <p:nvSpPr>
            <p:cNvPr id="534" name="文本框 25601"/>
            <p:cNvSpPr/>
            <p:nvPr/>
          </p:nvSpPr>
          <p:spPr>
            <a:xfrm>
              <a:off x="6324480" y="1828800"/>
              <a:ext cx="533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舫        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5" name="矩形 25605"/>
            <p:cNvSpPr/>
            <p:nvPr/>
          </p:nvSpPr>
          <p:spPr>
            <a:xfrm>
              <a:off x="1676520" y="1828800"/>
              <a:ext cx="7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骇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6" name="矩形 25607"/>
            <p:cNvSpPr/>
            <p:nvPr/>
          </p:nvSpPr>
          <p:spPr>
            <a:xfrm>
              <a:off x="2958120" y="1828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掳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7" name="文本框 25608"/>
            <p:cNvSpPr/>
            <p:nvPr/>
          </p:nvSpPr>
          <p:spPr>
            <a:xfrm>
              <a:off x="4038480" y="1828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悚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8" name="文本框 25609"/>
            <p:cNvSpPr/>
            <p:nvPr/>
          </p:nvSpPr>
          <p:spPr>
            <a:xfrm>
              <a:off x="7467480" y="18288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惶急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9" name="文本框 25610"/>
            <p:cNvSpPr/>
            <p:nvPr/>
          </p:nvSpPr>
          <p:spPr>
            <a:xfrm>
              <a:off x="1676520" y="4114800"/>
              <a:ext cx="1066680" cy="459720"/>
            </a:xfrm>
            <a:prstGeom prst="rect">
              <a:avLst/>
            </a:prstGeom>
            <a:noFill/>
            <a:ln w="9360">
              <a:solidFill>
                <a:srgbClr val="fac1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疮疤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40" name="矩形 25612"/>
            <p:cNvSpPr/>
            <p:nvPr/>
          </p:nvSpPr>
          <p:spPr>
            <a:xfrm>
              <a:off x="2819520" y="4114800"/>
              <a:ext cx="1143000" cy="459720"/>
            </a:xfrm>
            <a:prstGeom prst="rect">
              <a:avLst/>
            </a:prstGeom>
            <a:noFill/>
            <a:ln w="9360">
              <a:solidFill>
                <a:srgbClr val="fac1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诘  问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41" name="文本框 25613"/>
            <p:cNvSpPr/>
            <p:nvPr/>
          </p:nvSpPr>
          <p:spPr>
            <a:xfrm>
              <a:off x="4038480" y="4114800"/>
              <a:ext cx="1067040" cy="459720"/>
            </a:xfrm>
            <a:prstGeom prst="rect">
              <a:avLst/>
            </a:prstGeom>
            <a:noFill/>
            <a:ln w="9360">
              <a:solidFill>
                <a:srgbClr val="fac1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渴慕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42" name="文本框 25614"/>
            <p:cNvSpPr/>
            <p:nvPr/>
          </p:nvSpPr>
          <p:spPr>
            <a:xfrm>
              <a:off x="5181480" y="4114800"/>
              <a:ext cx="1067040" cy="459720"/>
            </a:xfrm>
            <a:prstGeom prst="rect">
              <a:avLst/>
            </a:prstGeom>
            <a:noFill/>
            <a:ln w="9360">
              <a:solidFill>
                <a:srgbClr val="fac1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霹雳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43" name="文本框 25615"/>
            <p:cNvSpPr/>
            <p:nvPr/>
          </p:nvSpPr>
          <p:spPr>
            <a:xfrm>
              <a:off x="6324480" y="4114800"/>
              <a:ext cx="1143000" cy="459720"/>
            </a:xfrm>
            <a:prstGeom prst="rect">
              <a:avLst/>
            </a:prstGeom>
            <a:noFill/>
            <a:ln w="9360">
              <a:solidFill>
                <a:srgbClr val="fac1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陆玑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44" name="文本框 25616"/>
            <p:cNvSpPr/>
            <p:nvPr/>
          </p:nvSpPr>
          <p:spPr>
            <a:xfrm>
              <a:off x="7543800" y="4114800"/>
              <a:ext cx="1143000" cy="459720"/>
            </a:xfrm>
            <a:prstGeom prst="rect">
              <a:avLst/>
            </a:prstGeom>
            <a:noFill/>
            <a:ln w="9360">
              <a:solidFill>
                <a:srgbClr val="fac1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粗拙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45" name="文本框 25617"/>
            <p:cNvSpPr/>
            <p:nvPr/>
          </p:nvSpPr>
          <p:spPr>
            <a:xfrm>
              <a:off x="5181480" y="1828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斋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546" name="组合 25664"/>
          <p:cNvGrpSpPr/>
          <p:nvPr/>
        </p:nvGrpSpPr>
        <p:grpSpPr>
          <a:xfrm>
            <a:off x="1295280" y="1371600"/>
            <a:ext cx="7848720" cy="2745720"/>
            <a:chOff x="1295280" y="1371600"/>
            <a:chExt cx="7848720" cy="2745720"/>
          </a:xfrm>
        </p:grpSpPr>
        <p:sp>
          <p:nvSpPr>
            <p:cNvPr id="547" name="文本框 25628"/>
            <p:cNvSpPr/>
            <p:nvPr/>
          </p:nvSpPr>
          <p:spPr>
            <a:xfrm>
              <a:off x="1676520" y="1371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haì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48" name="文本框 25629"/>
            <p:cNvSpPr/>
            <p:nvPr/>
          </p:nvSpPr>
          <p:spPr>
            <a:xfrm>
              <a:off x="2819520" y="1371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lǔ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49" name="文本框 25630"/>
            <p:cNvSpPr/>
            <p:nvPr/>
          </p:nvSpPr>
          <p:spPr>
            <a:xfrm>
              <a:off x="4038480" y="1371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sǒng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50" name="文本框 25631"/>
            <p:cNvSpPr/>
            <p:nvPr/>
          </p:nvSpPr>
          <p:spPr>
            <a:xfrm>
              <a:off x="5257800" y="1447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zhāi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51" name="文本框 25632"/>
            <p:cNvSpPr/>
            <p:nvPr/>
          </p:nvSpPr>
          <p:spPr>
            <a:xfrm>
              <a:off x="6324480" y="1371600"/>
              <a:ext cx="108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fǎng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52" name="文本框 25633"/>
            <p:cNvSpPr/>
            <p:nvPr/>
          </p:nvSpPr>
          <p:spPr>
            <a:xfrm>
              <a:off x="7467480" y="13716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huáng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53" name="文本框 25634"/>
            <p:cNvSpPr/>
            <p:nvPr/>
          </p:nvSpPr>
          <p:spPr>
            <a:xfrm>
              <a:off x="1295280" y="358128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chuāng   bā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54" name="文本框 25635"/>
            <p:cNvSpPr/>
            <p:nvPr/>
          </p:nvSpPr>
          <p:spPr>
            <a:xfrm>
              <a:off x="2819520" y="35812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jié  wèn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55" name="文本框 25636"/>
            <p:cNvSpPr/>
            <p:nvPr/>
          </p:nvSpPr>
          <p:spPr>
            <a:xfrm>
              <a:off x="4038480" y="35812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kě   mù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56" name="文本框 25637"/>
            <p:cNvSpPr/>
            <p:nvPr/>
          </p:nvSpPr>
          <p:spPr>
            <a:xfrm>
              <a:off x="5181480" y="35812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pī    lì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57" name="文本框 25638"/>
            <p:cNvSpPr/>
            <p:nvPr/>
          </p:nvSpPr>
          <p:spPr>
            <a:xfrm>
              <a:off x="6934320" y="3657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jī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58" name="文本框 25639"/>
            <p:cNvSpPr/>
            <p:nvPr/>
          </p:nvSpPr>
          <p:spPr>
            <a:xfrm>
              <a:off x="8153280" y="3581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zhuō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559" name="组合 25665"/>
          <p:cNvGrpSpPr/>
          <p:nvPr/>
        </p:nvGrpSpPr>
        <p:grpSpPr>
          <a:xfrm>
            <a:off x="457200" y="762120"/>
            <a:ext cx="8686800" cy="4876560"/>
            <a:chOff x="457200" y="762120"/>
            <a:chExt cx="8686800" cy="4876560"/>
          </a:xfrm>
        </p:grpSpPr>
        <p:grpSp>
          <p:nvGrpSpPr>
            <p:cNvPr id="560" name="组合 25656"/>
            <p:cNvGrpSpPr/>
            <p:nvPr/>
          </p:nvGrpSpPr>
          <p:grpSpPr>
            <a:xfrm>
              <a:off x="2286000" y="2362320"/>
              <a:ext cx="2286000" cy="609480"/>
              <a:chOff x="2286000" y="2362320"/>
              <a:chExt cx="2286000" cy="609480"/>
            </a:xfrm>
          </p:grpSpPr>
          <p:sp>
            <p:nvSpPr>
              <p:cNvPr id="561" name="椭圆形标注 25640"/>
              <p:cNvSpPr/>
              <p:nvPr/>
            </p:nvSpPr>
            <p:spPr>
              <a:xfrm>
                <a:off x="2286000" y="2362320"/>
                <a:ext cx="2286000" cy="609480"/>
              </a:xfrm>
              <a:prstGeom prst="wedgeEllipseCallout">
                <a:avLst>
                  <a:gd name="adj1" fmla="val -48125"/>
                  <a:gd name="adj2" fmla="val -83074"/>
                </a:avLst>
              </a:prstGeom>
              <a:solidFill>
                <a:srgbClr val="f8fd95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62" name="文本框 25641"/>
              <p:cNvSpPr/>
              <p:nvPr/>
            </p:nvSpPr>
            <p:spPr>
              <a:xfrm>
                <a:off x="2590920" y="2438280"/>
                <a:ext cx="1904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5b5249"/>
                    </a:solidFill>
                    <a:latin typeface="Times New Roman"/>
                    <a:ea typeface="宋体"/>
                  </a:rPr>
                  <a:t>惊吓；震惊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组合 25657"/>
            <p:cNvGrpSpPr/>
            <p:nvPr/>
          </p:nvGrpSpPr>
          <p:grpSpPr>
            <a:xfrm>
              <a:off x="3429000" y="762120"/>
              <a:ext cx="2209680" cy="609480"/>
              <a:chOff x="3429000" y="762120"/>
              <a:chExt cx="2209680" cy="609480"/>
            </a:xfrm>
          </p:grpSpPr>
          <p:sp>
            <p:nvSpPr>
              <p:cNvPr id="564" name="椭圆形标注 25644"/>
              <p:cNvSpPr/>
              <p:nvPr/>
            </p:nvSpPr>
            <p:spPr>
              <a:xfrm>
                <a:off x="3429000" y="762120"/>
                <a:ext cx="2209680" cy="609480"/>
              </a:xfrm>
              <a:prstGeom prst="wedgeEllipseCallout">
                <a:avLst>
                  <a:gd name="adj1" fmla="val -46981"/>
                  <a:gd name="adj2" fmla="val 62500"/>
                </a:avLst>
              </a:prstGeom>
              <a:solidFill>
                <a:srgbClr val="f8fd95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65" name="文本框 25645"/>
              <p:cNvSpPr/>
              <p:nvPr/>
            </p:nvSpPr>
            <p:spPr>
              <a:xfrm>
                <a:off x="3657600" y="838080"/>
                <a:ext cx="175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5b5249"/>
                    </a:solidFill>
                    <a:latin typeface="Times New Roman"/>
                    <a:ea typeface="宋体"/>
                  </a:rPr>
                  <a:t>把人枪走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组合 25658"/>
            <p:cNvGrpSpPr/>
            <p:nvPr/>
          </p:nvGrpSpPr>
          <p:grpSpPr>
            <a:xfrm>
              <a:off x="4800600" y="2590920"/>
              <a:ext cx="1371600" cy="609480"/>
              <a:chOff x="4800600" y="2590920"/>
              <a:chExt cx="1371600" cy="609480"/>
            </a:xfrm>
          </p:grpSpPr>
          <p:sp>
            <p:nvSpPr>
              <p:cNvPr id="567" name="椭圆形标注 25646"/>
              <p:cNvSpPr/>
              <p:nvPr/>
            </p:nvSpPr>
            <p:spPr>
              <a:xfrm>
                <a:off x="4800600" y="2590920"/>
                <a:ext cx="1371600" cy="609480"/>
              </a:xfrm>
              <a:prstGeom prst="wedgeEllipseCallout">
                <a:avLst>
                  <a:gd name="adj1" fmla="val -65972"/>
                  <a:gd name="adj2" fmla="val -127342"/>
                </a:avLst>
              </a:prstGeom>
              <a:solidFill>
                <a:srgbClr val="f8fd95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68" name="文本框 25647"/>
              <p:cNvSpPr/>
              <p:nvPr/>
            </p:nvSpPr>
            <p:spPr>
              <a:xfrm>
                <a:off x="5105520" y="26668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5b5249"/>
                    </a:solidFill>
                    <a:latin typeface="Times New Roman"/>
                    <a:ea typeface="宋体"/>
                  </a:rPr>
                  <a:t>害怕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组合 25659"/>
            <p:cNvGrpSpPr/>
            <p:nvPr/>
          </p:nvGrpSpPr>
          <p:grpSpPr>
            <a:xfrm>
              <a:off x="6934320" y="2743200"/>
              <a:ext cx="2209680" cy="609480"/>
              <a:chOff x="6934320" y="2743200"/>
              <a:chExt cx="2209680" cy="609480"/>
            </a:xfrm>
          </p:grpSpPr>
          <p:sp>
            <p:nvSpPr>
              <p:cNvPr id="570" name="椭圆形标注 25648"/>
              <p:cNvSpPr/>
              <p:nvPr/>
            </p:nvSpPr>
            <p:spPr>
              <a:xfrm>
                <a:off x="6934320" y="2743200"/>
                <a:ext cx="2057400" cy="609480"/>
              </a:xfrm>
              <a:prstGeom prst="wedgeEllipseCallout">
                <a:avLst>
                  <a:gd name="adj1" fmla="val -384"/>
                  <a:gd name="adj2" fmla="val -145050"/>
                </a:avLst>
              </a:prstGeom>
              <a:solidFill>
                <a:srgbClr val="f8fd95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71" name="文本框 25649"/>
              <p:cNvSpPr/>
              <p:nvPr/>
            </p:nvSpPr>
            <p:spPr>
              <a:xfrm>
                <a:off x="7315200" y="2819520"/>
                <a:ext cx="182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5b5249"/>
                    </a:solidFill>
                    <a:latin typeface="Times New Roman"/>
                    <a:ea typeface="宋体"/>
                  </a:rPr>
                  <a:t>恐惧着急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组合 25660"/>
            <p:cNvGrpSpPr/>
            <p:nvPr/>
          </p:nvGrpSpPr>
          <p:grpSpPr>
            <a:xfrm>
              <a:off x="1295280" y="5029200"/>
              <a:ext cx="1905120" cy="609480"/>
              <a:chOff x="1295280" y="5029200"/>
              <a:chExt cx="1905120" cy="609480"/>
            </a:xfrm>
          </p:grpSpPr>
          <p:sp>
            <p:nvSpPr>
              <p:cNvPr id="573" name="椭圆形标注 25650"/>
              <p:cNvSpPr/>
              <p:nvPr/>
            </p:nvSpPr>
            <p:spPr>
              <a:xfrm>
                <a:off x="1295280" y="5029200"/>
                <a:ext cx="1905120" cy="609480"/>
              </a:xfrm>
              <a:prstGeom prst="wedgeEllipseCallout">
                <a:avLst>
                  <a:gd name="adj1" fmla="val 53166"/>
                  <a:gd name="adj2" fmla="val -115884"/>
                </a:avLst>
              </a:prstGeom>
              <a:solidFill>
                <a:srgbClr val="f8fd95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74" name="文本框 25651"/>
              <p:cNvSpPr/>
              <p:nvPr/>
            </p:nvSpPr>
            <p:spPr>
              <a:xfrm>
                <a:off x="1447920" y="5105520"/>
                <a:ext cx="175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5b5249"/>
                    </a:solidFill>
                    <a:latin typeface="Times New Roman"/>
                    <a:ea typeface="宋体"/>
                  </a:rPr>
                  <a:t>追问；责问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组合 25661"/>
            <p:cNvGrpSpPr/>
            <p:nvPr/>
          </p:nvGrpSpPr>
          <p:grpSpPr>
            <a:xfrm>
              <a:off x="3276720" y="5029200"/>
              <a:ext cx="1828800" cy="609480"/>
              <a:chOff x="3276720" y="5029200"/>
              <a:chExt cx="1828800" cy="609480"/>
            </a:xfrm>
          </p:grpSpPr>
          <p:sp>
            <p:nvSpPr>
              <p:cNvPr id="576" name="椭圆形标注 25652"/>
              <p:cNvSpPr/>
              <p:nvPr/>
            </p:nvSpPr>
            <p:spPr>
              <a:xfrm>
                <a:off x="3276720" y="5029200"/>
                <a:ext cx="1828800" cy="609480"/>
              </a:xfrm>
              <a:prstGeom prst="wedgeEllipseCallout">
                <a:avLst>
                  <a:gd name="adj1" fmla="val 24912"/>
                  <a:gd name="adj2" fmla="val -108592"/>
                </a:avLst>
              </a:prstGeom>
              <a:solidFill>
                <a:srgbClr val="f8fd95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77" name="文本框 25653"/>
              <p:cNvSpPr/>
              <p:nvPr/>
            </p:nvSpPr>
            <p:spPr>
              <a:xfrm>
                <a:off x="3429000" y="5105520"/>
                <a:ext cx="167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5b5249"/>
                    </a:solidFill>
                    <a:latin typeface="Times New Roman"/>
                    <a:ea typeface="宋体"/>
                  </a:rPr>
                  <a:t>非常思慕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组合 25662"/>
            <p:cNvGrpSpPr/>
            <p:nvPr/>
          </p:nvGrpSpPr>
          <p:grpSpPr>
            <a:xfrm>
              <a:off x="457200" y="2971800"/>
              <a:ext cx="3276720" cy="609480"/>
              <a:chOff x="457200" y="2971800"/>
              <a:chExt cx="3276720" cy="609480"/>
            </a:xfrm>
          </p:grpSpPr>
          <p:sp>
            <p:nvSpPr>
              <p:cNvPr id="579" name="椭圆形标注 25654"/>
              <p:cNvSpPr/>
              <p:nvPr/>
            </p:nvSpPr>
            <p:spPr>
              <a:xfrm>
                <a:off x="457200" y="2971800"/>
                <a:ext cx="3276720" cy="609480"/>
              </a:xfrm>
              <a:prstGeom prst="wedgeEllipseCallout">
                <a:avLst>
                  <a:gd name="adj1" fmla="val 9546"/>
                  <a:gd name="adj2" fmla="val 96615"/>
                </a:avLst>
              </a:prstGeom>
              <a:solidFill>
                <a:srgbClr val="f8fd95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80" name="文本框 25655"/>
              <p:cNvSpPr/>
              <p:nvPr/>
            </p:nvSpPr>
            <p:spPr>
              <a:xfrm>
                <a:off x="762120" y="3048120"/>
                <a:ext cx="2819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5b5249"/>
                    </a:solidFill>
                    <a:latin typeface="Times New Roman"/>
                    <a:ea typeface="宋体"/>
                  </a:rPr>
                  <a:t>好了以后留下的疤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81" name="图片 25666" descr="C:\WINDOWS\Desktop\动画\cat008.gif"/>
          <p:cNvPicPr/>
          <p:nvPr/>
        </p:nvPicPr>
        <p:blipFill>
          <a:blip r:embed="rId1"/>
          <a:stretch/>
        </p:blipFill>
        <p:spPr>
          <a:xfrm>
            <a:off x="7467480" y="5562720"/>
            <a:ext cx="16765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db5b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文本框 29697"/>
          <p:cNvSpPr/>
          <p:nvPr/>
        </p:nvSpPr>
        <p:spPr>
          <a:xfrm>
            <a:off x="2895480" y="3124080"/>
            <a:ext cx="6248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宋体"/>
              </a:rPr>
              <a:t>在鲁迅的生活中，阿长是一个很有影响的人物，鲁迅在作品中几次提到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宋体"/>
              </a:rPr>
              <a:t>阿长是鲁迅家里的一个女工。她连真实姓都不为人知，也不会识字作文，作者却她和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宋体"/>
              </a:rPr>
              <a:t>《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宋体"/>
              </a:rPr>
              <a:t>山海经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宋体"/>
              </a:rPr>
              <a:t>》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宋体"/>
              </a:rPr>
              <a:t>连在了一起。那么，她与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宋体"/>
              </a:rPr>
              <a:t>《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宋体"/>
              </a:rPr>
              <a:t>山海经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宋体"/>
              </a:rPr>
              <a:t>》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宋体"/>
              </a:rPr>
              <a:t>有什么关系呢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3" name="矩形 29698"/>
          <p:cNvSpPr txBox="1"/>
          <p:nvPr/>
        </p:nvSpPr>
        <p:spPr>
          <a:xfrm rot="19438200">
            <a:off x="541440" y="1391760"/>
            <a:ext cx="5727600" cy="477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703513"/>
                <a:gd name="adj2" fmla="val 49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请认真阅读课文</a:t>
            </a:r>
            <a:endParaRPr b="1" lang="en-US" sz="60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73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矩形 30721"/>
          <p:cNvSpPr txBox="1"/>
          <p:nvPr/>
        </p:nvSpPr>
        <p:spPr>
          <a:xfrm>
            <a:off x="1676520" y="1371600"/>
            <a:ext cx="7315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读懂课文了吗？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585" name="组合 30727"/>
          <p:cNvGrpSpPr/>
          <p:nvPr/>
        </p:nvGrpSpPr>
        <p:grpSpPr>
          <a:xfrm>
            <a:off x="1600200" y="2514600"/>
            <a:ext cx="6629400" cy="3512880"/>
            <a:chOff x="1600200" y="2514600"/>
            <a:chExt cx="6629400" cy="3512880"/>
          </a:xfrm>
        </p:grpSpPr>
        <p:sp>
          <p:nvSpPr>
            <p:cNvPr id="586" name="文本框 30722"/>
            <p:cNvSpPr/>
            <p:nvPr/>
          </p:nvSpPr>
          <p:spPr>
            <a:xfrm>
              <a:off x="1600200" y="281952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  <a:ea typeface="楷体_GB2312"/>
                </a:rPr>
                <a:t>那就请你回答几个问题吧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587" name="图片 30723" descr="C:\WINDOWS\Desktop\动画\01-09-021-02.gif"/>
            <p:cNvPicPr/>
            <p:nvPr/>
          </p:nvPicPr>
          <p:blipFill>
            <a:blip r:embed="rId1"/>
            <a:stretch/>
          </p:blipFill>
          <p:spPr>
            <a:xfrm>
              <a:off x="5791320" y="2514600"/>
              <a:ext cx="76176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文本框 30725"/>
            <p:cNvSpPr/>
            <p:nvPr/>
          </p:nvSpPr>
          <p:spPr>
            <a:xfrm>
              <a:off x="1828800" y="3657600"/>
              <a:ext cx="6400800" cy="23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本文的中心思想是什么？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本文可分为几段？各段都说了写什么？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 u="sng">
                  <a:solidFill>
                    <a:srgbClr val="b0ae6a"/>
                  </a:solidFill>
                  <a:uFillTx/>
                  <a:latin typeface="Times New Roman"/>
                  <a:ea typeface="隶书"/>
                  <a:hlinkClick r:id="rId2"/>
                </a:rPr>
                <a:t>回答得出来吗？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31749"/>
          <p:cNvGrpSpPr/>
          <p:nvPr/>
        </p:nvGrpSpPr>
        <p:grpSpPr>
          <a:xfrm>
            <a:off x="457200" y="838080"/>
            <a:ext cx="8686800" cy="5504040"/>
            <a:chOff x="457200" y="838080"/>
            <a:chExt cx="8686800" cy="5504040"/>
          </a:xfrm>
        </p:grpSpPr>
        <p:sp>
          <p:nvSpPr>
            <p:cNvPr id="590" name="文本框 31745"/>
            <p:cNvSpPr/>
            <p:nvPr/>
          </p:nvSpPr>
          <p:spPr>
            <a:xfrm>
              <a:off x="457200" y="838080"/>
              <a:ext cx="8686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5b5249"/>
                  </a:solidFill>
                  <a:latin typeface="Times New Roman"/>
                  <a:ea typeface="隶书"/>
                </a:rPr>
                <a:t>中心思想          </a:t>
              </a: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本文记叙了阿长和鲁迅童年时生活中的几件事，生动地刻画了长妈妈的形象，赞颂了劳动人民淳朴、宽厚、善良、热情的品质，表现了童年时鲁迅内心世界的丰富多彩和对长妈妈深深的怀念之请 。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91" name="文本框 31746"/>
            <p:cNvSpPr/>
            <p:nvPr/>
          </p:nvSpPr>
          <p:spPr>
            <a:xfrm>
              <a:off x="457200" y="3657600"/>
              <a:ext cx="838188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本文可分为四部分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一、（</a:t>
              </a: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1—2</a:t>
              </a: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），介绍长妈妈的身份及名字的来由。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二、（</a:t>
              </a: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3—18</a:t>
              </a: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），写“我”对长妈妈由“不大佩服”到“空前的敬意”到这种敬意消失的过程。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三、（</a:t>
              </a: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19—29</a:t>
              </a: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），写“我”对长妈妈产生的“新的敬意。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四、（</a:t>
              </a: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30</a:t>
              </a: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、</a:t>
              </a: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31</a:t>
              </a: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），抒发了“我”对长妈妈的深沉是怀念之情。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592" name="图片 31747" descr="C:\WINDOWS\Desktop\动画\01-01-001-06.gif"/>
          <p:cNvPicPr/>
          <p:nvPr/>
        </p:nvPicPr>
        <p:blipFill>
          <a:blip r:embed="rId1"/>
          <a:stretch/>
        </p:blipFill>
        <p:spPr>
          <a:xfrm>
            <a:off x="7162920" y="2590920"/>
            <a:ext cx="1731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文本框 33793"/>
          <p:cNvSpPr/>
          <p:nvPr/>
        </p:nvSpPr>
        <p:spPr>
          <a:xfrm>
            <a:off x="1600200" y="129528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当阿长来问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《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山海经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》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是怎么一回事时，“我”是怎样想的？这种想法表现了“我”的什么心理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4" name="文本框 33794"/>
          <p:cNvSpPr/>
          <p:nvPr/>
        </p:nvSpPr>
        <p:spPr>
          <a:xfrm>
            <a:off x="1523880" y="4419720"/>
            <a:ext cx="7620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隶书"/>
              </a:rPr>
              <a:t>我”认为“她并非学者，说了也无益”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隶书"/>
              </a:rPr>
              <a:t>表现了“我”对从她那儿得到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隶书"/>
              </a:rPr>
              <a:t>《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隶书"/>
              </a:rPr>
              <a:t>山海经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隶书"/>
              </a:rPr>
              <a:t>》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隶书"/>
              </a:rPr>
              <a:t>不抱任何希望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595" name="图片 33795" descr="C:\WINDOWS\Desktop\动画\01-09-018-03.gif"/>
          <p:cNvPicPr/>
          <p:nvPr/>
        </p:nvPicPr>
        <p:blipFill>
          <a:blip r:embed="rId1"/>
          <a:stretch/>
        </p:blipFill>
        <p:spPr>
          <a:xfrm>
            <a:off x="7848720" y="2895480"/>
            <a:ext cx="106668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1-09T06:58:44Z</dcterms:created>
  <dc:creator>hy</dc:creator>
  <dc:description/>
  <dc:language>en-US</dc:language>
  <cp:lastModifiedBy>admin</cp:lastModifiedBy>
  <dcterms:modified xsi:type="dcterms:W3CDTF">2019-03-29T03:51:02Z</dcterms:modified>
  <cp:revision>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27</vt:lpwstr>
  </property>
</Properties>
</file>