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807-F9F7-40D4-B46F-D70D521A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2E9-3964-4282-B675-4F99502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747-6E12-495A-8F4C-70D26026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FEA-6E24-4F12-8FEF-3CB84333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0AA0-42BA-48AE-B41F-A5A7B60B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2C33-F003-43DD-8F0C-F50EA44A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3FA0-A918-44DE-9550-A9E705FC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E6B3-D0B8-4041-9BCB-34D1AAC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88D-F1B3-436C-A896-F7D9AEC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44C-D40B-459D-9CBE-FBA5E4D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DF89-FED2-4961-8946-79FAF31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EFF-BA06-4625-B754-4DA9A15A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4CC-6F6B-456F-840C-FCC308E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43B1-CD1C-4B59-815A-776A52FE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2B0-7BC4-4866-808C-C91C84CB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3923-D78F-4EED-97F5-7E1DD687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D00E-3F6A-4284-BDF9-C9D0353D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4A1-1498-43D8-B6C3-789EA4E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777-3E39-485E-9FBA-1850E03C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C33-A2D1-4F4C-8A5A-FFEBCC1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BF8-3A07-42C2-8C71-224A3C3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704-872D-4223-9F40-3E7D8C7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E74-86B3-4E9B-92A3-93C24172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937-B298-4E95-A23A-5A77FAA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0C4-938E-484A-BEF0-157A20229E6D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573-75B5-4D05-97D5-14E68DF28D6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43800" cy="5176800"/>
          </a:xfrm>
          <a:prstGeom prst="rect">
            <a:avLst/>
          </a:prstGeom>
          <a:ln w="0">
            <a:noFill/>
          </a:ln>
        </p:spPr>
      </p:pic>
      <p:pic>
        <p:nvPicPr>
          <p:cNvPr id="136" name="titou%20copy" descr=""/>
          <p:cNvPicPr/>
          <p:nvPr/>
        </p:nvPicPr>
        <p:blipFill>
          <a:blip r:embed="rId3"/>
          <a:stretch/>
        </p:blipFill>
        <p:spPr>
          <a:xfrm>
            <a:off x="7924680" y="762120"/>
            <a:ext cx="941400" cy="4419360"/>
          </a:xfrm>
          <a:prstGeom prst="rect">
            <a:avLst/>
          </a:prstGeom>
          <a:ln w="0">
            <a:noFill/>
          </a:ln>
        </p:spPr>
      </p:pic>
      <p:pic>
        <p:nvPicPr>
          <p:cNvPr id="137" name="school" descr=""/>
          <p:cNvPicPr/>
          <p:nvPr/>
        </p:nvPicPr>
        <p:blipFill>
          <a:blip r:embed="rId4"/>
          <a:stretch/>
        </p:blipFill>
        <p:spPr>
          <a:xfrm>
            <a:off x="8077320" y="5105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21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4030920" cy="502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 flipV="1">
            <a:off x="4647600" y="1218600"/>
            <a:ext cx="5490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0" name="22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3399120" cy="487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80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5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290080" y="1066680"/>
            <a:ext cx="549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848720" y="1143000"/>
            <a:ext cx="101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9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44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7162560" cy="4903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848720" y="1447920"/>
            <a:ext cx="922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5335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081"/>
                </a:solidFill>
                <a:latin typeface="Times New Roman"/>
                <a:ea typeface="华文新魏"/>
              </a:rPr>
              <a:t>十三岁的际遇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幼圆"/>
              </a:rPr>
              <a:t>田晓菲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676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3c2"/>
                </a:solidFill>
                <a:latin typeface="幼圆"/>
                <a:ea typeface="幼圆"/>
              </a:rPr>
              <a:t>    </a:t>
            </a:r>
            <a:r>
              <a:rPr b="0" lang="zh-CN" sz="2400" spc="-1" strike="noStrike">
                <a:solidFill>
                  <a:srgbClr val="0463c2"/>
                </a:solidFill>
                <a:latin typeface="幼圆"/>
                <a:ea typeface="幼圆"/>
              </a:rPr>
              <a:t>田晓菲是在天津成长起来的，她４岁时随父母来天津，在天津市文联大院的地震棚里开始接触文学，在《天津日报》发表第一首诗，后出版了５本诗集。天津１３中学的校园和居住过的小海地的一条小河都让她终身难忘。以柳溪阿姨为代表的天津一批老作家都曾是她的忘年交。 田晓菲１４岁从天津１３中学直接升入北京大学西语系读英美文学专业。１９９１年在美国内布拉斯加州立大学获英国文学硕士，１９９８年获哈佛大学比较文学博士学位，此后分别在柯盖德大学和康奈尔大学任助理教授，２０００年开始在哈佛任讲师。</a:t>
            </a:r>
            <a:r>
              <a:rPr b="0" lang="zh-CN" sz="2400" spc="-1" strike="noStrike">
                <a:solidFill>
                  <a:srgbClr val="545472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1:32:57Z</dcterms:created>
  <dc:creator>test</dc:creator>
  <dc:description/>
  <dc:language>en-US</dc:language>
  <cp:lastModifiedBy>test</cp:lastModifiedBy>
  <dcterms:modified xsi:type="dcterms:W3CDTF">2001-09-13T12:55:45Z</dcterms:modified>
  <cp:revision>7</cp:revision>
  <dc:subject/>
  <dc:title>背影  朱自清</dc:title>
</cp:coreProperties>
</file>