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FD4-0EFD-43CC-A6C5-F841291B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32D-86BE-4088-B6CD-DAFDEEB4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F0C-0BBA-4444-B459-429DBF06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A04-7F1A-426D-9715-D679657C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034-3C13-45B2-870D-55CDCB23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152-2A65-4881-891D-450EFFF6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B23-D9BE-49E3-9B0F-864EB227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D78-198B-40EC-80E0-A8A7EB9B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80D-D878-4B80-9718-00E84373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195-508C-4820-832E-EFC1CCBB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13F-AF32-4BAA-8880-0427C114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136-632D-43AB-ACAF-11E2325F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1EA9-1C32-4CC5-9178-C0FE9FD14E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02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山居秋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王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02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王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盛唐时代著名的诗人，字摩诘。才华卓异，他不仅写下诸多绝妙的诗句，还善于属文、作画，同时对音乐也十分精通。他于开元九年（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721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）进士及第，在朝廷里所担任的第一个官职就是大乐丞。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40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岁后过亦官亦隐的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02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《相思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红豆生南国，春来发几枝。劝君多采撷，此物最相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《九月九日忆山东兄弟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独在异乡为异客，每逢佳节倍思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遥知兄弟登高处，遍插茱萸少一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《送元二使安西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渭城朝雨浥轻尘，客舍青青柳色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劝君更尽一杯酒，西出阳关无故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02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305920" cy="5486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首联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方正黑体简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点明时间、地点、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营造山雨初霁、空气清新的意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颔联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写幽清明净之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（视觉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/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听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颈联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写人，只闻其声，侧面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尾联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用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02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639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意象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空山、新雨、晚秋、明月、松、清泉、石、竹林、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名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明月松间照，清泉石上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苏轼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味摩诘之诗，诗中有画；观摩诘之画，画中有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02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95280" y="1676160"/>
            <a:ext cx="6477120" cy="243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imes New Roman"/>
              </a:rPr>
              <a:t>颔联：以物芳明志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imes New Roman"/>
              </a:rPr>
              <a:t>颈联：以人和望政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2T15:32:55Z</dcterms:created>
  <dc:creator>林穗迎</dc:creator>
  <dc:description/>
  <dc:language>en-US</dc:language>
  <cp:lastModifiedBy>97</cp:lastModifiedBy>
  <dcterms:modified xsi:type="dcterms:W3CDTF">2001-12-12T23:35:48Z</dcterms:modified>
  <cp:revision>8</cp:revision>
  <dc:subject/>
  <dc:title>山居秋瞑</dc:title>
</cp:coreProperties>
</file>