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067-F23E-44EB-A022-49F2274D53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2C5C-FBBF-4810-A8DC-99FD58A60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2066-EC00-42E9-A40F-5AB4EC27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56EE-6D95-4522-95FE-AC0CBF6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2583-6A5F-4327-82B6-56EAEB1A0F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972AD-8E50-4EB0-903D-600A75499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75708-547F-4313-AFB3-2B289AD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0AE1-16CB-4AFB-A5DF-22DF6582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44D9-EF78-4876-AF1F-F132C59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DF681-0D4B-425F-BEC1-657C831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FD19A-901D-40A2-8628-A9D6F265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7F6E0-8394-4CF4-A71C-294C1E7D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47AC-B135-4031-B307-527D0B5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4874-C40B-4E4D-BCDB-476D81C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CC730-1921-4A80-B85B-2B4BA30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25671-BF3F-4382-96BB-40B2A28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C139-EDD5-4A29-B566-D7363AC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3307-2561-4EE9-9989-59420C16F2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FE8A-30E8-4710-BEC4-9D637076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F5A4-7668-45D4-BF57-C3AC7AE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1117-5A38-4E1D-B16C-2CC51178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2084-F016-4BDE-B308-E00FEDFA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482A-8BC5-40E6-9A29-17C65D6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65DA-6223-4372-A0E7-C99B61E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BA3B-3AF9-4B07-827D-CC2CF38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7AB0-7DEB-47E5-AAB7-2C03AC4F78B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EEB-ADA1-4E13-A0B8-60A196FCF4C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4920" y="533520"/>
            <a:ext cx="8839080" cy="6019200"/>
            <a:chOff x="304920" y="533520"/>
            <a:chExt cx="8839080" cy="60192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8839080" cy="59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04920" y="533520"/>
              <a:ext cx="88390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6172200"/>
              <a:ext cx="8839080" cy="38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2514600" cy="228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2438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57200" y="1066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同学们，让我们来欣赏两幅图片，说说它们的名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175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114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4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同学们找得很正确！就像大家所说的，对于强壮的牛，作者一点也不害怕，可是对于小小的鹅，作者却害怕极了。后来作者却改变了自己的看法，请你们认真读读５至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自然段，在小组内说说到底是什么事情让作者改变了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　谁来说说，是什么事情让作者改变了看法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048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　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华文中宋"/>
              </a:rPr>
              <a:t>我们在回家的路上被鹅追赶，后来在金奎叔的帮助下赶走了鹅。通过这件事让作者改变了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　　孩子们大喊了一声，急急逃跑。这使鹅追得更快了。我吓得腿也软了，更跑不快。这时，带头的那只老雄鹅就“啪嗒啪嗒”地跑了过来，“吭，吭”地赶上我，“吭，吭”地张开嘴，一口就咬住了我当胸的衣襟，拉住我不放。在忙乱中，我的书包掉了，鞋子也弄脱了。我想，它一定要把我咬死了，我就又哭又叫：“鹅要吃我了！鹅要咬死我了！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6483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华文中宋"/>
              </a:rPr>
              <a:t>你能读出鹅的不可一世和作者的狼狈不堪吗？自己练一练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295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我们害怕鹅，可是金奎叔不怕啊！请大家看这段话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590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飞快地走了过来，一把握住鹅的长脖子。鹅用脚爪划他，用嘴啄他，可是金奎叔的力气是那么大，他轻轻地把鹅提了起来。老雄鹅害怕了，好不容易挣脱束缚，张开翅膀，连飞带跳“啪啪啪”地落到了池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　　自己读读这句话，画出描写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鹅</a:t>
            </a:r>
            <a:r>
              <a:rPr b="0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动作的词语，你能体会到什么？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3048120"/>
            <a:ext cx="38088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048120"/>
            <a:ext cx="4572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3886200"/>
            <a:ext cx="7621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86200"/>
            <a:ext cx="14479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01000" y="3886200"/>
            <a:ext cx="4572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905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不可一世的老雄鹅被金奎叔赶跑了，张开翅膀，连飞带跳“啪啪啪”地落到了池中。通过这件事，作者对牛和鹅的认识发生了什么变化？请你读读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自然段，画出有关的语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0415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隶书"/>
              </a:rPr>
              <a:t>　　我记着金奎叔的话，以后一直不怕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隶书"/>
              </a:rPr>
              <a:t>鹅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隶书"/>
              </a:rPr>
              <a:t>了。有什么可怕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41316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隶书"/>
              </a:rPr>
              <a:t>　　看到牛，我也不再无缘无故欺负它了，尽管它把我们看得比它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29528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我会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是啊，金奎叔的话让作者永远难忘！让我们来一起读读这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971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　它虽然把我们看得比它小，可我们实在比它强呀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　从这句话中，你有什么启发？谁来说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9718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不管别人是怎么看待我们的，只要我们自己能够正确地、全面地去看待问题，分析问题，就会正确地认识生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2057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华文中宋"/>
              </a:rPr>
              <a:t>　是的，简单的一句话让作者改变了一直以来的看法和认识。在生活中，你遇到这样的事情了吗？你是怎样解决的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22096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正如诗云：“横看成岭侧成峰，远近高低各不同。”，站在不同的角度看待事物，处理问题，就会有不同的答案。同学们，希望通过今天的学习，你们能够正确、全面地看待问题，正确地认识事物，那么你们就是生活的有心人，你们一定会有新的发现，新的感受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9040" y="14479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文小结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219320"/>
            <a:ext cx="8763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在你的印象中，牛和鹅有什么特点？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99404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中宋"/>
              </a:rPr>
              <a:t>牛的眼睛看人，觉得人比牛大，所以牛是怕人的；鹅的眼睛看人，觉得人比鹅小，所以鹅不怕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267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今天就让我们来学习一篇课文《牛和鹅》，看看你们会得到什么启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886200"/>
            <a:ext cx="2895480" cy="685800"/>
          </a:xfrm>
          <a:prstGeom prst="cloudCallout">
            <a:avLst>
              <a:gd name="adj1" fmla="val 14143"/>
              <a:gd name="adj2" fmla="val 163425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相信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9810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老师想给大家推荐一篇文章，就是《两个农夫》，他们各有各的打算，一个卖牛，一个买牛，这可是两个农夫的才智和计谋的较量啊！请大家在课后读一读，写一篇读后感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2120" y="1295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69920" y="609480"/>
            <a:ext cx="8804160" cy="5943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809880" y="152388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90720" y="990720"/>
            <a:ext cx="38242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琥珀"/>
              </a:rPr>
              <a:t>牛和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屁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股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碗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扳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池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0574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p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057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ɡ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057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2057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tá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8954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9810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219320"/>
            <a:ext cx="1676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我会认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2971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97180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29718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惹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把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束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掐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20574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r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f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qi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9718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057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19112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43000" y="1219320"/>
            <a:ext cx="1676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我会认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2193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请同学们用自己喜欢的方法再读读课文，边读边思考：课文主要写了一件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1240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课文记叙作者在回家的路上被鹅追赶，后来在金奎叔的帮助下赶走了鹅，从此再也不怕鹅的故事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676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    </a:t>
            </a: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作者一开始就点明大家的这个认识：牛的眼睛看人，觉得人比牛大，所以牛是怕人的；鹅的眼睛看人，觉得人比鹅小，所以鹅不怕人。那么作者是如何对待牛和鹅的呢？请你读读</a:t>
            </a: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00"/>
                </a:solidFill>
                <a:latin typeface="华文中宋"/>
                <a:ea typeface="华文中宋"/>
              </a:rPr>
              <a:t>自然段，画出描写作者态度的句子，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447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隶书"/>
              </a:rPr>
              <a:t>作者对待牛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2590920"/>
            <a:ext cx="8077320" cy="2286000"/>
            <a:chOff x="609480" y="2590920"/>
            <a:chExt cx="8077320" cy="2286000"/>
          </a:xfrm>
        </p:grpSpPr>
        <p:sp>
          <p:nvSpPr>
            <p:cNvPr id="163" name=""/>
            <p:cNvSpPr/>
            <p:nvPr/>
          </p:nvSpPr>
          <p:spPr>
            <a:xfrm>
              <a:off x="609480" y="259092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　　“所以我们看到牛，一点不害怕，敢用手拍它的背，摸它的肚子，甚至敢用树枝去触它的屁股，用破碗片去刮它的皮呢！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3200400"/>
              <a:ext cx="6934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4876920"/>
              <a:ext cx="2514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609480"/>
            <a:ext cx="88394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6248520"/>
            <a:ext cx="88394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447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隶书"/>
              </a:rPr>
              <a:t>作者对待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514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“可是当我们看到鹅，那就完全两样了：总是远远地站在安全的地方才敢看它。要是在路上碰到鹅，就得绕个大圈子才敢走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124080"/>
            <a:ext cx="6934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800600"/>
            <a:ext cx="3809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9-06-24T03:19:58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