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A09-DF9F-4A02-87B7-8E0B990F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F1B-3F28-490A-BDFF-7AE67671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B36-8825-48E0-94F9-29399F1E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726-66B3-4AEE-BC3F-D9154AB3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0AA-16E6-4A3A-A19E-8681E93D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8E1-D26C-4421-9B8F-F163A1FB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8DF-A4C2-4AB8-86B4-B9955EC0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9CE-E74E-4FB9-8D82-B33AABCA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97B-1C35-4F82-8C34-FBA4FAC4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3ED-376D-45CF-ADAF-E9355BD6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1DE-4BD4-4040-9C0B-ACF9B2A4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ECC-C1E8-44A2-B130-F999A637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D622-F6E9-4665-8A90-DDE0F6B4A1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2133720"/>
            <a:ext cx="504216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牛和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4221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啪嗒啪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1125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吭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76720" y="119700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吁哩哩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70828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扇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2708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金奎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64000" y="263700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扇几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1125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"/>
              </a:rPr>
              <a:t>手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42920" y="4221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啪嗒啪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1125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吭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119700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吁哩哩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0828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扇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2708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金奎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263700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扇几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1125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"/>
              </a:rPr>
              <a:t>手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333360"/>
            <a:ext cx="720108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和鹅的眼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的眼睛里像有一个放大镜，什么东西在它眼里都比原来大。在牛的眼睛里，人比自己不知要高大多少倍，所以牛要怕人，在人面前十分驯良、温顺。而鹅则相反，什么东西在它眼里都比原样缩小了。在鹅的眼睛里，人比自己还要小。所以鹅不怕人，常常主动去咬人，企图吓唬人。然而它得到的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是沉重的一脚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0"/>
            <a:ext cx="770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牛鹅换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古时候，神农炎帝教会众人耕地种五谷之后，人们就不只单靠渔猎过活了。大家用石锄、石犁耕地种谷，用石刀、石斧砍柴割稻。人人下地耕耘，辛勤劳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天，玉皇大帝派观音娘到下界察访民情。观音娘来到下界，见人们都在地里劳作，有的人用石锄掘土，有的人拉着石犁犁地，有的人拿着石刀割草，十分辛苦。于是回天宫奏知玉帝，说人们个个在地里劳动，极为艰辛，请求将天上的牛、羊、猪、狗、鸡、鹅、鸭等放到下界给人们使用。让牛帮人耕地，羊帮人踩土，猪帮人拱泥，狗帮人看门，鸡给人叫更，鹅帮人割草，鸭帮人耘地。玉帝闻奏，很表赞同，遂命观音娘把这些禽畜带到下界给人使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404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得到这些禽畜帮忙，很是欢喜，立即按照观音娘的指教，赶着牛羊猪鹅鸭等到田里耕耘。谁知因牛的瞳孔生得很大，把人看成—点小东西，被人牵着乱转，觉得太不应该。当下便转过头来用角把人抵撞得头破肚裂。自此开始，牛见人就用角抵。而鹅的瞳孔则生得太小，把人看成一种极高大的怪物，一见人，就吓得遍身发抖，不敢走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对这两种禽畜全无办法，只好把这苦衷去向观音娘诉说，求她为人们分忱解难。观音娘得知这一情况，当即施展神通，把牛和鹅的眼珠转换过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1268280"/>
            <a:ext cx="6769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牛换上鹅的眼珠后，把人看成是很大的巨物，从此就服服贴贴地由人支使，就连小孩子牵着它的，它也驯驯服服。而鹅换上牛的眼珠后，则把什么东西都看小了，因此无论比它大十倍百倍的人或畜走过它身边时，它都要伸着脖子啄咬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3:45:48Z</dcterms:created>
  <dc:creator>微软用户</dc:creator>
  <dc:description/>
  <dc:language>en-US</dc:language>
  <cp:lastModifiedBy>微软用户</cp:lastModifiedBy>
  <dcterms:modified xsi:type="dcterms:W3CDTF">2007-06-05T14:09:44Z</dcterms:modified>
  <cp:revision>4</cp:revision>
  <dc:subject/>
  <dc:title>幻灯片 1</dc:title>
</cp:coreProperties>
</file>