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715-0F41-4984-B054-803C35D8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C3A-E1C3-42F9-A895-4068AEC7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5EE-DD38-4DF8-A0C4-4DF82B14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349-9DAE-4728-92F1-CB469C21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871-DFE4-460B-A08F-F5075784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609-4EFD-4492-8928-0A7F77A6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65A-E710-44A0-8C7E-36EF6FE3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285-15C9-4B60-A9C7-DA939167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1C7-06F3-4162-93F1-851ACC16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F38-5E1E-4AC8-98B6-06424733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09F-A1C5-4D09-AA37-612F8929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4C3-D41F-4E09-ACA8-A1EAA807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3DA9-F052-4853-A0AE-1012BEC0E3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43280" y="2708280"/>
            <a:ext cx="3724200" cy="14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牛和鹅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547640" y="4292640"/>
            <a:ext cx="1841760" cy="117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877080" y="4076640"/>
            <a:ext cx="1023840" cy="179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32000" y="765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北师大版  五年级 语文 下册 第八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1844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孩子们大喊了一声，急急逃跑。这使鹅追的更快了。我吓得腿也软了，更跑不快。这时，带头的那只老雄鹅就“啪嗒啪嗒”地跑了过来，“吭，吭”地赶上我，“吭，吭”地张开嘴，一口就咬住了我当胸的衣襟，拉住我不放。在忙乱中，我的书包掉了，鞋子也弄脱了。我想，它一定要把我咬死了，我就又哭又叫：“鹅要吃我了！鹅要咬死我了！”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960560" cy="523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55640" y="2781360"/>
            <a:ext cx="25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不可一世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16000" y="4581360"/>
            <a:ext cx="18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不怕人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2565360"/>
            <a:ext cx="4897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黑体"/>
                <a:ea typeface="黑体"/>
              </a:rPr>
              <a:t>狼狈不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黑体"/>
                <a:ea typeface="黑体"/>
              </a:rPr>
              <a:t>害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1024200" cy="179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95640" y="1484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00720" y="981000"/>
            <a:ext cx="901440" cy="1390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80000" y="1557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340000" y="2060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们害怕鹅，可是金奎叔不怕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1352520" cy="3016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1960560" cy="523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68360" y="2924280"/>
            <a:ext cx="65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他飞快地走了过来，一把握住鹅的长脖子。鹅用脚爪划他，用嘴啄他，可是金奎叔的力气是那么大，他轻轻地把鹅提了起来。老雄鹅害怕了，好不容易挣脱束缚，张开翅膀，连飞带跳“啪啪啪”地落到了池中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72360" y="342900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47242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2276640"/>
            <a:ext cx="777708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不可一世的老雄鹅被金奎叔赶跑了，张开翅膀，连飞带跳“啪啪啪”地落到了池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这件事，作者对牛和鹅的认识发生了什么变化？请你读读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，画出有关的语句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960560" cy="523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32000" y="2421000"/>
            <a:ext cx="71276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对牛，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不再无缘无故的欺负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对鹅，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也不再怕它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960560" cy="523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2492280"/>
            <a:ext cx="7705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它虽然把我们看得比它小，可我们实在比它强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从这句话中，你有什么启发？谁来说说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960560" cy="523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242100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　   不管别人是怎么看待我们的，只要我们自己能够正确地、全面地去看待问题，分析问题，就会正确地认识生活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960560" cy="523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95640" y="198900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  在生活中，你遇到这样的事情了吗？你是怎样解决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1373400" cy="275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2079720" cy="513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0000" y="2349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横看成岭侧成峰，远近高低各不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342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仁者见仁、智者见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079720" cy="513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59280" y="2565360"/>
            <a:ext cx="314784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1844640"/>
            <a:ext cx="770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掌握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，能正确读写“屁股、破碗、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塘、惹怒、掐住、无缘无故、胳臂”等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感悟课文内容，了解课文蕴含的道理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到看待周围的事物，如果从不同的角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出发就会得到不同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概括课文主要内容的方法，抓住有关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句，揣摩人物的心情及心理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981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764" b="10022"/>
          <a:stretch/>
        </p:blipFill>
        <p:spPr>
          <a:xfrm>
            <a:off x="395280" y="1628640"/>
            <a:ext cx="4537080" cy="288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529080" cy="441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549360"/>
            <a:ext cx="2217960" cy="6094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87640" y="155736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牛的眼睛看人，觉得人比牛大，所以牛是怕人的；鹅的眼睛看人，觉得人比鹅小，所以鹅不怕人。”你相信这句话吗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1967040" cy="327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844640" cy="219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19280" y="2924280"/>
            <a:ext cx="8496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屁   股   碗  扳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塘   惹   握  缚   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2565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2565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g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2565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w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0360" y="2565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465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72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r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4724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w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4724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2472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qi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2852640"/>
            <a:ext cx="82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屁股   破碗   池塘   惹怒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掐住   无缘无故   胳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844640" cy="21938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987640" y="170028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用自己喜欢的方法再读读课文，边读边思考：课文主要写了件什么事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967040" cy="3279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2349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牛的眼睛看人，觉得人比牛大，所以牛是怕人的；鹅的眼睛看人，觉得人比鹅小，所以鹅不怕人。那么作者是如何对待牛和鹅的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960560" cy="523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11280" y="40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读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，画出描写作者态度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227664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对于强壮的牛，作者一点也不害怕，可是对于小小的鹅，作者却害怕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后来作者却改变了自己的看法，请你认真读读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-1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，在小组内说说到底是什么事情让作者改变了看法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960560" cy="523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1:07:31Z</dcterms:created>
  <dc:creator>雨林木风</dc:creator>
  <dc:description/>
  <dc:language>en-US</dc:language>
  <cp:lastModifiedBy>微软用户</cp:lastModifiedBy>
  <dcterms:modified xsi:type="dcterms:W3CDTF">2019-06-24T03:20:22Z</dcterms:modified>
  <cp:revision>3</cp:revision>
  <dc:subject/>
  <dc:title>幻灯片 1</dc:title>
</cp:coreProperties>
</file>