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chime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A989-916C-410C-B02E-874E7A68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CEA2-B9BE-4C43-8FAD-E8FCCB48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E5C1-4512-485C-B9E2-C7332A89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C9FC-02D7-42EF-A160-AE9B5F1A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5683-827C-44A8-844B-94A063A9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AA84-DB1C-484C-9FC3-C6087F9C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C2CF-34FB-4A07-9B83-CDB00DA0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6A61-216F-4208-A71C-C8EB523A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1789-011F-4DD6-9406-F7C6CBFF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E8DC-1E91-4712-B3D9-F8BD6A30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12D6-0F9E-4E00-A3E7-4CFD9696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78DB-44C1-43D7-A303-1B2F2E3B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308D-A7A6-440D-8CA1-A76D9A5F93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53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71600" y="304920"/>
            <a:ext cx="5791320" cy="9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否定句宾语前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忌，不自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被动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王之蔽甚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省略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与 坐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学习最后两节的字词、句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刺：当面指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谤讥：古今异义词 古；指责，劝谏，中性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今：诽谤，讥讽，贬义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闻寡人之耳者：使……听到，使动用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时而问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ià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间或断断续续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年：满一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朝于齐：朝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介宾后置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战胜于朝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2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8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77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8" dur="77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0" dur="77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2" dur="77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品味赏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、邹忌是由一件家庭琐事联想到国家政事的。这件家庭琐事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明确： 邹忌向他的妻、妾与客提出自己与徐公谁美的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、由于感情的不同及身份地位的差异，其妻、妾、客回答问题时的语气有差别。有何不同？请从原文中找出并说明其感情色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明确：其妻曰：“君美甚，徐公何能及君也！”感情色彩是由衷的赞美，口气易毋庸置疑。妾曰：“徐公何能及君也！”感情色彩是讨好，口气有点勉强。客曰：“徐公不若君之美。”感情色彩是礼貌、尊重，口气有点客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0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77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6" dur="77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8" dur="77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0" dur="77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9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8240" y="609120"/>
            <a:ext cx="85345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、面对妻、妾、客的程度不同，或真或假的赞美，邹忌的态度如何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明确：面对赞美，邹忌并未得意忘形。“明日，徐公来，孰视之，自以为不如；窥镜而自视，又弗如远甚。暮寝而思之，曰：‘吾妻之美我者，私我也；妾之美我者，畏我也；客之美我者，欲有求于我也。’”可见邹忌很有自知之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、邹忌是如何“讽”齐王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明确：邹忌入朝后，并未单刀直入向威王进谏，而是以“闺房小事”谈自己的体会，然后以类比的方式委婉进谏。正如《古文观止》编者评价：“邹忌将己之美，徐公之美，细细详勘，正欲于此参出微理。千古臣谄君蔽，兴亡关头，从闺房小语破之，快哉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79246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、讽谏的结果如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明确： 齐威王接受了谏言，发布政令，广开言路，悬赏纳谏。始而“门庭若市”，继尔“时时而间进”，最后“无可进者”，终于“战胜于朝廷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、 邹忌为什么可以进谏成功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明确：邹忌（进谏者）：用自己亲身经历的生活小事来讲道理，现身说法，明白具体，说理深刻，委婉动听，使人易于接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齐威王（纳谏者）：开明，有作为的君主，从谏如流，闻过则喜，勇于改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4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4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板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     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设喻说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邹忌                     齐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妻→     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私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→ 营妇左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妆→      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→  朝廷之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客→     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有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→ 四境之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受蔽    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类比推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受蔽（甚矣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486400" y="838080"/>
            <a:ext cx="2646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36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8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0773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联想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妻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     →      宫妇左右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妾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     →      朝廷之臣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王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客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     →      四境之内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于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447920" y="3352680"/>
            <a:ext cx="6400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堂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请找出本文词类活用的例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吾妻之美我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吾妾之美我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吾友之美我者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美，这里是形容词活用做动词，意动用法：“以……为美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请分析这一句话  “忌不自信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是一句宾语前置，即：“忌不信自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唐朝名臣魏征曰：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“以铜为镜，可以正衣冠；以史为镜，可以知兴亡；以人为镜，可以明得失。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历代君主要成就一番霸业，身边没有几位敢进谏言的大臣是不成的；而劝谏能否奏效，一要看做君王的是否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贤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二要看谏者是否注意了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进谏的艺术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使“良药”既“爽于口”，又“利于病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4114800"/>
            <a:ext cx="3352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战国时齐威王非常幸运遇到了这样一位贤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-——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邹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191120" y="4191120"/>
            <a:ext cx="4114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《战国策》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又称《国策》，原为战国未期和秦汉间人怕编纂，后经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西汉未年刘向编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书，全书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篇，反映了战国时期策士谋臣的言论和谋略，其体列为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国别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全书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策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429000"/>
            <a:ext cx="1752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《邹忌讽齐王纳谏》是其中一篇优秀的散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90920" y="3276720"/>
            <a:ext cx="5715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易读错的字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yì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丽　 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zhāo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服衣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guān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kuī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jī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 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cháo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于齐　　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jiàn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876920" y="304920"/>
            <a:ext cx="2590560" cy="2038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3520" y="5791320"/>
            <a:ext cx="79246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8" dur="2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769608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检验预习：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朝服衣冠，窥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是入朝见威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能谤讥于市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燕、赵、韩、魏闻之，皆朝于齐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__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吾所以为此者，以先国家之急而后私仇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____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宫妇左右莫不私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_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燕王私握臣手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___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令人持璧归，间至赵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渐闻水声潺潺而泻出于两峰之间者，酿泉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月之后，时时而间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9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2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读出语句的停顿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邹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修八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×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邹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八尺有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√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孰与城北徐公美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×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孰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城北徐公美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√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王之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甚矣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√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王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蔽甚矣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×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谓战胜于朝廷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×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此所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战胜于朝廷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√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5943600"/>
            <a:ext cx="73915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7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76964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翻译以下各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孰与城北徐公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忌不自信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旦日，客从外来，与坐谈，问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吾妻之美我者，私我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臣吏民能面刺寡人之过者，受上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书谏寡人者，受中赏，能谤讥于市朝，闻寡人之耳者，受下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此所谓战胜于朝廷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644688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浙江龙泉中等职业学校     刘宏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8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80880" y="837720"/>
            <a:ext cx="79250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学习一、二段的字词和句式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①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通“熟”，仔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偏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 u="sng">
                <a:solidFill>
                  <a:srgbClr val="0066ff"/>
                </a:solidFill>
                <a:uFillTx/>
                <a:latin typeface="Times New Roman"/>
              </a:rPr>
              <a:t>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服衣冠： 朝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zhá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朝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词类活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作状：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[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朝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服衣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[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暮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寝而思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名作动：朝</a:t>
            </a:r>
            <a:r>
              <a:rPr b="1" lang="zh-CN" sz="2800" spc="-1" strike="noStrike" u="sng">
                <a:solidFill>
                  <a:srgbClr val="0066ff"/>
                </a:solidFill>
                <a:uFillTx/>
                <a:latin typeface="Times New Roman"/>
              </a:rPr>
              <a:t>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冠：穿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形容词意动用法：</a:t>
            </a:r>
            <a:r>
              <a:rPr b="1" lang="zh-CN" sz="2800" spc="-1" strike="noStrike" u="sng">
                <a:solidFill>
                  <a:srgbClr val="0066ff"/>
                </a:solidFill>
                <a:uFillTx/>
                <a:latin typeface="Times New Roman"/>
              </a:rPr>
              <a:t>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者：以……为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古今异义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古；约合现在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3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3.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厘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39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8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800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05" dur="2000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7925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古：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今：偷偷地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古：躺而不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今：睡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地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古：土地方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今：地点、处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孰与城北徐公美： 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谁，哪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孰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相当于“与……孰”，“……与……相比，谁更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判断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城北徐公，齐国之美丽者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吾妻之美我者，私我也；妾之美我者，畏我也；客之美我者，欲有求于我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6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6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5T14:54:37Z</dcterms:created>
  <dc:creator>liu</dc:creator>
  <dc:description/>
  <dc:language>en-US</dc:language>
  <cp:lastModifiedBy>zmj</cp:lastModifiedBy>
  <dcterms:modified xsi:type="dcterms:W3CDTF">2007-09-27T16:32:47Z</dcterms:modified>
  <cp:revision>16</cp:revision>
  <dc:subject/>
  <dc:title>PowerPoint 演示文稿</dc:title>
</cp:coreProperties>
</file>