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4.jpeg" ContentType="image/jpeg"/>
  <Override PartName="/ppt/media/image12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chimes.wav" ContentType="audio/x-wav"/>
  <Override PartName="/ppt/media/image16.jpeg" ContentType="image/jpeg"/>
  <Override PartName="/ppt/media/camera.wav" ContentType="audio/x-wav"/>
  <Override PartName="/ppt/media/image21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2B0-50C8-45FD-AE9F-7265E778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B25-4DF2-4469-B989-2BBBFE43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9CC-5662-49CF-9EA2-DF14B77A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73D-FF9F-4CC9-B46B-EA951B09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2F2-82D2-48AA-B1AA-5021A258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CA4-0044-4195-BDA4-FDE873A8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912-0ABB-44C5-A3B1-B2DA30E0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D83-1F8A-47C5-A08B-11652E26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276-573A-483E-BFED-C92B2C37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1F5-A6BF-4DDD-9125-30D352D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FCE-57DA-47E8-8177-E58B1A1B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341-2B12-40D7-B2F8-FDFF7935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1EBE-3685-4090-BB77-65F5CFCB8D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醉翁亭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559640" cy="5892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27280" y="105264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醉  翁  亭 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欧 阳 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琅琊山夏时美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8620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佳木秀而繁阴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琅琊山秋时美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风霜高洁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琅琊山冬时美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4495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809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水落而石出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四时之景不同，而乐亦无穷也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429000" cy="2057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00600" y="4343400"/>
            <a:ext cx="3200400" cy="2044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648320" y="182880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《醉翁亭记》碑刻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苏轼草书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《醉翁亭记》碑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0483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醉翁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醉翁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181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51440"/>
            <a:ext cx="782640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《醉翁亭记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作者：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欧阳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“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唐宋八大家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之一，</a:t>
            </a:r>
            <a:r>
              <a:rPr b="0" lang="zh-CN" sz="54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北宋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古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文运动领袖。字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永叔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，号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醉翁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，又号“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六一居士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。本文是作者被贬滁州所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小论文摘录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我仿佛身临其境。当我闭上眼睛的时候，耳边似乎传来了啾啾的鸟鸣和潺潺的流水声，闻见了空气中酝酿的野花的芳香，眼前仿佛也出现了早晚变化不同的四季景色。这种感觉是无法用言语形容的，只有你真正地全身心地投入到课文中，你才会有幸感受到那仙境般的美景。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曹一枫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小论文摘录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这是一幅美丽的山水画，它令人流连忘返，身在其中，一切烦恼与不安都会被你抛在脑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树与花的和谐，山与树的搭配，水与山的相接，鸟与水的嬉戏，如此之美景，任谁也不会忘记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王   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小论文摘录（</a:t>
            </a:r>
            <a:r>
              <a:rPr b="0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文中“野芳发而幽香，佳木秀而繁阴，风霜高洁，水落而石出者，山间之四时也”，短短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个字，淋漓尽致地描绘出琅琊山的四季美景，准确、生动，极富音乐之美，韵味无穷，情致盎然，从容宛转，娓娓叙来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张  晨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cc00ff"/>
              </a:solidFill>
              <a:latin typeface="Times New Roman"/>
              <a:ea typeface="隶书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“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醉翁之意不在酒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        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形容人别有意图，言在此而意在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水落石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形容事情真相大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文中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若夫日出而林霏开……而乐亦无穷也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段所写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朝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、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四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景物特点用现代汉语加以具体描写，写成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左右的短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醉翁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88920"/>
            <a:ext cx="9172440" cy="694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52480" y="5562720"/>
            <a:ext cx="1828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醉翁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蔚然而深秀者，琅琊也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水声潺潺而泻出于两峰之间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日出而林霏开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云归而岩穴暝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琅琊山春时美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野芳发而幽香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6520" y="1981080"/>
            <a:ext cx="8129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07:16:48Z</dcterms:created>
  <dc:creator>王军</dc:creator>
  <dc:description/>
  <dc:language>en-US</dc:language>
  <cp:lastModifiedBy>金江生</cp:lastModifiedBy>
  <dcterms:modified xsi:type="dcterms:W3CDTF">2012-04-04T12:37:07Z</dcterms:modified>
  <cp:revision>30</cp:revision>
  <dc:subject/>
  <dc:title>醉翁亭</dc:title>
</cp:coreProperties>
</file>