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706-90EF-4BAB-9E55-AD30956A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E5E-5528-423C-AEE9-B7D0F2BC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49CB-223C-42B4-BAFC-2B003473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922C-DA6C-4095-8969-44D58C66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1E7-D949-4A38-894C-87550419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C7C2-4BE4-4B9B-B541-4AE57555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F8C-ABEB-4131-839B-214B3A32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149-4773-4D4D-9D4B-5933596C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751-8DE7-4300-9081-B7057D72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FE8-C447-40EC-85AB-4314C00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CDF2-F2C1-4DCF-8898-55D22805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839-E97E-48AF-8D54-87410C0C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3CE7-3470-4295-8BBD-0190E6431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1295280"/>
            <a:ext cx="4419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家长会</a:t>
            </a:r>
            <a:endParaRPr b="1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4419720"/>
            <a:ext cx="2895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邵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2008-10-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、抓技能。如想问题、做作业时，要求准确而迅速；语言表达务求清楚、生动，手工操作、口头背诵务求熟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四、抓能力。主要是观察力、注意力、记忆力、想象力与思维力，在课余一切学习中都要注意认真培养上述能力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533520"/>
            <a:ext cx="3962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孩子的变化</a:t>
            </a: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学习的积极性、态度出现两极分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5800" y="3352680"/>
            <a:ext cx="8229600" cy="1295640"/>
            <a:chOff x="685800" y="3352680"/>
            <a:chExt cx="8229600" cy="1295640"/>
          </a:xfrm>
        </p:grpSpPr>
        <p:sp>
          <p:nvSpPr>
            <p:cNvPr id="46" name=""/>
            <p:cNvSpPr/>
            <p:nvPr/>
          </p:nvSpPr>
          <p:spPr>
            <a:xfrm>
              <a:off x="685800" y="335268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一 、生理、心理方面变化带来的现象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 txBox="1"/>
            <p:nvPr/>
          </p:nvSpPr>
          <p:spPr>
            <a:xfrm>
              <a:off x="1143000" y="4191120"/>
              <a:ext cx="1752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＂审美问题＂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3505320" y="4191120"/>
              <a:ext cx="1752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＂朦胧问题＂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5943600" y="4191120"/>
              <a:ext cx="17524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＂毕业问题＂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85800" y="4724280"/>
            <a:ext cx="8229600" cy="1143000"/>
            <a:chOff x="685800" y="4724280"/>
            <a:chExt cx="8229600" cy="1143000"/>
          </a:xfrm>
        </p:grpSpPr>
        <p:sp>
          <p:nvSpPr>
            <p:cNvPr id="51" name=""/>
            <p:cNvSpPr/>
            <p:nvPr/>
          </p:nvSpPr>
          <p:spPr>
            <a:xfrm>
              <a:off x="685800" y="4724280"/>
              <a:ext cx="822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二 、“好学生”的思想问题不容忽视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5562720" y="5486400"/>
              <a:ext cx="220968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＂自由来自规则＂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1066680" y="5486400"/>
              <a:ext cx="221004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66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＂我要的是快乐＂</a:t>
              </a:r>
              <a:endParaRPr b="0" lang="en-US" sz="18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9880" y="5638680"/>
              <a:ext cx="121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识字写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较强的独立识字能力。累计认识常用汉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，其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左右会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硬笔书写楷书，行款整齐，有一定的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用毛笔字书写楷书，在书写中体会汉字的优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用普通话正确、流利、有感情地朗读课文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默读有一定的速度，默读一般读物每分钟不少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能借助字词典阅读，理解词语在语言环境中的恰当意义，辨别词语的感情色彩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联系上下文和自己的积累，推想课文中有关词语的意思，体会其表达效果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在阅读中揣摩文章的表达顺序，体会作者的思想感情，初步领会文章基本的表达方法。在交流和讨论中，敢于提出自己的看法，作出自己的判断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阅读说明性文章，能抓住要点，了解文章的基本说明方法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阅读叙事性作品，了解事件梗概，简单描述自己印象最深的场景、人物、细节，说出自己的喜欢、憎恶、崇敬、向往、同情等感受。阅读诗歌，大体把握诗意，想象诗歌描述的情境，体会诗人的情感。受到优秀作品的感染和激励，向往和追求美好的理想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学习浏览，扩大知识面，根据需要搜信息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理解课文的过程中，体会、与，；与。的不同用法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诵读秀诗文，注意通过诗文的声调、节奏等体味作品的内容和感情。背诵优秀诗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篇（段）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．利用图书馆、网络等信息渠道尝试进行探究性阅读。扩展自己的阅读面，课外阅读总量不少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懂得写作是为了表达和与人交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养成留心观察周围事物的习惯，有意识地丰富自己的见闻，珍视个人的独特感受，积累习作素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写简单的记实作文和想象作文，内容具体，感情真实。能根据习作内容的需要，分段表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写读书笔记和常见应用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根据表达需要，使用常见的标点符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修改自己的习作，并主动与他人交换修改，做到语句通顺，行款正确，书写规范、整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内习作每学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左右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钟能完成不少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字的习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人交流能尊重、了解对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乐于参与讨论，敢于发表自己的意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他人说话认真耐心，能抓住要点，并能简要转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达要有条理，语气语调适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根据交流的对象和场合，稍做准备，作简单发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交际中注意语言美，抵制不文明语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综合性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解决与学习和生活相关的问题，利用图书馆、网络等信息渠道获取资料，尝试写简单的 研究报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策划简单的校园活动和社会活动，对所策划的主题进行讨论和分析，学写活动计划和活动总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自己身边的、大家共同关注的问题，或电视、电影中的故事和形象，组织讨论、专题演讲，学习辨别是非善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初步了解查找资料、运用资料的基本方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6094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类学生的复习方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6880" y="167652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础较好的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搜集错题，提出要求，以满分为目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02800" y="3094200"/>
            <a:ext cx="513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中等的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整理错误，找出错误原因，严格按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方法进行解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83200" y="5075280"/>
            <a:ext cx="213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习较差的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端正思想，认真谈心。围绕书本进行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练习。再列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如何抓好孩子的学习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一、抓作业。要规定孩子放学后必须做完作业，必须检查。口头作业、复习、预习作业也不容草率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第二、抓态度。要求学习专心、细心，勇于克服学习中的困难，书写要工整、清洁、准确，不能“虎头蛇尾”或“龙飞凤舞”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a</cp:lastModifiedBy>
  <dcterms:modified xsi:type="dcterms:W3CDTF">2008-10-15T02:56:4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