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D33-5C1C-4C57-8DC6-EB480D3A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3DB-B053-475D-9EAE-3D15406B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057-F18E-4A56-BCAB-D00DF84A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27E-7318-487D-BDB5-802A1343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576C-B1E7-48BD-B752-1322BBF7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C19C-B019-4953-8148-87FD45A0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50C8-187E-474A-87E6-C130598A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3CD9-D678-491A-9351-8B9291D1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30FF-333A-40E7-B35A-4E51D9F3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6765-FCF2-4B9B-81E4-755822E9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8D33-6362-437A-8809-574CC55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1C8-D36E-4E9B-B9D8-0034AD32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B12C-8D58-49E2-BB70-C2FC0C31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5753-2DF6-4C90-A3DA-6D33373E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DC25-D37D-4591-9812-11E0B9EC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3FC0-C306-43D3-B917-12F2BFF6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5E08-748B-42CB-A3E5-A82067B7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A8EF-1378-4172-878C-810529A8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3044-8783-44DB-BB3F-4C591689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C70AC-EED8-45C7-A176-D5F600F2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344C-E55D-4B27-9207-AC461628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5376-BBED-4406-9842-C83A6367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C3E-8920-491B-9022-06F4DDC1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2329-B8D1-41E0-AE18-16BDD98F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301DB-3477-41B2-A955-B21CB73B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1FF6-2A8F-4D33-9212-366BC7C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7FF0-DF31-4887-B4C9-FCA8F79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4D51-8AEF-49A9-9911-D3E65763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6FC9-9D47-45D8-A970-AA9F7589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F727C-26F5-473D-AA7E-F336BAE9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47D-CD12-48A3-BE31-62744845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E2D5-30A2-4B46-B320-0758CFE3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EB5-806E-47A5-8A46-830D0F68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232-CA8F-47B1-A3E3-F8E69105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0BD-39AD-4346-A944-85BDC4C1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AA8-CDE0-494E-B584-FC6CAEAF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1AF0-4439-4CCC-8119-5BD878522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8F3E-E54B-4903-AD97-F596CE3B0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EDF3-494D-41BD-B31A-508FB2A5C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27600" y="907920"/>
            <a:ext cx="20131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692280"/>
            <a:ext cx="20127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05264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黑体"/>
                <a:ea typeface="黑体"/>
              </a:rPr>
              <a:t>再见了，亲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403280" y="1989000"/>
            <a:ext cx="1839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72200" y="518148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603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到事例，并读一读感人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谈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情地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深情地劝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10368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910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同志们伤心地痛哭起来，你却把脚一跺，嘴角抽动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狠狠地说：“妈妈，这个仇我一定要报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569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金花，不要哭了，擦干眼泪，再给我们唱个《捣米谣》吧！怎么？心里难过，唱不出来？你一向是个刚强的孩子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27583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知道我们缺少蔬菜，就挎着篮子上山挖野菜。后面山上的野菜挖光了，您又跑到前沿阵地去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465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1708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30880" y="1844640"/>
            <a:ext cx="20131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17080" y="0"/>
            <a:ext cx="82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舍身赌机枪的黄继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44000" y="0"/>
            <a:ext cx="900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战火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烧中的邱少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8317080" cy="6840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244000" y="549360"/>
            <a:ext cx="900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烈士毛岸英之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9640" cy="7461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17080" y="620640"/>
            <a:ext cx="8269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惨不忍睹的战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8360" cy="548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391600" y="907920"/>
            <a:ext cx="75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英烈们的墓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267160"/>
            <a:ext cx="8426520" cy="20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抗美援朝战争中，我国先后出兵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余万人。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英烈的忠骨永远留在了朝鲜的土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99072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战役  情谊  噩耗  封锁  硝烟  刚强  血泊  供应  乘机  跺脚      阿妈妮  捣米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雪中送炭  同归于尽  深情厚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70000" contrast="-70000"/>
          </a:blip>
          <a:srcRect l="0" t="84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716360" y="364500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0" r="64" b="66629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37080" y="5486400"/>
            <a:ext cx="588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再见了，亲人！再见了，亲爱的土地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70000" contrast="-70000"/>
          </a:blip>
          <a:srcRect l="0" t="84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716360" y="364500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0" t="0" r="64" b="66629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9480" y="4800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列车呀，请慢一点儿开，让我们再看一眼朝鲜的亲人，让我们在这曾经洒过鲜血的土地上再停留片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rcRect l="0" t="0" r="64" b="66629"/>
          <a:stretch/>
        </p:blipFill>
        <p:spPr>
          <a:xfrm>
            <a:off x="127080" y="127080"/>
            <a:ext cx="9144000" cy="480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rcRect l="0" t="0" r="64" b="66629"/>
          <a:stretch/>
        </p:blipFill>
        <p:spPr>
          <a:xfrm>
            <a:off x="254160" y="25416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436572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08464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再见了，亲人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的心永远跟你们在一起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0" r="-1252" b="66088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880" y="9597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结合搜集到的资料，从课文的字里行间捕捉信息，仿照课文段式，以大娘、小金花或者大嫂的身份写一段送别的话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438280"/>
            <a:ext cx="7543800" cy="33530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268056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孩子，我们舍不得你们走……还记得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35949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叔叔，请再多留一会儿……那一回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753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兄弟，让我再送你们一程吧……我不会忘记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179080" y="6094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再见了，亲人！再见了，亲爱的土地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752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列车呀，请慢一点儿开，让我们再看一眼朝鲜的亲人，让我们在这曾经洒过鲜血的土地上再停留片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886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再见了，亲人！我们的心永远跟你们在一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年来，您为我们花了多少心血，更了我们多少慈母般的温暖！记得五次战役的时候，由于敌机的封锁，造成暂时的供应困难。我们空着肚子，在阵地上跟敌人拼了三天三夜。是您带着全村妇女，顶着打糕，冒着炮火穿过硝烟，送到阵地上来给我们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13104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是您带着全村妇女，顶着打糕，冒着炮火，穿过硝烟，送到阵地上来给我们吃。这真是雪中送炭啊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1560" y="327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914400" y="1905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1905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11480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531720"/>
            <a:ext cx="914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一下，大娘还会为我们做哪些事？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00060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八年来，您为我们花了多少心血，给了我们多少慈母般的温暖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lum bright="70000" contrast="-70000"/>
          </a:blip>
          <a:srcRect l="0" t="84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16360" y="364500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4176720" cy="5638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92720" y="76212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敌机来了，您丢下自己的小孙孙，把伤员背进了防空洞；当您再回去抢救小孙孙的时候，房子已经炸平了。您为我们失去了唯一的亲人。</a:t>
            </a:r>
            <a:r>
              <a:rPr b="0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5791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5791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580248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80248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1644840"/>
            <a:ext cx="838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说，这比山还高比海还深的情谊，我们怎么能忘怀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644840"/>
            <a:ext cx="838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说，这比山还高比海还深的情谊，我们怎么能忘怀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说，这比山还高比海还深的情谊，我们不能忘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娘，停住您送别的脚步吧！为了帮我们洗补衣服，您已经几夜没合眼了。您这么大年纪，能支持得住吗？快回家休息吧！为什么摇头呢？难道您担心我们会把您这位朝鲜阿妈妮忘怀？不，永远不会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神秘园 - Song From A Secret Garden" descr=""/>
          <p:cNvPicPr/>
          <p:nvPr/>
        </p:nvPicPr>
        <p:blipFill>
          <a:blip r:embed="rId1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6" name="伤感纯音乐 伤感的离别" descr=""/>
          <p:cNvPicPr/>
          <p:nvPr/>
        </p:nvPicPr>
        <p:blipFill>
          <a:blip r:embed="rId2"/>
          <a:stretch/>
        </p:blipFill>
        <p:spPr>
          <a:xfrm>
            <a:off x="70866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29524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9:42:26Z</dcterms:created>
  <dc:creator/>
  <dc:description/>
  <dc:language>en-US</dc:language>
  <cp:lastModifiedBy>微软用户</cp:lastModifiedBy>
  <dcterms:modified xsi:type="dcterms:W3CDTF">2014-03-07T06:34:4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