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235-BCC5-4608-8E23-F90B93D2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9EF-401E-4D34-B3B2-283637A4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BFD2B-E53C-426E-A764-CEC81CEF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08E3E-65A6-4734-A9ED-BAEA64C2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54C8-2B6A-40D5-944B-96225012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3323E-C44C-4596-880F-FF4323BF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A5FF6-0C2F-4F7D-BDEB-D5E29F65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D1D42-D564-4CCE-8A65-CEBDA9CB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AD4D1-E448-4A03-8B05-D0D1D9F1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979A3-4A9A-40B9-AB2B-F88E9495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D8FEB-2FBE-4B1C-8672-42ABC0EE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6D4B9-BF0F-4267-A09E-B1A57189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815-2460-4C84-934A-49AE39CF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C228C-B72E-43A7-AF27-6E4DBA62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C8A2C-7925-4A39-9277-33FE8872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B4A44-E368-45B0-AC73-2BDD80EC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47622-82DB-48AA-8D29-205E1B49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5F853-7C5F-4D25-8874-26C4E90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9E38F-B14A-42F6-8E14-15C0D89D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D5B6B-E6CA-4078-83A9-5A44574F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FAE3B-C94A-46EC-938F-F6F919A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2AFE7-24F8-446A-9161-F763856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40924-DAD6-42A2-AD0E-D5BC2D12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454-0B41-4FB2-9D25-94311856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9E7BF-5133-4270-BB8A-EAE73D10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25563-CC3D-46DF-997D-F037377D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D350E-368D-4BFB-B84F-88727E72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99702-976D-4686-AACE-48036518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12479-9E10-4794-A349-2F971BAB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57A54-5004-4256-93CE-B97336C7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66564-4EED-47F4-ADAE-3DBAFE29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0244E-D419-4023-BFBC-6E53A778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4759B-242A-45BA-A3F8-85CB7FA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DC971-9C89-4B41-B7C3-302F865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B8EA-D1CA-45A5-90E6-F7539135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1950C-7EB1-4983-8D3D-6B93B0DD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63DF1-F6A4-40E1-BF05-3DB06A4A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315EC-D67A-4E45-9EEF-F7744B07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6B94A-3FE8-4A80-98B2-69E15797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B4341-F952-46D1-999B-D33B906B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D5B29-C4CD-4989-B5D3-07A08332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2B9AE-2060-47AA-9981-C7D61FFB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F9AD1-9461-4473-811D-C4C9F389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969F2-84CE-48A4-9172-CE178CB3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3F69A-2CA9-49F6-BC4F-3D8E40D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B7E2-2B33-4620-B5B1-9E5BE7C2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B2780-2D92-48E5-BC41-5A91F73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B424D-CA0B-4B98-83FF-6D71449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3410F-3381-4D0B-90A8-A96E1FD1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53C3E-CDA1-4AC6-BD80-7DFBF54E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F14A9-48ED-45D5-A2AC-69D413A0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D8871-F200-4862-88DC-83489854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7E1F2-86F4-43FE-963A-EA834D48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CC658-5CF0-4BA2-944F-CDBD5346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62D50-449F-427F-B27C-B0179AB2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D92DF-FF5F-44D9-9E54-504CB1A2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F300-403F-446F-A149-33F29BF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A7D73-49B9-495C-947E-5EC39076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DD6D8-F16D-4C3B-93EA-DB476BA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6BC96-A29E-4DBF-B008-9ABBAA8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2B530-E2F4-49C5-BE79-761C027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0289F-3EB3-4D59-943E-AC55C684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69AF1-BDC6-4BE3-9676-530B87DA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E83A9-9296-468B-8120-72A6093E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4286-F58C-4732-9081-26ED8832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612C-752C-443A-A8A0-8DA46394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DE6E-8137-4F87-8189-991E8962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7F77-DBD4-4AC8-BA76-E15D847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C51-FA06-4242-B2EA-AB27E50F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5D46-4ACF-4B77-97DB-FA51FBB4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D880-D710-4DD7-8177-A170F1B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72CC-7BCE-4623-8820-63DEDC44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9577-9AD1-417D-A788-DF1A7DDE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E37B-7BA3-4497-9EF4-9DF3C1B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B8BB-6F9F-42A0-BAAB-F6FA0C01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0CB7-FFC2-41D4-92D9-CA1F8E0C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6AD0-83CC-4329-8523-C416FA69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C5B8-1CB2-498E-863B-DB8F0C3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4244-CAB4-4920-9039-11F9185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733-4A10-4F1B-8874-B0B86FAC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874E-3A45-42A1-8C0E-1F6EB9EF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CD5A-CE2E-4D44-ACC7-182AB38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A35A-7E33-4D33-AADE-68FCCFF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D17F-A58F-4B82-A875-314A1289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3B48-2EEB-4012-A91C-92D25377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8124-F61A-450A-97C6-A5DEB8C6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B433-9EAF-411D-872A-038C1214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78A20-480F-43F9-8E92-07E5C1DC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4916B-75C1-43B5-8DAB-CBC05396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52E72-D96D-492F-8DBC-998686F5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CDD-4BD6-40B4-947B-3DD5C09F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6BF97-0A56-41B6-9068-55D27D1A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8D13EB-D35A-4CFE-A18A-A4A5AB54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C2D24-64CE-47E7-843B-7E188BCB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C3D0B-1FD8-43DA-B37B-7E90D4C8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E485B-CBB8-4702-8590-B3D65DBB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DF055-AE41-4677-B0B3-DB13D32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C8EFF-E091-4A3D-92AC-28E4C524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30F3F-711B-4C44-BC13-E0E6E2E8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3C9773-017E-4F97-A38B-8E1E4B4A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A37F-EAAA-4450-85A0-EC44D8D2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A31-155F-440D-8F85-F601EE5A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3AD2-8CC8-4C72-9600-FBCC99E7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2BE3F-D65E-4BBA-8C41-BBD3B002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C30A-3841-4EAC-B359-7BD6A15A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1FC9-6B19-4377-9B2E-3CE60791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F94A-83E9-4D64-BB94-94D4C217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80DE1-A086-4104-B99E-48BB7316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45F8-E17E-4B3A-A9D1-09D2BED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63788-28C3-495D-93FF-9657BDD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BA2AC-806A-49F4-907A-A2D6A6E7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ADA4-ACD3-4AE8-8708-087F225B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B57-E47F-43E1-BE23-5454F217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00297-23D1-4E6A-8D3D-C0A6CD73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481AB-8A6C-40DD-BDDD-5B74E412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5E691-8F49-4DFC-A0B1-64862D16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3078C-73DE-453F-9C58-61EE5097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AB397-63B4-493F-92E5-244BA4C7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E852-01C4-48B2-9998-330E2C43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E5DB5-DB47-4EF3-9014-29E63B85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2883D-BBA0-4A00-87D7-12EE24B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EB0C4-83F2-43BA-90BA-FABA1491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13B9E-93B6-4DA7-A72F-ECE358C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EEC-3332-4A20-A418-0B6E5E78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B697-9B31-49E2-972D-B7FDDEE9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6F82-C8F1-4542-B572-E368E288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8BB4B-0247-400A-A9D0-C2F3C866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088FE-A90F-4E7D-82AD-B473FA97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0066-DAEC-4CAB-9BE3-895F8191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10F4C-6283-401C-A215-434C47C9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E55F6-5765-47DF-A1B8-48391DF8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0939-6394-4793-A17C-6BACCBA2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21785-0F17-4CBC-8F99-DCA6219D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E3E54-0077-433C-BAF3-D8596522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37E-7C41-41BE-9F81-2B014EE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9DC17-34DE-46E4-85DA-7A43AC7A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837B3-54F3-4689-8D02-1ED287BB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48FD8-4B7D-486B-B156-83217305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B8560-B4CD-4ED7-8DD2-24D4CEF0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2A7F6-D2A3-4A37-B23A-36AEC017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77DB1-588A-4517-A74E-23252C85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2EA6D-3BED-4D1B-AB44-22B6600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5F9C9-FE44-4B1B-8BE7-9278150A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EA936-D8C4-4FAF-8A21-963C14D8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E0417-7FB7-4258-9024-498B1D0E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E16-BD00-4086-BD99-89DCF0BD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73A7D-0733-47E8-9BB2-BB27B09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9D5AE-08ED-4066-BD95-B2AE074E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D72FD-8EB8-4594-A6EA-55901EBC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24F05-8BB8-4500-A01A-DC6839CB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04B3F-1642-4C53-BFDE-4D68D59F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E5326-AC33-4644-B221-F960E096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524DA-E3E6-442B-8235-E2197BEF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FAE4C-CAA4-4D59-A7AC-AD681F37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BABBB-C992-4BCD-AE39-AF9C239B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8FFA1-A403-4895-B3B0-C2A70C1D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C282-741A-4C57-919D-68AE25DEED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54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00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14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28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42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56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70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684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686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732-9C49-4DBF-81C1-356B8F9694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42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56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dt" idx="31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ftr" idx="3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3C11-C991-49C3-B11C-EC82D55154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06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88F8-0BD8-4538-9DF2-DD9CF870291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A1CA-2F95-4FF9-8241-38DE60C359F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DCD3-4F09-4C82-A49A-13B83616F6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98EE-2120-43A7-82EC-658C6B88B0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E8B8-C264-4DBA-AD94-C45E58F64A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F8C8-CFA6-43F2-A1F1-6F7F3C29B1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2CB-0173-40E1-A2EF-A960E2FDFB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191D-FC00-4D3A-851F-21B6B3AE90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1BB4-A23D-4DA7-8736-6744944E6BF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9B8A-122B-40DB-A6E7-9E1AE9C309E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边框" descr=""/>
          <p:cNvPicPr/>
          <p:nvPr/>
        </p:nvPicPr>
        <p:blipFill>
          <a:blip r:embed="rId1"/>
          <a:stretch/>
        </p:blipFill>
        <p:spPr>
          <a:xfrm>
            <a:off x="-3048120" y="6480"/>
            <a:ext cx="12192120" cy="685152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1600200" y="838080"/>
            <a:ext cx="62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让我们先来朗读一首儿歌吧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295280" y="243828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在前，影子在后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是个小黑狗，常常跟着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在左，影子在右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是个好朋友，常常陪着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中写了“我”和小伙伴哪些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现了怎样的主旨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猜谜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竹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谈中国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0560" y="134100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当爸爸看到我们在水门汀地上乱涂乱画时，他是怎样做的？可以看出“爸爸”是一个什么样的人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540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爸爸和我们一起描竹影，还给我们讲中国画和西洋画的不同：西洋画像照相，中国画像符号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8360" y="3573360"/>
            <a:ext cx="813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爸爸是一个和蔼可亲的人，不仅精通艺术更精通教育，尊重孩子的兴趣，从兴趣中进行引导教育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324000" y="476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细读课文第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段，小组讨论找出中国画和西洋画的区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李白" descr=""/>
          <p:cNvPicPr/>
          <p:nvPr/>
        </p:nvPicPr>
        <p:blipFill>
          <a:blip r:embed="rId1"/>
          <a:stretch/>
        </p:blipFill>
        <p:spPr>
          <a:xfrm>
            <a:off x="1371600" y="0"/>
            <a:ext cx="2857680" cy="6618240"/>
          </a:xfrm>
          <a:prstGeom prst="rect">
            <a:avLst/>
          </a:prstGeom>
          <a:ln w="0">
            <a:noFill/>
          </a:ln>
        </p:spPr>
      </p:pic>
      <p:pic>
        <p:nvPicPr>
          <p:cNvPr id="1092" name="蒙娜丽莎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492360" cy="504216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3921120" y="3886200"/>
            <a:ext cx="10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李 白 行 吟 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181200" y="6060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蒙 娜 丽 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9680" y="1447920"/>
            <a:ext cx="115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2c5"/>
                </a:solidFill>
                <a:latin typeface="Times New Roman"/>
                <a:ea typeface="隶书"/>
              </a:rPr>
              <a:t>中国画与西洋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梵高 向日葵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782880" cy="5067360"/>
          </a:xfrm>
          <a:prstGeom prst="rect">
            <a:avLst/>
          </a:prstGeom>
          <a:ln w="0">
            <a:noFill/>
          </a:ln>
        </p:spPr>
      </p:pic>
      <p:pic>
        <p:nvPicPr>
          <p:cNvPr id="1097" name="黄宾虹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381636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a24" descr=""/>
          <p:cNvPicPr/>
          <p:nvPr/>
        </p:nvPicPr>
        <p:blipFill>
          <a:blip r:embed="rId1"/>
          <a:stretch/>
        </p:blipFill>
        <p:spPr>
          <a:xfrm>
            <a:off x="6145200" y="0"/>
            <a:ext cx="2998800" cy="6858000"/>
          </a:xfrm>
          <a:prstGeom prst="rect">
            <a:avLst/>
          </a:prstGeom>
          <a:ln w="0">
            <a:noFill/>
          </a:ln>
        </p:spPr>
      </p:pic>
      <p:pic>
        <p:nvPicPr>
          <p:cNvPr id="1099" name="artsqb034" descr=""/>
          <p:cNvPicPr/>
          <p:nvPr/>
        </p:nvPicPr>
        <p:blipFill>
          <a:blip r:embed="rId2"/>
          <a:stretch/>
        </p:blipFill>
        <p:spPr>
          <a:xfrm>
            <a:off x="108000" y="1773360"/>
            <a:ext cx="5364000" cy="478296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2700360" y="2602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华文彩云"/>
              </a:rPr>
              <a:t>静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a2" descr=""/>
          <p:cNvPicPr/>
          <p:nvPr/>
        </p:nvPicPr>
        <p:blipFill>
          <a:blip r:embed="rId1"/>
          <a:stretch/>
        </p:blipFill>
        <p:spPr>
          <a:xfrm>
            <a:off x="5651640" y="0"/>
            <a:ext cx="3009600" cy="6858000"/>
          </a:xfrm>
          <a:prstGeom prst="rect">
            <a:avLst/>
          </a:prstGeom>
          <a:ln w="0">
            <a:noFill/>
          </a:ln>
        </p:spPr>
      </p:pic>
      <p:pic>
        <p:nvPicPr>
          <p:cNvPr id="1102" name="3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2268360" y="260280"/>
            <a:ext cx="35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00"/>
                </a:solidFill>
                <a:latin typeface="Arial"/>
                <a:ea typeface="华文彩云"/>
              </a:rPr>
              <a:t>风景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2" descr=""/>
          <p:cNvPicPr/>
          <p:nvPr/>
        </p:nvPicPr>
        <p:blipFill>
          <a:blip r:embed="rId1"/>
          <a:stretch/>
        </p:blipFill>
        <p:spPr>
          <a:xfrm>
            <a:off x="3543480" y="0"/>
            <a:ext cx="5600520" cy="34290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2" descr="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468360" y="15573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中国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588000" y="3716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西洋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1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1873080" cy="2008440"/>
          </a:xfrm>
          <a:prstGeom prst="rect">
            <a:avLst/>
          </a:prstGeom>
          <a:ln w="101520">
            <a:solidFill>
              <a:srgbClr val="339966"/>
            </a:solidFill>
            <a:miter/>
          </a:ln>
        </p:spPr>
      </p:pic>
      <p:pic>
        <p:nvPicPr>
          <p:cNvPr id="1111" name="" descr=""/>
          <p:cNvPicPr/>
          <p:nvPr/>
        </p:nvPicPr>
        <p:blipFill>
          <a:blip r:embed="rId2"/>
          <a:stretch/>
        </p:blipFill>
        <p:spPr>
          <a:xfrm>
            <a:off x="324000" y="4653000"/>
            <a:ext cx="1801800" cy="1944720"/>
          </a:xfrm>
          <a:prstGeom prst="rect">
            <a:avLst/>
          </a:prstGeom>
          <a:ln w="101520">
            <a:solidFill>
              <a:srgbClr val="339966"/>
            </a:solidFill>
            <a:miter/>
          </a:ln>
        </p:spPr>
      </p:pic>
      <p:pic>
        <p:nvPicPr>
          <p:cNvPr id="1112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368360" cy="1800000"/>
          </a:xfrm>
          <a:prstGeom prst="rect">
            <a:avLst/>
          </a:prstGeom>
          <a:ln w="101520">
            <a:solidFill>
              <a:srgbClr val="00ff00"/>
            </a:solidFill>
            <a:miter/>
          </a:ln>
        </p:spPr>
      </p:pic>
      <p:pic>
        <p:nvPicPr>
          <p:cNvPr id="1113" name="" descr=""/>
          <p:cNvPicPr/>
          <p:nvPr/>
        </p:nvPicPr>
        <p:blipFill>
          <a:blip r:embed="rId4"/>
          <a:stretch/>
        </p:blipFill>
        <p:spPr>
          <a:xfrm>
            <a:off x="6948360" y="4653000"/>
            <a:ext cx="1873440" cy="2016000"/>
          </a:xfrm>
          <a:prstGeom prst="rect">
            <a:avLst/>
          </a:prstGeom>
          <a:ln w="101520">
            <a:solidFill>
              <a:srgbClr val="00ff00"/>
            </a:solidFill>
            <a:miter/>
          </a:ln>
        </p:spPr>
      </p:pic>
      <p:sp>
        <p:nvSpPr>
          <p:cNvPr id="1114" name=""/>
          <p:cNvSpPr/>
          <p:nvPr/>
        </p:nvSpPr>
        <p:spPr>
          <a:xfrm>
            <a:off x="5292720" y="0"/>
            <a:ext cx="280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696400" y="2276640"/>
            <a:ext cx="59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348000" y="1052640"/>
            <a:ext cx="360360" cy="396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802320" y="54936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873600" y="371628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836640"/>
            <a:ext cx="201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像照相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重形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572000" y="4076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像符号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重神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1" name="梵高 向日葵" descr=""/>
          <p:cNvPicPr/>
          <p:nvPr/>
        </p:nvPicPr>
        <p:blipFill>
          <a:blip r:embed="rId5"/>
          <a:stretch/>
        </p:blipFill>
        <p:spPr>
          <a:xfrm>
            <a:off x="0" y="189000"/>
            <a:ext cx="2195640" cy="208440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  <p:pic>
        <p:nvPicPr>
          <p:cNvPr id="1122" name="李白" descr=""/>
          <p:cNvPicPr/>
          <p:nvPr/>
        </p:nvPicPr>
        <p:blipFill>
          <a:blip r:embed="rId6"/>
          <a:stretch/>
        </p:blipFill>
        <p:spPr>
          <a:xfrm>
            <a:off x="7236000" y="2133720"/>
            <a:ext cx="1511280" cy="23749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388360" cy="1152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99"/>
                </a:solidFill>
                <a:latin typeface="隶书"/>
                <a:ea typeface="隶书"/>
              </a:rPr>
              <a:t>赏析语言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-108360" y="1628640"/>
            <a:ext cx="9448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文写几个小伙伴看天看月看竹影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充满童趣。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找出最生动地表现童心、童趣的句子，仔细品味，有感情地朗读，在小组内交流，领略其中蕴涵的童心童趣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833112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9308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0" y="2276640"/>
            <a:ext cx="80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有一个成语是由画竹子的故事而来的，你知道这个成语吗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61280" y="2514600"/>
            <a:ext cx="54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55640" y="393372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胸有成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086360" y="515772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原指画竹子要在心里有一幅竹子的形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比喻已经非常熟练很有把握了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西洋画像照相 ，中国画像符号”怎样理解？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符号”是由两部分组成的，一是内容，二是形式，关键是内容，而不是形式。这个比喻说的、生动形象说明两种审美体系两种绘画形式的不同。中国画重写意，西洋画重写实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2700000" y="691920"/>
            <a:ext cx="58402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我来示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例如：第二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院子里的光景由暖色变成寒色，由长音阶变成短音节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赏析：这句话运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，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傍晚的光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比喻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长短音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，形象生动的表现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傍晚阳光明暗和色调冷暖的变化，具有音乐的美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_611" descr=""/>
          <p:cNvPicPr/>
          <p:nvPr/>
        </p:nvPicPr>
        <p:blipFill>
          <a:blip r:embed="rId1"/>
          <a:stretch/>
        </p:blipFill>
        <p:spPr>
          <a:xfrm>
            <a:off x="-380880" y="0"/>
            <a:ext cx="305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当堂达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隶书"/>
              </a:rPr>
              <a:t>一、注音写字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和弟弟就搬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é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   ）椅子，到屋后的院子里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         ）凉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唉，你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iè(      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得很！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大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ū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    ）下去，用木炭在水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     ）上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   ）差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    ）地描出许多竹叶来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学他的口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án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     ）喊他：“对起，对起，给我也带一支来！”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绿颜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       ）竹叶，不更像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293080" y="1714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135600" y="213372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ché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81800" y="278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21440" y="3370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258920" y="3860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tī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150160" y="49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796000" y="39337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627720" y="38606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ē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708360" y="59500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pi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8513640" cy="61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二、文段阅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空好像一盏乏了油的灯，红光渐渐地减弱，我把眼睛守定西天看了一会儿，看见那光一跳一跳地沉下去，非常微细，但又非常迅速而不可挽救。正在看得出神，似觉眼梢头另有一种微光，渐渐地在那里强起来。回头一看，原来月亮已在东天的竹叶中间放出她的清光。院子里的光景由暖色变成寒色，由长音阶（大音阶）变成短音阶（小音阶）了。门口一个黑影出现，好像一只立起的青蛙，向我们跳将过来。来的是弟弟的同学华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“天空好像一盏乏了油的灯”和“好像一只立起的青蛙”这两句各用什么修辞？作用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“似觉眼梢头另有一种微光，渐渐地在那里强起来。”为什么会强起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院子里的光景已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这一段主要描写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这一段主要运用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表达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398840" y="3068640"/>
            <a:ext cx="6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华文新魏"/>
                <a:ea typeface="华文新魏"/>
              </a:rPr>
              <a:t>    </a:t>
            </a:r>
            <a:r>
              <a:rPr b="1" lang="zh-CN" sz="2000" spc="-1" strike="noStrike">
                <a:solidFill>
                  <a:srgbClr val="e40000"/>
                </a:solidFill>
                <a:latin typeface="华文新魏"/>
                <a:ea typeface="华文新魏"/>
              </a:rPr>
              <a:t>运用了比喻的修辞手法，生动形象地描写了天空黑暗下来时的情景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270960" y="4149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  <a:ea typeface="华文新魏"/>
              </a:rPr>
              <a:t>月亮已在东天的竹叶中间发出她的清光。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005000" y="4653000"/>
            <a:ext cx="3867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华文新魏"/>
                <a:ea typeface="华文新魏"/>
              </a:rPr>
              <a:t>暖色            寒色          长音阶（大音阶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307880" y="4941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  <a:ea typeface="华文新魏"/>
              </a:rPr>
              <a:t>短音阶（小音阶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45480" y="5229360"/>
            <a:ext cx="31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  <a:ea typeface="华文新魏"/>
              </a:rPr>
              <a:t>晚饭后，天空太阳下去，月亮出来时的感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597480" y="5516640"/>
            <a:ext cx="5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  <a:ea typeface="华文新魏"/>
              </a:rPr>
              <a:t>描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018" descr=""/>
          <p:cNvPicPr/>
          <p:nvPr/>
        </p:nvPicPr>
        <p:blipFill>
          <a:blip r:embed="rId1"/>
          <a:stretch/>
        </p:blipFill>
        <p:spPr>
          <a:xfrm>
            <a:off x="0" y="39600"/>
            <a:ext cx="9448920" cy="68184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>
            <a:off x="1127160" y="0"/>
            <a:ext cx="801684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Times New Roman"/>
              </a:rPr>
              <a:t>拓展延伸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游戏是儿童的正当行为，玩具是儿童的天使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——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鲁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在生活中经常做游戏，比如用泥巴造城堡，用雪堆娃娃，用野花编花环……留心一下，想一想，你是否也在进行着一种艺术上的创造，是否也有艺术上的发现呢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e40000"/>
                </a:solidFill>
                <a:latin typeface="方正舒体"/>
                <a:ea typeface="方正舒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2"/>
          <a:stretch/>
        </p:blipFill>
        <p:spPr>
          <a:xfrm>
            <a:off x="99061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堆雪人、堆积木玩泥巴 ——建筑雕塑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家家、老鹰抓小鸡——戏剧表演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涂鸦、在手指头上画人脸——绘画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跳橡皮筋、跳房子、——舞蹈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敲击杯碗、玩拨浪鼓有声玩具——音乐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66"/>
                </a:solidFill>
                <a:latin typeface="Arial"/>
                <a:ea typeface="华文新魏"/>
              </a:rPr>
              <a:t>小     结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不返的童年是美好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要你永葆一颗童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就能拥有童年般的快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似平凡的生活是美好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要你有爱心有敏锐的眼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就能发现生活中美好的东西无处不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片枯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抹斜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能让你激动流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益匪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祝愿大家拥有快乐充实的人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080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489600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 txBox="1"/>
          <p:nvPr/>
        </p:nvSpPr>
        <p:spPr>
          <a:xfrm rot="5400000">
            <a:off x="3757320" y="3738240"/>
            <a:ext cx="3140280" cy="136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28440">
                  <a:solidFill>
                    <a:srgbClr val="ffffb7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竹影</a:t>
            </a:r>
            <a:endParaRPr b="0" lang="en-US" sz="4800" spc="1" strike="noStrike">
              <a:ln w="28440">
                <a:solidFill>
                  <a:srgbClr val="ffffb7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9" name=""/>
          <p:cNvSpPr/>
          <p:nvPr/>
        </p:nvSpPr>
        <p:spPr>
          <a:xfrm>
            <a:off x="6227640" y="4869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丰子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187280" y="5994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花桥中学          叶青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丰子凯象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79680" cy="43196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 flipV="1">
            <a:off x="3903840" y="84816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048200" y="409680"/>
            <a:ext cx="46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04820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51280" y="333360"/>
            <a:ext cx="4897440" cy="155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丰子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(1898—197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原名丰润，浙江崇德人。现代著名画家、散文家、美术和音乐教育家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丰子恺风格独特的漫画作品影响很大，深受人们的喜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丰子恺的散文，主要作品有《缘缘堂随笔》《缘缘堂再笔》《随笔二十篇》《甘美的回忆》《艺术趣味》《率真集》等。这些作品除一部分艺术评论以外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大都是叙述他自己亲身经历的生活和日常接触的人事，表现浓厚的生活情趣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68360" y="5157720"/>
            <a:ext cx="311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971640" y="4941720"/>
            <a:ext cx="24764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ff"/>
                  </a:solidFill>
                  <a:prstDash val="dash"/>
                  <a:miter/>
                </a:ln>
                <a:solidFill>
                  <a:srgbClr val="ff0000">
                    <a:alpha val="86000"/>
                  </a:srgbClr>
                </a:solidFill>
                <a:latin typeface="宋体"/>
              </a:rPr>
              <a:t>走近作者</a:t>
            </a:r>
            <a:endParaRPr b="1" lang="en-US" sz="4800" spc="1" strike="noStrike">
              <a:ln w="9360">
                <a:solidFill>
                  <a:srgbClr val="ff00ff"/>
                </a:solidFill>
                <a:prstDash val="dash"/>
                <a:miter/>
              </a:ln>
              <a:solidFill>
                <a:srgbClr val="ff0000">
                  <a:alpha val="86000"/>
                </a:srgbClr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-108360" y="1341360"/>
            <a:ext cx="93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Verdana"/>
              </a:rPr>
              <a:t>一、</a:t>
            </a:r>
            <a:r>
              <a:rPr b="1" lang="zh-CN" sz="3900" spc="-1" strike="noStrike">
                <a:solidFill>
                  <a:srgbClr val="000000"/>
                </a:solidFill>
                <a:latin typeface="Verdana"/>
                <a:ea typeface="隶书"/>
              </a:rPr>
              <a:t>给划线字注音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恺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 ）  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徘徊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          ）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惬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）意           闪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烁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  ）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口头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禅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  ）  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参差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     ）不齐     立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轴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  ）用笔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蘸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   ）朱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砂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）来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撇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）水门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Verdana"/>
              </a:rPr>
              <a:t>汀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（          ）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"/>
          <p:cNvSpPr/>
          <p:nvPr/>
        </p:nvSpPr>
        <p:spPr>
          <a:xfrm>
            <a:off x="1332000" y="27079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qiè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270880" y="306792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á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508720" y="314172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ēn c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005440" y="364428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101080" y="3500280"/>
            <a:ext cx="13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619280" y="3933720"/>
            <a:ext cx="131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788000" y="407664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ī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403280" y="2133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kǎ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429800" y="2060640"/>
            <a:ext cx="20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ái  huá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942520" y="25653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hu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692360" y="350028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zhó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35120" y="-28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014480" y="404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预习检测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08720" cy="508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二、看谁说得好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: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隶书"/>
                <a:ea typeface="隶书"/>
              </a:rPr>
              <a:t>课文题为“竹影”，它是以写景主，还是以写人物活动为主</a:t>
            </a:r>
            <a:r>
              <a:rPr b="1" lang="zh-CN" sz="4800" spc="-1" strike="noStrike">
                <a:solidFill>
                  <a:srgbClr val="000099"/>
                </a:solidFill>
                <a:latin typeface="隶书"/>
                <a:ea typeface="隶书"/>
              </a:rPr>
              <a:t>? </a:t>
            </a:r>
            <a:r>
              <a:rPr b="1" lang="zh-CN" sz="4800" spc="-1" strike="noStrike">
                <a:solidFill>
                  <a:srgbClr val="000099"/>
                </a:solidFill>
                <a:latin typeface="隶书"/>
                <a:ea typeface="隶书"/>
              </a:rPr>
              <a:t>请用一句话概括课文内容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3" name="xinsimple_e4ad5839e14244f2957973dedbb82d4f_hb-2003-1218b4-1" descr=""/>
          <p:cNvPicPr/>
          <p:nvPr/>
        </p:nvPicPr>
        <p:blipFill>
          <a:blip r:embed="rId2"/>
          <a:srcRect l="0" t="0" r="0" b="3803"/>
          <a:stretch/>
        </p:blipFill>
        <p:spPr>
          <a:xfrm>
            <a:off x="5508720" y="0"/>
            <a:ext cx="3635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971640" y="22078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时间）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人物）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地点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）            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事件）时得到爸爸的指点，懂得了中国画的艺术特点，由此获得了艺术美的发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971640" y="1773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晚饭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987640" y="1773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个少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292720" y="1773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屋后的院子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619280" y="2205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描竹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304920" y="380880"/>
            <a:ext cx="33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68360" y="1484280"/>
            <a:ext cx="8381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本文所表现的天真烂漫的童真、童趣 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品味文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最能体现童趣的语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初步了解中国画和西洋画的不同特点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漫画" descr=""/>
          <p:cNvPicPr/>
          <p:nvPr/>
        </p:nvPicPr>
        <p:blipFill>
          <a:blip r:embed="rId1"/>
          <a:stretch/>
        </p:blipFill>
        <p:spPr>
          <a:xfrm>
            <a:off x="0" y="0"/>
            <a:ext cx="2693880" cy="685800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611280" y="0"/>
            <a:ext cx="709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探究导学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请同学们用自己喜欢的方式读课文，可以朗读、可以默读、可以扫读 ，思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-方正超大字符集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文中写了“我”和小伙伴哪些活动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现了怎样的主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当爸爸看到我们在水门汀地上乱涂乱画时，他是怎样做的？“爸爸”这一角色在文中起什么作用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细读课文第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段，小组讨论找出中国画和西洋画的区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2"/>
          <a:stretch/>
        </p:blipFill>
        <p:spPr>
          <a:xfrm>
            <a:off x="2484360" y="623736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0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0:18:03Z</dcterms:created>
  <dc:creator>Lenovo User</dc:creator>
  <dc:description/>
  <dc:language>en-US</dc:language>
  <cp:lastModifiedBy>User</cp:lastModifiedBy>
  <dcterms:modified xsi:type="dcterms:W3CDTF">2013-04-22T07:13:04Z</dcterms:modified>
  <cp:revision>175</cp:revision>
  <dc:subject/>
  <dc:title>幻灯片 1</dc:title>
</cp:coreProperties>
</file>