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75A-C04A-449F-9B34-D64F235E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C91-BD9D-4564-8F60-BE4B65BE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C2D-17FD-4B7B-B936-C0B24310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F3A-F9B5-4FB0-8EA9-A17A10C6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060-CC30-4256-A400-A6968030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FCD-18A2-4310-90E7-EA22ECF3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5EA-F28D-4173-BDEA-81B7472D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8F8-AE69-42D0-A156-AEC396D9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CCC-1094-4692-853B-7F94964E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0D7-D9E5-4E86-BF87-40F749C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6B7-EDA3-4104-9AAB-B1BBA6F2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212-6F85-4FA6-AAE8-7486469A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A70E-DD27-4528-88CF-6DFD7AD2F59C}" type="slidenum"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C:/Documents%20and%20Settings/gh%20ck/&#26700;&#38754;/zzq_btq.avi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557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人教新课标三年级语文下册第一单元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3640" y="2708280"/>
            <a:ext cx="2414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珍珠泉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105552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56000" y="1916280"/>
            <a:ext cx="3744720" cy="302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32720" y="3213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墨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1725840" cy="353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1700280"/>
            <a:ext cx="7391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自读课文，借助拼音认读生字，同学交流识字方法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04000" y="3500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珍珠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916360" y="2781360"/>
            <a:ext cx="377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1477800"/>
            <a:ext cx="30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读 读 想 想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2063880"/>
            <a:ext cx="716292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◇你知道珍珠泉在哪里？珍珠泉周围的景色怎样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◇珍珠泉的泉水是什么样的？并说说它是怎样冒出来的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◇想一想珍珠泉的名字是怎么来的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52388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珍珠泉为济南第三大名泉，位于济南旧城中心，今泉城路珍珠泉 礼堂内北面。在它周围有许多小泉，如楚泉、溪亭泉、舜泉、玉环泉、太乙泉等，被称为珍珠泉泉群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67280" y="530064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珍 珠 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9341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1523880"/>
            <a:ext cx="775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）那绿得没有一点杂色的蕨草，那悄悄开放着的花朵，给珍珠泉编了个朴素的花环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）水是那样绿，绿得像是被周围的绿树、绿草染过似的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）水泡很小，摇晃着越升越高，越来越大，最后在水面绽开了，在扑哧一笑中消失了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）……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1668600" cy="4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6680" y="1447920"/>
            <a:ext cx="70866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◎你喜欢珍珠泉吗？你的家乡是不是也有这样美好的事物？想一想，给大家描绘一下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 ◎我国有很多神奇的泉水，如西藏的羊八井泉、河北的喷鱼泉、台湾省的“水火泉”等。课后查查有关泉水的资料，互相交流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1668600" cy="4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0920" y="227664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羊八井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067280" y="1341360"/>
            <a:ext cx="3981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1668600" cy="434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1447920"/>
            <a:ext cx="7086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喊泉：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位于安徽寿县以北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公里的地方。当有人站在泉边大声叫喊时，泉水就会大股涌出，如果小声叫喊，泉水则小股涌出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姐妹泉：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在河南郑州西南郊的三李村，有一对泉水，相距不远，一个温度在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32℃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以上，称为温泉，一个温度在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18℃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以下，称为冷泉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1668600" cy="4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680" y="159696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托币泉：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在杭州西湖的虎跑泉，泉水表面张力大，投数枚钱币于杯水中不沉，水可高出杯口二三毫米而不溢出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间歇泉：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该泉坐落在湖南大庸市温塘乡哈溪村，泉眼中每间隔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至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分钟涌出一股泉水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03500"/>
                </a:solidFill>
                <a:latin typeface="Times New Roman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正确、流利、有感情地朗读课文，积累课文优美地语言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学习作者抓特点表述景物的方法，了解珍珠泉的美丽，体会作者热爱大自然、热爱家乡的感情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1089000"/>
            <a:ext cx="1668600" cy="4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42920" y="162864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毒气泉：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在云南腾冲县城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45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公里处，泉井无水，却可见到硫磺结晶等物质，并经常发出二氧化硫等气味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一、组词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编（      ）     斑（      ）     洒（      ）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骗（      ）     班（      ）     晒（      ）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泼（      ）     绽（      ）     错（      ）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拨（      ）     淀（      ）     惜（      ）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宋体"/>
              </a:rPr>
              <a:t>二、把下面的句子补充完整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7400"/>
                </a:solidFill>
                <a:latin typeface="宋体"/>
              </a:rPr>
              <a:t>水是那样（     ），（     ）得像是被周围的（     ）、（     ）的。水是那样（     ），又那样（     ），（     ）得能看见（     ）的（      ）的石头，能看见（     ）在谭底的（     ）和已经发黑的（     ）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7400"/>
                </a:solidFill>
                <a:latin typeface="宋体"/>
              </a:rPr>
              <a:t>最有趣的，当然是那（      ）的、（      ）的、一嘟噜一嘟噜从（      ）冒出来的（      ）了！开始，（      ）很小，（      ）着越（      ）越（      ），越（      ）越（      ），最后在水面（      ）了，在“扑哧”一笑中（      ）了！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7400"/>
                </a:solidFill>
                <a:latin typeface="宋体"/>
              </a:rPr>
              <a:t>水面和谭底，（      ）的光斑和（      ）的光斑（      ）着；水泡（      ）的，（      ）的光，（      ）的光，（      ）的光，（      ）的光……多像一串一串的珍珠啊！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1714680" cy="46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1341360"/>
            <a:ext cx="7694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　　你见过泉水吗？说说你所知道的泉水吧！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3006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趵突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349360"/>
            <a:ext cx="388944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17146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40360" y="5300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蝴蝶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6000" y="1413000"/>
            <a:ext cx="4751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1714320" cy="46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32720" y="328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上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16360" y="1916280"/>
            <a:ext cx="3367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105552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59280" y="1916280"/>
            <a:ext cx="345744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1640" y="49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黑虎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105552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56000" y="1704960"/>
            <a:ext cx="4176720" cy="3164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86200" y="5257800"/>
            <a:ext cx="24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无忧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3000" y="105552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700360" y="1700280"/>
            <a:ext cx="3816360" cy="3057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5084640"/>
            <a:ext cx="19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对波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105552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916360" y="1700280"/>
            <a:ext cx="3816360" cy="3089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51280" y="5157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九女泉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1:17:06Z</dcterms:created>
  <dc:creator>fqun</dc:creator>
  <dc:description/>
  <dc:language>en-US</dc:language>
  <cp:lastModifiedBy>gaoren</cp:lastModifiedBy>
  <dcterms:modified xsi:type="dcterms:W3CDTF">2009-04-07T07:29:41Z</dcterms:modified>
  <cp:revision>81</cp:revision>
  <dc:subject/>
  <dc:title>PowerPoint 演示文稿</dc:title>
</cp:coreProperties>
</file>