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typ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D7A-F4A8-4003-9408-1FC75901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8C9-09EA-49CF-AD7F-4F0B207A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E62-A74F-401F-BCD7-1DF2F5BC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9EBB-4F3E-45A6-BD6E-02A90953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CA7-6540-4718-A7F6-C88C4923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9518-722B-4719-A86D-8138CEFE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4BEA-2FFE-40A5-B16D-90D9458C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72C-1E5D-4BEA-A02D-A373C193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A474-5C21-459A-89D0-3F1DD152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7925-4683-4E26-B3D4-B1F93A41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C1A-416B-4940-90DD-480AA086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9F2E-5AAB-4D99-8FEC-FEC17B2A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7146-3ABA-406B-A944-A192F446F8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700360" y="1268280"/>
            <a:ext cx="360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一株紫丁香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51280" y="3500280"/>
            <a:ext cx="179244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826920" y="2925720"/>
            <a:ext cx="1729080" cy="1655640"/>
            <a:chOff x="826920" y="2925720"/>
            <a:chExt cx="1729080" cy="1655640"/>
          </a:xfrm>
        </p:grpSpPr>
        <p:sp>
          <p:nvSpPr>
            <p:cNvPr id="114" name=""/>
            <p:cNvSpPr/>
            <p:nvPr/>
          </p:nvSpPr>
          <p:spPr>
            <a:xfrm>
              <a:off x="826920" y="2925720"/>
              <a:ext cx="172908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92360" y="292572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6920" y="3789360"/>
              <a:ext cx="172908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492360" y="2925720"/>
            <a:ext cx="1729080" cy="1655640"/>
            <a:chOff x="3492360" y="2925720"/>
            <a:chExt cx="1729080" cy="1655640"/>
          </a:xfrm>
        </p:grpSpPr>
        <p:sp>
          <p:nvSpPr>
            <p:cNvPr id="118" name=""/>
            <p:cNvSpPr/>
            <p:nvPr/>
          </p:nvSpPr>
          <p:spPr>
            <a:xfrm>
              <a:off x="3492360" y="2925720"/>
              <a:ext cx="172908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57800" y="292572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92360" y="3789360"/>
              <a:ext cx="172908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227640" y="2925720"/>
            <a:ext cx="1729080" cy="1655640"/>
            <a:chOff x="6227640" y="2925720"/>
            <a:chExt cx="1729080" cy="1655640"/>
          </a:xfrm>
        </p:grpSpPr>
        <p:sp>
          <p:nvSpPr>
            <p:cNvPr id="122" name=""/>
            <p:cNvSpPr/>
            <p:nvPr/>
          </p:nvSpPr>
          <p:spPr>
            <a:xfrm>
              <a:off x="6227640" y="2925720"/>
              <a:ext cx="172908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93080" y="292572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27640" y="3789360"/>
              <a:ext cx="172908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55640" y="620640"/>
            <a:ext cx="180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枝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620640"/>
            <a:ext cx="151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歌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72360" y="549360"/>
            <a:ext cx="151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甜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2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3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3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9" dur="1" fill="hold"/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763640" y="2924280"/>
            <a:ext cx="1728720" cy="1655640"/>
            <a:chOff x="1763640" y="2924280"/>
            <a:chExt cx="1728720" cy="1655640"/>
          </a:xfrm>
        </p:grpSpPr>
        <p:sp>
          <p:nvSpPr>
            <p:cNvPr id="130" name=""/>
            <p:cNvSpPr/>
            <p:nvPr/>
          </p:nvSpPr>
          <p:spPr>
            <a:xfrm>
              <a:off x="1763640" y="2924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28720" y="2924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63640" y="3787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435640" y="2924280"/>
            <a:ext cx="1728720" cy="1655640"/>
            <a:chOff x="5435640" y="2924280"/>
            <a:chExt cx="1728720" cy="1655640"/>
          </a:xfrm>
        </p:grpSpPr>
        <p:sp>
          <p:nvSpPr>
            <p:cNvPr id="134" name=""/>
            <p:cNvSpPr/>
            <p:nvPr/>
          </p:nvSpPr>
          <p:spPr>
            <a:xfrm>
              <a:off x="5435640" y="2924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00720" y="2924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35640" y="3787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763640" y="620640"/>
            <a:ext cx="1656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进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64000" y="620640"/>
            <a:ext cx="187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45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49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1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611280" y="800280"/>
            <a:ext cx="1728720" cy="1655640"/>
            <a:chOff x="611280" y="800280"/>
            <a:chExt cx="1728720" cy="1655640"/>
          </a:xfrm>
        </p:grpSpPr>
        <p:sp>
          <p:nvSpPr>
            <p:cNvPr id="141" name=""/>
            <p:cNvSpPr/>
            <p:nvPr/>
          </p:nvSpPr>
          <p:spPr>
            <a:xfrm>
              <a:off x="611280" y="800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76360" y="800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1280" y="1663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771640" y="800280"/>
            <a:ext cx="1729080" cy="1655640"/>
            <a:chOff x="2771640" y="800280"/>
            <a:chExt cx="1729080" cy="1655640"/>
          </a:xfrm>
        </p:grpSpPr>
        <p:sp>
          <p:nvSpPr>
            <p:cNvPr id="145" name=""/>
            <p:cNvSpPr/>
            <p:nvPr/>
          </p:nvSpPr>
          <p:spPr>
            <a:xfrm>
              <a:off x="2771640" y="800280"/>
              <a:ext cx="172908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37080" y="800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71640" y="1663920"/>
              <a:ext cx="172908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59280" y="801720"/>
            <a:ext cx="1728720" cy="1655640"/>
            <a:chOff x="4859280" y="801720"/>
            <a:chExt cx="1728720" cy="1655640"/>
          </a:xfrm>
        </p:grpSpPr>
        <p:sp>
          <p:nvSpPr>
            <p:cNvPr id="149" name=""/>
            <p:cNvSpPr/>
            <p:nvPr/>
          </p:nvSpPr>
          <p:spPr>
            <a:xfrm>
              <a:off x="4859280" y="80172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24360" y="80172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59280" y="166536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948360" y="800280"/>
            <a:ext cx="1729080" cy="1655640"/>
            <a:chOff x="6948360" y="800280"/>
            <a:chExt cx="1729080" cy="1655640"/>
          </a:xfrm>
        </p:grpSpPr>
        <p:sp>
          <p:nvSpPr>
            <p:cNvPr id="153" name=""/>
            <p:cNvSpPr/>
            <p:nvPr/>
          </p:nvSpPr>
          <p:spPr>
            <a:xfrm>
              <a:off x="6948360" y="800280"/>
              <a:ext cx="172908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13800" y="800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48360" y="1663920"/>
              <a:ext cx="172908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11280" y="3573360"/>
            <a:ext cx="1728720" cy="1655640"/>
            <a:chOff x="611280" y="3573360"/>
            <a:chExt cx="1728720" cy="1655640"/>
          </a:xfrm>
        </p:grpSpPr>
        <p:sp>
          <p:nvSpPr>
            <p:cNvPr id="157" name=""/>
            <p:cNvSpPr/>
            <p:nvPr/>
          </p:nvSpPr>
          <p:spPr>
            <a:xfrm>
              <a:off x="611280" y="35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76360" y="357336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1280" y="443700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771640" y="3573360"/>
            <a:ext cx="1729080" cy="1655640"/>
            <a:chOff x="2771640" y="3573360"/>
            <a:chExt cx="1729080" cy="1655640"/>
          </a:xfrm>
        </p:grpSpPr>
        <p:sp>
          <p:nvSpPr>
            <p:cNvPr id="161" name=""/>
            <p:cNvSpPr/>
            <p:nvPr/>
          </p:nvSpPr>
          <p:spPr>
            <a:xfrm>
              <a:off x="2771640" y="3573360"/>
              <a:ext cx="172908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37080" y="357336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71640" y="4437000"/>
              <a:ext cx="172908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859280" y="3573360"/>
            <a:ext cx="1728720" cy="1655640"/>
            <a:chOff x="4859280" y="3573360"/>
            <a:chExt cx="1728720" cy="1655640"/>
          </a:xfrm>
        </p:grpSpPr>
        <p:sp>
          <p:nvSpPr>
            <p:cNvPr id="165" name=""/>
            <p:cNvSpPr/>
            <p:nvPr/>
          </p:nvSpPr>
          <p:spPr>
            <a:xfrm>
              <a:off x="4859280" y="35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357336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59280" y="443700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948360" y="3573360"/>
            <a:ext cx="1729080" cy="1655640"/>
            <a:chOff x="6948360" y="3573360"/>
            <a:chExt cx="1729080" cy="1655640"/>
          </a:xfrm>
        </p:grpSpPr>
        <p:sp>
          <p:nvSpPr>
            <p:cNvPr id="169" name=""/>
            <p:cNvSpPr/>
            <p:nvPr/>
          </p:nvSpPr>
          <p:spPr>
            <a:xfrm>
              <a:off x="6948360" y="3573360"/>
              <a:ext cx="172908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13800" y="357336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48360" y="4437000"/>
              <a:ext cx="172908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39640" y="733320"/>
            <a:ext cx="187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窗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43280" y="733320"/>
            <a:ext cx="165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紫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59280" y="692280"/>
            <a:ext cx="1656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脚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48360" y="733320"/>
            <a:ext cx="1656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进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3541680"/>
            <a:ext cx="1871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3541680"/>
            <a:ext cx="180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枝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4560" y="3541680"/>
            <a:ext cx="151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歌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91280" y="3500280"/>
            <a:ext cx="151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甜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 rot="20387400">
            <a:off x="1527120" y="1858680"/>
            <a:ext cx="1801800" cy="21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82" name=""/>
          <p:cNvSpPr txBox="1"/>
          <p:nvPr/>
        </p:nvSpPr>
        <p:spPr>
          <a:xfrm rot="936000">
            <a:off x="5562720" y="1109520"/>
            <a:ext cx="1407960" cy="181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83" name=""/>
          <p:cNvSpPr txBox="1"/>
          <p:nvPr/>
        </p:nvSpPr>
        <p:spPr>
          <a:xfrm rot="1923600">
            <a:off x="7419600" y="1711440"/>
            <a:ext cx="328680" cy="15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15638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紫丁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0920" y="156384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浓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6000" y="15638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解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9080" y="317196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眨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0920" y="317196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挂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31719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枝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98100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9079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rial"/>
              </a:rPr>
              <a:t>ĭ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rial"/>
              </a:rPr>
              <a:t>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ng x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rial"/>
              </a:rPr>
              <a:t>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907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ng 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6000" y="9079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j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ě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256536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zhǎ 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256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ɡuà qi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256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z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ī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34136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134136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692360" y="1268280"/>
            <a:ext cx="64764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3800" y="2205000"/>
            <a:ext cx="5745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940360" y="1268280"/>
            <a:ext cx="647640" cy="1441440"/>
            <a:chOff x="5940360" y="1268280"/>
            <a:chExt cx="647640" cy="1441440"/>
          </a:xfrm>
        </p:grpSpPr>
        <p:sp>
          <p:nvSpPr>
            <p:cNvPr id="64" name=""/>
            <p:cNvSpPr/>
            <p:nvPr/>
          </p:nvSpPr>
          <p:spPr>
            <a:xfrm flipV="1">
              <a:off x="5940360" y="1268280"/>
              <a:ext cx="64764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0360" y="2205000"/>
              <a:ext cx="57456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411280" y="981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66920" y="2421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hé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56360" y="9079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56360" y="242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1280" y="71136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紫丁香是谁栽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87640" y="18302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为什么要把紫丁香栽在老师的窗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84720" y="363060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紫丁香是怎样和老师做伴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90972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64000" y="213372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88000" y="3933720"/>
            <a:ext cx="21564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58920" y="765000"/>
            <a:ext cx="6121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您听，您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风里沙沙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那是我们给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_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帮您解除一天的疲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32000" y="1484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绿 叶 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00720" y="23493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唱 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47640" y="476280"/>
            <a:ext cx="5832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您看，您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盛开的小花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那是我们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_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感谢您时时把我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1268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满  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40360" y="213372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笑  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2852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挂 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58920" y="820800"/>
            <a:ext cx="6696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夜深了，星星困得眨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师，您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让花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梦啊，准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0920" y="148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休息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2349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飘进您的梦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314172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又香又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836640"/>
            <a:ext cx="1511280" cy="863640"/>
          </a:xfrm>
          <a:prstGeom prst="cloudCallout">
            <a:avLst>
              <a:gd name="adj1" fmla="val 49370"/>
              <a:gd name="adj2" fmla="val 887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83672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花香飘进老师的梦里，老师会梦见什么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052640"/>
            <a:ext cx="10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想一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92360" y="14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98560" y="2924280"/>
            <a:ext cx="1728720" cy="1655640"/>
            <a:chOff x="898560" y="2924280"/>
            <a:chExt cx="1728720" cy="1655640"/>
          </a:xfrm>
        </p:grpSpPr>
        <p:sp>
          <p:nvSpPr>
            <p:cNvPr id="98" name=""/>
            <p:cNvSpPr/>
            <p:nvPr/>
          </p:nvSpPr>
          <p:spPr>
            <a:xfrm>
              <a:off x="898560" y="2924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63640" y="2924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8560" y="3787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780000" y="2924280"/>
            <a:ext cx="1728720" cy="1655640"/>
            <a:chOff x="3780000" y="2924280"/>
            <a:chExt cx="1728720" cy="1655640"/>
          </a:xfrm>
        </p:grpSpPr>
        <p:sp>
          <p:nvSpPr>
            <p:cNvPr id="102" name=""/>
            <p:cNvSpPr/>
            <p:nvPr/>
          </p:nvSpPr>
          <p:spPr>
            <a:xfrm>
              <a:off x="3780000" y="2924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45080" y="2924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80000" y="3787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88000" y="2997360"/>
            <a:ext cx="1729080" cy="1655640"/>
            <a:chOff x="6588000" y="2997360"/>
            <a:chExt cx="1729080" cy="1655640"/>
          </a:xfrm>
        </p:grpSpPr>
        <p:sp>
          <p:nvSpPr>
            <p:cNvPr id="106" name=""/>
            <p:cNvSpPr/>
            <p:nvPr/>
          </p:nvSpPr>
          <p:spPr>
            <a:xfrm>
              <a:off x="6588000" y="2997360"/>
              <a:ext cx="172908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53440" y="299736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88000" y="3861000"/>
              <a:ext cx="172908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826920" y="620640"/>
            <a:ext cx="187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窗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1280" y="620640"/>
            <a:ext cx="165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紫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59640" y="620640"/>
            <a:ext cx="165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脚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07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1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1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0" dur="1" fill="hold"/>
                                  <p:tgtEl>
                                    <p:spTgt spid="1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4:54:47Z</dcterms:created>
  <dc:creator>为您服务教育网 http://www.wsbedu.com/</dc:creator>
  <dc:description/>
  <dc:language>en-US</dc:language>
  <cp:lastModifiedBy>微软用户</cp:lastModifiedBy>
  <dcterms:modified xsi:type="dcterms:W3CDTF">2010-06-24T13:50:15Z</dcterms:modified>
  <cp:revision>10</cp:revision>
  <dc:subject/>
  <dc:title>幻灯片 1</dc:title>
</cp:coreProperties>
</file>