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13.jpeg" ContentType="image/jpeg"/>
  <Override PartName="/ppt/media/image18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typ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DD1-3D3F-4FED-B544-CC5C751A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5AA-5F3E-4D1E-9E44-5164FFB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7BF-550F-4FCE-A9BD-4A65507C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1AE-33E3-481A-96BD-28C09F2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6E6-8BB8-4AB2-A8EC-D454ABC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C7A-79D6-463E-A77B-F1126B4B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28E-3CCF-4AB1-8795-154BADB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302-80B3-48C8-BA6A-DA8453C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1AF-A835-411D-BB7C-3A6D750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9FC-7270-4B93-A040-07FEA81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0A1-9367-403B-B608-E0DEB0B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769-7D6B-46B0-8396-E292FF7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646-4759-4EF7-AC15-48E273390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0.xml"/><Relationship Id="rId3" Type="http://schemas.openxmlformats.org/officeDocument/2006/relationships/slide" Target="slide25.xml"/><Relationship Id="rId4" Type="http://schemas.openxmlformats.org/officeDocument/2006/relationships/slide" Target="slide33.xml"/><Relationship Id="rId5" Type="http://schemas.openxmlformats.org/officeDocument/2006/relationships/slide" Target="slide21.xml"/><Relationship Id="rId6" Type="http://schemas.openxmlformats.org/officeDocument/2006/relationships/slide" Target="slide51.xml"/><Relationship Id="rId7" Type="http://schemas.openxmlformats.org/officeDocument/2006/relationships/slide" Target="slide28.xml"/><Relationship Id="rId8" Type="http://schemas.openxmlformats.org/officeDocument/2006/relationships/slide" Target="slide50.xml"/><Relationship Id="rId9" Type="http://schemas.openxmlformats.org/officeDocument/2006/relationships/slide" Target="slide49.xml"/><Relationship Id="rId10" Type="http://schemas.openxmlformats.org/officeDocument/2006/relationships/slide" Target="slide3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image" Target="../media/image26.wmf"/><Relationship Id="rId11" Type="http://schemas.openxmlformats.org/officeDocument/2006/relationships/image" Target="../media/image26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29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3"/>
          <p:cNvPicPr/>
          <p:nvPr/>
        </p:nvPicPr>
        <p:blipFill>
          <a:blip r:embed="rId1"/>
          <a:stretch/>
        </p:blipFill>
        <p:spPr>
          <a:xfrm>
            <a:off x="-39672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050920" y="2349360"/>
            <a:ext cx="58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月球之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xin_21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有关月亮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后羿射日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》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月亮女神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嫦娥奔月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》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c484db27f07bf81d9335a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夜幕降临，一轮明月悬挂在高高的夜空，那皎洁的月光曾引起人们多少美好的遐想呢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_9327F82C1D12E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"/>
          <p:cNvGrpSpPr/>
          <p:nvPr/>
        </p:nvGrpSpPr>
        <p:grpSpPr>
          <a:xfrm>
            <a:off x="250920" y="476280"/>
            <a:ext cx="9361440" cy="4220640"/>
            <a:chOff x="250920" y="476280"/>
            <a:chExt cx="9361440" cy="4220640"/>
          </a:xfrm>
        </p:grpSpPr>
        <p:sp>
          <p:nvSpPr>
            <p:cNvPr id="82" name="Rectangle 4"/>
            <p:cNvSpPr/>
            <p:nvPr/>
          </p:nvSpPr>
          <p:spPr>
            <a:xfrm>
              <a:off x="250920" y="476280"/>
              <a:ext cx="9361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隶书"/>
                </a:rPr>
                <a:t>床前明月光，疑是地上霜。               李白 </a:t>
              </a: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"/>
            <p:cNvGrpSpPr/>
            <p:nvPr/>
          </p:nvGrpSpPr>
          <p:grpSpPr>
            <a:xfrm>
              <a:off x="250920" y="1073160"/>
              <a:ext cx="9144000" cy="3623760"/>
              <a:chOff x="250920" y="1073160"/>
              <a:chExt cx="9144000" cy="362376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1964520" y="1073160"/>
                <a:ext cx="5126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下飞天镜，云生结海楼。               李白</a:t>
                </a:r>
                <a:r>
                  <a:rPr b="0" lang="zh-CN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250920" y="2712960"/>
                <a:ext cx="882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明月别枝惊鹊，清风半夜鸣蝉。      辛弃疾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250920" y="405432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可怜九月初三夜，露似珍珠月似弓。白居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 Box 9"/>
              <p:cNvSpPr/>
              <p:nvPr/>
            </p:nvSpPr>
            <p:spPr>
              <a:xfrm>
                <a:off x="250920" y="330984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落乌啼霜满天，江枫渔火对愁眠。 张继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10"/>
              <p:cNvSpPr/>
              <p:nvPr/>
            </p:nvSpPr>
            <p:spPr>
              <a:xfrm>
                <a:off x="250920" y="1593720"/>
                <a:ext cx="889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上柳梢头，人约黄昏后。            欧阳修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11"/>
              <p:cNvSpPr/>
              <p:nvPr/>
            </p:nvSpPr>
            <p:spPr>
              <a:xfrm>
                <a:off x="1964520" y="2116080"/>
                <a:ext cx="512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明月几时有，把酒问青天。               苏轼</a:t>
                </a:r>
                <a:r>
                  <a:rPr b="1" lang="zh-CN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br>
                  <a:rPr sz="1800"/>
                </a:b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50440" y="-79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关于月亮的诗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8760" y="568440"/>
            <a:ext cx="898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野旷天低树，江清月近人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孟浩然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宿建德江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明月松间照，清泉石上流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王维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山居秋瞑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举杯邀明月，对影成三人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李白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月下独酌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小时不识月，呼作白玉盘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李白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古朗月行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深林人不知，明月来相照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王维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竹里馆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月出惊山鸟，时鸣春涧中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王维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鸟鸣涧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人有悲欢离合，月有阴晴圆缺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苏轼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水调歌头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•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明月几时有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．秦时明月汉时关，万里长征人未还。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王昌龄：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出塞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明月出天山，苍茫云海间。长风几万里，吹度玉门关。－－李白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关山月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0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床前明月光，疑是地上霜。举头望明月，低头思故乡。－－李白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静夜思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1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海上生明月，天涯共此时。情人怨遥夜，竟夕起相思！－－张九龄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望月怀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2.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露从今夜白，月是故乡明。－－杜甫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月夜忆舍弟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224560" y="616572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33月"/>
          <p:cNvPicPr/>
          <p:nvPr/>
        </p:nvPicPr>
        <p:blipFill>
          <a:blip r:embed="rId1"/>
          <a:stretch/>
        </p:blipFill>
        <p:spPr>
          <a:xfrm>
            <a:off x="0" y="0"/>
            <a:ext cx="8748720" cy="595008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108000" y="5905440"/>
            <a:ext cx="903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面对着这散发着冷冷清辉的明月</a:t>
            </a:r>
            <a:r>
              <a:rPr b="1" lang="en-US" sz="2400" spc="-1" strike="noStrike">
                <a:solidFill>
                  <a:srgbClr val="ff0000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北宋大文学家苏东坡发出质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明月几时有？把酒问青天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”那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你们又有什么疑问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39640" y="33577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今天就让咱们带着这些疑问登上月球去寻找答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1692360" y="83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球是从哪儿来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上面有些什么东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它跟地球一样吗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26920" y="1916280"/>
            <a:ext cx="727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用自己喜欢的方式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注意把字音读准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把句子读通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、有不明白的地方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不懂读的字和词拿起笔做上记号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4"/>
          <p:cNvPicPr/>
          <p:nvPr/>
        </p:nvPicPr>
        <p:blipFill>
          <a:blip r:embed="rId1"/>
          <a:stretch/>
        </p:blipFill>
        <p:spPr>
          <a:xfrm>
            <a:off x="-324000" y="7029360"/>
            <a:ext cx="9144000" cy="7610400"/>
          </a:xfrm>
          <a:prstGeom prst="rect">
            <a:avLst/>
          </a:prstGeom>
          <a:ln w="0">
            <a:noFill/>
          </a:ln>
        </p:spPr>
      </p:pic>
      <p:pic>
        <p:nvPicPr>
          <p:cNvPr id="99" name="第二十二课_月球之谜.mp3" descr=""/>
          <p:cNvPicPr/>
          <p:nvPr/>
        </p:nvPicPr>
        <p:blipFill>
          <a:blip r:embed="rId2"/>
          <a:stretch/>
        </p:blipFill>
        <p:spPr>
          <a:xfrm>
            <a:off x="7596360" y="580392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5683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401200" y="515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读好的同学请举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197080" y="1504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看谁把这些词语读准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2349360"/>
            <a:ext cx="961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幕降临　　悬挂　　曾经　　奥秘　　努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登上　　        任何        荒漠        细菌         撒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藻　　        估计      黑沉沉　年龄    古往今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旦               一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332000" y="692280"/>
            <a:ext cx="817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éng  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ǎ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ǎo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tàn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uǒ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曾经    撒在   水藻        探  索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Narrow"/>
                <a:ea typeface="华文楷体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ín</a:t>
            </a:r>
            <a:r>
              <a:rPr b="0" lang="en-US" sz="4000" spc="-1" strike="noStrike">
                <a:solidFill>
                  <a:srgbClr val="ffff66"/>
                </a:solidFill>
                <a:latin typeface="Arial Narrow"/>
                <a:ea typeface="华文楷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íng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ǚ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夜幕降临       年龄         努力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i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àng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àn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Gū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一项              一旦         估计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iǎo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uán</a:t>
            </a:r>
            <a:r>
              <a:rPr b="1" lang="en-US" sz="4000" spc="-1" strike="noStrike">
                <a:solidFill>
                  <a:srgbClr val="ffff66"/>
                </a:solidFill>
                <a:latin typeface="Arial Narrow"/>
                <a:ea typeface="华文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iá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皎洁             悬挂        遐想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1"/>
          <p:cNvPicPr/>
          <p:nvPr/>
        </p:nvPicPr>
        <p:blipFill>
          <a:blip r:embed="rId1"/>
          <a:stretch/>
        </p:blipFill>
        <p:spPr>
          <a:xfrm>
            <a:off x="7415280" y="4851360"/>
            <a:ext cx="1728720" cy="20066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4572000" y="5273640"/>
            <a:ext cx="2521080" cy="1584360"/>
          </a:xfrm>
          <a:prstGeom prst="cloudCallout">
            <a:avLst>
              <a:gd name="adj1" fmla="val 76574"/>
              <a:gd name="adj2" fmla="val -13425"/>
            </a:avLst>
          </a:prstGeom>
          <a:blipFill rotWithShape="0">
            <a:blip r:embed="rId2">
              <a:alphaModFix amt="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你都读对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684360" y="476280"/>
            <a:ext cx="806436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夜幕降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　悬挂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任何 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荒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奥秘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估计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古往今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   细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水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登上　　曾经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撒在       努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沉沉        　年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旦                一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376800" y="20289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星空挂着一张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世上没人拉得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弦下弦有规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待到弓满正月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643480" y="2781360"/>
            <a:ext cx="37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夜幕降临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指夜晚已经来临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03680" y="6308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60020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11120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奥秘：奥妙神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059320" y="60930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487400" y="321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荒漠：月球荒凉而又无边无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132400" y="60930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99400" y="2492280"/>
            <a:ext cx="24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估计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gūjì∶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对事物做大致的推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432200" y="5516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822560" y="2498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古往今来：从古代到现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98804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940040" y="2708280"/>
            <a:ext cx="51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悬挂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xuánguà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：吊挂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;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挂念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988040" y="5805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71640" y="1989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水藻是最简单的水生植物，它含有叶绿素。是水中的隐花植物，同陆地上的植物一样，氮、磷、钾是它们生长所需的基本元素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0368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042920" y="2708280"/>
            <a:ext cx="68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任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 rèn  hé)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随便什么，无论什么。例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们遭遇任何困难都不要放弃希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772040" y="602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476280"/>
            <a:ext cx="851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月球之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     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夜幕降临，一轮明月悬挂的高高的夜空，那皎洁的月光曾引起人们多少美好的遐想！月球是从哪来的？上面有些什么东西？它跟地球一样吗？古往今来，为了探索月球的奥秘，人类付出了巨大的努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 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69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日，两名美国宇航员首次登上月球，第一眼看到的就是十分奇异的景色：这里的天空黑沉沉的，表面却洒满灿烂的阳光。月球上满是尘土、岩石、环形山，没有水，没有任何生命。月球是一片荒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 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细菌撒在从月球带回来的尘土上，细菌一下子都死了，难道这些尘土有杀菌的本领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 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再看看用植物做实验的结果：把玉米种在月球的尘土里，和在地球土壤里没有明显不同。可是，水藻一旦放进月球尘土，水藻就长得特别鲜嫩青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这一连串实验结果是多么令人费解呀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 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项研究结果说，月球上曾经有过火山活动。从月球采回的一块岩石，估计它的年龄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亿年，而在地球上，只能找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亿年前的石块。难道月球比地球的年龄还大？或者是月球的火山活动比地球还早？这又是一个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   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   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对神秘的月球，人类还将继续探索下去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88560" y="85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5280" y="1649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刚才我们一起学习了本课的一些生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步的了解了课文内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861920" y="270828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课文主要说了什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5280" y="3645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们对月球有许多美好的遐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球的景色非常奇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很多月球之迷人们还没有解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376800" y="202896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星空挂着一张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世上没人拉得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弦下弦有规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待到弓满正月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89548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98080" y="50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谜底：月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16000" y="2637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类登月以后探索出了什么重大的科学发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节课我们再一起学习课文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起去探索月球的奥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3" descr="20041130110948948"/>
          <p:cNvPicPr/>
          <p:nvPr/>
        </p:nvPicPr>
        <p:blipFill>
          <a:blip r:embed="rId1">
            <a:lum bright="10000"/>
          </a:blip>
          <a:srcRect l="1633" t="1209" r="1814" b="8698"/>
          <a:stretch/>
        </p:blipFill>
        <p:spPr>
          <a:xfrm>
            <a:off x="179280" y="404640"/>
            <a:ext cx="8790120" cy="6048720"/>
          </a:xfrm>
          <a:prstGeom prst="rect">
            <a:avLst/>
          </a:prstGeom>
          <a:ln w="0">
            <a:noFill/>
          </a:ln>
        </p:spPr>
      </p:pic>
      <p:sp>
        <p:nvSpPr>
          <p:cNvPr id="131" name="Oval 2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图片9"/>
          <p:cNvPicPr/>
          <p:nvPr/>
        </p:nvPicPr>
        <p:blipFill>
          <a:blip r:embed="rId3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图片9"/>
          <p:cNvPicPr/>
          <p:nvPr/>
        </p:nvPicPr>
        <p:blipFill>
          <a:blip r:embed="rId4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图片9"/>
          <p:cNvPicPr/>
          <p:nvPr/>
        </p:nvPicPr>
        <p:blipFill>
          <a:blip r:embed="rId6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76000" y="177300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幕      临     悬      曾     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图片9"/>
          <p:cNvPicPr/>
          <p:nvPr/>
        </p:nvPicPr>
        <p:blipFill>
          <a:blip r:embed="rId14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8"/>
          <p:cNvSpPr/>
          <p:nvPr/>
        </p:nvSpPr>
        <p:spPr>
          <a:xfrm>
            <a:off x="1476360" y="4910040"/>
            <a:ext cx="518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旦     项     估     龄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9" descr="图片9"/>
          <p:cNvPicPr/>
          <p:nvPr/>
        </p:nvPicPr>
        <p:blipFill>
          <a:blip r:embed="rId15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0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努     登     任     撒     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162864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幕降临　　悬挂　　曾经　　奥秘　　努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登上　　        任何        荒漠        细菌         撒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藻　　        估计      黑沉沉　年龄    古往今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旦                一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346560" y="1074600"/>
            <a:ext cx="23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把这些词语认认真真写一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谁写得好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ctkc2月007829175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9640" y="4221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夜幕降临，一轮明月悬挂的高高的夜空，那皎洁的月光曾引起人们多少美好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遐想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24680" y="5661000"/>
            <a:ext cx="47311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名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齐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们都在想些什么问些什么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95640" y="1125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球是从哪儿来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面有些什么东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它跟地球一样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snapshot20070924195042"/>
          <p:cNvPicPr/>
          <p:nvPr/>
        </p:nvPicPr>
        <p:blipFill>
          <a:blip r:embed="rId1"/>
          <a:stretch/>
        </p:blipFill>
        <p:spPr>
          <a:xfrm>
            <a:off x="0" y="0"/>
            <a:ext cx="914400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pic0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_1-1-21-166_200309231438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5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2007072609063710425"/>
          <p:cNvPicPr/>
          <p:nvPr/>
        </p:nvPicPr>
        <p:blipFill>
          <a:blip r:embed="rId2"/>
          <a:stretch/>
        </p:blipFill>
        <p:spPr>
          <a:xfrm>
            <a:off x="1219320" y="30240"/>
            <a:ext cx="6933960" cy="682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1248131514319"/>
          <p:cNvPicPr/>
          <p:nvPr/>
        </p:nvPicPr>
        <p:blipFill>
          <a:blip r:embed="rId3"/>
          <a:stretch/>
        </p:blipFill>
        <p:spPr>
          <a:xfrm>
            <a:off x="0" y="0"/>
            <a:ext cx="9144000" cy="5607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596a6ca4e101833be09e685"/>
          <p:cNvPicPr/>
          <p:nvPr/>
        </p:nvPicPr>
        <p:blipFill>
          <a:blip r:embed="rId4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01200000007181115336063258690"/>
          <p:cNvPicPr/>
          <p:nvPr/>
        </p:nvPicPr>
        <p:blipFill>
          <a:blip r:embed="rId5"/>
          <a:stretch/>
        </p:blipFill>
        <p:spPr>
          <a:xfrm>
            <a:off x="2057400" y="0"/>
            <a:ext cx="54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xinsrc_26207041915122181062941"/>
          <p:cNvPicPr/>
          <p:nvPr/>
        </p:nvPicPr>
        <p:blipFill>
          <a:blip r:embed="rId6"/>
          <a:stretch/>
        </p:blipFill>
        <p:spPr>
          <a:xfrm>
            <a:off x="380880" y="0"/>
            <a:ext cx="8763120" cy="660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1_1-1-21-166_2003092314383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8" name="type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030153907509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20061030153922190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8458200" y="228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915400" y="533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0" y="198108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古往今来，为了探索月球的奥秘，人类付出了巨大的努力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332000" y="206064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古往今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859280" y="289260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巨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815101246513[1]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月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月夜1"/>
          <p:cNvPicPr/>
          <p:nvPr/>
        </p:nvPicPr>
        <p:blipFill>
          <a:blip r:embed="rId3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xin_21月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ctkc2月007829175228"/>
          <p:cNvPicPr/>
          <p:nvPr/>
        </p:nvPicPr>
        <p:blipFill>
          <a:blip r:embed="rId5"/>
          <a:stretch/>
        </p:blipFill>
        <p:spPr>
          <a:xfrm>
            <a:off x="-324000" y="-243000"/>
            <a:ext cx="10009440" cy="734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133月"/>
          <p:cNvPicPr/>
          <p:nvPr/>
        </p:nvPicPr>
        <p:blipFill>
          <a:blip r:embed="rId6"/>
          <a:stretch/>
        </p:blipFill>
        <p:spPr>
          <a:xfrm>
            <a:off x="-304920" y="-228600"/>
            <a:ext cx="1027764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2uaw20月07829175228"/>
          <p:cNvPicPr/>
          <p:nvPr/>
        </p:nvPicPr>
        <p:blipFill>
          <a:blip r:embed="rId7"/>
          <a:stretch/>
        </p:blipFill>
        <p:spPr>
          <a:xfrm>
            <a:off x="-324000" y="-316080"/>
            <a:ext cx="10368000" cy="749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2w3u20月07829175228"/>
          <p:cNvPicPr/>
          <p:nvPr/>
        </p:nvPicPr>
        <p:blipFill>
          <a:blip r:embed="rId8"/>
          <a:stretch/>
        </p:blipFill>
        <p:spPr>
          <a:xfrm>
            <a:off x="-324000" y="-387360"/>
            <a:ext cx="10441080" cy="763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3h4月夜图62007829175227"/>
          <p:cNvPicPr/>
          <p:nvPr/>
        </p:nvPicPr>
        <p:blipFill>
          <a:blip r:embed="rId9"/>
          <a:stretch/>
        </p:blipFill>
        <p:spPr>
          <a:xfrm>
            <a:off x="-1440000" y="-316080"/>
            <a:ext cx="10584000" cy="770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月500"/>
          <p:cNvPicPr/>
          <p:nvPr/>
        </p:nvPicPr>
        <p:blipFill>
          <a:blip r:embed="rId10"/>
          <a:stretch/>
        </p:blipFill>
        <p:spPr>
          <a:xfrm>
            <a:off x="-1476360" y="-387360"/>
            <a:ext cx="9864720" cy="777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133月"/>
          <p:cNvPicPr/>
          <p:nvPr/>
        </p:nvPicPr>
        <p:blipFill>
          <a:blip r:embed="rId11"/>
          <a:stretch/>
        </p:blipFill>
        <p:spPr>
          <a:xfrm>
            <a:off x="-1260360" y="-1108080"/>
            <a:ext cx="975348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2141C5X-0"/>
          <p:cNvPicPr/>
          <p:nvPr/>
        </p:nvPicPr>
        <p:blipFill>
          <a:blip r:embed="rId1"/>
          <a:stretch/>
        </p:blipFill>
        <p:spPr>
          <a:xfrm>
            <a:off x="250920" y="2133720"/>
            <a:ext cx="178416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Img249032110"/>
          <p:cNvPicPr/>
          <p:nvPr/>
        </p:nvPicPr>
        <p:blipFill>
          <a:blip r:embed="rId2"/>
          <a:stretch/>
        </p:blipFill>
        <p:spPr>
          <a:xfrm>
            <a:off x="1979640" y="2133720"/>
            <a:ext cx="146520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月夜图1"/>
          <p:cNvPicPr/>
          <p:nvPr/>
        </p:nvPicPr>
        <p:blipFill>
          <a:blip r:embed="rId3"/>
          <a:stretch/>
        </p:blipFill>
        <p:spPr>
          <a:xfrm>
            <a:off x="250920" y="-27000"/>
            <a:ext cx="3097080" cy="2109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10"/>
          <p:cNvPicPr/>
          <p:nvPr/>
        </p:nvPicPr>
        <p:blipFill>
          <a:blip r:embed="rId4"/>
          <a:stretch/>
        </p:blipFill>
        <p:spPr>
          <a:xfrm>
            <a:off x="250920" y="4537080"/>
            <a:ext cx="3097080" cy="2276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635280" y="692280"/>
            <a:ext cx="53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很久很久以前，人们用肉眼观察月球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616200" y="2563920"/>
            <a:ext cx="527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609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月，伽利略用自制的放大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倍的望远镜观察月球，绘制出第一幅月球正面图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687840" y="5084640"/>
            <a:ext cx="527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969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日，美国“阿波罗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号”载人飞船成功登上月球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8458200" y="228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915400" y="533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0" y="198108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古往今来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，为了探索月球的奥秘，人类付出了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巨大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的努力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11280" y="436572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四：月球的 火山活动是否比地球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3"/>
          <p:cNvSpPr txBox="1"/>
          <p:nvPr/>
        </p:nvSpPr>
        <p:spPr>
          <a:xfrm rot="287400">
            <a:off x="539280" y="0"/>
            <a:ext cx="3681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99">
                        <a:alpha val="97254"/>
                      </a:srgbClr>
                    </a:gs>
                    <a:gs pos="100000">
                      <a:srgbClr val="ffffcc"/>
                    </a:gs>
                  </a:gsLst>
                  <a:lin ang="51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月球之谜</a:t>
            </a:r>
            <a:endParaRPr b="1" lang="en-US" sz="24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99">
                      <a:alpha val="97254"/>
                    </a:srgbClr>
                  </a:gs>
                  <a:gs pos="100000">
                    <a:srgbClr val="ffffcc"/>
                  </a:gs>
                </a:gsLst>
                <a:lin ang="51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4643280" y="0"/>
            <a:ext cx="83844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4000" y="1413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一：月球上的 尘土有 杀菌的本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220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二</a:t>
            </a:r>
            <a:r>
              <a:rPr b="1" lang="zh-CN" sz="18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为什么水藻种在月球的尘土里就长   得那么青绿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39640" y="3573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三：月球比地球的年龄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95280" y="458136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  <a:ea typeface="隶书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796000" y="4941720"/>
            <a:ext cx="2519280" cy="1700280"/>
          </a:xfrm>
          <a:prstGeom prst="cloudCallout">
            <a:avLst>
              <a:gd name="adj1" fmla="val -123347"/>
              <a:gd name="adj2" fmla="val 2918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  <a:ea typeface="楷体_GB2312"/>
              </a:rPr>
              <a:t>这里的省略号是什么意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0" descr="1"/>
          <p:cNvPicPr/>
          <p:nvPr/>
        </p:nvPicPr>
        <p:blipFill>
          <a:blip r:embed="rId1"/>
          <a:stretch/>
        </p:blipFill>
        <p:spPr>
          <a:xfrm>
            <a:off x="2641680" y="5300640"/>
            <a:ext cx="12985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美国月球基地3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3030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俄罗斯月球基地模型"/>
          <p:cNvPicPr/>
          <p:nvPr/>
        </p:nvPicPr>
        <p:blipFill>
          <a:blip r:embed="rId2"/>
          <a:stretch/>
        </p:blipFill>
        <p:spPr>
          <a:xfrm>
            <a:off x="4859280" y="333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15"/>
          <p:cNvPicPr/>
          <p:nvPr/>
        </p:nvPicPr>
        <p:blipFill>
          <a:blip r:embed="rId3"/>
          <a:stretch/>
        </p:blipFill>
        <p:spPr>
          <a:xfrm>
            <a:off x="2268360" y="3589200"/>
            <a:ext cx="3959280" cy="3170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422210334260562"/>
          <p:cNvPicPr/>
          <p:nvPr/>
        </p:nvPicPr>
        <p:blipFill>
          <a:blip r:embed="rId1"/>
          <a:stretch/>
        </p:blipFill>
        <p:spPr>
          <a:xfrm>
            <a:off x="0" y="0"/>
            <a:ext cx="9753480" cy="8151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250920" y="333360"/>
            <a:ext cx="83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月球起源之谜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目前，人类关于月球的起源，一共提出了三种假说：月球被捕获说，地月同源说和地球分裂说。到目前为止，三种假说都没有取得强有力的证据，因此产生了第四种假说──“月球──宇宙飞船”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月球年龄之谜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根据从月球带回的岩石标本，可以测定月球的年龄。经分析发现，与地球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％年龄最大的岩石相比，月球岩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％年龄更长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97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年，世界月球研讨会上曾测定一块月球岩石年龄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亿岁，而地球上最古老的岩石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亿岁。有些科学家提出，在地球形成之前，月球早已在星际空间形成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1"/>
          <p:cNvPicPr/>
          <p:nvPr/>
        </p:nvPicPr>
        <p:blipFill>
          <a:blip r:embed="rId2"/>
          <a:stretch/>
        </p:blipFill>
        <p:spPr>
          <a:xfrm>
            <a:off x="7020000" y="5445000"/>
            <a:ext cx="1717560" cy="1656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219640" y="587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e42e"/>
                </a:solidFill>
                <a:latin typeface="Arial"/>
                <a:ea typeface="华文行楷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xin_21090127163164021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-23760" y="2377440"/>
            <a:ext cx="916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地球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人类的摇篮，但人类不会永远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活在摇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篮里。人类选择走出地球，那么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第一站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就自然而然的选择了离我们最近的“未知”土地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月球。可能许多年后回首人类登月的历史，我们会觉得我们现在所取得的成绩很微薄，但是对人类进步却产生了深远的影响，正如一位踏上月球的人所讲：“虽然这只是我的一小步，却是人类的一大步！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200422210334260562"/>
          <p:cNvPicPr/>
          <p:nvPr/>
        </p:nvPicPr>
        <p:blipFill>
          <a:blip r:embed="rId1"/>
          <a:stretch/>
        </p:blipFill>
        <p:spPr>
          <a:xfrm>
            <a:off x="0" y="0"/>
            <a:ext cx="9753480" cy="8151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50920" y="333360"/>
            <a:ext cx="81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～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世纪，人类将移民月球，建立月球村。月球村将利用太阳能取暖，利用月球上发现的水生产蔬菜、粮食，建立各种生活设施。月球村的重要任务是开采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-3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，并运回地球，利用这一热能源发电，供应全球所需电能。人类还将开发地球人拜访月球村的旅游业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47640" y="1673280"/>
            <a:ext cx="511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、你知道月球还有那些未解开的谜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、假如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  <a:ea typeface="华文楷体"/>
              </a:rPr>
              <a:t>30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年后你登上了月球，你准备去做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3635280" y="3645000"/>
            <a:ext cx="439272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拓展练习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1258920" y="249228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同学们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随宇航员登月看到的是什么样的景色呢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_11628703411A75D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2627280" y="692280"/>
            <a:ext cx="3529080" cy="2376360"/>
          </a:xfrm>
          <a:prstGeom prst="cloudCallout">
            <a:avLst>
              <a:gd name="adj1" fmla="val 46310"/>
              <a:gd name="adj2" fmla="val 81865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99"/>
                </a:solidFill>
                <a:latin typeface="Arial"/>
                <a:ea typeface="楷体_GB2312"/>
              </a:rPr>
              <a:t>月球是从哪儿来 的？上面有什么东西？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627280" y="692280"/>
            <a:ext cx="3529080" cy="2376360"/>
          </a:xfrm>
          <a:prstGeom prst="cloudCallout">
            <a:avLst>
              <a:gd name="adj1" fmla="val 46310"/>
              <a:gd name="adj2" fmla="val 81865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395280" y="620640"/>
            <a:ext cx="837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，两名美国宇航员首次登上月球，第一眼看到的就是十分奇异的景色：这里的天空黑沉沉的，表面却洒满灿烂的阳光。月球上满是尘土、岩石、环形山，没有水，没有任何生命。月球是一片荒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三十年后的今天，你成了一位科学家，驾驶着一艘宇宙飞船，在茫茫的太空中寻找外星的生命，你离开地球已经好几天了，这时，透过舷窗，你看到了一个美丽的蓝色星球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球的起源莫衷一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月球的起源，大致有三大派，但仍未定论。有些科学家认为，月球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，与地球一样是宇宙的气体和尘埃形成的；另一些人则认为，月球是地球的孩子，从地球分裂出去的。然而，太阳神号几次带回的数据显示，月球和地球的组成成份大不相同。不少的科学家认为，月球在很多年以前，偶然被吸入地心引力范围，因而才意外地纳入地球的轨道。但也有人引用天体力学来反对这种说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304920" y="66600"/>
            <a:ext cx="883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撞击会发出巨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神号在探月时，月球登陆艇和火箭返航时，都会撞到月球表面。但每次都会使月球像大铜锣或大钟一样响起来，阿波罗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探月时，月球的回声还持续了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时，目前没有一个科学家能够解释这种现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8088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铁粒子不会生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宇航员们从月球上带回来的岩石样品中，都含有纯铁的粒子，科学家们认为这些纯铁粒子并非来自陨石。有专家报导，这些纯铁粒子带回地球后，好多年都未生过锈，纯铁不生锈在科学界还是破天荒第一次遇到这种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80880" y="0"/>
            <a:ext cx="8763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面光滑如镜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球表面不少地方光滑如镜。好像被什么不知来源的酷热“烫”过了一样。专家们分析说，这儿并非是由巨大的陨石撞击而造成的，有些科学家则认为，太阳爆出来的高热才是主要的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具有磁性使人震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期的月球研究，都说月球上没有磁场，近年来在分析月球岩石后，才知道它有强烈的磁性。然而月球的岩石真有磁场，则应有个铁质的核心才对，但现在的资料又告诉我们，这样一个巨大的热核心不可能存在于月球的里面，也不可能从地球上的磁场获得磁性，因为月球若要从地球上获得磁性，就必须很接近地球，果真如此，它恐怕会被地心力弄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壳底部的浓缩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太空探测带回来的资料显示，月球的外壳底下有大块的浓缩物而且还有一股吸引力，太空船飞过时禁不住要倾斜。科学家只知道这些浓缩物是一种又重又密的物质，其余就一无所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80880" y="914400"/>
            <a:ext cx="8458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的宇宙航行科学家齐奥尔可夫斯基说过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球是人类的摇篮，但是人不能永远生活在摇篮里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秘的天体宇宙正在向我们招手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133月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7254720" y="6400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关于月亮的诗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711360" y="189000"/>
            <a:ext cx="20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月下独酌 </a:t>
            </a:r>
            <a:r>
              <a:rPr b="1" lang="en-US" sz="2800" spc="-1" strike="noStrike">
                <a:solidFill>
                  <a:srgbClr val="ff99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李白</a:t>
            </a:r>
            <a:r>
              <a:rPr b="1" lang="en-US" sz="2800" spc="-1" strike="noStrike">
                <a:solidFill>
                  <a:srgbClr val="ff99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0" y="6206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花间一壶酒，独酌无相亲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举杯邀明月，对影成三人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月既不解饮，影徒随我身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暂伴月将影，行乐须及春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歌月徘徊，我舞影零乱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醒时同交欢，醉后各分散。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永结无情游，相期邈云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5682600" y="184464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Times New Roman"/>
              </a:rPr>
              <a:t>月夜忆舍弟 </a:t>
            </a:r>
            <a:r>
              <a:rPr b="1" lang="en-US" sz="28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99cc"/>
                </a:solidFill>
                <a:latin typeface="Times New Roman"/>
              </a:rPr>
              <a:t>杜甫</a:t>
            </a:r>
            <a:r>
              <a:rPr b="1" lang="en-US" sz="2800" spc="-1" strike="noStrike">
                <a:solidFill>
                  <a:srgbClr val="ff99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4788000" y="2637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戍鼓断人行，边秋一雁声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露从今夜白，月是故乡明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弟皆分散，无家问死生。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寄书长不达，况乃未休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85160" y="429264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望月怀远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张九龄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10"/>
          <p:cNvSpPr/>
          <p:nvPr/>
        </p:nvSpPr>
        <p:spPr>
          <a:xfrm>
            <a:off x="0" y="4797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上生明月，天涯共此时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情人怨遥夜，竟夕起相思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灭烛怜光满，披衣觉露滋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堪盈手赠，还寝梦佳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_11628703411A75D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每当夜幕降临，天空中悬挂着一轮皎洁的明月，引起了人们的无限遐想！月亮自古以来，就与人们结下了不解之缘，它尤其受诗人们的钟爱。那皎洁的月光，富有变化的月形，激起了诗人们多少怀念与感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 rot="16200000">
            <a:off x="5580000" y="292428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2824e"/>
              </a:gs>
              <a:gs pos="50000">
                <a:srgbClr val="ffff99"/>
              </a:gs>
              <a:gs pos="100000">
                <a:srgbClr val="82824e"/>
              </a:gs>
            </a:gsLst>
            <a:lin ang="108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908000" y="1125360"/>
            <a:ext cx="16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皓月当空的美好景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835280" y="364500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类第一次登上月球后看到的月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003640" y="4005360"/>
            <a:ext cx="20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与月球有关的未解之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076720" y="126828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类将继续探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4140360" y="4292640"/>
            <a:ext cx="502920" cy="431640"/>
          </a:xfrm>
          <a:prstGeom prst="rightArrow">
            <a:avLst>
              <a:gd name="adj1" fmla="val 57231"/>
              <a:gd name="adj2" fmla="val 31178"/>
            </a:avLst>
          </a:prstGeom>
          <a:gradFill rotWithShape="0">
            <a:gsLst>
              <a:gs pos="0">
                <a:srgbClr val="82824e"/>
              </a:gs>
              <a:gs pos="50000">
                <a:srgbClr val="ffff99"/>
              </a:gs>
              <a:gs pos="100000">
                <a:srgbClr val="82824e"/>
              </a:gs>
            </a:gsLst>
            <a:lin ang="54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8"/>
          <p:cNvSpPr/>
          <p:nvPr/>
        </p:nvSpPr>
        <p:spPr>
          <a:xfrm rot="5269200">
            <a:off x="2627280" y="2924280"/>
            <a:ext cx="50472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2824e"/>
              </a:gs>
              <a:gs pos="50000">
                <a:srgbClr val="ffff99"/>
              </a:gs>
              <a:gs pos="100000">
                <a:srgbClr val="82824e"/>
              </a:gs>
            </a:gsLst>
            <a:lin ang="132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950f1682f9b516a76d8119b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着它，你会想到哪些有关月亮的诗歌、传说或相关资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c484db27f07bf81d9335a00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08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85800" y="3124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609480" y="0"/>
            <a:ext cx="56390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积累描写月亮的诗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海上生明月，天涯共此时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张九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望月怀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明月出天山，苍茫云海间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李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山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ái  hu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歌月徘徊，我舞影零乱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李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下独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秋空明月悬，光彩露沾湿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孟浩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秋宵月下                         有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9:11:43Z</dcterms:created>
  <dc:creator>4nj1</dc:creator>
  <dc:description/>
  <dc:language>en-US</dc:language>
  <cp:lastModifiedBy>admin</cp:lastModifiedBy>
  <dcterms:modified xsi:type="dcterms:W3CDTF">2018-05-21T09:29:54Z</dcterms:modified>
  <cp:revision>77</cp:revision>
  <dc:subject/>
  <dc:title>PowerPoint 演示文稿</dc:title>
</cp:coreProperties>
</file>