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FB362-37BD-405D-9F16-15BF2CDF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D8934-8D26-46E8-9668-B416DF75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BF8F5-8747-475A-A773-D752B4EC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F5D54-DD6C-4855-BC7B-3E8F0BF3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66C41-7E46-4693-924F-A78C33D6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D4119-5992-4419-A504-5F7C16D6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8DA22-1C13-4348-9F7C-584B25DB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34CA9-487C-4764-B99B-6742631C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34843-1CD6-4790-ADCD-67F01B3F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8333D-7D6B-4332-8FFE-8E206BAE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25EF8-588F-417A-8221-4B91D52C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AE2CD-376E-4AF4-8B13-322C640E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0B9E6-E083-4A85-BDAD-A78A49CC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9F2A7-A17F-430F-828A-0AE7D916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BEB8E-3E4D-42D5-80FB-6A537B94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F4783-BC51-438B-B778-EFF02BF3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2A828-573C-488F-8CB0-D6B5186A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5681E-1E24-493D-8987-5A043A3A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B99C8-68A0-4A8A-83F7-32ED988A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70E86-2A3C-4AB0-AF0D-38951F34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66351-E142-41D6-BCE7-945B9051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79EF9-EF2A-4100-9AA6-FF1546C2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223BC-6116-489B-ABDC-56239629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BD086-6AC6-4149-B3F3-95B52B46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58871-4974-4EBA-BAAA-FA1AB8B2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4F2CF-4301-4BDB-8384-7ADB22A8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1659E-EB57-4D36-B4A3-60112DCC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9ED9D-CB49-4505-A36D-A158BFC9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89909-8585-4CBC-92AC-56261DF0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C328A-0DD7-4BC9-B3E1-FF4AE909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A8C2-5AB0-497C-81FB-7944E9BC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F9F4B-751B-41B4-A141-9DFD4E7C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2188F-AED2-4223-AF0E-D5A4ACD7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473D2-4764-4CAC-988E-E7C3A92A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ED361-A572-4357-931F-67C1F91A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7B28E-A0EF-4705-8286-D36C9300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90B2B-1934-4350-8A69-83785154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019CB-E4E8-4174-9A29-580EE9DE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40707-61BB-4621-8234-BF6D0292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F73C9-85C8-4C74-B4B6-A40253B7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B4A43-9069-44F4-B8BB-24F3B53E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FCEC-AA8D-4B0F-9DCE-1A57A5C7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87D82-0897-49A5-8C7F-E7DCC170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4EF74-E75C-4AB6-8C9D-E6CAE52A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18EE4-DAA8-4F65-A938-6703EF51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637F5-8527-4C2A-9E55-476AD3CB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465D0-3FE3-4682-AEF5-9CECF579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031F6-2C87-4648-AC9A-52435CFA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4F86D-036E-44F2-B08E-76F315C4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ED6DD-146D-4E54-8CC2-CBEA6D42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4122E-5B38-456C-A9FB-D278F4F8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3E7D8-782D-4630-960A-7E23FCD1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0E84-D709-4AE3-A5F3-40467838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9E698-CCF2-4707-B51E-3A766EF0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129EB-0BCF-4D96-800B-CA85D513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1A31F-1989-43E8-9278-F5C96260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3784E-45BE-4941-BAFE-A41C941B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89D62-4414-421D-8D79-FF16C4C4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22743-2F79-4BA2-BD2C-1FBCDF17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81CD3-F46F-46D3-9978-7F634CA7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8FB080-9374-4992-934D-9B6F3388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D5FE07-B6B9-42DD-80CF-27F63E9A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A352E5-4F95-4387-84BE-90EA8000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E65D-A293-4659-8014-442390D1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93F790-28A4-464F-AB95-F9912257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2D8CA-D642-4723-B553-D3032369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5F02E-DD08-4934-99DD-B0058BD6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2CDB0F-9ED1-49DC-A92F-783E9BDF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8FB10E-04D8-4B91-8359-38EA0EDA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6F6AB-2B58-41E4-BBE0-E7A7BE72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7E864D-BAC0-4CFC-8584-8D710105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896B3-7FFB-41F3-B9F6-681AAE6E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EADFA-4E3F-4F23-8CF9-178D2B96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86BAC3-2C47-4A32-8345-E1C56381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98B-4266-4E3C-B114-3D81C52A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A0E03C-F7AF-4883-A260-3BBCC512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C0A2DD-3063-4666-A100-ED735B36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57E5D7-6F64-4A0F-9D00-0FBBBCAE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F9B59A-CFDA-482C-B16D-FFAC2A5B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92C3BF-F656-4771-9454-25834041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B2A616-C985-4D7A-9375-68BE04E4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BA8E59-00FF-4D88-8A35-CA59581E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E619FC-F57B-4C48-BF81-12AC1459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1A1A2F-8C40-4E74-8587-0E44CEDF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41CD3E-9DDB-423E-9B44-0A0816AA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ECC0-FDE3-4D30-A799-C9809132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425994-B6B3-48A4-AC2E-5CD076AF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4607BF-007B-4DCD-8EB9-13EA81B9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E6F3FE-3B62-4CD8-B726-3FB44654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1F8A6A-8098-4F0E-AECD-DD6F30AF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1938E6-CBF4-428C-ABA2-1531A3C6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EE1A33-EB15-48F8-9579-EF5C37C9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3BAA14-8C63-4F77-9485-080FB5D3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4F8459-89F2-432D-80E6-03CF5B2C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7717D7-4E28-4D68-AA9C-AB34F3E6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457EC8-1415-40B0-91A0-DD3BE02D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4C1-29E5-452F-874D-DAAC18C8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29FA2E-BF76-4AC6-89BE-2DF66D99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63F4C8-A460-4FC5-9189-BF9983CC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A7F58A-2432-48D9-96F9-E384464B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76A0FF-91D3-400B-B27A-1D0A06FE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FE59AE-C0B7-421A-8D1F-02A89443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FDA169-59F4-456F-A464-E6496B94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F2C94E-05EA-45FA-95B9-66599627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94A776-4A71-4E35-A1B4-2877E225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33D19E-B89A-4D5E-9DD3-B78E57E4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0B4A95-8088-406F-9741-A3C1BCC2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0DCF-B1C9-41A5-B159-F1D60A3A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6F2D27-BED1-4ADA-8BC5-D6C82B27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76337B-F942-494A-B9C5-C0D01DA9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D04F45-BBE8-48E6-A4C4-6293DF37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95B1E2-FD11-4C94-AD56-B4B3EDD1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850402-08DA-4605-83CC-70A2F99C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D55E3C-6A22-49B0-87A9-A8AF6B37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EFEF1D-D13C-4C26-B9AF-CC85973D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8EA99F-B8AE-477A-8CFD-D8337A5C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7B60D3-7C09-4BB4-BA55-E4C12949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43FD70-3730-40F1-90BD-0B1A0908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B5F1-9031-4D12-BC3B-14532ECB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E7519F-50F3-4A3B-B09A-E97A7A0A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36E959-6757-48A1-A82D-64A98621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5B5A17-322A-43A0-A969-A892BE09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BB60BE-F31B-4211-9FA1-7EB2B8E5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F6B27F-0C2E-422A-89AA-27B2A1F9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99E900-8D4C-448F-B1FE-C77DFD14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1BB7F5-E0A6-495A-801A-CC2711EF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1DBAD7-DA89-4FA5-ACEA-4964E001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F5F053-B581-4BAA-9CAE-09FB1243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AE60E2-799F-4DF4-9141-06F91770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CE13-22A8-4101-9A98-1F9776E7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9C1EC9-D635-4B57-BE95-B69013C8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4911EC-19EE-4979-B30E-49B6EF0F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FFD447-FEC1-4649-92DB-D00BD9CD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911C93-970A-46F4-A0A9-8C6796D1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7F4E70-F25A-4D43-A81E-764FC625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CA2073-1F96-4A6E-BC49-23B0D4AB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BB245C-55D4-4B15-A7C3-07BB3EBE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270C70-D430-47F4-81A9-0B811253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4AFE83-AC5F-4874-BAFC-9A663B0E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64D2E1-1217-4FE2-ADA3-D5C51F13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208F-81CB-41F1-AB6C-EBEDC8E4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AD55B4-DA6A-4A1A-B7F9-7394567E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A147BB-8BD0-4190-AB16-DAA8FD73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B74558-AA6A-442D-B7B9-7C05D03E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348C24-2598-4329-8E9A-39D36649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752AA6-E3FA-40F7-88C8-30962CDF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753FC2-5D85-428F-B12F-58E30A59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A48CBC-C67A-42A3-BAF4-1D45BA17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F44821-3166-43CD-AC15-56C8570A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C70FE0-1826-4BC6-87AB-9E0E420F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BDFCBE-C87E-40D6-A16C-2BE91BC3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3121-0274-4D31-B11D-B5E30843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925D40-BD94-470F-B1D5-DF4345CA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7A5798-6F3A-42D1-9E68-F7A4F129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6909B5-CC18-440A-9206-CD5DB5B7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A72C6A-7828-4181-A14A-D004E570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EB8A79-C057-4A43-82C6-23924C05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8DE72A-2A98-4A33-9F18-CE9AF84E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BE25C6-A677-402C-AFE4-9FD7339D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E7B4DB-D0EE-4E2B-A4A3-59F4B8A3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DD22F0-0DAA-4758-9D66-6AF25AA0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80EC50-A127-44C0-B4B8-402931E4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3A60-3748-4B36-AB7A-5A60EDA3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459627-D20A-4EF6-830A-CA445756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9D77CA-E963-4B6E-9D3E-26C4D7D6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E8B6B5-2B4C-41AE-8497-7C9FA498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75EA82-0722-41AA-8C8E-691AB7D8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2FAC34-439F-47B2-9786-09A11D18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FACEF7-BA07-4091-95A7-A3A41DEA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F7D0AF-AD36-4AA7-A654-FC41C0F7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4E84E1-CFCC-45B5-ADBC-3A3391C1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F3259A-3B6B-4586-BFA3-69FD93CD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A36ACF-E9B7-476C-A7CA-810C9D54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6D00-6903-4756-ADC4-6F71BA6A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5E8A36-FF3A-43B5-9BB0-7A89E7FF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E55DF1-B021-4D47-99CF-5C2D37B5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861B2E-C7CB-48BA-9438-6F0A1E02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901AA6-0B96-4D97-B805-53B3855F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8AC3F9-1688-47B5-B624-A6C7C440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A78D9C-DE8F-4BF1-BE07-91279D64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3C12AE-09F7-456F-832D-64F9B496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CBCBF9-78B3-483E-8690-CBF6F813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0E4CCF-24E4-4241-8D80-A562AB8F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087EAF-5951-426D-B616-E7C48111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9EAB-20BD-4CB8-922A-DB78768A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67D4DB-33D0-4E62-A1D9-093715D3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905DC1-9997-4CDA-B46C-B732D4AC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5215F6-172F-49C1-BC59-9A8A86F9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E718DD-B2A9-4E0C-BE4E-C273F238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C7F5FD-E469-49AB-819E-EB57F196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DDC2B3-C4D1-41BC-B6BA-6018B3F7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ECFF3C-B623-4BC3-8661-32321C9E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251A1D-22E3-4103-AA21-A3CF23AC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E3DC9E-7D75-49AA-8423-4F4D56D7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1656CE-0A47-4937-9C2E-55BF8A73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5418-D826-4057-8518-8D6D287B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AF1660-DA69-4248-AFCA-5384AFD0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3E9313-E4FE-4873-829B-27E9FB35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D67910-3DF7-44BF-A846-89632FC1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73B81C-7E7D-496C-942F-265A2410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FB2AFF-FFF8-4B0C-B8C6-EA61BA54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C5BFEB-F90E-4E4F-8C9E-8D92F152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DA42D6-E08F-4DFC-9284-A332EC30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74F92E-AD5E-4683-AF37-12308744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3C50B8-5CE7-4610-B922-8A32A46A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FF02-264B-4029-8254-0C0845EA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D429-55DF-47B5-A977-396ED330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0652-7459-4214-92A2-6EF4200F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EBC1-1C13-4828-965C-EDEE6F4C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9732-3D3E-41F9-A6DB-8C46F80F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A120-8D00-4494-A1C6-748759CA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604C-B98E-4B97-9908-C70037B6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6536-B4BE-4486-8E6A-0A2B6E41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9D7EA-BBC2-406D-BB31-D257762A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C4094-09FC-4780-861A-FB019E5F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93A8A-6EC5-450E-9DE9-6234C1CB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6FA2C-C97E-4641-AB4D-4C842685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4DE56-B5BB-44CA-B68E-75150282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612CB-9B3D-4393-B13F-968CAFCA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E72C7-2609-4E58-A030-C2590CB5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7E178-B798-49FC-830B-7FDEB13C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090F9-B6B9-4A69-86A3-D2A6937B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DD93C-31E5-43A8-A6B6-555965D9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B270C-C2BD-41BC-95FC-851DD298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6DE23-A66B-43A5-A9FE-37078EE9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DF0CA-8EAD-45E2-B07C-72DB378E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7D38C-C61D-4999-8B61-29FB4ACC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F4F95-9C54-428A-9284-F2F907C6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ACC31-D733-4D35-BC4B-92D21BE2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8A949-7A43-49B2-853A-4FA732A1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C6C9A-064B-4205-A25F-B62E4E32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69A55-B7BC-41BA-A4D2-05FC899A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D2276-A9E2-43CD-8A76-AB98F725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36CF8-7F0F-4B65-A5FB-C37D72B3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5E75D-1808-4D15-BF64-672C0FF0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FC0DF-46CB-4A97-81A5-06D1CCD3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1996A-C4A6-4207-BB5C-7DECF1F8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5793D-3A4F-4409-B3E7-6E22BD81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E3027-1E01-452F-BAD1-70EDECEB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3BF75-8D54-4A07-8EE0-4348EC25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E2AF5-7F8B-4A7C-8253-C5B0E9E4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AFF91-68F4-48FA-AE86-9B2ACFFB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6E5A9-D139-4DB4-93B7-3EFD4035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1C642-2386-4766-BC7E-77FA71EB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091A6-287C-4785-A480-33CF7507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DEA23-3668-4C91-9250-7644A3E4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EEC40-2F0C-4BEE-9579-9EDA193D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9CF3A-1655-4880-B422-304A5823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F8C53-E08E-45EA-8A5D-D5643A6B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B1C13-B599-4CDB-B73B-4C47D866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E83DC-D084-43AF-9C95-3EE4541A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FD702-F358-4488-9DB9-CE6E4B88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4BE3A-8EAB-43DC-A781-ECCDA794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12648-9841-47AB-A6C2-FB6A1A7A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F3D3D-FE4C-4497-90B9-6F386382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66713-FC4B-46F7-9B05-7473BF33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49C0A-C888-4928-BDFD-A880FB05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039DA-DC6C-422B-8D2A-AA4232C0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41833-A7A6-4E3A-B3B1-AD7901CD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F23B8-5FA4-432E-AAC6-86B777A0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8568B-1AEC-48FD-B26B-AF8AD767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B2CE5-EF59-48F9-852E-18CAA5C3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F0821-FF86-4B46-9307-58967DC5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52092-AB85-4F73-9D41-374650DA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CB577-D1A6-4108-8A09-2DAA024B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EDEA8-24BA-40A4-9FBA-AFB4B7D2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B3A49-9013-4035-8DC5-1E71446F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F7123-6D69-48F1-A42E-1423DEF6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0AB72-8752-43B5-A6DA-231AD149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11940-4214-4135-90A7-0C5977DB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96F5A-D92A-4873-9E80-AA06C2AF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C6381-34B7-4984-906E-F6E2859A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D04C3-2A5B-477B-8A97-B6D0BD2A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54F18-780E-43DA-9A87-3A3EA676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989F8-5DBA-4094-B5F9-561669E7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BB9EE-D70D-4BB8-B062-CB5227C3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2455-F143-45F7-8134-B25CF222ED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B162-1BC8-4386-8CEE-2C432F79CE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F95A-81F3-49C3-8259-69F858C02C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A7C8-0C80-4A8C-B358-6EFE48478C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229B-CAA0-4D5D-9E49-60438D1D91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E98E-9AA5-4A54-AA05-E0629D50391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9FB9-13B7-4405-A585-1DD9BD82402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26C1-3560-4770-B46B-712BF344929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58FD-2EE1-40B6-BECD-242DEE7E30D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AD52-4570-4A41-B242-78FF2AD94F1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B60A-6F20-41D9-84D2-7A583C01B6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757A-F802-40CA-AA44-B3E6D80D2BF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A204-EBC1-48B4-AF23-398D2BB13C0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25B2-3786-4AF8-9171-F08E1742A42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C77F-114B-4B8B-BDD0-48BE48FAB62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1DD3-621D-4CC3-95F7-02FF567EF49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D44C-947D-455C-93FB-7CA278233B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84DF-29CC-444F-AEEA-F3DC72C35E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9D23-FDED-43BD-A50F-F188D058DD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F9D0-F5D1-4230-B519-EB88FA3D5D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C32A-4125-470A-ACD8-4AF63EAE97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BDD5-0CCB-4AE2-9E48-BB0C5E4F29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F381-12FE-47F3-BAF3-8288ED2C61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958" name="矩形 3"/>
          <p:cNvSpPr/>
          <p:nvPr/>
        </p:nvSpPr>
        <p:spPr>
          <a:xfrm>
            <a:off x="2371680" y="6172200"/>
            <a:ext cx="43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-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Picture 3" descr=""/>
          <p:cNvPicPr/>
          <p:nvPr/>
        </p:nvPicPr>
        <p:blipFill>
          <a:blip r:embed="rId1"/>
          <a:stretch/>
        </p:blipFill>
        <p:spPr>
          <a:xfrm>
            <a:off x="2125800" y="0"/>
            <a:ext cx="489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Picture 3" descr=""/>
          <p:cNvPicPr/>
          <p:nvPr/>
        </p:nvPicPr>
        <p:blipFill>
          <a:blip r:embed="rId1"/>
          <a:stretch/>
        </p:blipFill>
        <p:spPr>
          <a:xfrm>
            <a:off x="2125800" y="0"/>
            <a:ext cx="489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矩形 3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6" name="Picture 3" descr=""/>
          <p:cNvPicPr/>
          <p:nvPr/>
        </p:nvPicPr>
        <p:blipFill>
          <a:blip r:embed="rId6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2-02T09:46:5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