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3.png" ContentType="image/png"/>
  <Override PartName="/ppt/media/image8.gif" ContentType="image/gif"/>
  <Override PartName="/ppt/media/image19.wmf" ContentType="image/x-wmf"/>
  <Override PartName="/ppt/media/image9.gif" ContentType="image/gif"/>
  <Override PartName="/ppt/media/type.wav" ContentType="audio/x-wav"/>
  <Override PartName="/ppt/media/chimes.wav" ContentType="audio/x-wav"/>
  <Override PartName="/ppt/media/image18.gif" ContentType="image/gif"/>
  <Override PartName="/ppt/media/image17.wmf" ContentType="image/x-wmf"/>
  <Override PartName="/ppt/media/image16.wmf" ContentType="image/x-wmf"/>
  <Override PartName="/ppt/media/image12.png" ContentType="image/png"/>
  <Override PartName="/ppt/media/image6.wmf" ContentType="image/x-wmf"/>
  <Override PartName="/ppt/media/image5.png" ContentType="image/png"/>
  <Override PartName="/ppt/media/image2.png" ContentType="image/png"/>
  <Override PartName="/ppt/media/image3.gif" ContentType="image/gif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03-CBC2-42E4-A37D-307ED187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A72-98AC-4C0F-A063-32864922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850-2BE0-4E6A-9C2B-2C9E6AD3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F06-35B9-4EC7-B35F-390CEB6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B78-B615-4939-9D7A-0184CFC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2B3-74D8-4648-AC99-E8FA53EB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D00-9A3A-42AD-82D8-69F3F999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2B5-4518-4AA5-AD60-B6617F27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B6B-89DF-41C5-B06D-67DDE17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AE2-A297-47A7-A2E4-3FF7558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9F1-5AEA-4764-9C6F-16A0B310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7FA-D0C8-4BA6-B5DA-A09CE1F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30B-D6C5-4C75-A5E9-10CF2525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057400" y="2133720"/>
            <a:ext cx="5181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游山西村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2" name="Picture 5" descr="WB01219_"/>
          <p:cNvPicPr/>
          <p:nvPr/>
        </p:nvPicPr>
        <p:blipFill>
          <a:blip r:embed="rId2"/>
          <a:stretch/>
        </p:blipFill>
        <p:spPr>
          <a:xfrm>
            <a:off x="6781680" y="838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Lp2"/>
          <p:cNvPicPr/>
          <p:nvPr/>
        </p:nvPicPr>
        <p:blipFill>
          <a:blip r:embed="rId3"/>
          <a:stretch/>
        </p:blipFill>
        <p:spPr>
          <a:xfrm>
            <a:off x="0" y="0"/>
            <a:ext cx="3048120" cy="29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062"/>
          <p:cNvPicPr/>
          <p:nvPr/>
        </p:nvPicPr>
        <p:blipFill>
          <a:blip r:embed="rId4"/>
          <a:stretch/>
        </p:blipFill>
        <p:spPr>
          <a:xfrm>
            <a:off x="457200" y="449568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14" descr=""/>
          <p:cNvPicPr/>
          <p:nvPr/>
        </p:nvPicPr>
        <p:blipFill>
          <a:blip r:embed="rId5"/>
          <a:stretch/>
        </p:blipFill>
        <p:spPr>
          <a:xfrm>
            <a:off x="6692760" y="4559400"/>
            <a:ext cx="14702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4"/>
          <p:cNvSpPr/>
          <p:nvPr/>
        </p:nvSpPr>
        <p:spPr>
          <a:xfrm>
            <a:off x="527040" y="4064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6" descr="NA00662_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066680" y="304920"/>
            <a:ext cx="3124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游山西村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Picture 6" descr="019"/>
          <p:cNvPicPr/>
          <p:nvPr/>
        </p:nvPicPr>
        <p:blipFill>
          <a:blip r:embed="rId4"/>
          <a:stretch/>
        </p:blipFill>
        <p:spPr>
          <a:xfrm>
            <a:off x="2189160" y="1122480"/>
            <a:ext cx="85896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92"/>
          <p:cNvPicPr/>
          <p:nvPr/>
        </p:nvPicPr>
        <p:blipFill>
          <a:blip r:embed="rId5"/>
          <a:stretch/>
        </p:blipFill>
        <p:spPr>
          <a:xfrm>
            <a:off x="5715000" y="48006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34"/>
          <p:cNvPicPr/>
          <p:nvPr/>
        </p:nvPicPr>
        <p:blipFill>
          <a:blip r:embed="rId6"/>
          <a:stretch/>
        </p:blipFill>
        <p:spPr>
          <a:xfrm>
            <a:off x="5486400" y="1219320"/>
            <a:ext cx="1074600" cy="1017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103"/>
          <p:cNvSpPr txBox="1"/>
          <p:nvPr/>
        </p:nvSpPr>
        <p:spPr>
          <a:xfrm>
            <a:off x="4419720" y="380880"/>
            <a:ext cx="3124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作者介绍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WordArt 104"/>
          <p:cNvSpPr txBox="1"/>
          <p:nvPr/>
        </p:nvSpPr>
        <p:spPr>
          <a:xfrm>
            <a:off x="1143000" y="3809880"/>
            <a:ext cx="3124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知识补给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105"/>
          <p:cNvSpPr txBox="1"/>
          <p:nvPr/>
        </p:nvSpPr>
        <p:spPr>
          <a:xfrm>
            <a:off x="4572000" y="3809880"/>
            <a:ext cx="3124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陆游词集</a:t>
            </a:r>
            <a:endParaRPr b="0" lang="en-US" sz="2400" spc="1" strike="noStrike">
              <a:ln w="0">
                <a:noFill/>
              </a:ln>
              <a:solidFill>
                <a:srgbClr val="00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" name="Picture 108" descr="74"/>
          <p:cNvPicPr/>
          <p:nvPr/>
        </p:nvPicPr>
        <p:blipFill>
          <a:blip r:embed="rId7"/>
          <a:stretch/>
        </p:blipFill>
        <p:spPr>
          <a:xfrm>
            <a:off x="2141640" y="472428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9"/>
          <p:cNvSpPr txBox="1"/>
          <p:nvPr/>
        </p:nvSpPr>
        <p:spPr>
          <a:xfrm>
            <a:off x="3352680" y="312408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后要求及提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2" descr="PH01247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 rot="5400000">
            <a:off x="5067000" y="285732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ccff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游山西村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33ccff"/>
                  </a:gs>
                </a:gsLst>
                <a:lin ang="162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WordArt 4"/>
          <p:cNvSpPr txBox="1"/>
          <p:nvPr/>
        </p:nvSpPr>
        <p:spPr>
          <a:xfrm rot="5400000">
            <a:off x="-30492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从今若许闲乘月，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2" name="WordArt 6"/>
          <p:cNvSpPr txBox="1"/>
          <p:nvPr/>
        </p:nvSpPr>
        <p:spPr>
          <a:xfrm rot="5400000">
            <a:off x="380988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丰年留客足鸡豚。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3" name="WordArt 7"/>
          <p:cNvSpPr txBox="1"/>
          <p:nvPr/>
        </p:nvSpPr>
        <p:spPr>
          <a:xfrm rot="5400000">
            <a:off x="304812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山重水复疑无路，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4" name="WordArt 8"/>
          <p:cNvSpPr txBox="1"/>
          <p:nvPr/>
        </p:nvSpPr>
        <p:spPr>
          <a:xfrm rot="5400000">
            <a:off x="220932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柳暗花明又一村。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5" name="WordArt 9"/>
          <p:cNvSpPr txBox="1"/>
          <p:nvPr/>
        </p:nvSpPr>
        <p:spPr>
          <a:xfrm rot="5400000">
            <a:off x="137124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箫鼓追随春社近，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6" name="WordArt 10"/>
          <p:cNvSpPr txBox="1"/>
          <p:nvPr/>
        </p:nvSpPr>
        <p:spPr>
          <a:xfrm rot="5400000">
            <a:off x="53316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衣冠简朴古风存。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7" name="WordArt 11"/>
          <p:cNvSpPr txBox="1"/>
          <p:nvPr/>
        </p:nvSpPr>
        <p:spPr>
          <a:xfrm rot="5400000">
            <a:off x="4572000" y="3352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莫笑农家腊酒浑，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68" name="WordArt 12"/>
          <p:cNvSpPr txBox="1"/>
          <p:nvPr/>
        </p:nvSpPr>
        <p:spPr>
          <a:xfrm rot="5400000">
            <a:off x="-1066680" y="3276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9999ff"/>
                </a:solidFill>
                <a:latin typeface="宋体"/>
              </a:rPr>
              <a:t>拄杖无时夜叩门。</a:t>
            </a:r>
            <a:endParaRPr b="0" lang="en-US" sz="2400" spc="1" strike="noStrike">
              <a:ln w="9360">
                <a:solidFill>
                  <a:srgbClr val="9999ff"/>
                </a:solidFill>
                <a:miter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69" name="Picture 14" descr="WB01239_"/>
          <p:cNvPicPr/>
          <p:nvPr/>
        </p:nvPicPr>
        <p:blipFill>
          <a:blip r:embed="rId2"/>
          <a:stretch/>
        </p:blipFill>
        <p:spPr>
          <a:xfrm>
            <a:off x="762120" y="55627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3"/>
          <p:cNvSpPr/>
          <p:nvPr/>
        </p:nvSpPr>
        <p:spPr>
          <a:xfrm>
            <a:off x="838080" y="5867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Times New Roman"/>
              </a:rPr>
              <a:t>上一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NA00760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933480" y="2971800"/>
            <a:ext cx="7277040" cy="360"/>
            <a:chOff x="933480" y="2971800"/>
            <a:chExt cx="7277040" cy="360"/>
          </a:xfrm>
        </p:grpSpPr>
        <p:sp>
          <p:nvSpPr>
            <p:cNvPr id="75" name="Rectangle 3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933480" y="2971800"/>
            <a:ext cx="7277040" cy="360"/>
            <a:chOff x="933480" y="2971800"/>
            <a:chExt cx="7277040" cy="360"/>
          </a:xfrm>
        </p:grpSpPr>
        <p:sp>
          <p:nvSpPr>
            <p:cNvPr id="79" name="Rectangle 8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Rectangle 13"/>
          <p:cNvSpPr/>
          <p:nvPr/>
        </p:nvSpPr>
        <p:spPr>
          <a:xfrm>
            <a:off x="990720" y="609480"/>
            <a:ext cx="716256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陆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姚体简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方正姚体简体"/>
              </a:rPr>
              <a:t>1125—12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姚体简体"/>
              </a:rPr>
              <a:t>年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务观，号放翁，越州山阴（今浙江绍兴）人。他是中国文学史上作品最多的诗人之一，尤其是在蜀时所写的那些悲壮激昂的爱国诗篇，影响极大。后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他把自己的全部诗歌和文集题名为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剑南诗稿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渭南文集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六十年间万首诗”，他是我国文学史上作品最多的诗人之一。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他的诗歌的主要内容和最突出的主题是表现‘恢复神州”的爱国主义精神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这些充满爱国激情的诗里，他以激越悲壮的声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唱出了广大人民渴望祖国统一的强烈愿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抒发了自己“一生报国有万死”的牺牲精神和“报国欲死无战场”的悲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热烈地期待着有朝一日能据鞍杀敌，为国捐躯。除了大量的爱国诗篇，陆游还有很多写景和抒发生活情感的优秀作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0" y="40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SO0188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838080" y="728640"/>
            <a:ext cx="7162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华文隶书"/>
              </a:rPr>
              <a:t> </a:t>
            </a:r>
            <a:r>
              <a:rPr b="0" lang="en-US" sz="40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体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七律，即七字八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感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以喜悦之情为基调，重在表达对淳朴自然生活的赞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一方面记叙游事，一方面表达对乡情乡景的赞美，二者是有机结合在一起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环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一个动态性环境，由“游”字所致，以山水为背景，以农家茅舍为中心，呈现出一种山村宁静优美的景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SO0188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914400" y="1279440"/>
            <a:ext cx="67816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诗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是第二句，即颔联：“山重水复疑无路，柳暗花明又一村。”关键是一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“又”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顺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“事→景→情”式，即首联叙事，二三联写景，尾联抒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写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：借景抒情，一个个景点，纷至沓来，语言清新婉丽，情趣盎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PE01562_"/>
          <p:cNvPicPr/>
          <p:nvPr/>
        </p:nvPicPr>
        <p:blipFill>
          <a:blip r:embed="rId2"/>
          <a:stretch/>
        </p:blipFill>
        <p:spPr>
          <a:xfrm>
            <a:off x="5715000" y="4952880"/>
            <a:ext cx="1665360" cy="1752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400800" y="5257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黑体"/>
              </a:rPr>
              <a:t>上一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8" descr="DD0102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219320" y="5176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</a:t>
            </a:r>
            <a:r>
              <a:rPr b="1" lang="zh-CN" sz="2000" spc="-1" strike="noStrike">
                <a:solidFill>
                  <a:srgbClr val="9966ff"/>
                </a:solidFill>
                <a:latin typeface="Arial Unicode MS"/>
                <a:ea typeface="华文行楷"/>
              </a:rPr>
              <a:t>算子</a:t>
            </a:r>
            <a:r>
              <a:rPr b="1" lang="en-US" sz="2000" spc="-1" strike="noStrike">
                <a:solidFill>
                  <a:srgbClr val="9966ff"/>
                </a:solidFill>
                <a:latin typeface="Arial Unicode MS"/>
                <a:ea typeface="华文行楷"/>
              </a:rPr>
              <a:t>.</a:t>
            </a:r>
            <a:r>
              <a:rPr b="1" lang="zh-CN" sz="2000" spc="-1" strike="noStrike">
                <a:solidFill>
                  <a:srgbClr val="9966ff"/>
                </a:solidFill>
                <a:latin typeface="Arial Unicode MS"/>
                <a:ea typeface="华文行楷"/>
              </a:rPr>
              <a:t>咏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 Unicode MS"/>
                <a:ea typeface="华文行楷"/>
              </a:rPr>
              <a:t>驿外断桥边，寂寞开无主。已是黄昏独自愁，更著风和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 Unicode MS"/>
                <a:ea typeface="华文行楷"/>
              </a:rPr>
              <a:t>无意苦争春，一任群芳妒。零落成泥碾作尘，只有香如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219320" y="1584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</a:t>
            </a:r>
            <a:r>
              <a:rPr b="1" lang="zh-CN" sz="2000" spc="-1" strike="noStrike">
                <a:solidFill>
                  <a:srgbClr val="ffcc66"/>
                </a:solidFill>
                <a:latin typeface="Arial Unicode MS"/>
                <a:ea typeface="华文行楷"/>
              </a:rPr>
              <a:t>诉衷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66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cc66"/>
                </a:solidFill>
                <a:latin typeface="Arial Unicode MS"/>
                <a:ea typeface="华文行楷"/>
              </a:rPr>
              <a:t>当年万里觅封候，匹马戍梁州。关河梦断何处？尘暗旧貂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66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cc66"/>
                </a:solidFill>
                <a:latin typeface="Arial Unicode MS"/>
                <a:ea typeface="华文行楷"/>
              </a:rPr>
              <a:t>胡未灭，鬓先秋，泪空流。此生谁料，心在天山，身老沧洲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04920" y="266688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</a:t>
            </a:r>
            <a:r>
              <a:rPr b="1" lang="zh-CN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鹊桥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一竿风月，一蓑烟雨，家在钓台西住。卖鱼生怕近城门，况肯到，红尘深处</a:t>
            </a:r>
            <a:r>
              <a:rPr b="1" lang="en-US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7c80"/>
                </a:solidFill>
                <a:latin typeface="Arial Unicode MS"/>
                <a:ea typeface="华文行楷"/>
              </a:rPr>
              <a:t>潮生理棹，潮平系缆，潮落浩歌归。时人错把比严光，我自是，无名渔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57200" y="379404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</a:t>
            </a:r>
            <a:r>
              <a:rPr b="1" lang="zh-CN" sz="2000" spc="-1" strike="noStrike">
                <a:solidFill>
                  <a:srgbClr val="ff99ff"/>
                </a:solidFill>
                <a:latin typeface="Arial Unicode MS"/>
                <a:ea typeface="华文行楷"/>
              </a:rPr>
              <a:t>鹧鸪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99ff"/>
                </a:solidFill>
                <a:latin typeface="Arial Unicode MS"/>
                <a:ea typeface="华文行楷"/>
              </a:rPr>
              <a:t>家住苍烟落照间，丝毫尘事不相关。斟残玉瀣行穿竹，卷罢黄庭卧看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 Unicode MS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ff99ff"/>
                </a:solidFill>
                <a:latin typeface="Arial Unicode MS"/>
                <a:ea typeface="华文行楷"/>
              </a:rPr>
              <a:t>贪啸傲，任衰残，不妨随处一开颜。元知造物心肠别，老却英雄似等闲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762120" y="48769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 Unicode MS"/>
                <a:ea typeface="华文行楷"/>
              </a:rPr>
              <a:t>朝中措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  <a:ea typeface="华文行楷"/>
              </a:rPr>
              <a:t>.</a:t>
            </a:r>
            <a:r>
              <a:rPr b="1" lang="zh-CN" sz="2000" spc="-1" strike="noStrike">
                <a:solidFill>
                  <a:srgbClr val="0000ff"/>
                </a:solidFill>
                <a:latin typeface="Arial Unicode MS"/>
                <a:ea typeface="华文行楷"/>
              </a:rPr>
              <a:t>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Unicode MS"/>
                <a:ea typeface="华文行楷"/>
              </a:rPr>
              <a:t>幽姿不入少年场，无语只凄凉。一个飘零身世，十分冷淡心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Unicode MS"/>
                <a:ea typeface="华文行楷"/>
              </a:rPr>
              <a:t>江头月底，新诗旧梦，孤恨清香。任是春风不管，也曾先识东皇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01"/>
          <p:cNvPicPr/>
          <p:nvPr/>
        </p:nvPicPr>
        <p:blipFill>
          <a:blip r:embed="rId2"/>
          <a:stretch/>
        </p:blipFill>
        <p:spPr>
          <a:xfrm>
            <a:off x="655308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SO0205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838080" y="1600200"/>
            <a:ext cx="746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  <a:ea typeface="华文新魏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有节奏地朗读这首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背诵并默写这首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  <a:ea typeface="华文新魏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这首诗的艺术特色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你在学习、生活中有否遇到“山重水复疑   无路，柳暗花明又一村”的情况？谈谈你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诗人的思想感情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057400" y="6094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后要求及问题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2796840" y="3500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6-02-04T06:32:00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3T14:09:41Z</dcterms:modified>
  <cp:revision>16</cp:revision>
  <dc:subject>第一PPT模板网-WWW.1PPT.COM</dc:subject>
  <dc:title>第一PPT模板网-WWW.1PPT.COM</dc:title>
</cp:coreProperties>
</file>