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0342-C332-435B-A9DD-FE342AA8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ACEA-5395-4C43-A5E7-164AED25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86ACE-8824-4022-89B3-FFCDC901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786A9-F1FF-44B6-BB44-5EB3B5C5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FED86-B43B-4130-B3CA-FB365014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A1A2F-3B35-4984-A8DB-A0138CD8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8CD2B-3D26-4D2C-8CCF-8A91FCAD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4664B-ACA4-4EEF-9657-2092A9BE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2823A-9343-4988-999A-FAAAA124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349B6-EE82-4905-A9E0-39A0BC4A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23DBB-4EA5-4DB7-BE45-2B16935B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30B73-24BD-493E-BDD3-F72F191B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7F9A-A495-42BC-B1AE-E9390284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6F141-505C-4009-A8CE-743B62CD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1711D-C8B5-4596-B6ED-0E87BB81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4B2C9-60D6-4C02-AC34-F3886A3C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81378-F001-4867-A442-E8CFA591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6FDCA-418B-4F75-B4E6-CA90AFD4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782A1-8DFD-4CEA-A18F-67971EBC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2748E-E0EF-4362-ACD8-219F99C2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5F893-1029-4C41-A7F2-C282EEA6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A81C4-5A96-47CE-97DB-6FD0662C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32FA2-44A0-421F-9EF4-CC6C3E59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3067-B342-4A6D-9B45-112763AD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66172-6C1A-48D1-A773-FA20388A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2819C-D615-4FC9-84FC-C163D85B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24C76-DC5C-472A-8336-6522FC56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ED34E-06F8-45FD-8AA6-6DE2A175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67B4E-574C-406F-B20E-32C3FFB3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84D30-81EF-4D12-80B9-579DE03E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584ED-6CB5-49E0-9864-8088864D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C1614-AE40-4EA2-BC15-3E59FB9B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A41D9-8F65-43F8-BB13-780C208A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B19F1-9722-46B3-B561-6B9281FC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EBB7-2B6E-41AF-8595-7AF6DCE0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52B12-28F4-4023-9E4B-99BEA74C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1026C-0577-4743-A646-E55222AA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8F83D-D43F-4DD5-93B0-5DBCD9AB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52966-B8AA-4AEB-9605-C47B3E5D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36C1B-FE43-4D4A-BD61-B2364F05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B6C4B-C833-4890-B49F-C8AAFCE7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FA83F-6B65-4C52-AE4F-3C8A7BBD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2F936-5BBF-4786-AE25-A0F41414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2542F-3BBB-42F7-9CB4-D089591B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CFC95-D9DD-41EF-BF49-8D463BAD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478B-C363-4DD2-8437-8AC14603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9B459-35DA-4F9C-ABDC-2DEF1D08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95111-C158-4172-9D8A-D5BCABB1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FD504-CF3A-4D34-BFB3-7DE13CB5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68AE9-B03F-441C-9C7F-6CD9299B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1F65A-183F-4116-8422-A74DB2B5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BB33-48E5-4AB9-84C6-0EB7A2B8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0E19-1212-491A-9741-766914B7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D49D-CD9D-46DA-B01C-45D31597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993C-0E92-419C-91F7-D93555EE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F669-22BA-4375-96C2-463C3899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C9ED-3A83-499B-B633-63EB2EFE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4759-8400-4F35-83A9-AE3A89AD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A913-B3D8-4D79-BAB9-94A6CA66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6589-F77E-44DF-84CF-ED9A07F8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79A0-2E32-4A3E-83B6-CED8F527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605E-100C-400B-9360-F877B31DB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F6EAC-6080-46DF-88ED-AF81BA0D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AE9DA-AECE-4671-BC8F-0A9B8094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1ECC7-C87B-4149-82CA-3ABC466D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CE499-7345-4153-B09E-54BB5E2D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8F6AD-9BC3-4658-80C4-27A982E5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A565-CD8D-4873-9CC5-D68A7D4F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3932F-49C1-4707-A17F-5FB623D8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4AEA4-C965-47A6-A934-46D85515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A26DF-01F9-4384-99B1-8CE6503F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D09BC-7ED0-460E-B796-7F1DC845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BC0BF-8B3C-4DBD-9D74-21CC075D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78466-6D43-48E0-AA1C-AE859170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D55A6-8777-435A-B9A8-615AF399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DC3FD-79A8-4818-99A8-26566B4C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99681-1961-4CAA-8D25-2B9244C9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F016D-35D6-46DE-A81E-B38FE5F1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464-95CB-4E17-B443-BCCFAE87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7B00E-7F84-4540-9D3C-D8AE10DD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83B99-6A87-40D2-B790-05764861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B92C8-2679-4153-AFC4-B6BDEBB8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28474-3A25-40BB-9F34-812A0601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0FB91-D305-4838-8BCD-CAEF5980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E5F4B-E30A-422D-B8A5-FBC8060E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341F1-20D5-43B0-8E01-CBC6D0DD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18D4A-8148-4991-B9AC-75DB2B6D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FDCC6-3B3D-44EF-81CA-F3B23EBA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A5D63-3007-4438-A2C5-81CB292D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41F0-6201-4062-8AF1-CF14DF94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EFA4C-203C-481E-986B-CCF7AE13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FD622-8C26-40D8-9E34-2D51B9CF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52E94-4D91-480D-AA8C-62A1AFC1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F37B4-373E-4FE0-A69C-A20B2956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9BAF1-20E6-489D-83E0-3A09BA1F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D0671-4A96-4B35-B8D2-0EDD6944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9B691-8770-45F7-9D3F-3E5EE383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B7F69-EE85-4A5D-B564-FF93040C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FEABD-18A2-4A3C-BD6D-D03B34E7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CAF77-CA34-4CFA-96B2-9B8EC2A7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B44A-F148-4C54-803D-43F128A5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0F923-8940-4CB2-AC17-833998A5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41E0F-E5D5-4761-B90B-3B351A09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6CFE0-33D7-4632-B24B-2A094B4E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264D9-403E-4ABD-A46E-DC6F5519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D7405-EDE8-4A96-81FA-55A9961E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B4BDC-99D4-4CA9-A9FC-104E6B37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9E72D-75A6-4F6D-AC27-1F6F6CA5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9EBC9-1D9F-4029-86F1-3A63E8BE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F9444-AB07-45F8-9404-3BEB5AA5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C4544-0DF2-4D5F-A004-C122EE45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B6D1-670D-45D1-8C73-D0E06F5C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07AEC-41FF-495A-BED6-EACA592C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733F2-B216-40BC-902D-2D6E5468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D8404-EB08-4D0A-A4E5-3F521729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8D2AB-238B-4BAB-879D-45C5F496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066EF-481F-409E-91F4-627102A5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8CD8A-F6FC-4881-82E7-0706732F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AF562-FB7B-411F-AEFA-30097FAA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C1462-EC8D-4A5C-9A9E-D9B13198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8E25C-3E7F-40A0-A535-2721A962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4F61B-0BE5-4546-9BA5-B9AE6E03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1E59-ACD3-415B-B7DE-712753DD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6F560-E00C-479D-AE38-07519A3E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7308F-5CD0-407C-8E05-1E77C43D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94196-FB2D-4E3C-BE79-529A498A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459AA-3548-42A7-8875-A2BC14F2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001D0-0FF4-4740-9837-964BDAC0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52013-8FDE-45DC-ACD9-C9D1B812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0169B-2C78-4AD8-AA1E-1F2C10D3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F483E-0444-4909-9CDC-EA47E7E0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BDA0C-0A8B-4F69-963E-BBFF4E30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3EEBB-D651-4E5F-BE67-74431B56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672F-C454-421E-BD01-A9C8A668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0D91C-86BE-4854-B79C-1030E9B0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90764-4680-44B1-9005-7607541E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2F63F-46A9-457E-B611-3822E940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A99C3-D04C-4082-B303-0B13DC44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FE586-505D-4391-8113-2AF0C824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6C299-0EA9-4005-8B12-4CAEC481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13D64-6D8A-4E9D-B03D-76319CDF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8E8CA-70C9-4A8E-898E-FEEE961E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A95A4-6FF2-4F70-A889-571F8800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277AB-03BB-492B-A0E1-E2682811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634E-047B-4F66-BEA3-F18DF47A3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2C83-0A31-4185-A660-D6976F7D81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80F5-5E48-457D-92FC-CFC927A1A4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F71D-09F4-4A76-97AB-6AECCF728E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D772-9C7C-43BB-8125-44DAB93C7C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556C-CD5A-42AD-9AFB-0B38F7387D6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8CFE-7AEC-4B4E-BF61-3BCD9E1D535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4082-A45E-46A1-B2FB-6D5E12E7437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02FC-3F71-459B-817D-C1859107E37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BDB4-9ED6-45A6-92F5-111CE52F717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906B-3E93-4460-BE3E-28B8BB387F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6E1A-04D1-4D3C-9677-1A54305E34B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"/>
          <p:cNvPicPr/>
          <p:nvPr/>
        </p:nvPicPr>
        <p:blipFill>
          <a:blip r:embed="rId1"/>
          <a:stretch/>
        </p:blipFill>
        <p:spPr>
          <a:xfrm>
            <a:off x="820800" y="0"/>
            <a:ext cx="728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"/>
          <p:cNvPicPr/>
          <p:nvPr/>
        </p:nvPicPr>
        <p:blipFill>
          <a:blip r:embed="rId1"/>
          <a:stretch/>
        </p:blipFill>
        <p:spPr>
          <a:xfrm>
            <a:off x="0" y="1235160"/>
            <a:ext cx="91440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3240" y="1171440"/>
            <a:ext cx="913752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4" descr=""/>
          <p:cNvPicPr/>
          <p:nvPr/>
        </p:nvPicPr>
        <p:blipFill>
          <a:blip r:embed="rId1"/>
          <a:stretch/>
        </p:blipFill>
        <p:spPr>
          <a:xfrm>
            <a:off x="0" y="98568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"/>
          <p:cNvPicPr/>
          <p:nvPr/>
        </p:nvPicPr>
        <p:blipFill>
          <a:blip r:embed="rId1"/>
          <a:stretch/>
        </p:blipFill>
        <p:spPr>
          <a:xfrm>
            <a:off x="0" y="1355760"/>
            <a:ext cx="914400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0" y="136512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矩形 5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7"/>
          <a:stretch/>
        </p:blipFill>
        <p:spPr>
          <a:xfrm>
            <a:off x="3240" y="1171440"/>
            <a:ext cx="9137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4680" y="1136520"/>
            <a:ext cx="9134640" cy="47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4" descr=""/>
          <p:cNvPicPr/>
          <p:nvPr/>
        </p:nvPicPr>
        <p:blipFill>
          <a:blip r:embed="rId1"/>
          <a:stretch/>
        </p:blipFill>
        <p:spPr>
          <a:xfrm>
            <a:off x="0" y="1093680"/>
            <a:ext cx="914400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4" descr=""/>
          <p:cNvPicPr/>
          <p:nvPr/>
        </p:nvPicPr>
        <p:blipFill>
          <a:blip r:embed="rId1"/>
          <a:stretch/>
        </p:blipFill>
        <p:spPr>
          <a:xfrm>
            <a:off x="312840" y="0"/>
            <a:ext cx="874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4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"/>
          <p:cNvPicPr/>
          <p:nvPr/>
        </p:nvPicPr>
        <p:blipFill>
          <a:blip r:embed="rId1"/>
          <a:stretch/>
        </p:blipFill>
        <p:spPr>
          <a:xfrm>
            <a:off x="-36360" y="912960"/>
            <a:ext cx="918036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4" descr="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0" y="1344600"/>
            <a:ext cx="91440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"/>
          <p:cNvPicPr/>
          <p:nvPr/>
        </p:nvPicPr>
        <p:blipFill>
          <a:blip r:embed="rId1"/>
          <a:stretch/>
        </p:blipFill>
        <p:spPr>
          <a:xfrm>
            <a:off x="0" y="1390680"/>
            <a:ext cx="91440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4" descr=""/>
          <p:cNvPicPr/>
          <p:nvPr/>
        </p:nvPicPr>
        <p:blipFill>
          <a:blip r:embed="rId1"/>
          <a:stretch/>
        </p:blipFill>
        <p:spPr>
          <a:xfrm>
            <a:off x="4680" y="1317600"/>
            <a:ext cx="913464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4" descr=""/>
          <p:cNvPicPr/>
          <p:nvPr/>
        </p:nvPicPr>
        <p:blipFill>
          <a:blip r:embed="rId1"/>
          <a:stretch/>
        </p:blipFill>
        <p:spPr>
          <a:xfrm>
            <a:off x="1440" y="1062000"/>
            <a:ext cx="91411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6:03:20Z</dcterms:created>
  <dc:creator>ml</dc:creator>
  <dc:description/>
  <dc:language>en-US</dc:language>
  <cp:lastModifiedBy>admin</cp:lastModifiedBy>
  <dcterms:modified xsi:type="dcterms:W3CDTF">2015-02-24T14:56:15Z</dcterms:modified>
  <cp:revision>8</cp:revision>
  <dc:subject/>
  <dc:title>幻灯片 1</dc:title>
</cp:coreProperties>
</file>