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CA23-86BE-4971-ADE4-460FB84A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612-2448-48BB-84C5-47970E89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3051-C8A9-47AB-B601-ED6897FA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59FE-4F46-446F-9255-B8F9EB0D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6241-59BB-4F0B-A7F8-1F97AEC4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3F81-A6A3-451D-9EE0-AF235542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032-B540-4BFA-8B29-616946AB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2DCD-82B7-4132-8EC3-B5446CF7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03A-9DB8-42D3-BD52-A3AEEB4E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003-0876-4D3C-8888-4D83C5B3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508-4EC9-4126-A85B-91CCE4DA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7E9-E57F-4DEC-BC28-6042C9D9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7F56-0F8F-4E5F-8829-A4A170844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0120114105653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895120" y="3809880"/>
            <a:ext cx="3124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楷体"/>
              </a:rPr>
              <a:t>骆宾王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华文楷体"/>
              </a:rPr>
              <a:t>[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楷体"/>
              </a:rPr>
              <a:t>唐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华文楷体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295280" y="2133720"/>
            <a:ext cx="6096240" cy="1523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咏鹅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" descr="24817648696746966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7"/>
          <p:cNvSpPr/>
          <p:nvPr/>
        </p:nvSpPr>
        <p:spPr>
          <a:xfrm>
            <a:off x="5410080" y="1066680"/>
            <a:ext cx="1143000" cy="685800"/>
          </a:xfrm>
          <a:prstGeom prst="cloudCallout">
            <a:avLst>
              <a:gd name="adj1" fmla="val 23611"/>
              <a:gd name="adj2" fmla="val 1150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华文楷体"/>
                <a:hlinkClick r:id="rId2" action="ppaction://hlinksldjump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838080" y="1905120"/>
            <a:ext cx="990720" cy="533160"/>
          </a:xfrm>
          <a:prstGeom prst="wedgeRoundRectCallout">
            <a:avLst>
              <a:gd name="adj1" fmla="val -66347"/>
              <a:gd name="adj2" fmla="val 1568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华文楷体"/>
                <a:hlinkClick r:id="rId3" action="ppaction://hlinksldjump"/>
              </a:rPr>
              <a:t>导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6934320" y="380880"/>
            <a:ext cx="1066680" cy="609840"/>
          </a:xfrm>
          <a:prstGeom prst="wedgeEllipseCallout">
            <a:avLst>
              <a:gd name="adj1" fmla="val -16518"/>
              <a:gd name="adj2" fmla="val 81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华文楷体"/>
                <a:hlinkClick r:id="rId4" action="ppaction://hlinksldjump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2895480" y="1219320"/>
            <a:ext cx="914400" cy="533160"/>
          </a:xfrm>
          <a:prstGeom prst="wedgeRectCallout">
            <a:avLst>
              <a:gd name="adj1" fmla="val 67013"/>
              <a:gd name="adj2" fmla="val 86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新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1501745c9bcb942df4d4ad620a4bc4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120" y="609120"/>
            <a:ext cx="2514600" cy="251460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话伸脖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走路摆架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身穿白袍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头戴红帽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3581280" y="533520"/>
            <a:ext cx="2438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猜猜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6324480" y="228600"/>
            <a:ext cx="1219320" cy="129528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6477120" y="380880"/>
            <a:ext cx="914400" cy="990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2286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200810142146227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457200"/>
            <a:ext cx="58676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ǒnɡ      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咏  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ùo bīn wáng tá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  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骆    宾     王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唐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           é           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ū     xiàng   xiàng    tiān     ɡ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1c1c1c"/>
                </a:solidFill>
                <a:latin typeface="Arial"/>
              </a:rPr>
              <a:t>曲  项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向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天  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ái     máo       fú         lǜ      shu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白  毛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浮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绿  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óng  zhǎng    bō      qīng    b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红  掌</a:t>
            </a: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拨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清  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01.mp3" descr=""/>
          <p:cNvPicPr/>
          <p:nvPr/>
        </p:nvPicPr>
        <p:blipFill>
          <a:blip r:embed="rId2"/>
          <a:stretch/>
        </p:blipFill>
        <p:spPr>
          <a:xfrm>
            <a:off x="88390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4"/>
          <p:cNvSpPr/>
          <p:nvPr/>
        </p:nvSpPr>
        <p:spPr>
          <a:xfrm>
            <a:off x="7772400" y="60958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10800"/>
                </a:moveTo>
                <a:lnTo>
                  <a:pt x="26426" y="3794"/>
                </a:lnTo>
                <a:lnTo>
                  <a:pt x="26426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>
            <a:off x="7467480" y="3808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Arial"/>
              </a:rPr>
              <a:t>意境动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1"/>
          <a:srcRect l="0" t="0" r="0" b="8402"/>
          <a:stretch/>
        </p:blipFill>
        <p:spPr>
          <a:xfrm>
            <a:off x="1495440" y="990720"/>
            <a:ext cx="6095880" cy="418788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9"/>
          <p:cNvSpPr/>
          <p:nvPr/>
        </p:nvSpPr>
        <p:spPr>
          <a:xfrm>
            <a:off x="7848720" y="6400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163" h="21600">
                <a:moveTo>
                  <a:pt x="23575" y="10800"/>
                </a:moveTo>
                <a:lnTo>
                  <a:pt x="37588" y="3794"/>
                </a:lnTo>
                <a:lnTo>
                  <a:pt x="3758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228600" y="5257800"/>
            <a:ext cx="2133720" cy="1371600"/>
          </a:xfrm>
          <a:prstGeom prst="wedgeRoundRectCallout">
            <a:avLst>
              <a:gd name="adj1" fmla="val 87648"/>
              <a:gd name="adj2" fmla="val -6793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了本诗后，请你画一只鹅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7F19B22C64D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人从自己的角度、自己的心态，去理解和观察鹅，用了拟人的手法，如把鹅的叫声说成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。同时也把色彩的对比，也就是事物的特征表现传达的丰富和全面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绿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红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清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2286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6934320" y="228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420" h="21600">
                <a:moveTo>
                  <a:pt x="19203" y="7301"/>
                </a:moveTo>
                <a:lnTo>
                  <a:pt x="20117" y="7301"/>
                </a:lnTo>
                <a:lnTo>
                  <a:pt x="20500" y="7667"/>
                </a:lnTo>
                <a:lnTo>
                  <a:pt x="29709" y="7667"/>
                </a:lnTo>
                <a:lnTo>
                  <a:pt x="30266" y="8224"/>
                </a:lnTo>
                <a:lnTo>
                  <a:pt x="30266" y="8772"/>
                </a:lnTo>
                <a:lnTo>
                  <a:pt x="32111" y="8772"/>
                </a:lnTo>
                <a:lnTo>
                  <a:pt x="32477" y="8224"/>
                </a:lnTo>
                <a:lnTo>
                  <a:pt x="33216" y="8224"/>
                </a:lnTo>
                <a:lnTo>
                  <a:pt x="33216" y="13376"/>
                </a:lnTo>
                <a:lnTo>
                  <a:pt x="32477" y="13376"/>
                </a:lnTo>
                <a:lnTo>
                  <a:pt x="32111" y="12828"/>
                </a:lnTo>
                <a:lnTo>
                  <a:pt x="30266" y="12828"/>
                </a:lnTo>
                <a:lnTo>
                  <a:pt x="30266" y="14107"/>
                </a:lnTo>
                <a:lnTo>
                  <a:pt x="20683" y="14107"/>
                </a:lnTo>
                <a:lnTo>
                  <a:pt x="20683" y="9877"/>
                </a:lnTo>
                <a:lnTo>
                  <a:pt x="20500" y="9877"/>
                </a:lnTo>
                <a:lnTo>
                  <a:pt x="20117" y="10243"/>
                </a:lnTo>
                <a:lnTo>
                  <a:pt x="19203" y="102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Arial"/>
              </a:rPr>
              <a:t>动画歌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当易网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www.downyi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6-07-03T13:33:15Z</dcterms:modified>
  <cp:revision>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