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84C4-00BF-4446-B45E-57C39C6B2B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湖秋月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武 陵 春 色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幼圆"/>
              </a:rPr>
              <a:t>玲珑剔透的亭台楼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F26-5429-4855-BB8C-C1E1F45E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9B4-2FA9-4108-83E2-7B68AB6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35E-3266-4111-95CE-5A39B5D2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C04-900E-4C87-B204-93646A00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075-D489-4DBB-AB2A-0B84BD80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D5B-5ACB-4C52-99C5-C062358F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63E-CEF6-4E39-823E-FFA62DA8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16F-5D47-41CA-B2F0-56E59ECE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9A3-FCA4-401E-87DA-F250F25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A5A-8722-4D6D-AE4D-19AD4B5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415-F27A-4CC8-87DE-056B5FF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F68-2D78-4C17-9D8F-A15EAFB7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3B44-9ED6-4DDE-9072-B29A5338F3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81080" y="-243000"/>
            <a:ext cx="111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6206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32000" y="-747720"/>
            <a:ext cx="7416720" cy="39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圆明园的毁灭</a:t>
            </a:r>
            <a:endParaRPr b="0" lang="en-US" sz="1800" spc="1" strike="noStrike">
              <a:ln w="381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6000" y="486900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10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1387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1700280"/>
            <a:ext cx="72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Arial"/>
                <a:ea typeface="宋体"/>
              </a:rPr>
              <a:t>园中许多景物都是仿照各地名胜建造的，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30064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海宁的安澜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39640" y="4365720"/>
            <a:ext cx="3600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狮子林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7372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黑体"/>
                <a:ea typeface="黑体"/>
              </a:rPr>
              <a:t>杭州西湖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黑体"/>
                <a:ea typeface="黑体"/>
              </a:rPr>
              <a:t>平 湖 秋 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067280" y="544500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雷 峰 夕 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57340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蓬莱瑶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2400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92360" y="58770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武 陵 春 色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rcRect l="1125" t="4823" r="3337" b="0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54936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西 洋 景 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009080" cy="710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4360" y="907920"/>
            <a:ext cx="86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楷体_GB2312"/>
              </a:rPr>
              <a:t>圆明园不但有宏伟的建筑，还收藏着最珍贵的历史文物。上自先秦时代的青铜礼器，下至唐、宋、元、明、清历代名人书画和各种奇珍异宝。所以，它又是当时世界上最大的博物馆、艺术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260280"/>
            <a:ext cx="88200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圆明园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，也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；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，也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；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，还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不仅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，还有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；漫步园内，有如漫游在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，饱览着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；流连其间，仿佛</a:t>
            </a: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  <a:ea typeface="楷体_GB2312"/>
              </a:rPr>
              <a:t>                            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1017080" cy="7461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-747720"/>
            <a:ext cx="968508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492360" y="0"/>
            <a:ext cx="1263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17440" y="0"/>
            <a:ext cx="93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116000" y="-1395360"/>
            <a:ext cx="11304720" cy="95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973080" y="-892080"/>
            <a:ext cx="11233080" cy="95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52360" y="-819000"/>
            <a:ext cx="9396360" cy="88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43927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5520" y="0"/>
            <a:ext cx="898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20360" cy="782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360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藏书楼、大宫门、九州清宴殿、正大光明殿、勤政亲贤殿、长春仙馆、镂月开云、天然图画、碧桐书院、上下天光、杏花春馆、坦坦荡荡、万方安和、山高水长楼、同乐园，茹古涵今、月地云居、慈云普护、武陵春色、安佑宫、水木明瑟、舍卫城、文源阁、廓然大公、西峰秀色、四宜书屋、北远山村，日天琳宇、映水兰香、濂溪深处、汇芳书院、紫碧山房、鱼跃鸢飞、柳浪闻莺、东湖蓬莱、方壶胜境、蓬岛瑶台、接秀山房、平湖秋月、曲院风荷，三潭印月、雷峰夕照、南屏晚钟、夹镜明、淳化轩、海岳开襟、狮子林、如园、西洋楼、观水法、黄花阵、线法山、牡丹亭、苏堤春晓、碧桐书院、上下天光、杏花村、清音阁、观戏楼、苏州街、诗咏堂、菱荷深处、花港观鱼、安澜园、谐奇趣、养雀笼、方外观、远瀛观、海宴堂、蓄水楼、黄花阵、花园门、线法桥、方河、线法墙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3336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6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日，英法联军侵入北京，闯进圆明园。他们把园内凡是能拿走的东西，统统掠走；拿不动的，就用大车或牲口搬运；实在运不走的，就任意破坏、毁掉。为了销毁罪证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日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日，三千多名侵略者奉命在园内放火。大火连烧了三天，烟云笼罩了整个北京城。我国这一园林艺术的瑰宝、建筑艺术的精华，就这样化成了一片灰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9079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907920"/>
            <a:ext cx="12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凡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155736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1557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统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708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-110808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2133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96360" y="2133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400536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12720" y="-963720"/>
            <a:ext cx="10404360" cy="885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6720" y="479736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141300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面对着这熊熊燃烧着的火焰，面对着这变为灰烬的世界园林艺术瑰宝你的心情如何？你想说些什么？想对谁说？是那野蛮侵略者？还是腐败无能的清政府？是千千万万的中国人？还是想对自己说？请你把你想说的话写下来吧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765000"/>
            <a:ext cx="720072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400ed"/>
                </a:solidFill>
                <a:latin typeface="Arial"/>
                <a:ea typeface="楷体_GB2312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844640"/>
            <a:ext cx="84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思考：圆明园毁灭的是什么？无法毁灭的又是什么？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．观看《百家讲坛》阎崇年老师《清十二帝疑案之咸丰下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．完成课后选做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973080" y="-631800"/>
            <a:ext cx="10476000" cy="7489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68360" y="1844640"/>
            <a:ext cx="82803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，再见！</a:t>
            </a:r>
            <a:endParaRPr b="1" lang="en-US" sz="1800" spc="1" strike="noStrike">
              <a:ln w="64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956720" y="479736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71640" y="83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72396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明园简介：圆明园位于北京西郊，原为一座大型的皇家御苑，占地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平面布局呈倒品字形，圆明园主要由圆明、长春、绮春三园组成，总面积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顷。它的陆上建筑面积和故宫一样大，水域面积又等于一个颐和园。除去圆明园南部的朝廷区办理公务外，其余则分布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景区，园林风景群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，挂匾的殿堂亭阁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93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476280"/>
            <a:ext cx="57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金碧辉煌的殿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24720" y="50133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76720" y="530064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玲珑剔透的亭台楼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8236080" cy="47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35280" y="54936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象征着热闹街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的“买卖街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333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象征着田园风光的山乡村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9:40:26Z</dcterms:created>
  <dc:creator>微软用户</dc:creator>
  <dc:description/>
  <dc:language>en-US</dc:language>
  <cp:lastModifiedBy>微软用户</cp:lastModifiedBy>
  <dcterms:modified xsi:type="dcterms:W3CDTF">2010-12-01T10:57:29Z</dcterms:modified>
  <cp:revision>29</cp:revision>
  <dc:subject/>
  <dc:title>幻灯片 1</dc:title>
</cp:coreProperties>
</file>