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  <p:custShowLst>
    <p:custShow name="自定义放映 1" id="0">
      <p:sldLst>
        <p:sld r:id="rId2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5C4-2FE5-4476-B112-C2226EA9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B32-4965-499D-8D4E-6DA7FA90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313-698F-4C61-9CE5-5DB80E51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656-05EA-45F1-804A-EE3AC514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B7E-4EEA-4496-A5D5-C2A2B830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100-2D53-4CD6-94ED-A955A027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12B-87AB-42B5-A93A-940F4021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2D5-09EC-4277-B31F-8671EE51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CA4-1925-487D-A0F5-C3F7A5F1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7E9-4168-4AEE-9A8C-F78740DD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B1E-A28F-4043-B879-B131FF4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6CC-227D-490E-95F1-AE9F404B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FBC7-8869-4F6B-8109-B6D6B06C0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6.xml"/><Relationship Id="rId3" Type="http://schemas.openxmlformats.org/officeDocument/2006/relationships/slide" Target="slide3.xml"/><Relationship Id="rId4" Type="http://schemas.openxmlformats.org/officeDocument/2006/relationships/slide" Target="slide29.xml"/><Relationship Id="rId5" Type="http://schemas.openxmlformats.org/officeDocument/2006/relationships/slide" Target="slide18.xml"/><Relationship Id="rId6" Type="http://schemas.openxmlformats.org/officeDocument/2006/relationships/slide" Target="slide25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2004.163.com/special/t/tpzx.html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2004.163.com/special/t/tpzx.html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2004.163.com/special/t/tpzx.html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2004.163.com/special/t/tpzx.html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2004.163.com/special/b/bsxmpq.html" TargetMode="Externa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2004.163.com/special/t/tpzx.html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0_1816_642377c62cdc6cd"/>
          <p:cNvPicPr/>
          <p:nvPr/>
        </p:nvPicPr>
        <p:blipFill>
          <a:blip r:embed="rId1"/>
          <a:stretch/>
        </p:blipFill>
        <p:spPr>
          <a:xfrm>
            <a:off x="0" y="-304920"/>
            <a:ext cx="7238880" cy="6324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243560" y="-28080"/>
            <a:ext cx="911520" cy="63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 面  五  星  红  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928800"/>
            <a:ext cx="882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我向老板说明了自己的处境。老板听懂了我的话，却把双手一摊，表示一脸的无奈，说：“我讲究平等交易，我给你面包，你能给我什么呢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5840" y="1429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老板的态度变化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2781360"/>
            <a:ext cx="856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68360" y="436572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87280" y="4286160"/>
            <a:ext cx="885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我醒来的时候，发现自己躺在医院的病房里，身边站着的就是面包店的老板。他见我醒了，冲我竖起大拇指，说：“安心养一养，费用由我来付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427640" y="191628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0" y="928800"/>
            <a:ext cx="882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我向老板说明了自己的处境。老板听懂了我的话，却把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双手一摊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，表示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一脸的无奈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，说：“我讲究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平等交易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，我给你面包，你能给我什么呢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7280" y="4286160"/>
            <a:ext cx="885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我醒来的时候，发现自己躺在医院的病房里，身边站着的就是面包店的老板。他见我醒了，冲我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竖起大拇指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，说：“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安心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养一养，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费用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  <a:ea typeface="楷体_GB2312"/>
              </a:rPr>
              <a:t>由我来付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752480" y="16002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>
            <a:hlinkClick r:id="rId2" action="ppaction://hlinksldjump"/>
          </p:cNvPr>
          <p:cNvSpPr/>
          <p:nvPr/>
        </p:nvSpPr>
        <p:spPr>
          <a:xfrm>
            <a:off x="5486400" y="2666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>
            <a:hlinkClick r:id="rId3" action="ppaction://hlinksldjump"/>
          </p:cNvPr>
          <p:cNvSpPr/>
          <p:nvPr/>
        </p:nvSpPr>
        <p:spPr>
          <a:xfrm>
            <a:off x="6858000" y="36576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>
            <a:hlinkClick r:id="rId4" action="ppaction://hlinksldjump"/>
          </p:cNvPr>
          <p:cNvSpPr/>
          <p:nvPr/>
        </p:nvSpPr>
        <p:spPr>
          <a:xfrm>
            <a:off x="5562720" y="16002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>
            <a:hlinkClick r:id="rId5" action="ppaction://hlinksldjump"/>
          </p:cNvPr>
          <p:cNvSpPr/>
          <p:nvPr/>
        </p:nvSpPr>
        <p:spPr>
          <a:xfrm>
            <a:off x="6981480" y="2666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171600" y="16002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314600" y="16002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6934320" y="160020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875960" y="2666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095280" y="2666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238280" y="2666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4161960" y="3657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609880" y="3657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0">
            <a:hlinkClick r:id="rId6" action="ppaction://hlinksldjump"/>
          </p:cNvPr>
          <p:cNvSpPr/>
          <p:nvPr/>
        </p:nvSpPr>
        <p:spPr>
          <a:xfrm>
            <a:off x="3635280" y="5373720"/>
            <a:ext cx="42498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30_1816_642377c62cdc6cd"/>
          <p:cNvPicPr/>
          <p:nvPr/>
        </p:nvPicPr>
        <p:blipFill>
          <a:blip r:embed="rId1"/>
          <a:stretch/>
        </p:blipFill>
        <p:spPr>
          <a:xfrm>
            <a:off x="0" y="-304920"/>
            <a:ext cx="7238880" cy="63248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6512400" y="609480"/>
            <a:ext cx="16426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 面  五  星  红  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333160" y="35053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我摇摇头，吃力地穿上大衣，拿着鲜艳的国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趔趔趄趄地向外走去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13716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1752480" y="40384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20574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27432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3124080" y="40384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066680" y="487692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1447920" y="4876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1828800" y="4876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2133720" y="4876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437840" y="4336920"/>
            <a:ext cx="632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突然，我摔倒在地上，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什 么也不知道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0" descr="玫瑰花像索背景12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3257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1"/>
          <p:cNvSpPr/>
          <p:nvPr/>
        </p:nvSpPr>
        <p:spPr>
          <a:xfrm>
            <a:off x="2881800" y="1143000"/>
            <a:ext cx="290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心中有祖国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4884480" y="609480"/>
            <a:ext cx="306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收拾好背包，我把它系在筏子上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举一面鲜艳的五星红旗，便出发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为了防止丢失，也为了行动方便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我把国旗从旗杆上抽下来，系在脖子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3.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我愣了一下，然后久久地凝视着手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的五星红旗。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191120" y="16002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238880" y="31240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7543800" y="414036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7772400" y="414036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11"/>
          <p:cNvSpPr/>
          <p:nvPr/>
        </p:nvSpPr>
        <p:spPr>
          <a:xfrm>
            <a:off x="4334040" y="4087800"/>
            <a:ext cx="1131840" cy="62712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2"/>
          <p:cNvSpPr/>
          <p:nvPr/>
        </p:nvSpPr>
        <p:spPr>
          <a:xfrm>
            <a:off x="3581280" y="5257800"/>
            <a:ext cx="1447920" cy="228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85600" y="4038480"/>
            <a:ext cx="23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面做工精致的五星红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经过河水的冲洗，依然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那么鲜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4"/>
          <p:cNvSpPr/>
          <p:nvPr/>
        </p:nvSpPr>
        <p:spPr>
          <a:xfrm>
            <a:off x="1523880" y="45720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5"/>
          <p:cNvSpPr/>
          <p:nvPr/>
        </p:nvSpPr>
        <p:spPr>
          <a:xfrm>
            <a:off x="1828800" y="45720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914400" y="5943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1219320" y="5943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18"/>
          <p:cNvSpPr/>
          <p:nvPr/>
        </p:nvSpPr>
        <p:spPr>
          <a:xfrm>
            <a:off x="22320" y="3882960"/>
            <a:ext cx="3854520" cy="264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4664880" y="43434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33"/>
                </a:solidFill>
                <a:latin typeface="Times New Roman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6705720" y="41148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1"/>
          <p:cNvSpPr/>
          <p:nvPr/>
        </p:nvSpPr>
        <p:spPr>
          <a:xfrm>
            <a:off x="7010280" y="41148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2"/>
          <p:cNvSpPr/>
          <p:nvPr/>
        </p:nvSpPr>
        <p:spPr>
          <a:xfrm>
            <a:off x="7238880" y="41148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7162920" y="3933720"/>
            <a:ext cx="131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7247520" y="5092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想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26"/>
          <p:cNvSpPr/>
          <p:nvPr/>
        </p:nvSpPr>
        <p:spPr>
          <a:xfrm>
            <a:off x="1295280" y="38862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摇摇头，吃力地穿上大衣，拿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鲜艳的国旗，趔趔趄趄地向外走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53964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醒来的时候，发现自己躺在医院的病床里，身边站着的就是面包店的老板。他见我醒了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冲我竖起大拇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说：“安心养一养，费用由我来付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11280" y="3860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时我才发现，在我床头的花瓶里，有一束美丽、芬芳的鲜花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花丛中插着那面心爱的五星红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">
            <a:hlinkClick r:id="rId2" action="ppaction://hlinksldjump"/>
          </p:cNvPr>
          <p:cNvSpPr/>
          <p:nvPr/>
        </p:nvSpPr>
        <p:spPr>
          <a:xfrm>
            <a:off x="824400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6">
            <a:hlinkClick r:id="rId3" action="ppaction://hlinksldjump"/>
          </p:cNvPr>
          <p:cNvSpPr/>
          <p:nvPr/>
        </p:nvSpPr>
        <p:spPr>
          <a:xfrm>
            <a:off x="611280" y="6237360"/>
            <a:ext cx="576000" cy="28728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281" h="21600">
                <a:moveTo>
                  <a:pt x="0" y="0"/>
                </a:moveTo>
                <a:lnTo>
                  <a:pt x="43281" y="0"/>
                </a:lnTo>
                <a:lnTo>
                  <a:pt x="43281" y="21600"/>
                </a:lnTo>
                <a:lnTo>
                  <a:pt x="0" y="21600"/>
                </a:lnTo>
                <a:close/>
              </a:path>
              <a:path fill="lightenLess" w="43281" h="21600">
                <a:moveTo>
                  <a:pt x="0" y="0"/>
                </a:moveTo>
                <a:lnTo>
                  <a:pt x="43281" y="0"/>
                </a:lnTo>
                <a:lnTo>
                  <a:pt x="41881" y="1400"/>
                </a:lnTo>
                <a:lnTo>
                  <a:pt x="1400" y="1400"/>
                </a:lnTo>
                <a:close/>
              </a:path>
              <a:path fill="darken" w="43281" h="21600">
                <a:moveTo>
                  <a:pt x="43281" y="0"/>
                </a:moveTo>
                <a:lnTo>
                  <a:pt x="43281" y="21600"/>
                </a:lnTo>
                <a:lnTo>
                  <a:pt x="41881" y="20200"/>
                </a:lnTo>
                <a:lnTo>
                  <a:pt x="41881" y="1400"/>
                </a:lnTo>
                <a:close/>
              </a:path>
              <a:path fill="darkenLess" w="43281" h="21600">
                <a:moveTo>
                  <a:pt x="4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81" y="20200"/>
                </a:lnTo>
                <a:close/>
              </a:path>
              <a:path fill="lighten" w="4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81" h="21600">
                <a:moveTo>
                  <a:pt x="2164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81" h="21600">
                <a:moveTo>
                  <a:pt x="2164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81" h="21600">
                <a:moveTo>
                  <a:pt x="19064" y="8224"/>
                </a:moveTo>
                <a:lnTo>
                  <a:pt x="22929" y="8224"/>
                </a:lnTo>
                <a:lnTo>
                  <a:pt x="22929" y="15221"/>
                </a:lnTo>
                <a:lnTo>
                  <a:pt x="24217" y="15221"/>
                </a:lnTo>
                <a:lnTo>
                  <a:pt x="24217" y="16144"/>
                </a:lnTo>
                <a:lnTo>
                  <a:pt x="19064" y="16144"/>
                </a:lnTo>
                <a:lnTo>
                  <a:pt x="19064" y="15221"/>
                </a:lnTo>
                <a:lnTo>
                  <a:pt x="20352" y="15221"/>
                </a:lnTo>
                <a:lnTo>
                  <a:pt x="20352" y="9129"/>
                </a:lnTo>
                <a:lnTo>
                  <a:pt x="19064" y="912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026"/>
          <p:cNvSpPr/>
          <p:nvPr/>
        </p:nvSpPr>
        <p:spPr>
          <a:xfrm>
            <a:off x="2604240" y="3429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面包店的老板为什么又帮助了我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027"/>
          <p:cNvSpPr/>
          <p:nvPr/>
        </p:nvSpPr>
        <p:spPr>
          <a:xfrm>
            <a:off x="4038480" y="42670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28"/>
          <p:cNvSpPr/>
          <p:nvPr/>
        </p:nvSpPr>
        <p:spPr>
          <a:xfrm>
            <a:off x="3657600" y="5029200"/>
            <a:ext cx="130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感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pic_254389"/>
          <p:cNvPicPr/>
          <p:nvPr/>
        </p:nvPicPr>
        <p:blipFill>
          <a:blip r:embed="rId1"/>
          <a:stretch/>
        </p:blipFill>
        <p:spPr>
          <a:xfrm>
            <a:off x="611280" y="333360"/>
            <a:ext cx="7993080" cy="4392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468360" y="494172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想对面包店老板说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想对中国留学生说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026" descr="30_1816_642377c62cdc6cd"/>
          <p:cNvPicPr/>
          <p:nvPr/>
        </p:nvPicPr>
        <p:blipFill>
          <a:blip r:embed="rId1"/>
          <a:stretch/>
        </p:blipFill>
        <p:spPr>
          <a:xfrm>
            <a:off x="0" y="-304920"/>
            <a:ext cx="7238880" cy="63248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27"/>
          <p:cNvSpPr/>
          <p:nvPr/>
        </p:nvSpPr>
        <p:spPr>
          <a:xfrm>
            <a:off x="7370640" y="-838440"/>
            <a:ext cx="911520" cy="84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五星红旗，我为你骄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孙楠 - 五星红旗你是我的骄傲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921240" y="1905120"/>
            <a:ext cx="665172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漂流   无奈   漆黑    鼓劲　激流   无影无踪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旗子     荒无人烟      身无分文     趔趔趄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筏子       顺流而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精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838080" y="24382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1219320" y="2438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29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7"/>
          <p:cNvSpPr/>
          <p:nvPr/>
        </p:nvSpPr>
        <p:spPr>
          <a:xfrm flipV="1">
            <a:off x="1295280" y="1371600"/>
            <a:ext cx="457200" cy="53352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279160" y="50652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驾着无动力的小舟，利用船桨掌握好方向，在时而湍急时而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缓的水流中顺流而下，在与大自然抗争中演绎精彩的瞬间，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就是漂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838080" y="419112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1219320" y="41911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323360" y="3809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1143000" y="4267080"/>
            <a:ext cx="304920" cy="38124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3" descr="200611249235588253"/>
          <p:cNvPicPr/>
          <p:nvPr/>
        </p:nvPicPr>
        <p:blipFill>
          <a:blip r:embed="rId1"/>
          <a:stretch/>
        </p:blipFill>
        <p:spPr>
          <a:xfrm>
            <a:off x="685800" y="461160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200605290504_106455"/>
          <p:cNvPicPr/>
          <p:nvPr/>
        </p:nvPicPr>
        <p:blipFill>
          <a:blip r:embed="rId2"/>
          <a:stretch/>
        </p:blipFill>
        <p:spPr>
          <a:xfrm>
            <a:off x="4952880" y="3352680"/>
            <a:ext cx="2819520" cy="33530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5"/>
          <p:cNvSpPr/>
          <p:nvPr/>
        </p:nvSpPr>
        <p:spPr>
          <a:xfrm>
            <a:off x="4952880" y="236232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53341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1949年开国大典上的五星红旗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48481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116000" y="551664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949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开国大典上的五星红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newsflash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971年五星红旗在联合国升起"/>
          <p:cNvPicPr/>
          <p:nvPr/>
        </p:nvPicPr>
        <p:blipFill>
          <a:blip r:embed="rId1"/>
          <a:stretch/>
        </p:blipFill>
        <p:spPr>
          <a:xfrm>
            <a:off x="900000" y="549360"/>
            <a:ext cx="7559640" cy="4960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2276640" y="547992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97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五星红旗在联合国升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dissolv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781360" y="562464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97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珠峰上飘起了五星红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" descr="1975年珠峰上飘起五星红旗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1995年我国科学家首次北极科考"/>
          <p:cNvPicPr/>
          <p:nvPr/>
        </p:nvPicPr>
        <p:blipFill>
          <a:blip r:embed="rId1"/>
          <a:srcRect l="7731" t="0" r="0" b="440"/>
          <a:stretch/>
        </p:blipFill>
        <p:spPr>
          <a:xfrm>
            <a:off x="826920" y="620640"/>
            <a:ext cx="7490160" cy="4772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761120" y="5553000"/>
            <a:ext cx="52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99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我国科学家首次北极科学考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五星红旗在澳门迎风飘扬"/>
          <p:cNvPicPr/>
          <p:nvPr/>
        </p:nvPicPr>
        <p:blipFill>
          <a:blip r:embed="rId1"/>
          <a:stretch/>
        </p:blipFill>
        <p:spPr>
          <a:xfrm>
            <a:off x="900000" y="692280"/>
            <a:ext cx="7488360" cy="4752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2368800" y="5553000"/>
            <a:ext cx="46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999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五星红旗在澳门迎风飘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ush dir="r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雪峰上的红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457200" y="3049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二年九月二十三日， 中国北极科学考察建站团 ，远赴北极地区的新奥尔松，到达之后，首先拿出的是一面五星红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85840" y="149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" descr="1_1-1-21-21_20031015185829"/>
          <p:cNvPicPr/>
          <p:nvPr/>
        </p:nvPicPr>
        <p:blipFill>
          <a:blip r:embed="rId1"/>
          <a:stretch/>
        </p:blipFill>
        <p:spPr>
          <a:xfrm>
            <a:off x="3352680" y="1600200"/>
            <a:ext cx="5791320" cy="5257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0" y="53053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中国航天员杨利伟乘坐“神舟五号”飞船在太空中展示中国国旗和联合国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5" descr="1_1-1-21-312_20031016164011"/>
          <p:cNvPicPr/>
          <p:nvPr/>
        </p:nvPicPr>
        <p:blipFill>
          <a:blip r:embed="rId2"/>
          <a:stretch/>
        </p:blipFill>
        <p:spPr>
          <a:xfrm>
            <a:off x="0" y="0"/>
            <a:ext cx="5029200" cy="49528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5105520" y="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003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各族人民手持国旗欢聚天安门广场，庆祝中国首次载人飞船“神州五号”顺利升上太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7">
            <a:hlinkClick r:id="rId3" action="ppaction://hlinksldjump"/>
          </p:cNvPr>
          <p:cNvSpPr/>
          <p:nvPr/>
        </p:nvSpPr>
        <p:spPr>
          <a:xfrm>
            <a:off x="8712360" y="6354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光荣属于五星红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380880" y="23623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2000</a:t>
            </a:r>
            <a:r>
              <a:rPr b="1" lang="zh-CN" sz="4800" spc="-1" strike="noStrike">
                <a:solidFill>
                  <a:srgbClr val="ccecff"/>
                </a:solidFill>
                <a:latin typeface="Times New Roman"/>
              </a:rPr>
              <a:t>年，当听到奥委会主席宣布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2008</a:t>
            </a:r>
            <a:r>
              <a:rPr b="1" lang="zh-CN" sz="4800" spc="-1" strike="noStrike">
                <a:solidFill>
                  <a:srgbClr val="ccecff"/>
                </a:solidFill>
                <a:latin typeface="Times New Roman"/>
              </a:rPr>
              <a:t>的主办单位是北京时，人民手持国旗，涌上街头欢呼。举国上下，沉浸在一片欢乐的海洋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ttp://cimg.163.com/2004/2004/8/29/20040829062725dd24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514600"/>
            <a:ext cx="4648320" cy="2590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http://all.163.com/sports/29/q0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648320" cy="2514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cimg.163.com/2004/2004/8/29/2004082904481581f2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0"/>
            <a:ext cx="4419720" cy="2490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cimg.163.com/2004/2004/8/29/200408290627570592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2514600"/>
            <a:ext cx="4419720" cy="25909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0" y="5057640"/>
            <a:ext cx="9144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004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年在雅典奥运会女子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排球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决赛中，中国队苦战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Arial"/>
              </a:rPr>
              <a:t>5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局，以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Arial"/>
              </a:rPr>
              <a:t>3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比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Arial"/>
              </a:rPr>
              <a:t>2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战胜俄罗斯队，时隔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Arial"/>
              </a:rPr>
              <a:t>20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年后，重得奥运冠军。姑娘们激动地簇拥着五星红旗在赛场上奔跑着，在冉冉升起的五星红旗下，是多么的骄傲啊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>
            <a:hlinkClick r:id="rId1"/>
          </p:cNvPr>
          <p:cNvSpPr/>
          <p:nvPr/>
        </p:nvSpPr>
        <p:spPr>
          <a:xfrm>
            <a:off x="242892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21906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http://cimg.163.com/2004/2004/8/28/2004082804411199856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24289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6" descr="http://cimg.163.com/2004/2004/8/28/20040828041107759be.jpg"/>
          <p:cNvPicPr/>
          <p:nvPr/>
        </p:nvPicPr>
        <p:blipFill>
          <a:blip r:embed="rId3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http://cimg.163.com/2004/2004/8/28/2004082805504846388.jpg"/>
          <p:cNvPicPr/>
          <p:nvPr/>
        </p:nvPicPr>
        <p:blipFill>
          <a:blip r:embed="rId4"/>
          <a:stretch/>
        </p:blipFill>
        <p:spPr>
          <a:xfrm>
            <a:off x="4381560" y="3657600"/>
            <a:ext cx="476244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2743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 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五星红旗是我的骄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304920" y="19810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      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2004</a:t>
            </a:r>
            <a:r>
              <a:rPr b="1" lang="zh-CN" sz="3200" spc="-1" strike="noStrike">
                <a:solidFill>
                  <a:srgbClr val="ccccff"/>
                </a:solidFill>
                <a:latin typeface="Arial"/>
              </a:rPr>
              <a:t>年在雅典奥运会男子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110</a:t>
            </a:r>
            <a:r>
              <a:rPr b="1" lang="zh-CN" sz="3200" spc="-1" strike="noStrike">
                <a:solidFill>
                  <a:srgbClr val="ccccff"/>
                </a:solidFill>
                <a:latin typeface="Arial"/>
              </a:rPr>
              <a:t>米栏决赛中，中国选手刘翔以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12</a:t>
            </a:r>
            <a:r>
              <a:rPr b="1" lang="zh-CN" sz="3200" spc="-1" strike="noStrike">
                <a:solidFill>
                  <a:srgbClr val="ccccff"/>
                </a:solidFill>
                <a:latin typeface="Arial"/>
              </a:rPr>
              <a:t>秒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91</a:t>
            </a:r>
            <a:r>
              <a:rPr b="1" lang="zh-CN" sz="3200" spc="-1" strike="noStrike">
                <a:solidFill>
                  <a:srgbClr val="ccccff"/>
                </a:solidFill>
                <a:latin typeface="Arial"/>
              </a:rPr>
              <a:t>夺得冠军并平了世界记录。这也是中国体育代表团在奥运会上的首枚男子田径金牌。 比赛结束后，刘翔身披国旗绕场狂奔，在领奖台上，刘翔仍然双手高举国旗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712360" y="6354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6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8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500"/>
                            </p:stCondLst>
                            <p:childTnLst>
                              <p:par>
                                <p:cTn id="7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85880" y="928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窄的反义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3929040" y="9288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857160" y="18572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窄组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3951000" y="2787480"/>
            <a:ext cx="915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狭窄、宽窄、冤家路窄、窄道、窄门、心胸狭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17480" y="4108320"/>
            <a:ext cx="244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音字，你能读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背包、系在、旗杆、转来转去、处境、冲我打着手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五星红旗，你的名字比我生命更重要"/>
          <p:cNvPicPr/>
          <p:nvPr/>
        </p:nvPicPr>
        <p:blipFill>
          <a:blip r:embed="rId1"/>
          <a:stretch/>
        </p:blipFill>
        <p:spPr>
          <a:xfrm>
            <a:off x="755640" y="476280"/>
            <a:ext cx="7704000" cy="49356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2233080" y="5524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五星红旗，你的名字比我生命更重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circl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5"/>
          <p:cNvSpPr/>
          <p:nvPr/>
        </p:nvSpPr>
        <p:spPr>
          <a:xfrm>
            <a:off x="45720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那是从旭日上采下的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没有人不爱你的色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张天下最美的脸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没有人不留恋你的容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你明亮的眼睛牵引着我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让我守在梦乡眺望未来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我离开家的时候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满怀深情吹响号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五星红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是我的骄傲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五星红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我为你自豪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为你欢呼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我为你祝福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的名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比我生命更重要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186440" y="3886200"/>
            <a:ext cx="137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课文写了一件什么事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173680" y="1600200"/>
            <a:ext cx="8410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我”在一次（       ）中遇到（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（                ）的“我”向（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求助，可是（                  ）要求（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），“我”拒绝了用（       ）换（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）的要求。最后，“我”还是得到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（                       ）的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216120" y="157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漂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145000" y="152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危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943800" y="228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身无分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286760" y="2286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面包店老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462640" y="3048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面包店老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81880" y="2971800"/>
            <a:ext cx="1157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                    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公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交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849720" y="3733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国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06280" y="3714840"/>
            <a:ext cx="12214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                        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014720" y="5181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面包店老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874480" y="42552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文写了一件什么事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3886200" y="28195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4191120" y="28195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4495680" y="281952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4876920" y="28195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7"/>
          <p:cNvSpPr/>
          <p:nvPr/>
        </p:nvSpPr>
        <p:spPr>
          <a:xfrm>
            <a:off x="8077320" y="34290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8"/>
          <p:cNvSpPr/>
          <p:nvPr/>
        </p:nvSpPr>
        <p:spPr>
          <a:xfrm>
            <a:off x="8381880" y="34290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9"/>
          <p:cNvSpPr/>
          <p:nvPr/>
        </p:nvSpPr>
        <p:spPr>
          <a:xfrm>
            <a:off x="35053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0"/>
          <p:cNvSpPr/>
          <p:nvPr/>
        </p:nvSpPr>
        <p:spPr>
          <a:xfrm>
            <a:off x="388620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010960" y="1523880"/>
            <a:ext cx="8410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我”在一次（       ）中遇到（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（                ）的“我”向（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求助，可是（                  ）要求（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），“我”拒绝了用（       ）换（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）的要求。最后，“我”还是得到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（                       ）的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860440" y="152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漂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917840" y="152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危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023000" y="2209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身无分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986520" y="2209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面包店老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462640" y="2971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面包店老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-181440" y="3657600"/>
            <a:ext cx="126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平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交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972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国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-129960" y="2971800"/>
            <a:ext cx="120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014720" y="5105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面包店老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8677440" y="137160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029200" y="4343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/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5561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6050160" y="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课文写了一件什么事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301680"/>
            <a:ext cx="7429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不久，筏子漂到了水势最急的一段河面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周围一片漆黑，我想大声呼喊，给自己壮胆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劲。还没等喊出口，只觉眼前一黑，便落入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流之中。醒来的时候，发现自己被一块巨石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住了，头和身子被撞伤了好几处，筏子和背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都无影无踪。我迷路了，在荒无人烟的大山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转来转去。直到第三天中午，我才来到一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镇，走进一家面包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143000" y="301680"/>
            <a:ext cx="7429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不久，筏子漂到了水势最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急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的一段河面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周围一片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漆黑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，我想大声呼喊，给自己壮胆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劲。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还没等喊出口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，只觉眼前一黑，便落入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流</a:t>
            </a: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之中。醒来的时候，发现自己被一块巨石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住了，头和身子被撞伤了好几处，筏子和背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都无影无踪。我迷路了，在荒无人烟的大山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转来转去。直到第三天中午，我才来到一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0"/>
                </a:solidFill>
                <a:latin typeface="Times New Roman"/>
              </a:rPr>
              <a:t>镇，走进一家面包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圆角矩形标注 35"/>
          <p:cNvSpPr/>
          <p:nvPr/>
        </p:nvSpPr>
        <p:spPr>
          <a:xfrm>
            <a:off x="500040" y="928800"/>
            <a:ext cx="6715080" cy="928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848600" y="3571920"/>
            <a:ext cx="576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落入激流之中，醒来的时候，头和身子被撞伤了好几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筏子和背包都无影无踪。我迷路了，在荒无人烟的大山里转来转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19810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2286000" y="4800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590920" y="4800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2895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5334120" y="4800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56386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5943600" y="4800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6248520" y="4800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7772400" y="4800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8077320" y="4800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83818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8686800" y="48006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981240" y="51055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到第三天中午，我才来到一座小镇，走进一家面包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152280" y="56386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533520" y="5638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3352680" y="56386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0"/>
          <p:cNvSpPr/>
          <p:nvPr/>
        </p:nvSpPr>
        <p:spPr>
          <a:xfrm>
            <a:off x="1752480" y="40384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0574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66294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3"/>
          <p:cNvSpPr/>
          <p:nvPr/>
        </p:nvSpPr>
        <p:spPr>
          <a:xfrm>
            <a:off x="7010280" y="40384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24"/>
          <p:cNvSpPr/>
          <p:nvPr/>
        </p:nvSpPr>
        <p:spPr>
          <a:xfrm>
            <a:off x="73152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25"/>
          <p:cNvSpPr/>
          <p:nvPr/>
        </p:nvSpPr>
        <p:spPr>
          <a:xfrm>
            <a:off x="762012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7924680" y="40384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8153280" y="40384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7"/>
          <p:cNvSpPr/>
          <p:nvPr/>
        </p:nvSpPr>
        <p:spPr>
          <a:xfrm>
            <a:off x="3886200" y="4876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8"/>
          <p:cNvSpPr/>
          <p:nvPr/>
        </p:nvSpPr>
        <p:spPr>
          <a:xfrm>
            <a:off x="4114800" y="4876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矩形 33"/>
          <p:cNvSpPr/>
          <p:nvPr/>
        </p:nvSpPr>
        <p:spPr>
          <a:xfrm>
            <a:off x="1285920" y="20718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艰伤痕累累、身无分文、饥肠辘辘、又累又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矩形 34"/>
          <p:cNvSpPr/>
          <p:nvPr/>
        </p:nvSpPr>
        <p:spPr>
          <a:xfrm>
            <a:off x="3600720" y="1071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一个词来概括，我当时的处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884840" y="990720"/>
            <a:ext cx="32288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不久，筏子漂到了水势最急的一段河面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周围一片漆黑，我想大声呼喊，给自己壮胆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劲。还没等喊出口，只觉眼前一黑，便落入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流之中。醒来的时候，发现自己被一块巨石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住了，头和身子被撞伤了好几处，筏子和背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都无影无踪。我迷路了，在荒无人烟的大山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转来转去。直到第三天中午，我才来到一座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镇，走进一家面包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2:23:18Z</dcterms:created>
  <dc:creator>sunjiehui</dc:creator>
  <dc:description/>
  <dc:language>en-US</dc:language>
  <cp:lastModifiedBy>china</cp:lastModifiedBy>
  <dcterms:modified xsi:type="dcterms:W3CDTF">2012-05-13T02:45:16Z</dcterms:modified>
  <cp:revision>29</cp:revision>
  <dc:subject/>
  <dc:title>PowerPoint 演示文稿</dc:title>
</cp:coreProperties>
</file>